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99948-A87A-488E-A266-D632C221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0F598-1C1E-4A16-B072-261841A9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039DD-60C6-4093-B80C-DED3A43F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91733-3371-4167-B5CB-696B7D58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BDAE-70E5-496D-8836-ECDD4178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96AB-912D-41B9-84BD-7522E3D1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B9A3-ED07-4ADF-81C3-166C815A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B3F9-E6F3-45D8-B778-CB6E831A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EFB8-3189-47D1-A8D8-108D5C09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041D-659D-4068-92C8-F1A8ED72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70EA-83C2-414F-BD34-C6FB9390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4F4A8-C9BD-4357-8A5A-7482F538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0897-4D22-4609-A343-10A13435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145D-565B-45D9-93F7-35DC5555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8688-C352-446A-86F7-0682FAB3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A25E-9E00-4AF9-8BF7-3BAEE441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4805-F99F-4F4C-85DD-685AD58D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A2239-6F7A-4E8B-A261-24128207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AC299-6B45-4B15-9A8E-E7EAA938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B7DBF-CCB3-4EBE-8319-9C86035B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B5509-53B4-4282-9A07-6207B7AB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2BE67-52CB-460B-9BBC-B14D243C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6A7F4-2744-4518-88ED-7B7005B5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DAE4D-0D1E-4D53-9065-A3B880F5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21EF-ABFF-4462-A86A-A45D1941B4D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60BE-18A7-487A-A5DC-09E32231E8C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Три птичницы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73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АРТОЧКА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де живут куры с цыплята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 Кто ухаживает за кура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 Как питомцы реагируют на зов птичниц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. Какую картину автор нашёл забавн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. Кто охраняет птичий дво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АРТОЧКА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. Почему  сторож - щенок засыпа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. Догадались ли вы, кто эта другая птичниц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АРТОЧКА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 Как вы думаете, повезёт ли лисице на сей раз или снова уйдёт со двора несолоно хлебавши? Придумайте продолжение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6:06:44Z</dcterms:created>
  <dc:creator>1</dc:creator>
  <dc:description/>
  <dc:language>en-US</dc:language>
  <cp:lastModifiedBy>1</cp:lastModifiedBy>
  <dcterms:modified xsi:type="dcterms:W3CDTF">2011-01-25T18:34:06Z</dcterms:modified>
  <cp:revision>7</cp:revision>
  <dc:subject/>
  <dc:title>Три птичницы.</dc:title>
</cp:coreProperties>
</file>