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CA670-16BC-4BB9-93E9-8BD885B1C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E9B69-B8EE-4C4B-922C-7C948592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B8B31-A283-41AB-A3FF-23FAFDFEF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996B7-7AA1-4262-AADB-C9BCB4F99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A2E9-F346-46BF-9F14-21954CC8C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E51F-2D39-4D54-AAA5-30316583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FED2-30C6-44A2-973C-10A869C1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F00A-3E2B-4E17-8667-EEB230E8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D10E-C64F-4D38-ABD2-36F91BF6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3851-6B4F-4CF1-8603-BA300B03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F71F-B0A4-41EF-8B05-D8A057FA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BEC86-39BF-44C4-9275-E9BDA05C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5AE7-EFFD-4677-8936-82FB920B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416C-DB89-475D-BD33-BDE4FF11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F0F1-B78A-4B85-90A6-87F0B712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727D-9210-4AB8-BC04-A5B8B51E2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06BCE-9293-4333-8E2E-76F3F427E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86BB9-8604-4DF5-ACAF-11B288F4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DDAA4-3FA2-416B-8B0D-00C94022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404D4-9480-4BA6-BA2A-E1B877C8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8F916-E9E9-4FB2-803F-1FB17D23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2AD51-CE3F-4D51-B48C-57DB5EFA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2321E-5013-4995-A3B9-BAFE81E2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1A5A6-705E-414D-A376-52D8B76E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F1EA-A3ED-4C0C-A4A5-D480892C755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94E6-4E22-4719-B548-DF11EA3478D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Три птичницы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73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КАРТОЧКА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Где живут куры с цыплятам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 Кто ухаживает за курам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. Как питомцы реагируют на зов птичниц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4. Какую картину автор нашёл забавно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5. Кто охраняет птичий двор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КАРТОЧКА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6. Почему  сторож - щенок засыпае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7. Догадались ли вы, кто эта другая птичниц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КАРТОЧКА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8. Как вы думаете, повезёт ли лисице на сей раз или снова уйдёт со двора несолоно хлебавши? Придумайте продолжение тек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16:06:44Z</dcterms:created>
  <dc:creator>1</dc:creator>
  <dc:description/>
  <dc:language>en-US</dc:language>
  <cp:lastModifiedBy>1</cp:lastModifiedBy>
  <dcterms:modified xsi:type="dcterms:W3CDTF">2011-01-25T18:34:06Z</dcterms:modified>
  <cp:revision>7</cp:revision>
  <dc:subject/>
  <dc:title>Три птичницы.</dc:title>
</cp:coreProperties>
</file>