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9DF8-FE03-4F3F-A17D-90993A8C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ABA1-CAE2-4806-A05D-365C5E1D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E61C-0CE8-4B06-B91C-CCF89A30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2DBA-74F8-4CC9-BAF7-17EE99D5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4D7-2917-4055-B2C5-45CAA4D6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19B2-F845-4257-8CD4-DE2BA3F7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638C-F30B-41AE-9C25-75BF9019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934F-E9A9-4B5E-AB68-CA8CDA9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EF98-BA30-4B22-B74A-E618F05F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DD84-09C5-4790-B291-0A5C193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F704-7049-45C0-BDC4-A09CA40C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4C6B-5323-42BE-9A0D-5A6A9AB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C7FD-AF70-4C22-8FFF-E104141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438C-8E98-492A-840E-3A10192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893-31A4-4047-A4BE-3C706DFD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3E65-45A5-4397-9F56-17569807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544B-7204-4DC5-A2CD-FA9D0BA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84C3-4AA5-4184-BC9F-8C5DA67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2158-A841-4A32-9A16-FBF306D6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7037-9A68-49CF-B4AA-F070E5B8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7FEB-9940-4BF8-B3B8-E402639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D920-A4D8-4BAB-B16A-6185969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3481-D367-4C4A-8B90-BC45F92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30BE-54B5-4F99-9EE2-AD8B492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3F1-95E4-4C38-99D5-483397CAE3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8A76-1F63-47DA-B701-E5F0812068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ри птичницы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де живут куры с цыплят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Кто ухаживает за кур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Как питомцы реагируют на зов птични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Какую картину автор нашёл забав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Кто охраняет птичий дво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Почему  сторож - щенок засып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. Догадались ли вы, кто эта другая птичн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 Как вы думаете, повезёт ли лисице на сей раз или снова уйдёт со двора несолоно хлебавши? Придумайте продолже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6:06:44Z</dcterms:created>
  <dc:creator>1</dc:creator>
  <dc:description/>
  <dc:language>en-US</dc:language>
  <cp:lastModifiedBy>1</cp:lastModifiedBy>
  <dcterms:modified xsi:type="dcterms:W3CDTF">2011-01-25T18:34:06Z</dcterms:modified>
  <cp:revision>7</cp:revision>
  <dc:subject/>
  <dc:title>Три птичницы.</dc:title>
</cp:coreProperties>
</file>