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94A2-81C3-4EC0-AB52-27504930CC1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2A2-F03E-4F42-987F-F917FC0A65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AD86-E706-4180-B2FE-02294BBE2A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60D-41F2-46A3-B9D7-B42B38672D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ABB-F655-4FF2-ABCE-41D17284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657-081B-41ED-BDA1-5FCCA1C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B5C-18D4-45FF-9763-FE9A80B6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68A-BD47-4442-89C0-CD7C5F99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BC807-9A98-46A4-8CE8-3E8BDDC8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E0269-B979-4845-BAFD-8F0C165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05D77-1586-4FB7-8548-FF81B0C7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7A6DC-C288-4ABE-953D-5007575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CC3D-94E8-4430-9BC4-96B4929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9F002-9F07-4CA2-AA03-46A9AA0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EC947-D227-4193-9BC2-23080A9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B8D-4424-4160-92AC-1019A3F3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9548-5F2C-49A5-98F9-35A9A1C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AFD15-3F08-4795-8563-19EC30B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67E3-DA7E-45FA-98D6-28A0453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64784-DA62-407A-9A34-F67195CA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508B-1527-4BA1-91FB-BD4F7281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BC4-BCC1-4A34-AD54-C3F9925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BC6-471B-4DDB-BFC5-2A82E4F4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90E-120F-45F9-9003-1160119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BAF-8A63-4DA1-865A-DE7B5AB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B6F-DE82-427D-842F-B09F7DE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C4D-69CF-4416-B498-B9FFF977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276-10CB-4509-9A61-EFA7E17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DBA8-5398-450A-A975-C92B5A521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40EB-2558-4BD4-AB4B-5E0B4704A3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592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Izo</cp:lastModifiedBy>
  <dcterms:modified xsi:type="dcterms:W3CDTF">2011-05-12T07:24:10Z</dcterms:modified>
  <cp:revision>141</cp:revision>
  <dc:subject/>
  <dc:title>Слайд 1</dc:title>
</cp:coreProperties>
</file>