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5260-29A0-459D-AEFE-D5EB7AA8485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9AC8-1DB0-4351-B7EB-CE265D3390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35FF-7F08-4BF3-8004-C8C728AC8E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F0CD-7945-40E7-990A-F8F6CE39F2A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B4F-EB2B-434E-A04C-0C3BBC67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9FC-3E8C-40D6-9924-9796033A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245-32B8-46A4-86DB-888BBE81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A69-1667-42D8-B78F-0CCE2CA7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8B9CC-B575-4511-B645-A0112B65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70C9B-A834-4EFC-A282-026B9BB7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22E43-DAE5-45FC-921F-6DE6325D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5CAA1-9F93-412C-B52A-70FAAC02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F7893-E34D-4BA7-B19F-9283DC92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0A5DC-A6F1-40D9-9BA2-7556D153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A1369-9D09-4508-B521-14D9A317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7EE-C0CD-40AD-A8E0-EB700FF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6409B-9D56-4C32-BB4A-E5FBBDE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3A7FA-1584-49F7-B2EC-6DEB1BE0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2209D-E5D4-469F-8943-449C6F78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C356A-C21D-4C4E-87D6-5E54321D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E9F1F-0CA6-4A2C-AC9D-49318773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696-0C7A-426E-8830-7D7D920C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5F7-E1C0-48C6-9A3A-5722FE12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3A6-0992-4770-86B7-35833757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F89-36D8-485D-A605-870E937C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E26-188A-4308-A08B-38A6E2B4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284-A914-44C5-B378-13BADC0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8C8-0366-4E3F-84FF-539E6078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F8FC-06AF-47F0-ADCD-BFDF2A711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BE0F-A0C4-4E5D-BDBE-B852DB5F2B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5924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Izo</cp:lastModifiedBy>
  <dcterms:modified xsi:type="dcterms:W3CDTF">2011-05-12T07:24:10Z</dcterms:modified>
  <cp:revision>141</cp:revision>
  <dc:subject/>
  <dc:title>Слайд 1</dc:title>
</cp:coreProperties>
</file>