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045-1FA7-48E3-B66E-0F46C3B4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0C4-1840-4B43-B6D7-A862EFD1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51C-C930-471D-8109-7AF71F48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9E5-E774-4AF6-B729-707EB497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1F7-962E-4A53-B529-0A1FB0BB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891-6AAA-4D6D-A0C0-7F9306F5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92E-E02C-47FC-973F-5CF47D22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A78-0FCE-4F46-B8F0-EE69600C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337-6B8B-4DA1-A171-580A36B2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08A-43C3-42D1-90C4-979D075E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B19-DF7A-4412-9D91-3043818A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BBC-315E-4323-8977-80E24F5F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C8F9-46AF-4E19-A47C-27395679D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7;&#1077;&#1081;&#1079;&#1072;&#1078;&#1080;%20&#1093;&#1091;&#1076;&#1086;&#1078;&#1085;&#1080;&#1082;&#1086;&#1074;&amp;p=96&amp;img_url=socvirus.com.ua/wp-content/uploads/2010/01/66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ed=1&amp;text=&#1087;&#1077;&#1081;&#1079;&#1072;&#1078;%20&#1074;%20&#1075;&#1088;&#1072;&#1092;&#1080;&#1082;&#1077;&amp;p=70&amp;img_url=www.avalon.ru/_images/Gallery/HigherEducation/Design/Drawing/2008/landscape/tolstaja-olga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www.spbgu.ru/forums/uploads/post-143-1162655997.jpg&amp;p=4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В гостях  у  жан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ро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этих изображений относятся к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анру натюрм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268280"/>
          <a:ext cx="8137440" cy="4465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" descr="mashkov_naturmort"/>
          <p:cNvPicPr/>
          <p:nvPr/>
        </p:nvPicPr>
        <p:blipFill>
          <a:blip r:embed="rId1"/>
          <a:stretch/>
        </p:blipFill>
        <p:spPr>
          <a:xfrm>
            <a:off x="57168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7" name="Picture 25" descr="Aivazovsky-Чер м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1357200"/>
            <a:ext cx="24480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8" name="Picture 29" descr="Ермак 3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1680" y="3716280"/>
            <a:ext cx="2500200" cy="1636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9" name="Picture 33" descr="пейзаж 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072120" y="3716280"/>
            <a:ext cx="2428920" cy="1641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0" name="Text Box 69"/>
          <p:cNvSpPr/>
          <p:nvPr/>
        </p:nvSpPr>
        <p:spPr>
          <a:xfrm>
            <a:off x="118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399564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1"/>
          <p:cNvSpPr/>
          <p:nvPr/>
        </p:nvSpPr>
        <p:spPr>
          <a:xfrm>
            <a:off x="687708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2"/>
          <p:cNvSpPr/>
          <p:nvPr/>
        </p:nvSpPr>
        <p:spPr>
          <a:xfrm>
            <a:off x="140328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3"/>
          <p:cNvSpPr/>
          <p:nvPr/>
        </p:nvSpPr>
        <p:spPr>
          <a:xfrm>
            <a:off x="399564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4"/>
          <p:cNvSpPr/>
          <p:nvPr/>
        </p:nvSpPr>
        <p:spPr>
          <a:xfrm>
            <a:off x="6732720" y="53625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Сарьян 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00084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Рисунок 16" descr="http://im4-tub.yandex.net/i?id=21325654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3714840"/>
            <a:ext cx="2500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разновидност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00160" y="1857240"/>
          <a:ext cx="5143680" cy="30783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8"/>
          <p:cNvSpPr/>
          <p:nvPr/>
        </p:nvSpPr>
        <p:spPr>
          <a:xfrm>
            <a:off x="4572000" y="5589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2428920" y="192888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im8-tub.yandex.net/i?id=217216773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192888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представленных здесь пейзажей называютс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ль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5"/>
          <p:cNvSpPr/>
          <p:nvPr/>
        </p:nvSpPr>
        <p:spPr>
          <a:xfrm>
            <a:off x="78588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860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072120" y="3357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Грачи прилетел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3929040"/>
            <a:ext cx="1527120" cy="2000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" name="Picture 46" descr="Шишкин рожь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86080" y="1214280"/>
            <a:ext cx="2571840" cy="1785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Рисунок 24" descr="http://im2-tub.yandex.net/i?id=233066117-19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857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http://im6-tub.yandex.net/i?id=47532160-14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1214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6" descr="http://im2-tub.yandex.net/i?id=46623433-13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121428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7" descr="http://im0-tub.yandex.net/i?id=214837992-13-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385776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названия представленных здесь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5"/>
          <p:cNvSpPr/>
          <p:nvPr/>
        </p:nvSpPr>
        <p:spPr>
          <a:xfrm>
            <a:off x="78588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328608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07212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К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 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б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Шишкин ут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2960" y="1214280"/>
            <a:ext cx="2427120" cy="1679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89" name="Picture 25" descr="Айвазовский Дев вал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72120" y="1214280"/>
            <a:ext cx="2428920" cy="16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0" name="Рисунок 19" descr="http://im7-tub.yandex.net/i?id=75802727-1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85776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0" descr="http://im7-tub.yandex.net/i?id=96428151-02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121428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http://im4-tub.yandex.net/i?id=132254116-22-24"/>
          <p:cNvPicPr/>
          <p:nvPr/>
        </p:nvPicPr>
        <p:blipFill>
          <a:blip r:embed="rId7"/>
          <a:stretch/>
        </p:blipFill>
        <p:spPr>
          <a:xfrm>
            <a:off x="6500880" y="38577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2" descr="http://im6-tub.yandex.net/i?id=66595025-06-24"/>
          <p:cNvPicPr/>
          <p:nvPr/>
        </p:nvPicPr>
        <p:blipFill>
          <a:blip r:embed="rId8"/>
          <a:stretch/>
        </p:blipFill>
        <p:spPr>
          <a:xfrm>
            <a:off x="3786120" y="3857760"/>
            <a:ext cx="1571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8:26Z</dcterms:created>
  <dc:creator>Ловушкин</dc:creator>
  <dc:description/>
  <dc:language>en-US</dc:language>
  <cp:lastModifiedBy>Зуля</cp:lastModifiedBy>
  <dcterms:modified xsi:type="dcterms:W3CDTF">2011-03-12T18:02:46Z</dcterms:modified>
  <cp:revision>34</cp:revision>
  <dc:subject/>
  <dc:title>В гостях у жанров</dc:title>
</cp:coreProperties>
</file>