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42.jpeg" ContentType="image/jpeg"/>
  <Override PartName="/ppt/media/image34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5.jpeg" ContentType="image/jpeg"/>
  <Override PartName="/ppt/media/image26.jpeg" ContentType="image/jpeg"/>
  <Override PartName="/ppt/media/image36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E87ED-6998-40AC-97B2-0DC3123B23B3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4D5E9-F53B-409F-9DF4-98D205D0D46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053CE-1176-4390-BA7E-8337BF98DA8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1A24B-C822-4C8C-9AC3-55F7B4B95E7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A007-7248-43C2-88FE-0DD7531AA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6A0C-AB51-4D81-A9A4-EB1B9F85C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1771-F4D4-4358-B7A9-662BF7EB4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F2AC-54DB-4DC3-B73A-E341E9DCD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127F54-47B2-46A5-A0E7-D13D6289F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981115-2E4F-4F9A-B638-9D079D829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E7C54A-5388-4441-B519-1045AE549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84FDE3-466C-4D7F-9CD6-297145C8E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115A78-652C-4B03-849F-996F3EA64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17567F-8B4D-4C5E-AFE3-DBFC8AC05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0C3B31-3E51-4D20-B1DB-CC56690B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E3BD-5B96-489D-B31B-CD08D9BF0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2CD76C-35B2-42DE-ABE9-87C8DDE0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EB7FAB-4B0E-4251-BE22-7D50C63A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5D0F5C-015D-4BAC-A3A4-8A5ED7EC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36704A-C71C-4536-A43E-9E7597DB9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48F96F-C0FF-4B56-8419-18984B83A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27D4-9A70-497A-AEFA-97BB2C3E9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FF77-D605-4EC7-8735-4EA264E46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2AD3-4FEB-44ED-99FE-28D86577D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48A4-C686-44A5-B450-A0166B6D7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CA9D-5F47-44EE-975C-4F918074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E5BE-BA3E-49E8-ABC0-FC1A1DFE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E243-73CA-47A6-AC5C-22AFD68A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B9A8-FA9B-43DA-8294-7265CC2870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A48B9-FB48-4A13-B948-7AE6E3D9A5F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images.yandex.ru/yandsearch?isize=small&amp;text=&#1085;&#1072;&#1090;&#1102;&#1088;&#1084;&#1086;&#1088;&#1090;&#1099;%20&#1074;%20&#1075;&#1088;&#1072;&#1092;&#1080;&#1082;&#1077;&amp;p=148&amp;img_url=kirigor2005.narod.ru/1Jivopis/thumbnails/003jj.jpg&amp;rpt=simage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images.yandex.ru/yandsearch?ed=1&amp;text=&#1075;&#1086;&#1088;&#1086;&#1076;&#1089;&#1082;&#1086;&#1081;%20&#1087;&#1077;&#1081;&#1079;&#1072;&#1078;%20&#1074;%20&#1082;&#1072;&#1088;&#1090;&#1080;&#1085;&#1082;&#1072;&#1093;&amp;p=28&amp;img_url=z1.foto.rambler.ru/public/tagen/_photos/griboedo/griboedo-web.jpg&amp;rpt=simage" TargetMode="External"/><Relationship Id="rId5" Type="http://schemas.openxmlformats.org/officeDocument/2006/relationships/image" Target="../media/image4.jpeg"/><Relationship Id="rId6" Type="http://schemas.openxmlformats.org/officeDocument/2006/relationships/hyperlink" Target="http://images.yandex.ru/yandsearch?ed=1&amp;text=&#1087;&#1077;&#1081;&#1079;&#1072;&#1078;%20&#1080;.&#1096;&#1080;&#1096;&#1082;&#1080;&#1085;&#1072;&amp;p=13&amp;img_url=www.belygorod.ru/img2/RusskieKartinki/Used/mshishkin_na_severe_dikom1.jpg&amp;rpt=simage" TargetMode="External"/><Relationship Id="rId7" Type="http://schemas.openxmlformats.org/officeDocument/2006/relationships/image" Target="../media/image5.jpeg"/><Relationship Id="rId8" Type="http://schemas.openxmlformats.org/officeDocument/2006/relationships/hyperlink" Target="http://images.yandex.ru/yandsearch?ed=1&amp;text=&#1078;&#1080;&#1074;&#1086;&#1087;&#1080;&#1089;&#1100;%20&#1074;&#1080;&#1076;&#1099;%20&#1082;&#1072;&#1079;&#1072;&#1085;&#1080;%20&#1074;%20&#1082;&#1072;&#1088;&#1090;&#1080;&#1085;&#1072;&#1093;%20&#1093;&#1091;&#1076;&#1086;&#1078;&#1085;&#1080;&#1082;&#1086;&#1074;&amp;p=6&amp;img_url=doseng.org/uploads/posts/2009-02/1233752620_44.jpg&amp;rpt=simage" TargetMode="External"/><Relationship Id="rId9" Type="http://schemas.openxmlformats.org/officeDocument/2006/relationships/image" Target="../media/image6.jpeg"/><Relationship Id="rId10" Type="http://schemas.openxmlformats.org/officeDocument/2006/relationships/hyperlink" Target="http://images.yandex.ru/yandsearch?text=&#1083;&#1077;&#1086;&#1085;&#1072;&#1088;&#1076;&#1086;%20&#1076;&#1072;%20&#1074;&#1080;&#1085;&#1095;&#1080;%20&#1082;&#1072;&#1088;&#1090;&#1080;&#1085;&#1099;&amp;rpt=simage&amp;img_url=900igr.net/datai/iskusstvo/Rassmatrivaem-kartiny.files/0005-004-Mona-Liza-Dzhokonda-Leonardo-Da-Vinchi.jpg&amp;p=0" TargetMode="External"/><Relationship Id="rId11" Type="http://schemas.openxmlformats.org/officeDocument/2006/relationships/image" Target="../media/image7.jpeg"/><Relationship Id="rId12" Type="http://schemas.openxmlformats.org/officeDocument/2006/relationships/hyperlink" Target="http://images.yandex.ru/yandsearch?isize=small&amp;text=&#1085;&#1072;&#1090;&#1102;&#1088;&#1084;&#1086;&#1088;&#1090;&#1099;%20&#1074;%20&#1075;&#1088;&#1072;&#1092;&#1080;&#1082;&#1077;&amp;p=93&amp;img_url=artnow.ru/img/381000/381970s.jpg&amp;rpt=simage" TargetMode="External"/><Relationship Id="rId13" Type="http://schemas.openxmlformats.org/officeDocument/2006/relationships/image" Target="../media/image8.jpeg"/><Relationship Id="rId14" Type="http://schemas.openxmlformats.org/officeDocument/2006/relationships/hyperlink" Target="http://images.yandex.ru/yandsearch?rpt=simage&amp;ed=1&amp;text=&#1085;&#1072;&#1090;&#1102;&#1088;&#1084;&#1086;&#1088;&#1090;&#1099;%20&#1082;.&#1082;&#1086;&#1088;&#1086;&#1074;&#1080;&#1085;&#1072;&amp;p=1&amp;img_url=www.art-catalog.ru/data_picture_new/artist_19/picture/big_500/korovin_149.jpg" TargetMode="External"/><Relationship Id="rId15" Type="http://schemas.openxmlformats.org/officeDocument/2006/relationships/image" Target="../media/image9.jpeg"/><Relationship Id="rId16" Type="http://schemas.openxmlformats.org/officeDocument/2006/relationships/hyperlink" Target="http://images.yandex.ru/yandsearch?ed=1&amp;text=&#1075;&#1088;&#1091;&#1087;&#1087;&#1086;&#1074;&#1099;&#1077;%20&#1080;%20&#1087;&#1072;&#1088;&#1072;&#1076;&#1085;&#1099;&#1077;%20&#1087;&#1086;&#1088;&#1090;&#1088;&#1077;&#1090;&#1099;%20&#1093;&#1091;&#1076;&#1086;&#1078;&#1085;&#1080;&#1082;&#1086;&#1074;&amp;p=45&amp;img_url=img1.liveinternet.ru/images/foto/b/0/840/2082840/f_10990365.jpg&amp;rpt=simage" TargetMode="External"/><Relationship Id="rId17" Type="http://schemas.openxmlformats.org/officeDocument/2006/relationships/image" Target="../media/image10.jpeg"/><Relationship Id="rId18" Type="http://schemas.openxmlformats.org/officeDocument/2006/relationships/hyperlink" Target="http://images.yandex.ru/yandsearch?ed=1&amp;text=&#1087;&#1086;&#1088;&#1090;&#1088;&#1077;&#1090;&#1099;%20&#1076;&#1077;&#1074;&#1086;&#1095;&#1082;&#1080;%20&#1089;%20&#1087;&#1077;&#1088;&#1089;&#1080;&#1082;&#1072;&#1084;&#1080;&amp;p=15&amp;img_url=intod.ru/obz10/ris2/image013.jpg&amp;rpt=simage" TargetMode="External"/><Relationship Id="rId19" Type="http://schemas.openxmlformats.org/officeDocument/2006/relationships/image" Target="../media/image11.jpeg"/><Relationship Id="rId2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rpt=simage&amp;ed=1&amp;text=&#1085;&#1072;&#1090;&#1102;&#1088;&#1084;&#1086;&#1088;&#1090;&#1099;%20&#1082;.&#1082;&#1086;&#1088;&#1086;&#1074;&#1080;&#1085;&#1072;&amp;p=1&amp;img_url=www.art-catalog.ru/data_picture_new/artist_19/picture/big_500/korovin_149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yandex.ru/yandsearch?rpt=simage&amp;ed=1&amp;text=&#1085;&#1072;&#1090;&#1102;&#1088;&#1084;&#1086;&#1088;&#1090;&#1099;%20&#1080;.&#1075;&#1088;&#1072;&#1073;&#1072;&#1088;&#1103;&amp;p=18&amp;img_url=www.ljplus.ru/img4/c/h/chernyi_sterh6/leto_kartiny_06.jpg" TargetMode="External"/><Relationship Id="rId4" Type="http://schemas.openxmlformats.org/officeDocument/2006/relationships/image" Target="../media/image29.jpeg"/><Relationship Id="rId5" Type="http://schemas.openxmlformats.org/officeDocument/2006/relationships/hyperlink" Target="http://images.yandex.ru/yandsearch?rpt=simage&amp;img_url=s004.radikal.ru/i207/1002/75/dff539e03856.jpg&amp;ed=1&amp;text=&#1085;&#1072;&#1090;&#1102;&#1088;&#1084;&#1086;&#1088;&#1090;&#1099;%20&#1074;%20&#1087;&#1088;&#1086;&#1080;&#1079;&#1074;&#1077;&#1076;&#1077;&#1085;&#1080;&#1103;&#1093;%20&#1093;&#1091;&#1076;&#1086;&#1078;&#1085;&#1080;&#1082;&#1086;&#1074;&amp;p=7" TargetMode="External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7;&#1080;&#1090;&#1077;&#1088;%20&#1082;&#1083;&#1072;&#1089;%20&#1085;&#1072;&#1090;&#1102;&#1088;&#1084;&#1086;&#1088;&#1090;&amp;rpt=simage&amp;img_url=i.family.booknik.ru/_img/255-244.jpg&amp;p=13" TargetMode="External"/><Relationship Id="rId2" Type="http://schemas.openxmlformats.org/officeDocument/2006/relationships/image" Target="../media/image31.jpeg"/><Relationship Id="rId3" Type="http://schemas.openxmlformats.org/officeDocument/2006/relationships/hyperlink" Target="http://images.yandex.ru/yandsearch?rpt=simage&amp;text=&#1087;&#1080;&#1090;&#1077;&#1088;%20&#1082;&#1083;&#1072;&#1089;%20&#1085;&#1072;&#1090;&#1102;&#1088;&#1084;&#1086;&#1088;&#1090;&amp;p=42&amp;img_url=img0.liveinternet.ru/images/attach/b/3/20/393/20393896_Claesz_Pieter_ak.jpg" TargetMode="External"/><Relationship Id="rId4" Type="http://schemas.openxmlformats.org/officeDocument/2006/relationships/image" Target="../media/image32.jpeg"/><Relationship Id="rId5" Type="http://schemas.openxmlformats.org/officeDocument/2006/relationships/hyperlink" Target="http://images.yandex.ru/yandsearch?rpt=simage&amp;ed=1&amp;text=&#1085;&#1072;&#1090;&#1102;&#1088;&#1084;&#1086;&#1088;&#1090;&#1099;%20&#1082;.&#1082;&#1086;&#1088;&#1086;&#1074;&#1080;&#1085;&#1072;&amp;p=16&amp;img_url=img13.nnm.ru/f/b/7/4/1/e24f110d04d1b5ae774e7a8ff92_prev.jpg" TargetMode="External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3;&#1077;&#1086;&#1085;&#1072;&#1088;&#1076;&#1086;%20&#1076;&#1072;%20&#1074;&#1080;&#1085;&#1095;&#1080;%20&#1082;&#1072;&#1088;&#1090;&#1080;&#1085;&#1099;&amp;rpt=simage&amp;img_url=900igr.net/datai/iskusstvo/Rassmatrivaem-kartiny.files/0005-004-Mona-Liza-Dzhokonda-Leonardo-Da-Vinchi.jpg&amp;p=0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hyperlink" Target="http://images.yandex.ru/yandsearch?text=&#1087;&#1086;&#1088;&#1090;&#1088;&#1077;&#1090;%20&#1075;&#1088;&#1072;&#1092;&#1072;%20&#1084;&#1091;&#1088;&#1072;&#1074;&#1100;&#1077;&#1074;&#1072;%20&#1093;&#1091;&#1076;&#1086;&#1078;&#1085;&#1080;&#1082;%20&#1084;&#1072;&#1082;&#1086;&#1074;&#1089;&#1082;&#1080;&#1081;&amp;p=1&amp;img_url=www.my-art.biz/uploads/posts/2009-12/1260738910_20-makovskijj-vladimir-egorovich.jpg&amp;rpt=simage" TargetMode="External"/><Relationship Id="rId3" Type="http://schemas.openxmlformats.org/officeDocument/2006/relationships/image" Target="../media/image35.jpeg"/><Relationship Id="rId4" Type="http://schemas.openxmlformats.org/officeDocument/2006/relationships/hyperlink" Target="http://images.yandex.ru/yandsearch?text=&#1087;&#1086;&#1088;&#1090;&#1088;&#1077;&#1090;%20&#1080;&#1084;&#1087;&#1077;&#1088;&#1072;&#1090;&#1088;&#1080;&#1094;&#1072;%20&#1084;&#1072;&#1088;&#1080;&#1080;%20&#1072;&#1083;&#1077;&#1082;&#1089;&#1072;&#1085;&#1076;&#1088;&#1086;&#1074;&#1085;&#1099;%20&#1093;&#1091;&#1076;&#1086;&#1078;&#1085;&#1080;&#1082;%20&#1084;&#1072;&#1082;&#1072;&#1088;&#1086;&#1074;&amp;p=9&amp;img_url=img1.liveinternet.ru/images/attach/c/0/30/259/30259714_2444131970094285158qTmszV_fs.jpg&amp;rpt=simage" TargetMode="External"/><Relationship Id="rId5" Type="http://schemas.openxmlformats.org/officeDocument/2006/relationships/image" Target="../media/image36.jpeg"/><Relationship Id="rId6" Type="http://schemas.openxmlformats.org/officeDocument/2006/relationships/hyperlink" Target="http://images.yandex.ru/yandsearch?rpt=simage&amp;text=&#1075;&#1088;&#1091;&#1087;&#1087;&#1086;&#1074;&#1086;&#1081;%20&#1087;&#1086;&#1088;&#1090;&#1088;&#1077;&#1090;%20&#1093;&#1091;&#1076;&#1086;&#1078;&#1085;&#1080;&#1082;%20&#1090;&#1088;&#1086;&#1087;&#1080;&#1085;&#1080;&#1085;&amp;p=2&amp;img_url=gellachara.files.wordpress.com/2010/08/174pinin_semeyptmorkovyxgtg.jpg" TargetMode="External"/><Relationship Id="rId7" Type="http://schemas.openxmlformats.org/officeDocument/2006/relationships/image" Target="../media/image37.jpeg"/><Relationship Id="rId8" Type="http://schemas.openxmlformats.org/officeDocument/2006/relationships/image" Target="../media/image11.jpeg"/><Relationship Id="rId9" Type="http://schemas.openxmlformats.org/officeDocument/2006/relationships/image" Target="../media/image38.jpe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rpt=simage&amp;ed=1&amp;text=&#1087;&#1077;&#1081;&#1079;&#1072;&#1078;%20&#1080;.&#1096;&#1080;&#1096;&#1082;&#1080;&#1085;&#1072;&amp;p=45&amp;img_url=www.art-portrets.ru/art/shishkin_rozh.jpg" TargetMode="External"/><Relationship Id="rId2" Type="http://schemas.openxmlformats.org/officeDocument/2006/relationships/hyperlink" Target="http://images.yandex.ru/yandsearch?rpt=simage&amp;ed=1&amp;text=&#1087;&#1077;&#1081;&#1079;&#1072;&#1078;%20&#1080;.&#1096;&#1080;&#1096;&#1082;&#1080;&#1085;&#1072;&amp;p=113&amp;img_url=s56.radikal.ru/i151/0906/7b/fad3da96566b.jpg" TargetMode="External"/><Relationship Id="rId3" Type="http://schemas.openxmlformats.org/officeDocument/2006/relationships/hyperlink" Target="http://images.yandex.ru/yandsearch?rpt=simage&amp;ed=1&amp;text=&#1087;&#1077;&#1081;&#1079;&#1072;&#1078;%20&#1080;.&#1096;&#1080;&#1096;&#1082;&#1080;&#1085;&#1072;&amp;p=45&amp;img_url=www.art-portrets.ru/art/shishkin_rozh.jpg" TargetMode="External"/><Relationship Id="rId4" Type="http://schemas.openxmlformats.org/officeDocument/2006/relationships/hyperlink" Target="http://images.yandex.ru/yandsearch?rpt=simage&amp;ed=1&amp;text=&#1087;&#1077;&#1081;&#1079;&#1072;&#1078;%20&#1080;.&#1096;&#1080;&#1096;&#1082;&#1080;&#1085;&#1072;&amp;p=113&amp;img_url=s56.radikal.ru/i151/0906/7b/fad3da96566b.jpg" TargetMode="External"/><Relationship Id="rId5" Type="http://schemas.openxmlformats.org/officeDocument/2006/relationships/hyperlink" Target="http://images.yandex.ru/yandsearch?ed=1&amp;text=&#1087;&#1077;&#1081;&#1079;&#1072;&#1078;%20&#1080;.&#1096;&#1080;&#1096;&#1082;&#1080;&#1085;&#1072;&amp;p=20&amp;img_url=www.zhaba.ru/_pics/yihbzqagmfwrkqbg.jpg&amp;rpt=simage" TargetMode="External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102;&#1086;&#1085;%20&#1080;&#1085;&#1076;&#1091;&#1089;&#1090;&#1088;&#1080;&#1072;&#1083;&#1100;&#1085;&#1099;&#1081;%20&#1087;&#1077;&#1081;&#1079;&#1072;&#1078;&amp;p=5&amp;img_url=www.mmt.su/a/?url=http%3A%2F%2Fbiography.sgu.ru%2Fbio%2Fdata%2Ffiles%2Fpictures%2Fimage%2F38783.jpg&amp;rpt=simage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hyperlink" Target="http://images.yandex.ru/yandsearch?ed=1&amp;text=&#1078;&#1080;&#1074;&#1086;&#1087;&#1080;&#1089;&#1100;%20&#1074;&#1080;&#1076;&#1099;%20&#1082;&#1072;&#1079;&#1072;&#1085;&#1080;%20&#1074;%20&#1082;&#1072;&#1088;&#1090;&#1080;&#1085;&#1072;&#1093;%20&#1093;&#1091;&#1076;&#1086;&#1078;&#1085;&#1080;&#1082;&#1086;&#1074;&amp;p=6&amp;img_url=doseng.org/uploads/posts/2009-02/1233752620_44.jpg&amp;rpt=simage" TargetMode="External"/><Relationship Id="rId5" Type="http://schemas.openxmlformats.org/officeDocument/2006/relationships/image" Target="../media/image6.jpeg"/><Relationship Id="rId6" Type="http://schemas.openxmlformats.org/officeDocument/2006/relationships/hyperlink" Target="http://images.yandex.ru/yandsearch?ed=1&amp;text=&#1087;&#1077;&#1081;&#1079;&#1072;&#1078;%20&#1089;&#1072;&#1074;&#1088;&#1072;&#1089;&#1086;&#1074;&amp;p=74&amp;img_url=img1.liveinternet.ru/images/attach/c/1/61/139/61139667_s9.JPG&amp;rpt=simage" TargetMode="External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7;&#1077;&#1081;&#1079;&#1072;&#1078;%20&#1072;&#1081;&#1074;&#1072;&#1079;&#1086;&#1074;&#1089;&#1082;&#1086;&#1075;&#1086;%20&#1076;&#1077;&#1074;&#1103;&#1090;&#1099;&#1081;%20&#1074;&#1072;&#1083;&amp;rpt=simage&amp;img_url=img0.liveinternet.ru/images/attach/c/1/50/286/50286029_1256413875_Bezimeni2.jpg&amp;p=5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rpt=simage&amp;text=&#1089;&#1090;&#1074;&#1086;&#1083;%20&#1089;&#1090;&#1072;&#1088;&#1086;&#1075;&#1086;%20&#1076;&#1091;&#1073;&#1072;%20&#1092;.%20&#1074;&#1072;&#1089;&#1080;&#1083;&#1100;&#1077;&#1074;&amp;p=1&amp;img_url=www.art-catalog.ru/data_picture_new/artist_68/picture/big_500/fvasil_2.jpg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images.yandex.ru/yandsearch?text=&#1082;&#1072;&#1084;&#1085;&#1080;%20&#1080;%20&#1089;&#1091;&#1096;&#1082;&#1072;%20&#1089;&#1077;&#1090;&#1077;&#1081;%20&#1092;.%20&#1074;&#1072;&#1089;&#1080;&#1083;&#1100;&#1077;&#1074;&amp;p=0&amp;img_url=2.bp.blogspot.com/_vYPIDwOMhm4/SAr_e7IeLfI/AAAAAAAALPA/ocwStW5yb-U/s320/Vasil%60ev_FA_031.jpg&amp;rpt=simage" TargetMode="External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images.yandex.ru/yandsearch?text=&#1087;&#1077;&#1081;&#1079;&#1072;&#1078;%20&#1082;&#1091;&#1080;&#1085;&#1076;&#1078;&#1080;&amp;rpt=simage&amp;img_url=www.russianartgallery.org/famous/images/kuinji_birches.jpg&amp;p=17" TargetMode="External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hyperlink" Target="http://images.yandex.ru/yandsearch?ed=1&amp;text=&#1087;&#1077;&#1081;&#1079;&#1072;&#1078;%20&#1089;&#1072;&#1074;&#1088;&#1072;&#1089;&#1086;&#1074;&amp;p=1&amp;img_url=zhurnal.lib.ru/img/s/shurygin_a_i/04aprel/grachi_prileteli.jpg&amp;rpt=simage" TargetMode="External"/><Relationship Id="rId6" Type="http://schemas.openxmlformats.org/officeDocument/2006/relationships/image" Target="../media/image25.jpeg"/><Relationship Id="rId7" Type="http://schemas.openxmlformats.org/officeDocument/2006/relationships/hyperlink" Target="http://images.yandex.ru/yandsearch?rpt=simage&amp;ed=1&amp;text=&#1087;&#1077;&#1081;&#1079;&#1072;&#1078;%20&#1080;.&#1096;&#1080;&#1096;&#1082;&#1080;&#1085;&#1072;&amp;p=45&amp;img_url=www.art-portrets.ru/art/shishkin_rozh.jpg" TargetMode="External"/><Relationship Id="rId8" Type="http://schemas.openxmlformats.org/officeDocument/2006/relationships/image" Target="../media/image26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88;&#1072;&#1085;&#1094;&#1091;&#1079;&#1089;&#1082;&#1080;&#1081;_&#1103;&#1079;&#1099;&#1082;" TargetMode="External"/><Relationship Id="rId2" Type="http://schemas.openxmlformats.org/officeDocument/2006/relationships/hyperlink" Target="http://images.yandex.ru/yandsearch?rpt=simage&amp;img_url=img1.liveinternet.ru/images/attach/b/3/23/220/23220003_Podsolnuhi.jpg&amp;ed=1&amp;text=&#1085;&#1072;&#1090;&#1102;&#1088;&#1084;&#1086;&#1088;&#1090;&#1099;%20&#1074;%20&#1087;&#1088;&#1086;&#1080;&#1079;&#1074;&#1077;&#1076;&#1077;&#1085;&#1080;&#1103;&#1093;%20&#1093;&#1091;&#1076;&#1086;&#1078;&#1085;&#1080;&#1082;&#1086;&#1074;&amp;p=3" TargetMode="External"/><Relationship Id="rId3" Type="http://schemas.openxmlformats.org/officeDocument/2006/relationships/image" Target="../media/image27.jpeg"/><Relationship Id="rId4" Type="http://schemas.openxmlformats.org/officeDocument/2006/relationships/hyperlink" Target="http://images.yandex.ru/yandsearch?ed=1&amp;text=&#1085;&#1072;&#1090;&#1102;&#1088;&#1084;&#1086;&#1088;&#1090;&#1099;%20&#1080;.&#1075;&#1088;&#1072;&#1073;&#1072;&#1088;&#1103;&amp;p=12&amp;img_url=naturmort.taba.ru/image/show_original/12684/image.jpg&amp;rpt=simage" TargetMode="External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i="1" lang="ru-RU" sz="5400" spc="-1" strike="noStrike">
                <a:solidFill>
                  <a:srgbClr val="ffffff"/>
                </a:solidFill>
                <a:latin typeface="Tahoma"/>
              </a:rPr>
              <a:t>В гостях</a:t>
            </a:r>
            <a:br>
              <a:rPr sz="5400"/>
            </a:br>
            <a:r>
              <a:rPr b="1" i="1" lang="ru-RU" sz="5400" spc="-1" strike="noStrike">
                <a:solidFill>
                  <a:srgbClr val="ffffff"/>
                </a:solidFill>
                <a:latin typeface="Tahoma"/>
              </a:rPr>
              <a:t> у жанров ИЗО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i-tmb-0x" descr="http://im8-tub.yandex.net/i?id=121298387-04-24"/>
          <p:cNvPicPr/>
          <p:nvPr/>
        </p:nvPicPr>
        <p:blipFill>
          <a:blip r:embed="rId1"/>
          <a:stretch/>
        </p:blipFill>
        <p:spPr>
          <a:xfrm>
            <a:off x="1857240" y="0"/>
            <a:ext cx="2714760" cy="178596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5" descr="http://im8-tub.yandex.net/i?id=17728466-02-2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4786200"/>
            <a:ext cx="2286000" cy="207180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6" descr="http://im7-tub.yandex.net/i?id=133867570-07-2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1857240" cy="25002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7" descr="http://im7-tub.yandex.net/i?id=54598163-06-24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0" y="2500200"/>
            <a:ext cx="1857240" cy="228600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8" descr="http://im2-tub.yandex.net/i?id=256021409-10-24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572000" y="0"/>
            <a:ext cx="2928960" cy="178596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9" descr="http://im7-tub.yandex.net/i?id=96428151-02-24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7500960" y="0"/>
            <a:ext cx="1643040" cy="22860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0" descr="http://im4-tub.yandex.net/i?id=42934500-08-24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4429080" y="4786200"/>
            <a:ext cx="2286000" cy="20718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1" descr="http://im5-tub.yandex.net/i?id=111294348-04-24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7500960" y="2286000"/>
            <a:ext cx="1643040" cy="25002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2" descr="http://im8-tub.yandex.net/i?id=217216773-11-24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2286000" y="4786200"/>
            <a:ext cx="2143080" cy="20718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3" descr="http://im4-tub.yandex.net/i?id=132254116-22-24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6715080" y="4786200"/>
            <a:ext cx="2428920" cy="20718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3" descr="http://im5-tub.yandex.net/i?id=111294348-04-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2428920"/>
            <a:ext cx="1857240" cy="271476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4"/>
          <p:cNvSpPr/>
          <p:nvPr/>
        </p:nvSpPr>
        <p:spPr>
          <a:xfrm>
            <a:off x="785880" y="571680"/>
            <a:ext cx="7572240" cy="60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роме  неодушевлённых предметов (домашней утвари, музыкальных инструментов) в натюрморте могут изображаться объекты и живой природы (рыба на столе, цветы в вазе, фрукты и овощи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К.Коровин                           Поль Сезанн                               К.Коровин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Натюрморт с синей            «Натюрморт с вазой»              «Неприбранный стол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азой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Рисунок 5" descr="http://im2-tub.yandex.net/i?id=134765201-03-2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43760" y="2500200"/>
            <a:ext cx="1877760" cy="263700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6" descr="http://im2-tub.yandex.net/i?id=50094007-06-2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57720" y="3286080"/>
            <a:ext cx="2286000" cy="18255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3"/>
          <p:cNvSpPr/>
          <p:nvPr/>
        </p:nvSpPr>
        <p:spPr>
          <a:xfrm>
            <a:off x="714240" y="785880"/>
            <a:ext cx="7572600" cy="58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итер Класс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Завтрак с ветчиной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итер Класс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Натюрморт с музыкальным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инструментами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К. Коровин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Натюрморт с яблоками»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Рисунок 4" descr="http://im4-tub.yandex.net/i?id=18084497-08-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57160" y="3571920"/>
            <a:ext cx="2286000" cy="164304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39" name="Рисунок 5" descr="http://im5-tub.yandex.net/i?id=71874583-20-2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29000" y="4429080"/>
            <a:ext cx="2286000" cy="164304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40" name="Рисунок 7" descr="http://im4-tub.yandex.net/i?id=21325654-19-2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00840" y="5000760"/>
            <a:ext cx="2214360" cy="164304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sp>
        <p:nvSpPr>
          <p:cNvPr id="141" name="Прямоугольник 5"/>
          <p:cNvSpPr/>
          <p:nvPr/>
        </p:nvSpPr>
        <p:spPr>
          <a:xfrm>
            <a:off x="428760" y="500040"/>
            <a:ext cx="8072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тюрморт бывает нескольких видов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декоративный натюрморт,-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казывая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ящность и пышность, богатство и роскошь, - украшает интерьер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символический натюрморт ,-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 изображением предметов-символов (свечей, часов, черепов и др.) несет в себе тайный смыс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714240" y="357120"/>
            <a:ext cx="7772400" cy="557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5000"/>
          </a:bodyPr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онтрольные вопрос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)   Если видишь на  картин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ашку кофе на столе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морс в большом графине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розу в хрустале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бронзовую вазу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грушу, или торт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все предметы сразу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най, что это   . . 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)   Перечислите элементы натюрмор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)  Перечислите разновидности натюрмор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Рисунок 4" descr="http://im7-tub.yandex.net/i?id=96428151-02-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7720" y="3214800"/>
            <a:ext cx="2143080" cy="257148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6"/>
          <p:cNvSpPr/>
          <p:nvPr/>
        </p:nvSpPr>
        <p:spPr>
          <a:xfrm>
            <a:off x="714240" y="357120"/>
            <a:ext cx="7643880" cy="67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ЖАНР ПОРТРЕ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ортрет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с франц. яз. portrait,  – изображать, передавать "черта в черту"), один из основных жанров  изобразительного искусства, изображение человека или группы людей, реально существующих либо существовавших в прошл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Леонардо да Винч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Мона Лиза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722160" y="213840"/>
            <a:ext cx="7772400" cy="300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зависимости от функционального назначения и композиционных особенностей различают следующие виды портретов: погрудные и в полный рост, однофигурные и групповые,  парадные и костюмированные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Прямоугольник 9"/>
          <p:cNvSpPr/>
          <p:nvPr/>
        </p:nvSpPr>
        <p:spPr>
          <a:xfrm>
            <a:off x="428760" y="3143160"/>
            <a:ext cx="8358120" cy="40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К.Маковский                                          В.А.Тропинин                                            И.Репин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Портрет  графа                                       «Семейный                                            « Портрет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П.П.Муравьева»                                        портрет»                                           П.Третьякова»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buClr>
                <a:srgbClr val="ffffff"/>
              </a:buClr>
              <a:buFont typeface="Tahoma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И.К.Макаров                                                В.Серо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Портрет                                                «Девочка с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императрицы                                             персиками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Мари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Александровны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5" descr="http://img.yandex.net/i/search/z-images__mask.png"/>
          <p:cNvPicPr/>
          <p:nvPr/>
        </p:nvPicPr>
        <p:blipFill>
          <a:blip r:embed="rId1"/>
          <a:stretch/>
        </p:blipFill>
        <p:spPr>
          <a:xfrm>
            <a:off x="163440" y="-326880"/>
            <a:ext cx="495360" cy="68580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15" descr="http://im8-tub.yandex.net/i?id=36389026-20-2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2960" y="4429080"/>
            <a:ext cx="1500120" cy="200016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16" descr="http://im0-tub.yandex.net/i?id=68266035-01-2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143080" y="2928960"/>
            <a:ext cx="1500120" cy="192888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17" descr="http://im3-tub.yandex.net/i?id=7290362-02-24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643200" y="4429080"/>
            <a:ext cx="2000520" cy="192888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18" descr="http://im4-tub.yandex.net/i?id=132254116-22-24"/>
          <p:cNvPicPr/>
          <p:nvPr/>
        </p:nvPicPr>
        <p:blipFill>
          <a:blip r:embed="rId8"/>
          <a:stretch/>
        </p:blipFill>
        <p:spPr>
          <a:xfrm>
            <a:off x="5643720" y="2928960"/>
            <a:ext cx="1571400" cy="192888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19" descr="http://im7-tub.yandex.net/i?id=91689013-13-24"/>
          <p:cNvPicPr/>
          <p:nvPr/>
        </p:nvPicPr>
        <p:blipFill>
          <a:blip r:embed="rId9"/>
          <a:stretch/>
        </p:blipFill>
        <p:spPr>
          <a:xfrm>
            <a:off x="7215120" y="4429080"/>
            <a:ext cx="1571760" cy="20001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142640" y="356760"/>
            <a:ext cx="7286760" cy="135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ртрет, в котором художник изображает самого себя, называется –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автопортр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i-tmb-0x" descr="http://im7-tub.yandex.net/i?id=144698305-20-24"/>
          <p:cNvPicPr/>
          <p:nvPr/>
        </p:nvPicPr>
        <p:blipFill>
          <a:blip r:embed="rId1"/>
          <a:stretch/>
        </p:blipFill>
        <p:spPr>
          <a:xfrm>
            <a:off x="4929120" y="2214720"/>
            <a:ext cx="1928880" cy="257148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55" name="Рисунок 5" descr="http://im5-tub.yandex.net/i?id=33799739-07-24"/>
          <p:cNvPicPr/>
          <p:nvPr/>
        </p:nvPicPr>
        <p:blipFill>
          <a:blip r:embed="rId2"/>
          <a:stretch/>
        </p:blipFill>
        <p:spPr>
          <a:xfrm>
            <a:off x="1928880" y="2214720"/>
            <a:ext cx="1928880" cy="2571480"/>
          </a:xfrm>
          <a:prstGeom prst="rect">
            <a:avLst/>
          </a:prstGeom>
          <a:ln w="28440">
            <a:solidFill>
              <a:srgbClr val="003366"/>
            </a:solidFill>
            <a:miter/>
          </a:ln>
        </p:spPr>
      </p:pic>
      <p:sp>
        <p:nvSpPr>
          <p:cNvPr id="156" name="Прямоугольник 6"/>
          <p:cNvSpPr/>
          <p:nvPr/>
        </p:nvSpPr>
        <p:spPr>
          <a:xfrm>
            <a:off x="1357200" y="478620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Леонардо да Винчи                              И.Э. Грабарь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Автопортрет                                     Автопортре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i-tmb-0x" descr="http://im6-tub.yandex.net/i?id=56405085-21-24"/>
          <p:cNvPicPr/>
          <p:nvPr/>
        </p:nvPicPr>
        <p:blipFill>
          <a:blip r:embed="rId1"/>
          <a:stretch/>
        </p:blipFill>
        <p:spPr>
          <a:xfrm>
            <a:off x="4857840" y="2286000"/>
            <a:ext cx="2000160" cy="264312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4" descr="http://im8-tub.yandex.net/i?id=177990111-15-24"/>
          <p:cNvPicPr/>
          <p:nvPr/>
        </p:nvPicPr>
        <p:blipFill>
          <a:blip r:embed="rId2"/>
          <a:stretch/>
        </p:blipFill>
        <p:spPr>
          <a:xfrm>
            <a:off x="1928880" y="2286000"/>
            <a:ext cx="2000160" cy="2643120"/>
          </a:xfrm>
          <a:prstGeom prst="rect">
            <a:avLst/>
          </a:prstGeom>
          <a:ln w="0">
            <a:noFill/>
          </a:ln>
        </p:spPr>
      </p:pic>
      <p:sp>
        <p:nvSpPr>
          <p:cNvPr id="159" name="Прямоугольник 5"/>
          <p:cNvSpPr/>
          <p:nvPr/>
        </p:nvSpPr>
        <p:spPr>
          <a:xfrm>
            <a:off x="642960" y="642960"/>
            <a:ext cx="8001000" cy="50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ное качество портрета – сходство с оригиналом – обеспечивается точным изображением внешнего облика человека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И.Репин                                     К.Брюлло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Портрет жены»                       «Портрет Н.Гончаровой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714240" y="357120"/>
            <a:ext cx="7772400" cy="557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5000"/>
          </a:bodyPr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онтрольные вопрос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)   Если видишь, что с  картин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мотрит кто-нибудь на нас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принц в плаще старинном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в робе верхолаз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етчик или балерин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Колька – твой сосед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язательно карти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зывается   . . 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)   Изображение художником самого себя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)  Перечислите разновидности портре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28400" y="499680"/>
            <a:ext cx="778644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удожники использовали и используют в своей работе самые различные художественные материалы (графитные карандаши, уголь, тушь, гуашь, акварельные и масляные краски), приемов и способов работы ими очень много, они сложны и разнообразны. Но в зависимости от того, что изображено на картине,  можно определить ее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жан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изобразительном искусстве различают следующие жанры: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ейзаж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ортрет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натюрмор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ряду с ними существуют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исторический , бытовой, батальный и анималистические жанр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601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571320"/>
            <a:ext cx="8186760" cy="31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ЖАНР  ПЕЙЗАЖА</a:t>
            </a: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ейзаж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— (фран. слово paysage, от pays - местность), вид, изображение какой-либо местности; в живописи и в графике жанр изобразительного искусства, в котором основным предметом изображения является - природа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3143160"/>
            <a:ext cx="3008160" cy="29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  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800" spc="-1" strike="noStrike" u="sng">
                <a:solidFill>
                  <a:srgbClr val="ffff99"/>
                </a:solidFill>
                <a:uFillTx/>
                <a:latin typeface="Tahoma"/>
                <a:hlinkClick r:id="rId1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 u="sng">
                <a:solidFill>
                  <a:srgbClr val="ffff99"/>
                </a:solidFill>
                <a:uFillTx/>
                <a:latin typeface="Tahoma"/>
                <a:hlinkClick r:id="rId2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800" spc="-1" strike="noStrike" u="sng">
                <a:solidFill>
                  <a:srgbClr val="ffff99"/>
                </a:solidFill>
                <a:uFillTx/>
                <a:latin typeface="Tahoma"/>
                <a:hlinkClick r:id="rId3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 u="sng">
                <a:solidFill>
                  <a:srgbClr val="ffff99"/>
                </a:solidFill>
                <a:uFillTx/>
                <a:latin typeface="Tahoma"/>
                <a:hlinkClick r:id="rId4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Рисунок 10" descr="http://im7-tub.yandex.net/i?id=45485502-18-2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57680" y="3286080"/>
            <a:ext cx="3429000" cy="250668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sp>
        <p:nvSpPr>
          <p:cNvPr id="105" name="Прямоугольник 6"/>
          <p:cNvSpPr/>
          <p:nvPr/>
        </p:nvSpPr>
        <p:spPr>
          <a:xfrm>
            <a:off x="2286000" y="585792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И.И.Шишкин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Утро в сосновом бору»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86800" cy="207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зависимости от того, что нарисовано на картине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ейзажи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бывают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сельским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городскими, 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                             архитектурными,   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индустриальны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13840" y="3214800"/>
            <a:ext cx="89298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А.К.Саврасо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Пейзаж с избушкой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Неизвестный художни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Городской пейзаж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еизвестный  художни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Вид Москвы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К.Ф.Юон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Утро индустриальной Москвы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Рисунок 6" descr="http://im3-tub.yandex.net/i?id=171093013-09-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72160" y="4357800"/>
            <a:ext cx="2071800" cy="157140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09" name="Picture 8" descr="http://im2-tub.yandex.net/i?id=33502441-15-24"/>
          <p:cNvPicPr/>
          <p:nvPr/>
        </p:nvPicPr>
        <p:blipFill>
          <a:blip r:embed="rId3"/>
          <a:stretch/>
        </p:blipFill>
        <p:spPr>
          <a:xfrm>
            <a:off x="4572000" y="3214800"/>
            <a:ext cx="2125800" cy="171432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10" name="Рисунок 8" descr="http://im2-tub.yandex.net/i?id=256021409-10-2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71840" y="2428920"/>
            <a:ext cx="2143080" cy="164304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11" name="Рисунок 24" descr="http://im2-tub.yandex.net/i?id=233066117-19-24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42960" y="1643040"/>
            <a:ext cx="2071800" cy="156060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9680" y="0"/>
            <a:ext cx="8358120" cy="300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Морской пейзаж – марина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с итальян. marina,— морской) — один из видов пейзажа, объектом изображения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торого  является море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воеобразную красоту то спокойного, то бурного моря изображал в своих работах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художник – маринист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ван Константинович Айвазовский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99680" y="2428920"/>
            <a:ext cx="825804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Девятый вал»                                                 «Константинопол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при  луне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Буря»                                                         «Ледяные горы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Рисунок 5" descr="http://im5-tub.yandex.net/i?id=70290179-03-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040" y="2928960"/>
            <a:ext cx="2428920" cy="180036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15" name="Picture 4" descr=""/>
          <p:cNvPicPr/>
          <p:nvPr/>
        </p:nvPicPr>
        <p:blipFill>
          <a:blip r:embed="rId3"/>
          <a:stretch/>
        </p:blipFill>
        <p:spPr>
          <a:xfrm>
            <a:off x="4214880" y="2857680"/>
            <a:ext cx="2500200" cy="1785600"/>
          </a:xfrm>
          <a:prstGeom prst="rect">
            <a:avLst/>
          </a:prstGeom>
          <a:ln w="28440">
            <a:solidFill>
              <a:srgbClr val="00206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6" name="Picture 4" descr=""/>
          <p:cNvPicPr/>
          <p:nvPr/>
        </p:nvPicPr>
        <p:blipFill>
          <a:blip r:embed="rId4"/>
          <a:stretch/>
        </p:blipFill>
        <p:spPr>
          <a:xfrm>
            <a:off x="2071800" y="4429080"/>
            <a:ext cx="2381040" cy="178596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17" name="Picture 4" descr=""/>
          <p:cNvPicPr/>
          <p:nvPr/>
        </p:nvPicPr>
        <p:blipFill>
          <a:blip r:embed="rId5"/>
          <a:stretch/>
        </p:blipFill>
        <p:spPr>
          <a:xfrm>
            <a:off x="6114960" y="4254480"/>
            <a:ext cx="2559240" cy="20606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Элементами пейзажа могут быть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071360"/>
            <a:ext cx="86868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емная поверхность (камни, песок, земля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стительность (деревья, кусты, цветы и травы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еловеческие постройки (домики, замки, избушки и тд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спектива (уходящие вдаль дорога, тропинка, река и тд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доёмы (озера, моря, реки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лака, солнце, дожд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Ф. Васильев                                                   Ф. Василье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Камни.  Сушка сетей»                                «Ствол старого дерева»              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Рисунок 7" descr="http://im8-tub.yandex.net/i?id=66350458-00-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86240" y="2928960"/>
            <a:ext cx="2286000" cy="278604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21" name="Рисунок 8" descr="http://im5-tub.yandex.net/i?id=235617758-13-2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214280" y="3571920"/>
            <a:ext cx="3000600" cy="214308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214560"/>
            <a:ext cx="8229600" cy="678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К.Ф.Юон                                          А.И.Куинджи</a:t>
            </a:r>
            <a:br>
              <a:rPr sz="2400"/>
            </a:b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Мартовское солнце»                     «Солнечные пятна на инее»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зависимости от того, какое время года изобразил художник различают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зимний, весенний, осенний и летний пейзажи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И.И.Шишкин                                А.К.Саврасов                               А.И.Куинджи </a:t>
            </a:r>
            <a:br>
              <a:rPr sz="1400"/>
            </a:b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«Рожь»                                «Грачи прилетели»                     «Березовая роща»</a:t>
            </a:r>
            <a:br>
              <a:rPr sz="1400"/>
            </a:b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br>
              <a:rPr sz="24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i-tmb-0x" descr="http://im2-tub.yandex.net/i?id=138078619-18-24"/>
          <p:cNvPicPr/>
          <p:nvPr/>
        </p:nvPicPr>
        <p:blipFill>
          <a:blip r:embed="rId1"/>
          <a:stretch/>
        </p:blipFill>
        <p:spPr>
          <a:xfrm>
            <a:off x="4857840" y="357120"/>
            <a:ext cx="2286000" cy="157644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24" name="Рисунок 3" descr="http://im0-tub.yandex.net/i?id=64283694-05-2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43760" y="4214880"/>
            <a:ext cx="2500200" cy="17031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25" name="i-tmb-0x" descr="http://im2-tub.yandex.net/i?id=256129581-09-24"/>
          <p:cNvPicPr/>
          <p:nvPr/>
        </p:nvPicPr>
        <p:blipFill>
          <a:blip r:embed="rId4"/>
          <a:stretch/>
        </p:blipFill>
        <p:spPr>
          <a:xfrm>
            <a:off x="1643040" y="357120"/>
            <a:ext cx="2235240" cy="15717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26" name="Рисунок 6" descr="http://im5-tub.yandex.net/i?id=89342257-20-2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571920" y="3714840"/>
            <a:ext cx="1830240" cy="22143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27" name="Рисунок 8" descr="http://im4-tub.yandex.net/i?id=118490941-08-24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71680" y="4214880"/>
            <a:ext cx="2286000" cy="17319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714240" y="356760"/>
            <a:ext cx="7772400" cy="600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2000"/>
          </a:bodyPr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онтрольные вопрос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)   Если видишь, на картин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рисована рек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ель и белый иней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сад и облак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снежная равнин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поле и шалаш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язательно карти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зывается   . . 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)   Перечислите элементы пейзаж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)  Перечислите разновидности пейзаж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)  Как называют художника изображающего море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22160" y="642600"/>
            <a:ext cx="77724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Прямоугольник 4"/>
          <p:cNvSpPr/>
          <p:nvPr/>
        </p:nvSpPr>
        <p:spPr>
          <a:xfrm>
            <a:off x="500040" y="642960"/>
            <a:ext cx="7929720" cy="60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ЖАНР  НАТЮРМОР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Натюрмо́рт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(с </a:t>
            </a:r>
            <a:r>
              <a:rPr b="0" lang="ru-RU" sz="2400" spc="-1" strike="noStrike" u="sng">
                <a:solidFill>
                  <a:srgbClr val="ffff99"/>
                </a:solidFill>
                <a:uFillTx/>
                <a:latin typeface="Tahoma"/>
                <a:hlinkClick r:id="rId1"/>
              </a:rPr>
              <a:t>фр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i="1" lang="fr-FR" sz="2400" spc="-1" strike="noStrike">
                <a:solidFill>
                  <a:srgbClr val="ffffff"/>
                </a:solidFill>
                <a:latin typeface="Tahoma"/>
              </a:rPr>
              <a:t>nature morte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 - «мёртвая натура»)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ложный и разнообразный жанр изобразительного искусства,  который посвящен изображению окружающих человека веще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. Ван Гог  «Подсолнух»                      И. Э. Грабарь «Груши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Рисунок 8" descr="http://im7-tub.yandex.net/i?id=75802727-11-2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28840" y="3071880"/>
            <a:ext cx="2071440" cy="271440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32" name="Рисунок 9" descr="http://im6-tub.yandex.net/i?id=66595025-06-2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72000" y="3071880"/>
            <a:ext cx="2000160" cy="271440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11:31:07Z</dcterms:created>
  <dc:creator>Дрогунов Евгений Борисович</dc:creator>
  <dc:description/>
  <dc:language>en-US</dc:language>
  <cp:lastModifiedBy>Izo</cp:lastModifiedBy>
  <dcterms:modified xsi:type="dcterms:W3CDTF">2011-05-12T07:24:10Z</dcterms:modified>
  <cp:revision>141</cp:revision>
  <dc:subject/>
  <dc:title>Слайд 1</dc:title>
</cp:coreProperties>
</file>