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F8D-F629-4EC9-B421-FB61BE04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464-3972-44AC-AA6F-ACFBDA34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53C9-5CBE-4E17-BAC0-7FD23A93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CE1-2CE7-471C-B75E-AC98EE03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D843-8F09-4440-ABD8-6903A78C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1B00-6456-46C3-B9AF-3CD11EC4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DE5-B416-4E92-956A-9DA6FF4D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23A4-0240-4EB6-A2C8-AFC554C7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461A-8344-433D-AAC6-BE90F362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DAA-8E2F-47D0-AF78-3A21C1DD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89E-8EC2-43F3-B311-2E0BD8DD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76BC-828D-4A5F-BBED-1E59C65F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048F-6A02-4BA6-9CD1-FE69C8C040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yandex.ru/yandsearch?text=&#1087;&#1077;&#1081;&#1079;&#1072;&#1078;&#1080;%20&#1093;&#1091;&#1076;&#1086;&#1078;&#1085;&#1080;&#1082;&#1086;&#1074;&amp;p=96&amp;img_url=socvirus.com.ua/wp-content/uploads/2010/01/66.jpg&amp;rpt=simage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ed=1&amp;text=&#1087;&#1077;&#1081;&#1079;&#1072;&#1078;%20&#1074;%20&#1075;&#1088;&#1072;&#1092;&#1080;&#1082;&#1077;&amp;p=70&amp;img_url=www.avalon.ru/_images/Gallery/HigherEducation/Design/Drawing/2008/landscape/tolstaja-olga.jpg&amp;rpt=simage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www.spbgu.ru/forums/uploads/post-143-1162655997.jpg&amp;p=4" TargetMode="External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66"/>
                </a:solidFill>
                <a:latin typeface="Monotype Corsiva"/>
              </a:rPr>
              <a:t>В гостях  у  жан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28464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нтроль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этих изображений относятся к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жанру натюрм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8360" y="1268280"/>
          <a:ext cx="8137440" cy="446580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3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23" descr="mashkov_naturmort"/>
          <p:cNvPicPr/>
          <p:nvPr/>
        </p:nvPicPr>
        <p:blipFill>
          <a:blip r:embed="rId1"/>
          <a:stretch/>
        </p:blipFill>
        <p:spPr>
          <a:xfrm>
            <a:off x="57168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7" name="Picture 25" descr="Aivazovsky-Чер м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348000" y="1357200"/>
            <a:ext cx="24480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8" name="Picture 29" descr="Ермак 3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71680" y="3716280"/>
            <a:ext cx="2500200" cy="1636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9" name="Picture 33" descr="пейзаж 4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6072120" y="3716280"/>
            <a:ext cx="2428920" cy="1641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50" name="Text Box 69"/>
          <p:cNvSpPr/>
          <p:nvPr/>
        </p:nvSpPr>
        <p:spPr>
          <a:xfrm>
            <a:off x="1187280" y="321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0"/>
          <p:cNvSpPr/>
          <p:nvPr/>
        </p:nvSpPr>
        <p:spPr>
          <a:xfrm>
            <a:off x="399564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1"/>
          <p:cNvSpPr/>
          <p:nvPr/>
        </p:nvSpPr>
        <p:spPr>
          <a:xfrm>
            <a:off x="6877080" y="3213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2"/>
          <p:cNvSpPr/>
          <p:nvPr/>
        </p:nvSpPr>
        <p:spPr>
          <a:xfrm>
            <a:off x="1403280" y="537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3"/>
          <p:cNvSpPr/>
          <p:nvPr/>
        </p:nvSpPr>
        <p:spPr>
          <a:xfrm>
            <a:off x="399564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4"/>
          <p:cNvSpPr/>
          <p:nvPr/>
        </p:nvSpPr>
        <p:spPr>
          <a:xfrm>
            <a:off x="6732720" y="53625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Сарьян 2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00084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57" name="Рисунок 16" descr="http://im4-tub.yandex.net/i?id=21325654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57720" y="3714840"/>
            <a:ext cx="25002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разновидности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орт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000160" y="1857240"/>
          <a:ext cx="5143680" cy="30783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</a:tblGrid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8"/>
          <p:cNvSpPr/>
          <p:nvPr/>
        </p:nvSpPr>
        <p:spPr>
          <a:xfrm>
            <a:off x="4572000" y="558972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2428920" y="192888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http://im8-tub.yandex.net/i?id=217216773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1928880"/>
            <a:ext cx="18576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представленных здесь пейзажей называются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ельс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25"/>
          <p:cNvSpPr/>
          <p:nvPr/>
        </p:nvSpPr>
        <p:spPr>
          <a:xfrm>
            <a:off x="785880" y="335772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3286080" y="33577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6072120" y="33577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7" descr="Грачи прилетел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43000" y="3929040"/>
            <a:ext cx="1527120" cy="20001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4" name="Picture 46" descr="Шишкин рожь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286080" y="1214280"/>
            <a:ext cx="2571840" cy="1785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5" name="Рисунок 24" descr="http://im2-tub.yandex.net/i?id=233066117-19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86080" y="385776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5" descr="http://im6-tub.yandex.net/i?id=47532160-14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72120" y="1214280"/>
            <a:ext cx="2357640" cy="17859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6" descr="http://im2-tub.yandex.net/i?id=46623433-13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2960" y="1214280"/>
            <a:ext cx="2428920" cy="18576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7" descr="http://im0-tub.yandex.net/i?id=214837992-13-2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72120" y="3857760"/>
            <a:ext cx="2357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названия представленных здесь произ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25"/>
          <p:cNvSpPr/>
          <p:nvPr/>
        </p:nvSpPr>
        <p:spPr>
          <a:xfrm>
            <a:off x="785880" y="3214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И.Ши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3286080" y="32148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607212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К.Айваз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н Г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б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3" descr="Шишкин утро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42960" y="1214280"/>
            <a:ext cx="2427120" cy="16797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89" name="Picture 25" descr="Айвазовский Дев вал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72120" y="1214280"/>
            <a:ext cx="2428920" cy="1671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0" name="Рисунок 19" descr="http://im7-tub.yandex.net/i?id=75802727-11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00080" y="3857760"/>
            <a:ext cx="1785960" cy="20714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0" descr="http://im7-tub.yandex.net/i?id=96428151-02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6120" y="1214280"/>
            <a:ext cx="1643040" cy="19288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1" descr="http://im4-tub.yandex.net/i?id=132254116-22-24"/>
          <p:cNvPicPr/>
          <p:nvPr/>
        </p:nvPicPr>
        <p:blipFill>
          <a:blip r:embed="rId7"/>
          <a:stretch/>
        </p:blipFill>
        <p:spPr>
          <a:xfrm>
            <a:off x="6500880" y="385776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2" descr="http://im6-tub.yandex.net/i?id=66595025-06-24"/>
          <p:cNvPicPr/>
          <p:nvPr/>
        </p:nvPicPr>
        <p:blipFill>
          <a:blip r:embed="rId8"/>
          <a:stretch/>
        </p:blipFill>
        <p:spPr>
          <a:xfrm>
            <a:off x="3786120" y="3857760"/>
            <a:ext cx="15717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20:18:26Z</dcterms:created>
  <dc:creator>Ловушкин</dc:creator>
  <dc:description/>
  <dc:language>en-US</dc:language>
  <cp:lastModifiedBy>Зуля</cp:lastModifiedBy>
  <dcterms:modified xsi:type="dcterms:W3CDTF">2011-03-12T18:02:46Z</dcterms:modified>
  <cp:revision>34</cp:revision>
  <dc:subject/>
  <dc:title>В гостях у жанров</dc:title>
</cp:coreProperties>
</file>