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6F8-452C-42CD-8A90-BADA34E4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741-C87C-4CDE-B3B4-5A369730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3EEB-A065-42B7-A36C-797FA411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3C59-470E-4A42-90C7-08A6BD10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00F-BCE8-4400-93DB-5D388AED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32F-EB74-48F2-91CD-42DD0669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6CE-D013-452D-B674-17B7DDB6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471E-5C03-4140-A25F-1C6453A2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6A5-603E-4F8E-B3D5-3D16155C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992-310F-4A19-ABB6-8E434E85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A84F-3468-4BDE-AC6B-C09921F8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7BB-F4B4-4B54-B3AF-DB68737A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24FC-EE2E-498B-9FA8-B9C75376A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text=&#1087;&#1077;&#1081;&#1079;&#1072;&#1078;&#1080;%20&#1093;&#1091;&#1076;&#1086;&#1078;&#1085;&#1080;&#1082;&#1086;&#1074;&amp;p=96&amp;img_url=socvirus.com.ua/wp-content/uploads/2010/01/66.jpg&amp;rpt=simage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ed=1&amp;text=&#1087;&#1077;&#1081;&#1079;&#1072;&#1078;%20&#1074;%20&#1075;&#1088;&#1072;&#1092;&#1080;&#1082;&#1077;&amp;p=70&amp;img_url=www.avalon.ru/_images/Gallery/HigherEducation/Design/Drawing/2008/landscape/tolstaja-olga.jpg&amp;rpt=simage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www.spbgu.ru/forums/uploads/post-143-1162655997.jpg&amp;p=4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66"/>
                </a:solidFill>
                <a:latin typeface="Monotype Corsiva"/>
              </a:rPr>
              <a:t>В гостях  у  жан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28464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нтроль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этих изображений относятся к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жанру натюрм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1268280"/>
          <a:ext cx="8137440" cy="4465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3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23" descr="mashkov_naturmort"/>
          <p:cNvPicPr/>
          <p:nvPr/>
        </p:nvPicPr>
        <p:blipFill>
          <a:blip r:embed="rId1"/>
          <a:stretch/>
        </p:blipFill>
        <p:spPr>
          <a:xfrm>
            <a:off x="57168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7" name="Picture 25" descr="Aivazovsky-Чер м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348000" y="1357200"/>
            <a:ext cx="24480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8" name="Picture 29" descr="Ермак 3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1680" y="3716280"/>
            <a:ext cx="2500200" cy="1636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9" name="Picture 33" descr="пейзаж 4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6072120" y="3716280"/>
            <a:ext cx="2428920" cy="1641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0" name="Text Box 69"/>
          <p:cNvSpPr/>
          <p:nvPr/>
        </p:nvSpPr>
        <p:spPr>
          <a:xfrm>
            <a:off x="1187280" y="32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0"/>
          <p:cNvSpPr/>
          <p:nvPr/>
        </p:nvSpPr>
        <p:spPr>
          <a:xfrm>
            <a:off x="399564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1"/>
          <p:cNvSpPr/>
          <p:nvPr/>
        </p:nvSpPr>
        <p:spPr>
          <a:xfrm>
            <a:off x="6877080" y="321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2"/>
          <p:cNvSpPr/>
          <p:nvPr/>
        </p:nvSpPr>
        <p:spPr>
          <a:xfrm>
            <a:off x="1403280" y="537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3"/>
          <p:cNvSpPr/>
          <p:nvPr/>
        </p:nvSpPr>
        <p:spPr>
          <a:xfrm>
            <a:off x="399564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4"/>
          <p:cNvSpPr/>
          <p:nvPr/>
        </p:nvSpPr>
        <p:spPr>
          <a:xfrm>
            <a:off x="6732720" y="53625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Сарьян 2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00084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57" name="Рисунок 16" descr="http://im4-tub.yandex.net/i?id=21325654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7720" y="3714840"/>
            <a:ext cx="25002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разновидности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орт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000160" y="1857240"/>
          <a:ext cx="5143680" cy="30783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8"/>
          <p:cNvSpPr/>
          <p:nvPr/>
        </p:nvSpPr>
        <p:spPr>
          <a:xfrm>
            <a:off x="4572000" y="558972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2428920" y="192888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http://im8-tub.yandex.net/i?id=217216773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1928880"/>
            <a:ext cx="18576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представленных здесь пейзажей называются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ельс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25"/>
          <p:cNvSpPr/>
          <p:nvPr/>
        </p:nvSpPr>
        <p:spPr>
          <a:xfrm>
            <a:off x="785880" y="33577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3286080" y="33577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6072120" y="33577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7" descr="Грачи прилетел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43000" y="3929040"/>
            <a:ext cx="1527120" cy="20001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4" name="Picture 46" descr="Шишкин рожь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286080" y="1214280"/>
            <a:ext cx="2571840" cy="1785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5" name="Рисунок 24" descr="http://im2-tub.yandex.net/i?id=233066117-19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86080" y="385776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5" descr="http://im6-tub.yandex.net/i?id=47532160-14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72120" y="121428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6" descr="http://im2-tub.yandex.net/i?id=46623433-13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2960" y="1214280"/>
            <a:ext cx="2428920" cy="1857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7" descr="http://im0-tub.yandex.net/i?id=214837992-13-2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72120" y="3857760"/>
            <a:ext cx="2357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названия представленных здесь произ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25"/>
          <p:cNvSpPr/>
          <p:nvPr/>
        </p:nvSpPr>
        <p:spPr>
          <a:xfrm>
            <a:off x="785880" y="3214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И.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3286080" y="3214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607212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К.Айваз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 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б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3" descr="Шишкин утро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42960" y="1214280"/>
            <a:ext cx="2427120" cy="16797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89" name="Picture 25" descr="Айвазовский Дев вал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72120" y="1214280"/>
            <a:ext cx="2428920" cy="1671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0" name="Рисунок 19" descr="http://im7-tub.yandex.net/i?id=75802727-11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00080" y="3857760"/>
            <a:ext cx="1785960" cy="2071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0" descr="http://im7-tub.yandex.net/i?id=96428151-02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6120" y="1214280"/>
            <a:ext cx="1643040" cy="1928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1" descr="http://im4-tub.yandex.net/i?id=132254116-22-24"/>
          <p:cNvPicPr/>
          <p:nvPr/>
        </p:nvPicPr>
        <p:blipFill>
          <a:blip r:embed="rId7"/>
          <a:stretch/>
        </p:blipFill>
        <p:spPr>
          <a:xfrm>
            <a:off x="6500880" y="385776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2" descr="http://im6-tub.yandex.net/i?id=66595025-06-24"/>
          <p:cNvPicPr/>
          <p:nvPr/>
        </p:nvPicPr>
        <p:blipFill>
          <a:blip r:embed="rId8"/>
          <a:stretch/>
        </p:blipFill>
        <p:spPr>
          <a:xfrm>
            <a:off x="3786120" y="3857760"/>
            <a:ext cx="1571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20:18:26Z</dcterms:created>
  <dc:creator>Ловушкин</dc:creator>
  <dc:description/>
  <dc:language>en-US</dc:language>
  <cp:lastModifiedBy>Зуля</cp:lastModifiedBy>
  <dcterms:modified xsi:type="dcterms:W3CDTF">2011-03-12T18:02:46Z</dcterms:modified>
  <cp:revision>34</cp:revision>
  <dc:subject/>
  <dc:title>В гостях у жанров</dc:title>
</cp:coreProperties>
</file>