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E34C-EB04-48DF-B4B7-925A046CB97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A471-8B85-483D-8501-14FBB3D151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AF3E-E11E-4CCF-B8D6-7F719D08ECE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75DC-DD59-4BF0-BA11-843B575AA5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316-B5C4-4213-901C-9D475E8E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C44-0432-4C81-ABA8-11E8437E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003-D4CF-4406-99B2-C3F38599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08B-1D20-4508-BCFD-02040DC1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92B28-634B-4C87-ADF7-DB3E7512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3C765-491A-465B-A11C-5C7859FB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83E49-07FF-44B1-933B-FBCE82B1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93FC2-3E66-4318-9E7A-46AB9B9F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CDA3-1D46-4E94-BD00-BB13716A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74714-F06F-43D0-B12E-5DFF35F1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7288-BD38-43FF-92F3-19BCA4A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DAF-5443-4A05-9E7E-DFD1666C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E9F4C-B263-40D5-AA6C-3CF531C7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90082-DD30-472E-8D7D-833CF47F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EFCD0-2ABD-4717-8B22-A66D619E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1F572-416F-4ED7-B085-AEEC908E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791DB-F255-49EA-9112-779BEE6E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07E-50D1-4270-BABA-E5C9670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808-1B0C-4E0E-BA69-F68AAE40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4BB-8348-49EF-8980-14742E7D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CFC-05D8-4688-9C3A-FE09AAD0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CB4-35C8-496D-AE8B-237E36CE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380-B917-4FF5-A30B-65CF92EA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5F4-01AB-4E9A-BF31-DFA8261D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4E3-9948-4900-BD6F-1CA139C52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9F44-A85A-4607-8191-76A95F9522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6536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Зуля</cp:lastModifiedBy>
  <dcterms:modified xsi:type="dcterms:W3CDTF">2011-03-14T05:00:16Z</dcterms:modified>
  <cp:revision>140</cp:revision>
  <dc:subject/>
  <dc:title>Слайд 1</dc:title>
</cp:coreProperties>
</file>