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4816-2E23-4973-8B1E-D975D34680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C41-2407-432A-90D5-81DED9690E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B14-7FC4-453A-A03F-D7FC473E93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259-C786-4FAF-A0E8-E9CE955CF4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58D-F7F5-4CF8-B7AD-7F09F48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C89-C5CA-49D1-A950-AF3A114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EF7-28B7-428F-A17D-A51CC705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457-B092-4420-9E2C-EEB3FDAD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134F9-D0B0-4D01-BD68-3FE74CD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6AFF9-580F-4A36-8EAC-26FC30F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2C9C9-127F-43F0-BB3C-B76D2BD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D1B8B-6FC1-4308-ACCD-B9D97960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DBB5F-7829-47CD-AED5-2DECA2E6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92A16-4427-474C-BCD1-5A1B705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2F415-6DF6-49D8-897B-C32F725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123-99ED-4CF6-A565-767FB52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BA7ED-5723-4C56-AE3D-7095A57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D566B-929C-425A-B7AD-2DE280C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FD09-3DD1-4EAA-B037-8E858AE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344E-6BAD-49D1-8E7D-A06D2C0F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8B59F-A109-4224-9A03-298BE917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290-0F2E-4831-A8AA-01CEC6A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7D7-AF35-4274-99D7-B366661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38D-D282-4141-8968-F479BCC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790-94B1-4739-8C40-B37A2627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D7E-B739-4426-B732-C6DE012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8A8-3278-4187-A9D7-E2176A7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9E6-E12A-4BA2-920E-A75EF43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B2ED-BD2B-47C6-AEE4-17EA9BC8E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7103-0C88-484A-B661-19EA0DFE43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6536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Зуля</cp:lastModifiedBy>
  <dcterms:modified xsi:type="dcterms:W3CDTF">2011-03-14T05:00:16Z</dcterms:modified>
  <cp:revision>140</cp:revision>
  <dc:subject/>
  <dc:title>Слайд 1</dc:title>
</cp:coreProperties>
</file>