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CB0F-7A87-4BE4-AE25-24C0A9959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FD85-2227-4167-BB4D-A511818A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D721-A1AF-43AC-B3F5-B4CCD8141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D0FD-8222-4735-8BD8-DFDDEECF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5470-BEB8-4CAF-9B3F-A201A104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EC80-E2F7-44D9-9BA8-43D171A7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D483-F56C-4127-8CCC-CBD0763A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374F-4141-4146-84AF-6FC5B1A1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A475-8F89-471B-BE55-11B75F4A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60A3-3083-4C90-9A89-DBE4D79A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10DF-B8E9-478A-BEEE-63345499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869A-B1DC-48FA-AF94-A7EACBAF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4189-7F45-4BE9-97FA-3C529B82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D17D-87F9-43F0-A0DF-74880185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44DE-12EC-4311-A677-4F113929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4189-29A9-4D8E-ABC6-43AE6A15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8DDF-B836-4C78-B6B4-84FBBFC6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66332-AC2D-43E1-9B91-A3376126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BBBBD-333E-4346-B379-0666AFD5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1A484-06F4-44FA-B34D-8BE9240C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AC2E7-327C-4D98-8FC7-28F3B8CD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7E53F-8AF7-4AE7-BC27-5601405F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1F48-267A-419A-869A-75D0B8C4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394B0-13E1-453C-9621-D9D1F40B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72564-AF92-41B3-93D1-7B0224DB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5B23B-9B06-4962-A9A7-03A426D4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47A57-8462-460C-A9EB-57F48CE0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87721-9496-45B5-8134-7D6CF56F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F9737-2EC2-4599-A0B9-F592F4F46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9A616-FFCB-4488-B45B-B03981246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82468-C816-4405-8665-1CC9296C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2FF43-3ED7-4992-A4CB-23F334D5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EF4F2-25DC-4370-A631-9592F21D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BA30-4D33-43E8-B50F-95C9ECA9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F159F-4F4C-4D65-8697-B1EA8CF9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A0587-CFED-435E-9126-86AF936A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BCF94-6FB8-4B01-9FEC-D66E83EA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83E77-AF84-4325-B590-80C9C488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1D8B4-1CB4-4E6A-87BE-9A9AC591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4A3B2-3104-4430-B568-532E8714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E7569-B1E9-49EF-891A-0E24E920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AB01A-9AB4-474A-8C32-56B386DC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EA968-7808-4D80-A4F4-BFB7235C8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12AAC-6D57-48B0-A1A0-74D5FD2B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6565-8527-4CBE-A183-C7A4B1B7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8B56B-09E3-42DF-8851-02789520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58DE4-2028-42D5-8BDD-5E4002DC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3B3A5-E530-4387-927F-17CB0C34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2EDA9-EF5F-49B5-A1FE-A2D29AC1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9CD47-A697-4E02-94D8-FC4AEBAF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9E915-69CF-455A-9826-96295BA7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442ED-A920-482C-A2F6-C0BC41ED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931B0-9A59-4AC8-A9C0-07E8E36C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DA050-B841-4310-ADD8-4816B1AE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52A24-AEA1-43C5-B5BB-17F1FAD6E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2CD0-2B45-41C9-9684-256A7FD0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DBD2F-87F9-4E46-AB30-04D51A98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73BF5-CCF5-4146-9D72-2B1CB20A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FDFA8-24A2-4A20-AC3A-36A21BE8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408BE-E0D0-47FA-9B29-6876DF01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C2E45-EE1C-424F-BBFF-C321F22B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1537B-59FF-44BA-9D5B-69ABB4FF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25D2B-1CA4-4AD5-A220-8AFD5025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69567-3F45-4DFF-A7FF-4643858F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021E0-E6D6-44EB-81E0-D6F47866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F45EC-1F06-4756-B36B-9A807C9B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7773-3104-49E4-8DF1-D881D27E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63391-B759-4A74-A959-CD0E85B0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2BA80-0E90-4093-9448-B3911E395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CB93E-3A75-45B7-9D15-7ADA5A34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06FD8-6735-4747-B8D4-4E2197E6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BFBDE-261A-4C63-8CB3-82CE5384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A7F59-54C8-49D7-94EA-38EB3EE7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BF973-0925-455E-9BDC-613E5750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26844-841D-4713-965F-ADEB4E44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15A05-27BB-431D-B963-41C89894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7B334-D97D-4026-8AB2-E9C62ACC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ADF1-190E-4987-92FC-94C87573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F9050-7F9F-45FE-A346-21597632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8BFDD-7F77-4F65-BA65-B1E55FE9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13B89-0FC8-4C16-A7B7-FD7658DA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2473B-7576-48A5-AFEC-7E18336B6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2E3E6-752B-4A21-BAF0-B88014B6A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7913-D331-4941-AA3C-EC5F3CE9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6333-D42C-4DA6-85A0-0433BAF638F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E5A9-A38F-4783-AC7F-897D73E6B4B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418C-78F4-4152-901A-6BDA97A4A0B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DFC4-C8F7-4B5A-B30C-4F24008A0B0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BE1C-89CF-4A5E-909F-2F07F408A82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06C5-DC82-462F-BA0C-7934F8F0425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5E17-9A32-4174-A402-5D48550C604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Candara"/>
              </a:rPr>
              <a:t>Матур итеп елмайдык та, дәресне башлыйбыз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1"/>
          <p:cNvSpPr/>
          <p:nvPr/>
        </p:nvSpPr>
        <p:spPr>
          <a:xfrm>
            <a:off x="900000" y="2136600"/>
            <a:ext cx="59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Ярдәмле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үгәрәк саннан 1дистә алабы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истәләр 1 гә ки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0 нан берәмлекләрне алабы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лган дистәләрне һәм берәмлекләрне кушабыз да җавап язабыз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4678200" cy="34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mic Sans MS"/>
              </a:rPr>
              <a:t>Математиканы, дуслар,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Comic Sans MS"/>
              </a:rPr>
              <a:t>Яратмыйча һич ярамый.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Comic Sans MS"/>
              </a:rPr>
              <a:t>Бик төгәл фән,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Comic Sans MS"/>
              </a:rPr>
              <a:t>Бик кирәк фән,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Comic Sans MS"/>
              </a:rPr>
              <a:t>Бик кызык фән –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Comic Sans MS"/>
              </a:rPr>
              <a:t>Бу  математика!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8" name="Picture 4" descr="school_clipart_student_blackboard"/>
          <p:cNvPicPr/>
          <p:nvPr/>
        </p:nvPicPr>
        <p:blipFill>
          <a:blip r:embed="rId1"/>
          <a:stretch/>
        </p:blipFill>
        <p:spPr>
          <a:xfrm>
            <a:off x="5724360" y="2637000"/>
            <a:ext cx="2184480" cy="29145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80ff"/>
            </a:outerShdw>
          </a:effectLst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а     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          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                                  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а + в + с = 12( см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а = ?      в = ?       с = 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Прямая соединительная линия 4"/>
          <p:cNvSpPr/>
          <p:nvPr/>
        </p:nvSpPr>
        <p:spPr>
          <a:xfrm>
            <a:off x="1763640" y="3429000"/>
            <a:ext cx="1656000" cy="107964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Прямая соединительная линия 6"/>
          <p:cNvSpPr/>
          <p:nvPr/>
        </p:nvSpPr>
        <p:spPr>
          <a:xfrm flipV="1">
            <a:off x="3419640" y="3644640"/>
            <a:ext cx="1223640" cy="86364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Прямая соединительная линия 8"/>
          <p:cNvSpPr/>
          <p:nvPr/>
        </p:nvSpPr>
        <p:spPr>
          <a:xfrm>
            <a:off x="4643280" y="3645000"/>
            <a:ext cx="1800360" cy="136836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7 с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Р = ?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 с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  с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Прямоугольный треугольник 4"/>
          <p:cNvSpPr/>
          <p:nvPr/>
        </p:nvSpPr>
        <p:spPr>
          <a:xfrm>
            <a:off x="1854360" y="3357720"/>
            <a:ext cx="1944360" cy="2135160"/>
          </a:xfrm>
          <a:prstGeom prst="rtTriangl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Прямоугольный треугольник 5"/>
          <p:cNvSpPr/>
          <p:nvPr/>
        </p:nvSpPr>
        <p:spPr>
          <a:xfrm>
            <a:off x="1933560" y="3957480"/>
            <a:ext cx="44640" cy="119160"/>
          </a:xfrm>
          <a:prstGeom prst="rtTriangl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Прямоугольник 1"/>
          <p:cNvSpPr/>
          <p:nvPr/>
        </p:nvSpPr>
        <p:spPr>
          <a:xfrm>
            <a:off x="971640" y="1844640"/>
            <a:ext cx="576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30 – 7    төрендәге мисаллар чишәргә өйрәнү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5" descr="Счетные палочки"/>
          <p:cNvPicPr/>
          <p:nvPr/>
        </p:nvPicPr>
        <p:blipFill>
          <a:blip r:embed="rId1"/>
          <a:stretch/>
        </p:blipFill>
        <p:spPr>
          <a:xfrm>
            <a:off x="357120" y="404640"/>
            <a:ext cx="8358120" cy="5953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4" descr="Счет"/>
          <p:cNvPicPr/>
          <p:nvPr/>
        </p:nvPicPr>
        <p:blipFill>
          <a:blip r:embed="rId1"/>
          <a:stretch/>
        </p:blipFill>
        <p:spPr>
          <a:xfrm>
            <a:off x="179280" y="404640"/>
            <a:ext cx="8358120" cy="6013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1"/>
          <p:cNvSpPr/>
          <p:nvPr/>
        </p:nvSpPr>
        <p:spPr>
          <a:xfrm>
            <a:off x="324000" y="1285920"/>
            <a:ext cx="8462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30 = 20 + 10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30 -7= (20 + 10) – 7 =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20 + (10 – 7) =  20 + 3 = 23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70 - 5             100 -  4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80 -  4            100- 9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"/>
          <p:cNvSpPr/>
          <p:nvPr/>
        </p:nvSpPr>
        <p:spPr>
          <a:xfrm>
            <a:off x="1181160" y="1900440"/>
            <a:ext cx="7207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3” кә – карточка №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«4» кә – карточка №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5” кә –( мәсьәлә чишәргә кирәк)карточка №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Ә аннары комп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1" lang="tt-RU" sz="2000" spc="-1" strike="noStrike">
                <a:solidFill>
                  <a:srgbClr val="000000"/>
                </a:solidFill>
                <a:latin typeface="Verdana"/>
              </a:rPr>
              <a:t>ютерда тест үтәргә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7:56:56Z</dcterms:created>
  <dc:creator>Олег</dc:creator>
  <dc:description/>
  <dc:language>en-US</dc:language>
  <cp:lastModifiedBy>Макаров</cp:lastModifiedBy>
  <dcterms:modified xsi:type="dcterms:W3CDTF">2011-11-25T02:15:05Z</dcterms:modified>
  <cp:revision>49</cp:revision>
  <dc:subject/>
  <dc:title>Приемы вычислений для случаев вида: 30-7</dc:title>
</cp:coreProperties>
</file>