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1FD-E927-496D-9D3F-899285AE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D568-2864-4FE3-AB6F-B2180E4A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AEB-4E44-4AA2-BFFE-09C219A6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77F-9D8C-4518-AD64-DFD701E7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61C1-948C-4767-8C40-2D1C5EEB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41DE-D8D0-436B-B2D4-4F05C445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B069-F4C6-49BA-9704-B7733BD3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DF2A-0495-40C2-A2C0-D18CEEF4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6AED-06D8-4775-8989-14D4E988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7E9C-3CC4-40BA-8AA1-5A4405EE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1D47-D71F-45BC-804B-56657C02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4E4-A4FE-4130-82EA-0C8122C3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B840-4A93-490E-8ED5-F9C80DF5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6C10-050C-4A7C-A3BA-118481BD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4C48-D76B-4C06-8165-7B3C698D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1227-B28B-4878-A1A7-F5FFE4E2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F180-8AC9-4B44-90F8-FE4FC728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5047C-56C1-4B93-A29E-9A05AD01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620CE-59BE-4E0F-ABFC-A29E3991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CF01-8182-449F-864B-9C7A92A5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CC64B-0A17-4E20-BA8B-3E5AB5AB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6C44-0AAB-4D25-93E6-52DC6B59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4A2-DF2C-40B1-A78B-01369CDE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E699-1DC9-4747-8199-08A34560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90223-E58C-4A44-B021-D5C6DEDD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DC60B-DA8E-4E00-97D1-C18CB81B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C2F1D-767A-45CF-9D23-F046D932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BF0E8-BB54-4913-9C1F-B094C2BB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4EBC7-335E-47E9-AFA0-D870BAD9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ED7E1-F81A-4027-A2AA-2C65E5E4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1C508-BFF1-4A00-B6C2-0F094B17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FEC9A-B027-475A-94CA-E2D55C9B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B6E9C-C608-41BE-988A-2E9F2215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160-09A9-42AD-9244-40D7A572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D6934-2B01-4900-9FB8-496FDF7B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2DF92-8796-4EAC-8EDB-F098F949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9B64A-EC46-4BD7-9997-A4CBD845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A690F-4E2B-4CF8-9AD1-BA1F5A2C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DD837-2486-408B-902D-9C444761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56408-62FE-44E1-9407-E70861C8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B2261-72EA-4DAF-9BCA-6D968320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E9BF8-399A-49E0-B446-891D6EBC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E895E-2737-4327-9618-48150FB1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FC2D2-552B-4B9E-A3D0-A9D0A5CC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CADB-9909-415F-A32E-E75B7F06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77CBC-1679-49A3-AA7A-DC7714C5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AA7A2-6174-45A0-B1BA-7818A36D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82C6A-3522-48B6-9437-D6B2B758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4DD3F-11DE-4798-9D0B-0E758DD5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2C371-B8A4-4953-BA7C-61EEE21C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D6FB5-F6EE-481B-8976-802D7AA6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C976E-ED30-40D7-9ED9-2A081567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5B7CB-DADC-4209-BF6E-4FBBBD53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E2C56-EB6C-4F49-BF89-14625601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69784-D863-41AB-B3C5-37948CDC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C2F-C7C0-462E-97DB-5F18F571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AF6A8-028C-43DE-8E8A-A5B3C9BC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2FD8F-C3B9-4430-B7B0-702DFCE2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02D2F-1BFD-425B-B432-F1ABEDA0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10391-2850-4205-AEA4-BA79126C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ED413-20D3-4C3F-80BA-AAD7BCD9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EDF75-ED6F-4359-ACB4-1BF648C7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C7272-164E-4CFF-AD05-568A788A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187AC-F0A1-4CDD-82EF-900231FF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C32D7-0EE3-4E87-B180-758D2608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FB479-9327-46AC-8FDF-7081D085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F43-A139-4144-A42F-51D75DA5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70D50-AACE-4D47-8E6D-2C696392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987FF-B6FA-474B-8B59-F42D05E8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6E878-5ADB-47DE-9F8D-C7EE21F9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08458-96CF-4B60-9BEC-C586BA53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88454-8511-4268-B0FA-539FEE9A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5BED7-326F-4248-A2A1-C366D359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41D49-5211-454D-BA47-B17470C0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C2838-F2AB-4405-A49C-46B42D1B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8192E-087A-4296-96CF-896E80CC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D2D70-B64E-47CF-831E-8C8B1F72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895-DBA7-4E22-80D5-0FAA67E1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7A222-04BF-4A82-8430-36C9FA72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895CE-519A-4D07-8531-1601444A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B4B13-B89D-4D74-B047-6D7AB44C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FD1C7-9202-4864-AD68-A4CDCBE0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3290B-9BEA-43AA-9E24-3CC961F6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48A-479F-4109-BAD2-6A0B7634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4E3D-94F5-4D07-9747-770EEFE3740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6E54-A0FB-45D0-B78B-281F05DF98B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2E67-0E90-4C04-BDCD-3879A9BDCBA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19A4-7900-4CCE-8B08-DD1875163D8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80D2-8180-4694-BDDA-1728E138609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1D48-66E2-4E68-A34E-F43550AD240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B426-DA2C-437B-92E2-2B5792EE5D6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Candara"/>
              </a:rPr>
              <a:t>Матур итеп елмайдык та, дәресне башлыйбыз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900000" y="2136600"/>
            <a:ext cx="59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рдәмле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үгәрәк саннан 1дистә алабы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истәләр 1 гә ки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0 нан берәмлекләрне алабы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лган дистәләрне һәм берәмлекләрне кушабыз да җавап язабы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4678200" cy="34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Математиканы, дуслар,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Яратмыйча һич ярамый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төгәл фән,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кирәк фән,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кызык фән –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у  математика!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8" name="Picture 4" descr="school_clipart_student_blackboard"/>
          <p:cNvPicPr/>
          <p:nvPr/>
        </p:nvPicPr>
        <p:blipFill>
          <a:blip r:embed="rId1"/>
          <a:stretch/>
        </p:blipFill>
        <p:spPr>
          <a:xfrm>
            <a:off x="5724360" y="2637000"/>
            <a:ext cx="2184480" cy="2914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80ff"/>
            </a:outerShdw>
          </a:effectLst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+ в + с = 12( см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= ?      в = ?       с = 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Прямая соединительная линия 4"/>
          <p:cNvSpPr/>
          <p:nvPr/>
        </p:nvSpPr>
        <p:spPr>
          <a:xfrm>
            <a:off x="1763640" y="3429000"/>
            <a:ext cx="1656000" cy="1079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Прямая соединительная линия 6"/>
          <p:cNvSpPr/>
          <p:nvPr/>
        </p:nvSpPr>
        <p:spPr>
          <a:xfrm flipV="1">
            <a:off x="3419640" y="3644640"/>
            <a:ext cx="1223640" cy="863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Прямая соединительная линия 8"/>
          <p:cNvSpPr/>
          <p:nvPr/>
        </p:nvSpPr>
        <p:spPr>
          <a:xfrm>
            <a:off x="4643280" y="3645000"/>
            <a:ext cx="1800360" cy="1368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 = ?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 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Прямоугольный треугольник 4"/>
          <p:cNvSpPr/>
          <p:nvPr/>
        </p:nvSpPr>
        <p:spPr>
          <a:xfrm>
            <a:off x="1854360" y="3357720"/>
            <a:ext cx="1944360" cy="2135160"/>
          </a:xfrm>
          <a:prstGeom prst="rtTriangl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Прямоугольный треугольник 5"/>
          <p:cNvSpPr/>
          <p:nvPr/>
        </p:nvSpPr>
        <p:spPr>
          <a:xfrm>
            <a:off x="1933560" y="3957480"/>
            <a:ext cx="44640" cy="119160"/>
          </a:xfrm>
          <a:prstGeom prst="rtTriangl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1"/>
          <p:cNvSpPr/>
          <p:nvPr/>
        </p:nvSpPr>
        <p:spPr>
          <a:xfrm>
            <a:off x="971640" y="1844640"/>
            <a:ext cx="57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30 – 7    төрендәге мисаллар чишәргә өйрәнү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5" descr="Счетные палочки"/>
          <p:cNvPicPr/>
          <p:nvPr/>
        </p:nvPicPr>
        <p:blipFill>
          <a:blip r:embed="rId1"/>
          <a:stretch/>
        </p:blipFill>
        <p:spPr>
          <a:xfrm>
            <a:off x="357120" y="404640"/>
            <a:ext cx="8358120" cy="5953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Счет"/>
          <p:cNvPicPr/>
          <p:nvPr/>
        </p:nvPicPr>
        <p:blipFill>
          <a:blip r:embed="rId1"/>
          <a:stretch/>
        </p:blipFill>
        <p:spPr>
          <a:xfrm>
            <a:off x="179280" y="404640"/>
            <a:ext cx="8358120" cy="601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324000" y="1285920"/>
            <a:ext cx="846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0 = 20 + 1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0 -7= (20 + 10) – 7 =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0 + (10 – 7) =  20 + 3 = 23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70 - 5             100 -  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80 -  4            100- 9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1181160" y="1900440"/>
            <a:ext cx="7207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3” кә – карточка №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«4» кә – карточка №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5” кә –( мәсьәлә чишәргә кирәк)карточка №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Ә аннары комп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ютерда тест үтәргә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56:56Z</dcterms:created>
  <dc:creator>Олег</dc:creator>
  <dc:description/>
  <dc:language>en-US</dc:language>
  <cp:lastModifiedBy>Макаров</cp:lastModifiedBy>
  <dcterms:modified xsi:type="dcterms:W3CDTF">2011-11-25T02:15:05Z</dcterms:modified>
  <cp:revision>49</cp:revision>
  <dc:subject/>
  <dc:title>Приемы вычислений для случаев вида: 30-7</dc:title>
</cp:coreProperties>
</file>