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99E-D2C0-4300-968A-F669BEC7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BAC-F520-4631-A40D-9E5C44C5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0C7-88D2-45A3-BCCE-30BD670D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990-82B4-409A-9C8D-FDA695B5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0EE2-44E6-43E7-8307-CE4B0165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A0B4-4AB9-46D0-B748-63C2A2F2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864C-F4F8-4748-984E-F3E82969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EC8B-8507-4F72-87CC-27B4D3FC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8DE3-C6B5-40A0-8392-412AA725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3E72-F5F9-43D9-B5DF-CE33D60F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9444-2E92-4ED7-AD53-D541E203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BEB-BFAD-4F8D-8A75-D96C3B9A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198D-A173-44AB-BC35-8ECC0F90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78FF-53B2-4172-BDCC-ACD93733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2197-8B34-461A-835E-BCFA5780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DD9C-8FF9-4EB2-85F8-5A369803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1E5C-4904-4D22-A20D-2EC62936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139F-A38F-438F-B290-26B59D30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3AC2-B087-4461-A10F-C574C32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8873-2879-4949-80FD-ED255BA3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A0B2-FA64-41C0-AB7D-F3E49272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2312-BC06-4E65-B389-7B40FCEB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0F4-FC1B-42BE-97C2-0976C3CA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4B20-B90B-4666-86D0-D1B9E794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CE14-9433-4A47-8E9C-797511A7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29F7-6BAA-483A-ABB1-9D5E8EB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00DF-B4ED-4709-8B7D-52FE9DF1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D568-6B0F-421E-981C-10746A84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E819-3300-42D8-BCAE-F7FA7A9C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1CA2-F2D7-46EF-BE5F-082C1675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AB64-E4CC-4080-A910-69B49CB1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E1BA-ED3B-455F-AE54-AA12C3F7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9DF44-C8B3-4694-B075-475A6DBE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76F-D5D9-4FFB-B005-B830BEFC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64682-98AE-49A3-9978-B623BA4C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13FE-8C29-4208-887B-6F70408D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1934-CFD5-41AA-994F-6984CFAC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231A8-DD3F-41FC-9366-34811DD7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8A14-0ED4-4BFD-AC8A-81340014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27BC-3F97-4F5A-8636-5763982B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D004-C021-4C32-83B7-36D026FA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D43A-1E0D-4236-84E3-6F32AB40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AFF7-99AC-44A6-B8FE-F57B2EBE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675B-F865-493E-840F-D1CFC9C6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4DF-835B-4F8D-BF1C-67EB398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7530B-2A44-45B8-B88D-792186AC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DE36-F954-45A5-AC4E-DE94D70C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81F3B-98CC-49A9-AD1E-C629158F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7823-4C7A-4569-A2C0-2122C179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7C1D-AEF2-4F54-8BD1-CE4C2D54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AD4AA-4DC3-4F33-9DD8-676B2C07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DCB7A-0F57-490A-B179-DA07DA06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87FB-08BE-4A2E-9EA8-AA0EB04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F1608-8452-4B16-8995-DA7851A7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D61B-E7F3-4803-977F-24247372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077-611F-4DA6-A453-EF410DA1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2EC44-3C08-41FE-90C1-DC593A6C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B7C94-F08F-4D43-8202-68DCF816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E8821-AEBD-4E49-8205-64B08122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03DA-A0FE-4D16-995D-62FD96D9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975A5-60A2-4AEA-A828-3745700B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A20A-FE36-4A9A-B60A-2F433A25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6EA21-FBDC-4800-BBA0-AA2F08F3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8B27-4F2D-4D3F-B5ED-E3FA294D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811C2-EFB6-49AC-956F-9E5D05DB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F2E58-8B4E-4CF4-93D2-EF690DA2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3B5-3949-40EE-A819-0DE2ABB9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2D83-C92B-45DF-850C-043CE18D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2A451-4B55-45BC-8B79-CE5964D6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E214D-23AD-4EEC-8621-66A4F2EA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00579-D111-48D0-9A15-869DB746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7E377-F5E9-44F1-B6E5-0954B66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DB10C-5818-4449-9754-7C87BD67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4CDC5-2772-412C-A7F4-F480909B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87A1E-D58B-4EEB-9C85-D3006C51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E1125-13A7-40E0-AC64-E8371678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F13AC-4804-4262-971E-CDD577D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EA2-9270-4378-878C-954DEFC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604DF-7149-414B-B0F9-2F442EA8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CA65E-ADC6-4EAD-936B-4E214C2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AD251-A424-40CD-A9FD-554B1CA1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FF1FC-33D0-46FF-96CD-E290141A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A6189-0187-45DF-9B87-A85C2B94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106-0DE9-4C22-B8E0-14DCDB2E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DE5D-D98F-4936-929A-A0FDD92D850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6D6B-728B-455E-80DF-D25615A37E0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2B97-E301-4BB0-A876-AC234D94B7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3A9-9628-403F-906E-5BE4456991F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4217-2876-4FED-8D43-2D098840683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576F-8033-4AC9-AC6C-FE475384A5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6138-A74A-4876-9858-C21B47D885A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Матур итеп елмайдык та, дәресне башлыйбыз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900000" y="21366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рдәмл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үгәрәк саннан 1дистә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стәләр 1 гә к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 нан берәмлекләрне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лган дистәләрне һәм берәмлекләрне кушабыз да җавап язабы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4678200" cy="34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Математиканы, дуслар,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Яратмыйча һич ярамый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төгәл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ирәк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ызык фән –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у  математика!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5724360" y="263700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80ff"/>
            </a:outerShdw>
          </a:effectLst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+ в + с = 12( см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= ?      в = ?       с = 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763640" y="3429000"/>
            <a:ext cx="165600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ая соединительная линия 6"/>
          <p:cNvSpPr/>
          <p:nvPr/>
        </p:nvSpPr>
        <p:spPr>
          <a:xfrm flipV="1">
            <a:off x="3419640" y="3644640"/>
            <a:ext cx="1223640" cy="863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ая соединительная линия 8"/>
          <p:cNvSpPr/>
          <p:nvPr/>
        </p:nvSpPr>
        <p:spPr>
          <a:xfrm>
            <a:off x="4643280" y="3645000"/>
            <a:ext cx="1800360" cy="1368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 = 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Прямоугольный треугольник 4"/>
          <p:cNvSpPr/>
          <p:nvPr/>
        </p:nvSpPr>
        <p:spPr>
          <a:xfrm>
            <a:off x="1854360" y="3357720"/>
            <a:ext cx="1944360" cy="2135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ый треугольник 5"/>
          <p:cNvSpPr/>
          <p:nvPr/>
        </p:nvSpPr>
        <p:spPr>
          <a:xfrm>
            <a:off x="1933560" y="3957480"/>
            <a:ext cx="44640" cy="119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971640" y="184464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 – 7    төрендәге мисаллар чишәргә өйрәнү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Счетные палочки"/>
          <p:cNvPicPr/>
          <p:nvPr/>
        </p:nvPicPr>
        <p:blipFill>
          <a:blip r:embed="rId1"/>
          <a:stretch/>
        </p:blipFill>
        <p:spPr>
          <a:xfrm>
            <a:off x="357120" y="404640"/>
            <a:ext cx="8358120" cy="5953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чет"/>
          <p:cNvPicPr/>
          <p:nvPr/>
        </p:nvPicPr>
        <p:blipFill>
          <a:blip r:embed="rId1"/>
          <a:stretch/>
        </p:blipFill>
        <p:spPr>
          <a:xfrm>
            <a:off x="179280" y="404640"/>
            <a:ext cx="8358120" cy="601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324000" y="1285920"/>
            <a:ext cx="846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= 20 + 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-7= (20 + 10) – 7 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0 + (10 – 7) =  20 + 3 = 23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70 - 5             100 - 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80 -  4            100- 9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1181160" y="1900440"/>
            <a:ext cx="72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3” кә – карточка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4» кә – карточка №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5” кә –( мәсьәлә чишәргә кирәк)карточка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Ә аннары комп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ютерда тест үтәргә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6:56Z</dcterms:created>
  <dc:creator>Олег</dc:creator>
  <dc:description/>
  <dc:language>en-US</dc:language>
  <cp:lastModifiedBy>Макаров</cp:lastModifiedBy>
  <dcterms:modified xsi:type="dcterms:W3CDTF">2011-11-25T02:15:05Z</dcterms:modified>
  <cp:revision>49</cp:revision>
  <dc:subject/>
  <dc:title>Приемы вычислений для случаев вида: 30-7</dc:title>
</cp:coreProperties>
</file>