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4620-E527-42EE-B707-A8A84711E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A953-A8B3-490A-8FC5-7C6F9AAC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EC61-D3FB-462F-BD1B-BBA193BB9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BB51-F7E1-4D84-8D76-42A40F90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794B-8C14-433F-82F3-702C6025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0A0C-E36A-4314-9C7E-D9625435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BDAC-7768-4694-B4FD-E67B04B8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0A53-9EAE-465C-9870-8266FE7C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E00F-88C3-4E9A-B231-D7BF9BCA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3FD3-E4BE-4E1D-ABC2-DF09C95F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A898-D9FD-4322-BDBB-45F109E6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25ED-21DC-4A4A-85B3-FC3068E6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21D2-9525-4FF6-935A-576B0EF44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image" Target="../media/image5.jpeg"/><Relationship Id="rId4" Type="http://schemas.openxmlformats.org/officeDocument/2006/relationships/slide" Target="slide7.xml"/><Relationship Id="rId5" Type="http://schemas.openxmlformats.org/officeDocument/2006/relationships/image" Target="../media/image6.jpeg"/><Relationship Id="rId6" Type="http://schemas.openxmlformats.org/officeDocument/2006/relationships/slide" Target="slide7.xml"/><Relationship Id="rId7" Type="http://schemas.openxmlformats.org/officeDocument/2006/relationships/image" Target="../media/image7.jpeg"/><Relationship Id="rId8" Type="http://schemas.openxmlformats.org/officeDocument/2006/relationships/slide" Target="slide7.xml"/><Relationship Id="rId9" Type="http://schemas.openxmlformats.org/officeDocument/2006/relationships/image" Target="../media/image8.jpeg"/><Relationship Id="rId10" Type="http://schemas.openxmlformats.org/officeDocument/2006/relationships/slide" Target="slide7.xml"/><Relationship Id="rId11" Type="http://schemas.openxmlformats.org/officeDocument/2006/relationships/image" Target="../media/image9.jpeg"/><Relationship Id="rId12" Type="http://schemas.openxmlformats.org/officeDocument/2006/relationships/slide" Target="slide7.xml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5.jpeg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739600">
            <a:off x="323640" y="2781360"/>
            <a:ext cx="640872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Mistral"/>
              </a:rPr>
              <a:t>Баллада А.С.Пушкина </a:t>
            </a:r>
            <a:endParaRPr b="1" lang="en-US" sz="32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latin typeface="Mistral"/>
              <a:ea typeface="Mistr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Mistral"/>
              </a:rPr>
              <a:t>"Песнь о вещем Олеге"</a:t>
            </a:r>
            <a:endParaRPr b="1" lang="en-US" sz="32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latin typeface="Mistral"/>
              <a:ea typeface="Mistr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77080" y="3860640"/>
            <a:ext cx="647640" cy="644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443640" y="189000"/>
            <a:ext cx="2509920" cy="29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rot="21198000">
            <a:off x="2771280" y="844200"/>
            <a:ext cx="6050160" cy="35607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90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Судьба не перестаёт с тобою проказ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 сердись на неё, не ведает  б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то твори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едставь её огромной обезьян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торой дана полная во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то посадит её на цепь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и ты, ни я, никт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лать нече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ак и говорить нечего…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.С.Пу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 rot="21160800">
            <a:off x="1907640" y="5084280"/>
            <a:ext cx="6121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4d4d"/>
                </a:solidFill>
                <a:latin typeface="Comic Sans MS"/>
              </a:rPr>
              <a:t>От судьбы не уйдешь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4d4d4d"/>
              </a:solidFill>
              <a:latin typeface="Comic Sans MS"/>
              <a:ea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189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Mistral"/>
              </a:rPr>
              <a:t>Делаем  выво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259056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5f5f5f"/>
              </a:buClr>
              <a:buFont typeface="Colonna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Colonna MT"/>
              </a:rPr>
              <a:t>Выучить наизусть 1-7 строфы балла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1c1c1c"/>
              </a:buClr>
              <a:buFont typeface="Colonna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1c1c1c"/>
                </a:solidFill>
                <a:uFillTx/>
                <a:latin typeface="Colonna MT"/>
              </a:rPr>
              <a:t>Устно</a:t>
            </a:r>
            <a:r>
              <a:rPr b="1" lang="en-US" sz="4000" spc="-1" strike="noStrike">
                <a:solidFill>
                  <a:srgbClr val="1c1c1c"/>
                </a:solidFill>
                <a:latin typeface="Colonna MT"/>
              </a:rPr>
              <a:t>: Почему баллада А.С.Пушкина стала гимном русскому воинств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692360" y="5157720"/>
            <a:ext cx="57592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aramond"/>
              </a:rPr>
              <a:t>Спасибо  за  урок!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647640" cy="64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18900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Mistral"/>
              </a:rPr>
              <a:t>Проверь  себ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116000" y="400536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771280" y="4005360"/>
            <a:ext cx="7164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76720" y="3645000"/>
            <a:ext cx="719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56360" y="3645000"/>
            <a:ext cx="1871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2852640"/>
            <a:ext cx="865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6720" y="285264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11640" y="3789360"/>
            <a:ext cx="71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4797360"/>
            <a:ext cx="1439640" cy="1728720"/>
          </a:xfrm>
          <a:prstGeom prst="ellips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Mangal"/>
              </a:rPr>
              <a:t>истор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4724280"/>
            <a:ext cx="1440000" cy="1729080"/>
          </a:xfrm>
          <a:prstGeom prst="ellips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Mangal"/>
              </a:rPr>
              <a:t>о люб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836640"/>
            <a:ext cx="8353440" cy="131364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Баллад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- это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лиро-эпическо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произведение, в основе которого лежит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еобыкновенна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тория. По происхождению баллада связана со сказанием, преданием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легендо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сторически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событ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4797360"/>
            <a:ext cx="1440000" cy="1728720"/>
          </a:xfrm>
          <a:prstGeom prst="ellips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Mangal"/>
              </a:rPr>
              <a:t>геро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35280" y="4797360"/>
            <a:ext cx="1440000" cy="1728720"/>
          </a:xfrm>
          <a:prstGeom prst="ellips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Mangal"/>
              </a:rPr>
              <a:t>волшеб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164360" y="4797360"/>
            <a:ext cx="1727280" cy="1728720"/>
          </a:xfrm>
          <a:prstGeom prst="ellips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Mangal"/>
              </a:rPr>
              <a:t>ком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Mangal"/>
              </a:rPr>
              <a:t>(сатирическ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34936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바탕"/>
              </a:rPr>
              <a:t>Виды  балл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314172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"/>
              </a:rPr>
              <a:t>народная (фольклор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92720" y="314172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Century"/>
              </a:rPr>
              <a:t>автор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9280" y="189000"/>
            <a:ext cx="33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Mistral"/>
              </a:rPr>
              <a:t>Подумай и отве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635280" y="4221000"/>
            <a:ext cx="2544840" cy="244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659640" y="907920"/>
            <a:ext cx="1915920" cy="2521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84360" y="1268280"/>
            <a:ext cx="2092320" cy="2232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900000" y="3789360"/>
            <a:ext cx="2062440" cy="2736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659640" y="3573360"/>
            <a:ext cx="1714320" cy="2735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995640" y="1197000"/>
            <a:ext cx="1871640" cy="2881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26920" y="134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3564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32720" y="98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71640" y="3933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04000" y="3645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1052640"/>
            <a:ext cx="36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124000" y="333360"/>
            <a:ext cx="6480360" cy="80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На какой репродукции изображен князь Олег?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40"/>
                            </p:stCondLst>
                            <p:childTnLst>
                              <p:par>
                                <p:cTn id="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9280" y="260280"/>
            <a:ext cx="33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Mistral"/>
              </a:rPr>
              <a:t>Историческая спра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132000" y="189000"/>
            <a:ext cx="648000" cy="644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95280" y="2421000"/>
            <a:ext cx="2544840" cy="2390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1187800">
            <a:off x="2700000" y="1196640"/>
            <a:ext cx="5938920" cy="52531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9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(?— 912)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древнерусский княз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Полулегенда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основ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Русского государст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возможн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родствен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(племянник или дядя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Рюр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4" action="ppaction://hlinksldjump"/>
          </p:cNvPr>
          <p:cNvSpPr/>
          <p:nvPr/>
        </p:nvSpPr>
        <p:spPr>
          <a:xfrm>
            <a:off x="8317080" y="6308640"/>
            <a:ext cx="610920" cy="360360"/>
          </a:xfrm>
          <a:custGeom>
            <a:avLst/>
            <a:gdLst>
              <a:gd name="textAreaLeft" fmla="*/ 23040 w 610920"/>
              <a:gd name="textAreaRight" fmla="*/ 587880 w 610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6604" h="21600">
                <a:moveTo>
                  <a:pt x="0" y="0"/>
                </a:moveTo>
                <a:lnTo>
                  <a:pt x="36604" y="0"/>
                </a:lnTo>
                <a:lnTo>
                  <a:pt x="36604" y="21600"/>
                </a:lnTo>
                <a:lnTo>
                  <a:pt x="0" y="21600"/>
                </a:lnTo>
                <a:close/>
              </a:path>
              <a:path fill="lightenLess" w="36604" h="21600">
                <a:moveTo>
                  <a:pt x="0" y="0"/>
                </a:moveTo>
                <a:lnTo>
                  <a:pt x="36604" y="0"/>
                </a:lnTo>
                <a:lnTo>
                  <a:pt x="35204" y="1400"/>
                </a:lnTo>
                <a:lnTo>
                  <a:pt x="1400" y="1400"/>
                </a:lnTo>
                <a:close/>
              </a:path>
              <a:path fill="darken" w="36604" h="21600">
                <a:moveTo>
                  <a:pt x="36604" y="0"/>
                </a:moveTo>
                <a:lnTo>
                  <a:pt x="36604" y="21600"/>
                </a:lnTo>
                <a:lnTo>
                  <a:pt x="35204" y="20200"/>
                </a:lnTo>
                <a:lnTo>
                  <a:pt x="35204" y="1400"/>
                </a:lnTo>
                <a:close/>
              </a:path>
              <a:path fill="darkenLess" w="36604" h="21600">
                <a:moveTo>
                  <a:pt x="366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04" y="20200"/>
                </a:lnTo>
                <a:close/>
              </a:path>
              <a:path fill="lighten" w="366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604" h="21600">
                <a:moveTo>
                  <a:pt x="11295" y="7493"/>
                </a:moveTo>
                <a:lnTo>
                  <a:pt x="14803" y="7493"/>
                </a:lnTo>
                <a:lnTo>
                  <a:pt x="14803" y="12828"/>
                </a:lnTo>
                <a:cubicBezTo>
                  <a:pt x="14803" y="13751"/>
                  <a:pt x="15604" y="14482"/>
                  <a:pt x="16639" y="14482"/>
                </a:cubicBezTo>
                <a:lnTo>
                  <a:pt x="18302" y="14482"/>
                </a:lnTo>
                <a:cubicBezTo>
                  <a:pt x="19338" y="14482"/>
                  <a:pt x="20138" y="13751"/>
                  <a:pt x="20138" y="12828"/>
                </a:cubicBezTo>
                <a:lnTo>
                  <a:pt x="20138" y="7493"/>
                </a:lnTo>
                <a:lnTo>
                  <a:pt x="18302" y="7493"/>
                </a:lnTo>
                <a:lnTo>
                  <a:pt x="21809" y="3985"/>
                </a:lnTo>
                <a:lnTo>
                  <a:pt x="25482" y="7493"/>
                </a:lnTo>
                <a:lnTo>
                  <a:pt x="23646" y="7493"/>
                </a:lnTo>
                <a:lnTo>
                  <a:pt x="23646" y="12828"/>
                </a:lnTo>
                <a:cubicBezTo>
                  <a:pt x="23646" y="15596"/>
                  <a:pt x="21070" y="18155"/>
                  <a:pt x="18302" y="18155"/>
                </a:cubicBezTo>
                <a:lnTo>
                  <a:pt x="16639" y="18155"/>
                </a:lnTo>
                <a:cubicBezTo>
                  <a:pt x="13872" y="18155"/>
                  <a:pt x="11295" y="15596"/>
                  <a:pt x="11295" y="12828"/>
                </a:cubicBezTo>
                <a:close/>
              </a:path>
            </a:pathLst>
          </a:custGeom>
          <a:solidFill>
            <a:srgbClr val="9933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"/>
                            </p:stCondLst>
                            <p:childTnLst>
                              <p:par>
                                <p:cTn id="4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26028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Mistral"/>
              </a:rPr>
              <a:t>Загляни в слова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987640" y="18900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877080" y="26028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4000" y="981000"/>
            <a:ext cx="60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Вещий – кому всё ведомо и кто вещает будущее; прорицатель, предсказатель; умный, мудрый, предусмотрите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844640"/>
            <a:ext cx="10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angal"/>
              </a:rPr>
              <a:t>В.И.Да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551664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Вещий (высок.) – предвидящий будущее, пророче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5300640"/>
            <a:ext cx="46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7037280" y="4437000"/>
            <a:ext cx="1554120" cy="2016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627280" y="306864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Вещий (книжн. поэт. устар.) – знающий или предсказывающий будущее, проро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611280" y="2781360"/>
            <a:ext cx="1795320" cy="2160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093080" y="6093000"/>
            <a:ext cx="12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.Ожег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45813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Уша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9280" y="189000"/>
            <a:ext cx="33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Mistral"/>
              </a:rPr>
              <a:t>Подумай и отве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920" y="4941720"/>
            <a:ext cx="85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4d4d"/>
                </a:solidFill>
                <a:latin typeface="Georgia"/>
              </a:rPr>
              <a:t>Изменилось  ли  что-нибудь  в композиции  баллады  по сравнению  с  летописью?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4d4d4d"/>
              </a:solidFill>
              <a:latin typeface="Georgia"/>
              <a:ea typeface="Georg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2920" y="907560"/>
            <a:ext cx="7416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Century"/>
              </a:rPr>
              <a:t>Предсказ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entury"/>
              </a:rPr>
              <a:t>Разлука с конё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Century"/>
              </a:rPr>
              <a:t>Возвращение на Род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entury"/>
              </a:rPr>
              <a:t>Воспоминание о коне и сожаление об утрате товарищ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Century"/>
              </a:rPr>
              <a:t>Появление зме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entury"/>
              </a:rPr>
              <a:t>Гибель княз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40"/>
                            </p:stCondLst>
                            <p:childTnLst>
                              <p:par>
                                <p:cTn id="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640"/>
                            </p:stCondLst>
                            <p:childTnLst>
                              <p:par>
                                <p:cTn id="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640"/>
                            </p:stCondLst>
                            <p:childTnLst>
                              <p:par>
                                <p:cTn id="1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640"/>
                            </p:stCondLst>
                            <p:childTnLst>
                              <p:par>
                                <p:cTn id="1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640"/>
                            </p:stCondLst>
                            <p:childTnLst>
                              <p:par>
                                <p:cTn id="1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640"/>
                            </p:stCondLst>
                            <p:childTnLst>
                              <p:par>
                                <p:cTn id="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64000" y="4869000"/>
            <a:ext cx="51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124000" y="765000"/>
            <a:ext cx="5327640" cy="3938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124000" y="4292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lonna MT"/>
              </a:rPr>
              <a:t>В.Васнец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50920" y="4653000"/>
            <a:ext cx="8713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4d4d"/>
                </a:solidFill>
                <a:latin typeface="Georgia"/>
              </a:rPr>
              <a:t>Какие черты старца говорят о том, что князь не мог не послушаться его совета?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4d4d4d"/>
              </a:solidFill>
              <a:latin typeface="Georgia"/>
              <a:ea typeface="Georgi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0920" y="5300640"/>
            <a:ext cx="8713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Georgia"/>
              </a:rPr>
              <a:t>Как в речи волхва переданы особенности его характера?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33"/>
              </a:solidFill>
              <a:latin typeface="Georgia"/>
              <a:ea typeface="Georgia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189000"/>
            <a:ext cx="33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Mistral"/>
              </a:rPr>
              <a:t>Читаем и наблюдае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64000" y="4869000"/>
            <a:ext cx="51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260280"/>
            <a:ext cx="37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Mistral"/>
              </a:rPr>
              <a:t>Подумай и отв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835280" y="981000"/>
            <a:ext cx="6265800" cy="4232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979640" y="4797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lonna MT"/>
              </a:rPr>
              <a:t>В.Васнец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5229360"/>
            <a:ext cx="8569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4d4d"/>
                </a:solidFill>
                <a:latin typeface="Georgia"/>
              </a:rPr>
              <a:t>За что князь так жестоко наказан?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4d4d4d"/>
              </a:solidFill>
              <a:latin typeface="Georgia"/>
              <a:ea typeface="Georgia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00"/>
                </a:solidFill>
                <a:latin typeface="Arial"/>
              </a:rPr>
              <a:t>Читаем и наблюдае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30T10:18:02Z</dcterms:created>
  <dc:creator>Татьяна</dc:creator>
  <dc:description/>
  <dc:language>en-US</dc:language>
  <cp:lastModifiedBy>Эксперт</cp:lastModifiedBy>
  <dcterms:modified xsi:type="dcterms:W3CDTF">2011-11-29T14:02:28Z</dcterms:modified>
  <cp:revision>61</cp:revision>
  <dc:subject/>
  <dc:title>Слайд 1</dc:title>
</cp:coreProperties>
</file>