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48D-9A27-45BD-A824-8DE5EB02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E7FF-0418-4C9A-9E1B-D257A426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997-D5D0-4888-9E0C-5CED71C1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3D47-2F33-4F1B-8ACE-7C7CCF7E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C59-34CB-4B5B-A300-E5648965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E80-702F-42FA-B174-F7C11B9B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297-5E08-4982-ADB7-414341AD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F72-4F78-416D-8DF4-F2F3E2BE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CA5-0C66-4A17-870E-CE11A2BE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BBF-FFDD-4D5A-B615-63363436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21DB-E872-4EC4-A916-EAD60275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DA1-4037-42B3-A78F-7EBE09A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E25E-D670-4692-90F6-2088A2D95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7.xml"/><Relationship Id="rId5" Type="http://schemas.openxmlformats.org/officeDocument/2006/relationships/image" Target="../media/image6.jpeg"/><Relationship Id="rId6" Type="http://schemas.openxmlformats.org/officeDocument/2006/relationships/slide" Target="slide7.xml"/><Relationship Id="rId7" Type="http://schemas.openxmlformats.org/officeDocument/2006/relationships/image" Target="../media/image7.jpeg"/><Relationship Id="rId8" Type="http://schemas.openxmlformats.org/officeDocument/2006/relationships/slide" Target="slide7.xml"/><Relationship Id="rId9" Type="http://schemas.openxmlformats.org/officeDocument/2006/relationships/image" Target="../media/image8.jpeg"/><Relationship Id="rId10" Type="http://schemas.openxmlformats.org/officeDocument/2006/relationships/slide" Target="slide7.xml"/><Relationship Id="rId11" Type="http://schemas.openxmlformats.org/officeDocument/2006/relationships/image" Target="../media/image9.jpeg"/><Relationship Id="rId12" Type="http://schemas.openxmlformats.org/officeDocument/2006/relationships/slide" Target="slide7.xml"/><Relationship Id="rId13" Type="http://schemas.openxmlformats.org/officeDocument/2006/relationships/image" Target="../media/image10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jpeg"/><Relationship Id="rId4" Type="http://schemas.openxmlformats.org/officeDocument/2006/relationships/slide" Target="slide5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739600">
            <a:off x="323640" y="2781360"/>
            <a:ext cx="640872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Баллада А.С.Пушкина 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808080"/>
                  </a:solidFill>
                  <a:miter/>
                </a:ln>
                <a:solidFill>
                  <a:srgbClr val="000000"/>
                </a:solidFill>
                <a:latin typeface="Mistral"/>
              </a:rPr>
              <a:t>"Песнь о вещем Олеге"</a:t>
            </a:r>
            <a:endParaRPr b="1" lang="en-US" sz="3200" spc="1" strike="noStrike">
              <a:ln w="9360">
                <a:solidFill>
                  <a:srgbClr val="808080"/>
                </a:solidFill>
                <a:miter/>
              </a:ln>
              <a:solidFill>
                <a:srgbClr val="000000"/>
              </a:solidFill>
              <a:latin typeface="Mistral"/>
              <a:ea typeface="Mistr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647640" cy="644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43640" y="189000"/>
            <a:ext cx="250992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rot="21198000">
            <a:off x="2771280" y="844200"/>
            <a:ext cx="6050160" cy="35607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0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Судьба не перестаёт с тобою проказ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 сердись на неё, не ведает  б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то твори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едставь её огромной обезья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оторой дана полная в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то посадит её на цепь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и ты, ни я, никт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елать нече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ак и говорить нечего…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 rot="21160800">
            <a:off x="1907640" y="5084280"/>
            <a:ext cx="6121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Comic Sans MS"/>
              </a:rPr>
              <a:t>От судьбы не уйдешь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Comic Sans MS"/>
              <a:ea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89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Делаем  выво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25905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5f5f5f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5f5f"/>
                </a:solidFill>
                <a:latin typeface="Colonna MT"/>
              </a:rPr>
              <a:t>Выучить наизусть 1-7 строфы балла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c1c1c"/>
              </a:buClr>
              <a:buFont typeface="Colonna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1c1c1c"/>
                </a:solidFill>
                <a:uFillTx/>
                <a:latin typeface="Colonna MT"/>
              </a:rPr>
              <a:t>Устно</a:t>
            </a:r>
            <a:r>
              <a:rPr b="1" lang="en-US" sz="4000" spc="-1" strike="noStrike">
                <a:solidFill>
                  <a:srgbClr val="1c1c1c"/>
                </a:solidFill>
                <a:latin typeface="Colonna MT"/>
              </a:rPr>
              <a:t>: Почему баллада А.С.Пушкина стала гимном русскому воинств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5157720"/>
            <a:ext cx="575928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aramond"/>
              </a:rPr>
              <a:t>Спасибо  за  урок!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647640" cy="64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Mistral"/>
              </a:rPr>
              <a:t>Проверь  себ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116000" y="4005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771280" y="4005360"/>
            <a:ext cx="716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3645000"/>
            <a:ext cx="719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56360" y="3645000"/>
            <a:ext cx="187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285264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76720" y="2852640"/>
            <a:ext cx="863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3789360"/>
            <a:ext cx="7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797360"/>
            <a:ext cx="143964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истор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724280"/>
            <a:ext cx="1440000" cy="172908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о люб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836640"/>
            <a:ext cx="8353440" cy="131364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d4d4d"/>
                </a:solidFill>
                <a:latin typeface="Arial"/>
              </a:rPr>
              <a:t>Балла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- это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иро-эпическо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произведение, в основе которого лежит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необыкновен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стория. По происхождению баллада связана со сказанием, преданием,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легендо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исторически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событ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геро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4797360"/>
            <a:ext cx="144000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волшеб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164360" y="4797360"/>
            <a:ext cx="1727280" cy="1728720"/>
          </a:xfrm>
          <a:prstGeom prst="ellipse">
            <a:avLst/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Mangal"/>
              </a:rPr>
              <a:t>ком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Mangal"/>
              </a:rPr>
              <a:t>(сатирическа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0920" y="234936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바탕"/>
              </a:rPr>
              <a:t>Виды  бал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314172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entury"/>
              </a:rPr>
              <a:t>народная (фольклор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314172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entury"/>
              </a:rPr>
              <a:t>авто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635280" y="4221000"/>
            <a:ext cx="2544840" cy="244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59640" y="907920"/>
            <a:ext cx="1915920" cy="2521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4360" y="1268280"/>
            <a:ext cx="209232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900000" y="3789360"/>
            <a:ext cx="2062440" cy="273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659640" y="3573360"/>
            <a:ext cx="1714320" cy="2735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995640" y="1197000"/>
            <a:ext cx="1871640" cy="2881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6920" y="1341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1197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32720" y="98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7164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2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04000" y="3645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05264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24000" y="333360"/>
            <a:ext cx="648036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eorgia"/>
              </a:rPr>
              <a:t>На какой репродукции изображен князь Олег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4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79280" y="26028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132000" y="189000"/>
            <a:ext cx="648000" cy="6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95280" y="2421000"/>
            <a:ext cx="2544840" cy="2390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187800">
            <a:off x="2700000" y="1196640"/>
            <a:ext cx="5938920" cy="5253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d1c39f"/>
              </a:gs>
              <a:gs pos="100000">
                <a:srgbClr val="ffefd1"/>
              </a:gs>
            </a:gsLst>
            <a:lin ang="1391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?— 912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древнерусский княз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Полулегенда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основа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усского государств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возможн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одствен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(племянник или дядя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Рюр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8317080" y="6308640"/>
            <a:ext cx="610920" cy="360360"/>
          </a:xfrm>
          <a:custGeom>
            <a:avLst/>
            <a:gdLst>
              <a:gd name="textAreaLeft" fmla="*/ 23040 w 610920"/>
              <a:gd name="textAreaRight" fmla="*/ 587880 w 610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6604" h="21600">
                <a:moveTo>
                  <a:pt x="0" y="0"/>
                </a:moveTo>
                <a:lnTo>
                  <a:pt x="36604" y="0"/>
                </a:lnTo>
                <a:lnTo>
                  <a:pt x="36604" y="21600"/>
                </a:lnTo>
                <a:lnTo>
                  <a:pt x="0" y="21600"/>
                </a:lnTo>
                <a:close/>
              </a:path>
              <a:path fill="lightenLess" w="36604" h="21600">
                <a:moveTo>
                  <a:pt x="0" y="0"/>
                </a:moveTo>
                <a:lnTo>
                  <a:pt x="36604" y="0"/>
                </a:lnTo>
                <a:lnTo>
                  <a:pt x="35204" y="1400"/>
                </a:lnTo>
                <a:lnTo>
                  <a:pt x="1400" y="1400"/>
                </a:lnTo>
                <a:close/>
              </a:path>
              <a:path fill="darken" w="36604" h="21600">
                <a:moveTo>
                  <a:pt x="36604" y="0"/>
                </a:moveTo>
                <a:lnTo>
                  <a:pt x="36604" y="21600"/>
                </a:lnTo>
                <a:lnTo>
                  <a:pt x="35204" y="20200"/>
                </a:lnTo>
                <a:lnTo>
                  <a:pt x="35204" y="1400"/>
                </a:lnTo>
                <a:close/>
              </a:path>
              <a:path fill="darkenLess" w="36604" h="21600">
                <a:moveTo>
                  <a:pt x="366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04" y="20200"/>
                </a:lnTo>
                <a:close/>
              </a:path>
              <a:path fill="lighten" w="366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04" h="21600">
                <a:moveTo>
                  <a:pt x="11295" y="7493"/>
                </a:moveTo>
                <a:lnTo>
                  <a:pt x="14803" y="7493"/>
                </a:lnTo>
                <a:lnTo>
                  <a:pt x="14803" y="12828"/>
                </a:lnTo>
                <a:cubicBezTo>
                  <a:pt x="14803" y="13751"/>
                  <a:pt x="15604" y="14482"/>
                  <a:pt x="16639" y="14482"/>
                </a:cubicBezTo>
                <a:lnTo>
                  <a:pt x="18302" y="14482"/>
                </a:lnTo>
                <a:cubicBezTo>
                  <a:pt x="19338" y="14482"/>
                  <a:pt x="20138" y="13751"/>
                  <a:pt x="20138" y="12828"/>
                </a:cubicBezTo>
                <a:lnTo>
                  <a:pt x="20138" y="7493"/>
                </a:lnTo>
                <a:lnTo>
                  <a:pt x="18302" y="7493"/>
                </a:lnTo>
                <a:lnTo>
                  <a:pt x="21809" y="3985"/>
                </a:lnTo>
                <a:lnTo>
                  <a:pt x="25482" y="7493"/>
                </a:lnTo>
                <a:lnTo>
                  <a:pt x="23646" y="7493"/>
                </a:lnTo>
                <a:lnTo>
                  <a:pt x="23646" y="12828"/>
                </a:lnTo>
                <a:cubicBezTo>
                  <a:pt x="23646" y="15596"/>
                  <a:pt x="21070" y="18155"/>
                  <a:pt x="18302" y="18155"/>
                </a:cubicBezTo>
                <a:lnTo>
                  <a:pt x="16639" y="18155"/>
                </a:lnTo>
                <a:cubicBezTo>
                  <a:pt x="13872" y="18155"/>
                  <a:pt x="11295" y="15596"/>
                  <a:pt x="11295" y="12828"/>
                </a:cubicBezTo>
                <a:close/>
              </a:path>
            </a:pathLst>
          </a:custGeom>
          <a:solidFill>
            <a:srgbClr val="9933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"/>
                            </p:stCondLst>
                            <p:childTnLst>
                              <p:par>
                                <p:cTn id="4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0920" y="260280"/>
            <a:ext cx="273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Загляни в словар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987640" y="18900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6877080" y="260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4000" y="981000"/>
            <a:ext cx="60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– кому всё ведомо и кто вещает будущее; прорицатель, предсказатель; умный, мудрый, предусмотри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844640"/>
            <a:ext cx="107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angal"/>
              </a:rPr>
              <a:t>В.И.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5516640"/>
            <a:ext cx="51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Вещий (высок.) – предвидящий будущее, пророче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5300640"/>
            <a:ext cx="46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037280" y="4437000"/>
            <a:ext cx="1554120" cy="201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27280" y="30686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"/>
              </a:rPr>
              <a:t>Вещий (книжн. поэт. устар.) – знающий или предсказывающий будущее, проро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1795320" cy="2160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93080" y="6093000"/>
            <a:ext cx="12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.Оже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581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Уш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50920" y="4941720"/>
            <a:ext cx="85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Изменилось  ли  что-нибудь  в композиции  баллады  по сравнению  с  летописью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2920" y="907560"/>
            <a:ext cx="7416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редсказ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Разлука с ко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Возвращение на Род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Воспоминание о коне и сожаление об утрате товар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1c1c1c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Century"/>
              </a:rPr>
              <a:t>Появление зме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990000"/>
              </a:buClr>
              <a:buFont typeface="Centu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entury"/>
              </a:rPr>
              <a:t>Гибель княз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4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64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640"/>
                            </p:stCondLst>
                            <p:childTnLst>
                              <p:par>
                                <p:cTn id="1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64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640"/>
                            </p:stCondLst>
                            <p:childTnLst>
                              <p:par>
                                <p:cTn id="1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64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24000" y="765000"/>
            <a:ext cx="5327640" cy="3938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124000" y="4292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920" y="465300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Какие черты старца говорят о том, что князь не мог не послушаться его совет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50920" y="5300640"/>
            <a:ext cx="8713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Georgia"/>
              </a:rPr>
              <a:t>Как в речи волхва переданы особенности его характера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Georgia"/>
              <a:ea typeface="Georgia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89000"/>
            <a:ext cx="331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Mistral"/>
              </a:rPr>
              <a:t>Читаем и наблюдае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64000" y="4869000"/>
            <a:ext cx="518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6028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Mistral"/>
              </a:rPr>
              <a:t>Подумай и отве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35280" y="981000"/>
            <a:ext cx="6265800" cy="423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79640" y="4797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lonna MT"/>
              </a:rPr>
              <a:t>В.Васнец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5229360"/>
            <a:ext cx="856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d4d4d"/>
                </a:solidFill>
                <a:latin typeface="Georgia"/>
              </a:rPr>
              <a:t>За что князь так жестоко наказан?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4d4d4d"/>
              </a:solidFill>
              <a:latin typeface="Georgia"/>
              <a:ea typeface="Georgia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итаем и наблюдае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30T10:18:02Z</dcterms:created>
  <dc:creator>Татьяна</dc:creator>
  <dc:description/>
  <dc:language>en-US</dc:language>
  <cp:lastModifiedBy>Эксперт</cp:lastModifiedBy>
  <dcterms:modified xsi:type="dcterms:W3CDTF">2011-11-29T14:02:28Z</dcterms:modified>
  <cp:revision>61</cp:revision>
  <dc:subject/>
  <dc:title>Слайд 1</dc:title>
</cp:coreProperties>
</file>