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E0B71-90E4-4FA8-8059-2E64D79961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7F7A-55A8-4A0F-8C59-97C83F6FC3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3CCA-589C-49F5-8854-9E6AF9C3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AE5-1F92-4714-BE02-3A6A15C3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A0B-5343-45DD-A976-559B4B380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597-7E95-482D-AE25-77623C3A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DFE0-E45A-41E4-846F-343F39FE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1011E-B039-4001-80CE-14F767BB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5F16-E33A-438C-A780-F53FDC18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4855-9B14-4D79-9DE4-BB8FF46B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449A-497A-4D26-ABBE-2756006E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80EE-934E-4419-9D08-FD8CA6F1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D70C-C12E-4C38-97C2-BF69D6D3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424-3A68-45DA-9391-9ACEA653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5495-A180-4A8A-9036-EBD37068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86908-0A83-43F7-9BA8-7AC9FFD7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5084-AD3E-400B-8CB3-C350590E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CB3B-9D9A-4961-B325-B38E60DD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0620-FC69-49E4-8A5E-DA615C34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7B29-DCCC-42D1-B999-A7DC9C28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0673-6E58-449A-8F00-0B0C73AF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273E-DFFC-4E89-9820-D9085FC8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C46-E7E5-4C0F-A45F-2EC36DBC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D4A-771C-4AB3-A4BE-F652B9C7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545-B3FB-41A2-8293-66C725CB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DDD-9DCA-43EC-A043-C8BAD30C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210A-4D0B-4809-B13B-79F59DB229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AA7E-BDA2-44FE-8AAC-F7C3872652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990720" y="1219320"/>
            <a:ext cx="5005440" cy="30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нязь Оле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457200" y="121932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ле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ещий Олег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др.-рус. Ольгъ, умер в 912 г.) — варяг, князь новгородский (с 879) и киевский (с 882). Нередко рассматривается как основатель Древнерусского государств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летописи приводится его прозвище 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ещи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то есть знающий будущее, провидящий будущее.Назван так сразу по возвращении из похода 907 года на Византию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5" descr="800px-Pokhod_Olega_v_Tsargrad"/>
          <p:cNvPicPr/>
          <p:nvPr/>
        </p:nvPicPr>
        <p:blipFill>
          <a:blip r:embed="rId1"/>
          <a:stretch/>
        </p:blipFill>
        <p:spPr>
          <a:xfrm>
            <a:off x="2438280" y="3200400"/>
            <a:ext cx="4267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1851120" y="533160"/>
            <a:ext cx="57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роисхождение Олег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457200" y="1906560"/>
            <a:ext cx="259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летописях имеются две версии биографии Олега: традиционная, изложенная в «Повести временных лет», и по Новгородской первой летописи, сохранившей фрагменты не дошедшего до нас более раннего летописного свода, с путаницей в хронологи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6" descr="0_3596e_cd7e3e64_L"/>
          <p:cNvPicPr/>
          <p:nvPr/>
        </p:nvPicPr>
        <p:blipFill>
          <a:blip r:embed="rId1"/>
          <a:stretch/>
        </p:blipFill>
        <p:spPr>
          <a:xfrm>
            <a:off x="4419720" y="1523880"/>
            <a:ext cx="403200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787680" y="319680"/>
            <a:ext cx="532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Захват Кие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04920" y="2180880"/>
            <a:ext cx="3225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882 Олег предпринял удачные походы на Смоленск и Любеч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этого он по Днепру спустился к Киеву, где князьями были соплеменники Рюрика, варяги Аскольд и Дир. Олег заманил их к своим ладьям и объявил им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Вы неста кнѧзѧ ни роду кнѧжѧ, но азъ єсмь роду кнѧжѧ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Олег показывает Игоря Аскольду и Диру"/>
          <p:cNvPicPr/>
          <p:nvPr/>
        </p:nvPicPr>
        <p:blipFill>
          <a:blip r:embed="rId1"/>
          <a:stretch/>
        </p:blipFill>
        <p:spPr>
          <a:xfrm>
            <a:off x="4724280" y="1676520"/>
            <a:ext cx="32450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2134800" y="609120"/>
            <a:ext cx="473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ход на Византию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80880" y="160020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907 году, снарядив 2000 ладей по 40 воинов в каждой, Олег выступил в поход на Царьград. Византийский император Лев VI Философ приказал закрыть ворота города и загородить цепями гавань, предоставив таким образом варягам возможность грабить и разорять пригороды Константинопол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6" descr="0_2c86e_76887b12_XL"/>
          <p:cNvPicPr/>
          <p:nvPr/>
        </p:nvPicPr>
        <p:blipFill>
          <a:blip r:embed="rId1"/>
          <a:stretch/>
        </p:blipFill>
        <p:spPr>
          <a:xfrm>
            <a:off x="3581280" y="2895480"/>
            <a:ext cx="518184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057400" y="60948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мер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685800" y="1676520"/>
            <a:ext cx="815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мерть князя Олега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овеяна легендой. Летопись говорит о том, что волхвы нагадали Олегу смерть от коня.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нязь Олег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доверился их предсказаниям, и отказался от своего любимого коня. Олег захотел прийти на место, где лежали останки его любимца. Придя туда, князь Олег наступил на его череп, оказалось, что в черепе умершего коня жила ядовитая змея, которая смертельно ужалила княз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6" descr="ksoleg_03"/>
          <p:cNvPicPr/>
          <p:nvPr/>
        </p:nvPicPr>
        <p:blipFill>
          <a:blip r:embed="rId1"/>
          <a:stretch/>
        </p:blipFill>
        <p:spPr>
          <a:xfrm>
            <a:off x="1905120" y="3429000"/>
            <a:ext cx="44193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622937_1900nothumb500"/>
          <p:cNvPicPr/>
          <p:nvPr/>
        </p:nvPicPr>
        <p:blipFill>
          <a:blip r:embed="rId1"/>
          <a:stretch/>
        </p:blipFill>
        <p:spPr>
          <a:xfrm>
            <a:off x="685800" y="990720"/>
            <a:ext cx="3657600" cy="4635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с Игорем"/>
          <p:cNvPicPr/>
          <p:nvPr/>
        </p:nvPicPr>
        <p:blipFill>
          <a:blip r:embed="rId2"/>
          <a:stretch/>
        </p:blipFill>
        <p:spPr>
          <a:xfrm>
            <a:off x="5257800" y="457200"/>
            <a:ext cx="33242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7:22:03Z</dcterms:created>
  <dc:creator>ДЕТИ</dc:creator>
  <dc:description/>
  <dc:language>en-US</dc:language>
  <cp:lastModifiedBy>Костя</cp:lastModifiedBy>
  <dcterms:modified xsi:type="dcterms:W3CDTF">2011-09-18T08:47:4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