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486A-4DA4-48D8-9C56-F86FF638CB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F532-DE6D-4468-B6A3-4DC223023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DF6-C2FF-40A2-BBE4-A1A91687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102-6436-4C7E-82E9-5F007AC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17C-F998-487D-A76B-282B3E12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C49-06AA-4E64-A6FC-373DC11B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5E69-686F-43E3-9284-01F9E424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32C4-5AD2-459E-A4DA-048E9AEA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38A3-7F6C-4A69-AEE8-3968EF1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1BCA-2158-4C68-9EC0-DE0EA222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F329-3AEC-4FDE-AE6D-6AD3C5F6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EB2D-681E-4546-9E36-1FE92E29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51C4-8718-43DB-821C-4DB0C5B8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BF5-E8C5-403F-929A-A8507612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2B79-F21D-43AB-93B5-3BB885D1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D2FA-3557-4916-B2DF-4BB7F149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20A9-7BDF-403F-BB88-C7071B24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A0D0-6705-4F61-AFF8-4C7D1EF6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62AF-03E9-4F20-BB13-B7952EDB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10F-EA31-489E-8940-20DCE70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B15-701D-428B-B74E-4E638D59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253-3ECE-4FBB-A3BA-160F748D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60E-3F6F-4D9C-89ED-C26C704C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87E-10DF-4FEC-AA83-2F1654C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E6D-6B75-4478-A796-A83B4C6D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23D-7ECB-40A3-BDAD-DF3C009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2F5F-C290-47F3-9E81-FA86D6F78D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B73-54EE-4B3C-807A-84852871EA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90720" y="1219320"/>
            <a:ext cx="5005440" cy="30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нязь Ол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19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и приводится его прозвищ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щ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851120" y="53316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исхождение Олег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9065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0_3596e_cd7e3e64_L"/>
          <p:cNvPicPr/>
          <p:nvPr/>
        </p:nvPicPr>
        <p:blipFill>
          <a:blip r:embed="rId1"/>
          <a:stretch/>
        </p:blipFill>
        <p:spPr>
          <a:xfrm>
            <a:off x="4419720" y="1523880"/>
            <a:ext cx="4032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87680" y="319680"/>
            <a:ext cx="53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хват Ки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2180880"/>
            <a:ext cx="322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882 Олег предпринял удачные походы на Смоленск и Любе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 неста кнѧзѧ ни роду кнѧжѧ, но азъ єсмь роду кнѧжѧ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4724280" y="167652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134800" y="60912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ход на Византи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16002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907 году, снарядив 2000 ладей по 40 воинов в каждой, Олег выступил в поход на Царьград. Византийский император Лев VI Философ приказал закрыть ворота города и загородить цепями гавань, предоставив таким образом варягам возможность грабить и разорять пригороды Константинопол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0_2c86e_76887b12_XL"/>
          <p:cNvPicPr/>
          <p:nvPr/>
        </p:nvPicPr>
        <p:blipFill>
          <a:blip r:embed="rId1"/>
          <a:stretch/>
        </p:blipFill>
        <p:spPr>
          <a:xfrm>
            <a:off x="3581280" y="2895480"/>
            <a:ext cx="51818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057400" y="6094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мер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676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ь князя Олег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веяна легендой. Летопись говорит о том, что волхвы нагадали Олегу смерть от кон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нязь Оле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верился их предсказаниям, и отказался от своего любимого коня. Олег захотел прийти на место, где лежали останки его любимца. Придя туда, князь Олег наступил на его череп, оказалось, что в черепе умершего коня жила ядовитая змея, которая смертельно ужалила княз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ksoleg_03"/>
          <p:cNvPicPr/>
          <p:nvPr/>
        </p:nvPicPr>
        <p:blipFill>
          <a:blip r:embed="rId1"/>
          <a:stretch/>
        </p:blipFill>
        <p:spPr>
          <a:xfrm>
            <a:off x="1905120" y="3429000"/>
            <a:ext cx="4419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22937_1900nothumb500"/>
          <p:cNvPicPr/>
          <p:nvPr/>
        </p:nvPicPr>
        <p:blipFill>
          <a:blip r:embed="rId1"/>
          <a:stretch/>
        </p:blipFill>
        <p:spPr>
          <a:xfrm>
            <a:off x="685800" y="990720"/>
            <a:ext cx="3657600" cy="463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с Игорем"/>
          <p:cNvPicPr/>
          <p:nvPr/>
        </p:nvPicPr>
        <p:blipFill>
          <a:blip r:embed="rId2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22:03Z</dcterms:created>
  <dc:creator>ДЕТИ</dc:creator>
  <dc:description/>
  <dc:language>en-US</dc:language>
  <cp:lastModifiedBy>Костя</cp:lastModifiedBy>
  <dcterms:modified xsi:type="dcterms:W3CDTF">2011-09-18T08:47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