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93C0-7496-42A6-BFBD-8B2070550C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FB5B-3BE4-4EC2-98C4-CB9E22A5D8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777-C242-4650-A0F7-9B16D952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E29-4302-474C-98B4-A59A4A31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682-0973-4AFA-8060-9DCEC171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AF8-35BD-4616-82B2-A8416971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4E56-32E6-42AE-959A-E5208E43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B47F-46EE-450A-9D6C-CD5F6AFC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4D1E-122B-4501-A3CC-CC3408BE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8F16-6DE9-4DE4-9937-A1916FDF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9560-2380-4F5E-9896-1603DD70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A0D3-05C9-416D-ADA9-9EB6971D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CE28-A8DA-4683-A0F2-8860D519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763-BF1F-420B-BBB0-8A9205B4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AC3E-58E8-48E4-ABCB-0BD181C5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20E2-ABFA-427B-977A-496635F7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80E0-92B6-4F1F-8EE6-3A636D5E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D87A-CF5A-443D-98BA-494871F4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4774-9802-4595-BB6A-95AC7DAC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0C4E-F6C5-47C9-BB36-72DAA770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9C2-C486-41AD-922A-79920C41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B96-D9C7-4AE6-9019-6DDBD162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8644-130E-4E91-844C-1CA5CE90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51C-B4BD-4E34-8447-D44284E7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542A-4290-4ADA-B386-DE63A56E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9A5-6756-4D90-9BC9-07599104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0587-14DF-4023-9A70-03A9E65E80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7E2B-0627-4411-9582-6E0CBFCADF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990720" y="1219320"/>
            <a:ext cx="5005440" cy="30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нязь Ол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12193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лег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ещий Олег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др.-рус. Ольгъ, умер в 912 г.) — варяг, князь новгородский (с 879) и киевский (с 882). Нередко рассматривается как основатель Древнерусского государ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летописи приводится его прозвище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ещи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то есть знающий будущее, провидящий будущее.Назван так сразу по возвращении из похода 907 года на Византи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800px-Pokhod_Olega_v_Tsargrad"/>
          <p:cNvPicPr/>
          <p:nvPr/>
        </p:nvPicPr>
        <p:blipFill>
          <a:blip r:embed="rId1"/>
          <a:stretch/>
        </p:blipFill>
        <p:spPr>
          <a:xfrm>
            <a:off x="2438280" y="3200400"/>
            <a:ext cx="4267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851120" y="533160"/>
            <a:ext cx="57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исхождение Олег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57200" y="1906560"/>
            <a:ext cx="259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летописях имеются две версии биографии Олега: традиционная, изложенная в «Повести временных лет», и по Новгородской первой летописи, сохранившей фрагменты не дошедшего до нас более раннего летописного свода, с путаницей в хронолог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6" descr="0_3596e_cd7e3e64_L"/>
          <p:cNvPicPr/>
          <p:nvPr/>
        </p:nvPicPr>
        <p:blipFill>
          <a:blip r:embed="rId1"/>
          <a:stretch/>
        </p:blipFill>
        <p:spPr>
          <a:xfrm>
            <a:off x="4419720" y="1523880"/>
            <a:ext cx="403200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787680" y="319680"/>
            <a:ext cx="532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Захват Кие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04920" y="2180880"/>
            <a:ext cx="3225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882 Олег предпринял удачные походы на Смоленск и Любеч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этого он по Днепру спустился к Киеву, где князьями были соплеменники Рюрика, варяги Аскольд и Дир. Олег заманил их к своим ладьям и объявил им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Вы неста кнѧзѧ ни роду кнѧжѧ, но азъ єсмь роду кнѧжѧ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6" descr="Олег показывает Игоря Аскольду и Диру"/>
          <p:cNvPicPr/>
          <p:nvPr/>
        </p:nvPicPr>
        <p:blipFill>
          <a:blip r:embed="rId1"/>
          <a:stretch/>
        </p:blipFill>
        <p:spPr>
          <a:xfrm>
            <a:off x="4724280" y="1676520"/>
            <a:ext cx="324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134800" y="609120"/>
            <a:ext cx="47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ход на Византию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80880" y="160020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907 году, снарядив 2000 ладей по 40 воинов в каждой, Олег выступил в поход на Царьград. Византийский император Лев VI Философ приказал закрыть ворота города и загородить цепями гавань, предоставив таким образом варягам возможность грабить и разорять пригороды Константинопол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6" descr="0_2c86e_76887b12_XL"/>
          <p:cNvPicPr/>
          <p:nvPr/>
        </p:nvPicPr>
        <p:blipFill>
          <a:blip r:embed="rId1"/>
          <a:stretch/>
        </p:blipFill>
        <p:spPr>
          <a:xfrm>
            <a:off x="3581280" y="2895480"/>
            <a:ext cx="518184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2057400" y="60948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мер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85800" y="167652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мерть князя Олег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овеяна легендой. Летопись говорит о том, что волхвы нагадали Олегу смерть от коня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нязь Олег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доверился их предсказаниям, и отказался от своего любимого коня. Олег захотел прийти на место, где лежали останки его любимца. Придя туда, князь Олег наступил на его череп, оказалось, что в черепе умершего коня жила ядовитая змея, которая смертельно ужалила княз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6" descr="ksoleg_03"/>
          <p:cNvPicPr/>
          <p:nvPr/>
        </p:nvPicPr>
        <p:blipFill>
          <a:blip r:embed="rId1"/>
          <a:stretch/>
        </p:blipFill>
        <p:spPr>
          <a:xfrm>
            <a:off x="1905120" y="3429000"/>
            <a:ext cx="44193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622937_1900nothumb500"/>
          <p:cNvPicPr/>
          <p:nvPr/>
        </p:nvPicPr>
        <p:blipFill>
          <a:blip r:embed="rId1"/>
          <a:stretch/>
        </p:blipFill>
        <p:spPr>
          <a:xfrm>
            <a:off x="685800" y="990720"/>
            <a:ext cx="3657600" cy="4635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с Игорем"/>
          <p:cNvPicPr/>
          <p:nvPr/>
        </p:nvPicPr>
        <p:blipFill>
          <a:blip r:embed="rId2"/>
          <a:stretch/>
        </p:blipFill>
        <p:spPr>
          <a:xfrm>
            <a:off x="5257800" y="457200"/>
            <a:ext cx="3324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7:22:03Z</dcterms:created>
  <dc:creator>ДЕТИ</dc:creator>
  <dc:description/>
  <dc:language>en-US</dc:language>
  <cp:lastModifiedBy>Костя</cp:lastModifiedBy>
  <dcterms:modified xsi:type="dcterms:W3CDTF">2011-09-18T08:47:4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