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3003-F10D-4310-B0DC-497793221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45E5-2D75-4972-A584-8115A33DB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3E1-CF25-4D01-8C2D-56D5173A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FD2-D5D6-43FE-818C-808AB336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CA9-AD4A-4DBC-8667-E3A54C40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4A7-D4C1-4F47-9F75-2BD9334C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8E01-504A-4EF4-8EE3-48D5C856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F851-85F0-4F8A-8464-56C18AB8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94BB-5EAB-4007-866A-CF990687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26E4-DFBB-4A5C-B3F9-298B71C3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C1EB-CFA5-4988-B583-4D30A208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C11C-2BED-4D1B-BC7A-298FE77C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3849-9CF8-495C-AAF9-2DDC05DA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373-884A-4A31-817C-F8895465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9606-1757-4A2B-8E89-2FDEC9E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3130-BB25-42A4-BBD3-CD9D517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3D3D-C145-4DD4-B38C-F23646FC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0C3F-1C12-4702-8188-AE5F868A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A2B2-1335-438F-8ED1-4C6CB9E0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B39-A093-4FFF-B4B6-FC568963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B13-94E3-4A24-9712-1C39F20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519-3F32-4018-A41D-3AD2FA9A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AB6-421E-4E73-9FE4-37E7DAAB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BF3-C9A0-4CF4-9453-6A25474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A02-0856-48A6-9CD5-A06635A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B2F-47E6-4C27-A595-0C092A11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1C8B-4283-434A-9C48-B2CDAFF5F8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8880-980B-4806-AED5-341A970EC6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90720" y="1219320"/>
            <a:ext cx="5005440" cy="30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нязь Ол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19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и приводится его прозвищ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щ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851120" y="53316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исхождение Олег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9065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0_3596e_cd7e3e64_L"/>
          <p:cNvPicPr/>
          <p:nvPr/>
        </p:nvPicPr>
        <p:blipFill>
          <a:blip r:embed="rId1"/>
          <a:stretch/>
        </p:blipFill>
        <p:spPr>
          <a:xfrm>
            <a:off x="4419720" y="1523880"/>
            <a:ext cx="4032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87680" y="319680"/>
            <a:ext cx="53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хват Ки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2180880"/>
            <a:ext cx="322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882 Олег предпринял удачные походы на Смоленск и Любе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 неста кнѧзѧ ни роду кнѧжѧ, но азъ єсмь роду кнѧжѧ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4724280" y="167652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134800" y="60912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ход на Византи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16002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907 году, снарядив 2000 ладей по 40 воинов в каждой, Олег выступил в поход на Царьград. Византийский император Лев VI Философ приказал закрыть ворота города и загородить цепями гавань, предоставив таким образом варягам возможность грабить и разорять пригороды Константинопол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0_2c86e_76887b12_XL"/>
          <p:cNvPicPr/>
          <p:nvPr/>
        </p:nvPicPr>
        <p:blipFill>
          <a:blip r:embed="rId1"/>
          <a:stretch/>
        </p:blipFill>
        <p:spPr>
          <a:xfrm>
            <a:off x="3581280" y="2895480"/>
            <a:ext cx="51818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057400" y="6094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мер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676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ь князя Олег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веяна легендой. Летопись говорит о том, что волхвы нагадали Олегу смерть от кон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нязь Оле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верился их предсказаниям, и отказался от своего любимого коня. Олег захотел прийти на место, где лежали останки его любимца. Придя туда, князь Олег наступил на его череп, оказалось, что в черепе умершего коня жила ядовитая змея, которая смертельно ужалила княз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ksoleg_03"/>
          <p:cNvPicPr/>
          <p:nvPr/>
        </p:nvPicPr>
        <p:blipFill>
          <a:blip r:embed="rId1"/>
          <a:stretch/>
        </p:blipFill>
        <p:spPr>
          <a:xfrm>
            <a:off x="1905120" y="3429000"/>
            <a:ext cx="4419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22937_1900nothumb500"/>
          <p:cNvPicPr/>
          <p:nvPr/>
        </p:nvPicPr>
        <p:blipFill>
          <a:blip r:embed="rId1"/>
          <a:stretch/>
        </p:blipFill>
        <p:spPr>
          <a:xfrm>
            <a:off x="685800" y="990720"/>
            <a:ext cx="3657600" cy="463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с Игорем"/>
          <p:cNvPicPr/>
          <p:nvPr/>
        </p:nvPicPr>
        <p:blipFill>
          <a:blip r:embed="rId2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22:03Z</dcterms:created>
  <dc:creator>ДЕТИ</dc:creator>
  <dc:description/>
  <dc:language>en-US</dc:language>
  <cp:lastModifiedBy>Костя</cp:lastModifiedBy>
  <dcterms:modified xsi:type="dcterms:W3CDTF">2011-09-18T08:47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