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6.png" ContentType="image/png"/>
  <Override PartName="/ppt/media/image53.gif" ContentType="image/gif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45.jpeg" ContentType="image/jpeg"/>
  <Override PartName="/ppt/media/image70.wmf" ContentType="image/x-wmf"/>
  <Override PartName="/ppt/media/image43.jpeg" ContentType="image/jpeg"/>
  <Override PartName="/ppt/media/image25.gif" ContentType="image/gif"/>
  <Override PartName="/ppt/media/image42.png" ContentType="image/png"/>
  <Override PartName="/ppt/media/image41.jpeg" ContentType="image/jpeg"/>
  <Override PartName="/ppt/media/image66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54.gif" ContentType="image/gif"/>
  <Override PartName="/ppt/media/image57.png" ContentType="image/png"/>
  <Override PartName="/ppt/media/image64.png" ContentType="image/png"/>
  <Override PartName="/ppt/media/image15.jpeg" ContentType="image/jpeg"/>
  <Override PartName="/ppt/media/image67.wmf" ContentType="image/x-wmf"/>
  <Override PartName="/ppt/media/image33.jpeg" ContentType="image/jpeg"/>
  <Override PartName="/ppt/media/image4.gif" ContentType="image/gif"/>
  <Override PartName="/ppt/media/image19.jpeg" ContentType="image/jpeg"/>
  <Override PartName="/ppt/media/image32.jpeg" ContentType="image/jpeg"/>
  <Override PartName="/ppt/media/image27.png" ContentType="image/png"/>
  <Override PartName="/ppt/media/image24.gif" ContentType="image/gif"/>
  <Override PartName="/ppt/media/image20.gif" ContentType="image/gif"/>
  <Override PartName="/ppt/media/image60.png" ContentType="image/png"/>
  <Override PartName="/ppt/media/image79.png" ContentType="image/png"/>
  <Override PartName="/ppt/media/image76.wmf" ContentType="image/x-wmf"/>
  <Override PartName="/ppt/media/image29.jpeg" ContentType="image/jpeg"/>
  <Override PartName="/ppt/media/image65.png" ContentType="image/png"/>
  <Override PartName="/ppt/media/image75.wmf" ContentType="image/x-wmf"/>
  <Override PartName="/ppt/media/image17.png" ContentType="image/png"/>
  <Override PartName="/ppt/media/image14.gif" ContentType="image/gif"/>
  <Override PartName="/ppt/media/image31.jpeg" ContentType="image/jpeg"/>
  <Override PartName="/ppt/media/image74.wmf" ContentType="image/x-wmf"/>
  <Override PartName="/ppt/media/image23.gif" ContentType="image/gif"/>
  <Override PartName="/ppt/media/image63.png" ContentType="image/png"/>
  <Override PartName="/ppt/media/image28.gif" ContentType="image/gif"/>
  <Override PartName="/ppt/media/image73.wmf" ContentType="image/x-wmf"/>
  <Override PartName="/ppt/media/image22.gif" ContentType="image/gif"/>
  <Override PartName="/ppt/media/image62.png" ContentType="image/png"/>
  <Override PartName="/ppt/media/image72.wmf" ContentType="image/x-wmf"/>
  <Override PartName="/ppt/media/image61.png" ContentType="image/png"/>
  <Override PartName="/ppt/media/image26.gif" ContentType="image/gif"/>
  <Override PartName="/ppt/media/image71.wmf" ContentType="image/x-wmf"/>
  <Override PartName="/ppt/media/image69.wmf" ContentType="image/x-wmf"/>
  <Override PartName="/ppt/media/image21.gif" ContentType="image/gif"/>
  <Override PartName="/ppt/media/image2.jpeg" ContentType="image/jpeg"/>
  <Override PartName="/ppt/media/image5.gif" ContentType="image/gif"/>
  <Override PartName="/ppt/media/image52.jpeg" ContentType="image/jpeg"/>
  <Override PartName="/ppt/media/image1.png" ContentType="image/png"/>
  <Override PartName="/ppt/media/image10.gif" ContentType="image/gif"/>
  <Override PartName="/ppt/media/image6.gif" ContentType="image/gif"/>
  <Override PartName="/ppt/media/image18.gif" ContentType="image/gif"/>
  <Override PartName="/ppt/media/image11.gif" ContentType="image/gif"/>
  <Override PartName="/ppt/media/image7.gif" ContentType="image/gif"/>
  <Override PartName="/ppt/media/image44.wmf" ContentType="image/x-wmf"/>
  <Override PartName="/ppt/media/image12.gif" ContentType="image/gif"/>
  <Override PartName="/ppt/media/image49.jpeg" ContentType="image/jpeg"/>
  <Override PartName="/ppt/media/image8.gif" ContentType="image/gif"/>
  <Override PartName="/ppt/media/image34.jpeg" ContentType="image/jpeg"/>
  <Override PartName="/ppt/media/image37.png" ContentType="image/png"/>
  <Override PartName="/ppt/media/image77.wmf" ContentType="image/x-wmf"/>
  <Override PartName="/ppt/media/image16.jpeg" ContentType="image/jpeg"/>
  <Override PartName="/ppt/media/image9.gif" ContentType="image/gif"/>
  <Override PartName="/ppt/media/image13.gif" ContentType="image/gif"/>
  <Override PartName="/ppt/media/image48.jpeg" ContentType="image/jpeg"/>
  <Override PartName="/ppt/media/image78.png" ContentType="image/png"/>
  <Override PartName="/ppt/media/image30.png" ContentType="image/png"/>
  <Override PartName="/ppt/media/image40.wmf" ContentType="image/x-wmf"/>
  <Override PartName="/ppt/media/image3.gif" ContentType="image/gif"/>
  <Override PartName="/ppt/media/image68.wmf" ContentType="image/x-wmf"/>
  <Override PartName="/ppt/media/image35.jpeg" ContentType="image/jpeg"/>
  <Override PartName="/ppt/media/image47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705-4D5A-4CA8-A3AF-C91FE52F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4F9-A3AD-48AC-A97F-07C804F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AE8-9123-4C7D-882F-E211E3E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62C-F6F8-4EFD-82D2-F4BAE5B4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1219-E1FE-4905-B949-3B7B4BEB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DDB2-6FE0-4DDD-9F3E-FF55C7F3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7B01-F1AD-4C64-B504-1C15FBC4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FCA-D126-423B-A149-D181F6AD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0332-A215-4F73-BD03-B13C0A1E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D715-59DE-4680-AC00-A74EF246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0AD-B3EC-44E9-9469-C785D60B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BBCA-04F8-4780-B363-CB2F020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321A-F401-4B40-AB73-E358B98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BDF2-8639-4311-83C7-93C3222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1F57-E330-40FB-8A95-230BA711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101-E182-4B82-A848-78E2A697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C272-5EFE-4F08-8720-ECC46C05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FAD79-DCAE-41CB-8FFF-C23060D2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7125-800F-4EF6-8ADE-43A53E50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A908-908D-4846-932C-4D3612A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47C7-75DF-48F4-B2D9-9F707AF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0B010-BF85-485F-8843-F78F1182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E04-66D9-4912-9AEB-01AD79CE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DB99-7C15-4193-9FCD-BC3570D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5A95-10E2-48B2-A7BE-B7727EB9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B5F5-664E-4F3E-B39A-8598005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B1E6-7853-4912-80E2-7024C08C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FFBF-F599-40B8-899D-D800B4F6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FAA3-359A-4E5E-8C2E-106BE64B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3CCA3-0534-4CB8-B9D3-2B60EEDB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7D564-F029-47B0-B8E5-E78D9F9E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78599-4D32-4BF2-849F-5F37CB0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82AA-9574-4940-A8F3-245CC8F6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E7F-82BF-4C44-9AE3-63ABF23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A0BE-9EA7-4AA3-8764-020CE3D2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A3D21-402C-44CC-B022-68FDEE98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72EE-E0E7-4DDD-B002-809979F8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8D0F-7286-479F-9B05-5D99FC9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057C-1C10-443B-AA32-9C3FF8C6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F0F4-9101-4150-A393-3A1404A6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6CE2-5E76-4C0C-A74C-B02995FC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AE21-36AE-4170-B0A1-F43FF890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DC31-7E06-4962-83F8-5FAD2C44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F0654-9319-4C8F-836F-4E470F8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CED-80BE-41D8-88ED-BDF61072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B0953-406C-44F3-838A-5A44123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B26B0-DDCF-49D4-8CBD-EE1293A7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EF1B3-6EBF-4D25-8F25-386C8C10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158EB7-C329-407F-BD27-C3A983DB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E1B9A-5A35-4C4F-8E0B-9AEDB8D2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CCE3F-364B-4DCB-ACE1-F27CDAD6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5EC961-8C20-467A-ADBA-507CB695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9562A4-C612-4B28-8C46-338E2A1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6E76A-D772-4AC2-B6E6-5D42E521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67AF2-1819-4605-9FFD-8C47688A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33A-B3A6-476F-BBA2-9EB1F982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459D8-9189-4DEE-B387-268C3A64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421A5-1540-46D9-AEB9-CC28D052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5E499-FE96-45AE-8C1D-9CE65D1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08643-AC62-43E7-9065-734C7D8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B0989-C91B-4E06-8088-863DCA4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BA9E3-A210-4E0B-9600-A3B6350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0938-2168-41D2-927D-97AD06E2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BF59-E181-4785-9AA4-F407261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FDB60-9FB9-4F3C-B3C5-F1E5326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F6C0-AD53-451A-BE8F-76F7E20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832-DA82-40B9-BCB9-C32D320E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03B9-335D-402D-B29A-CBEC420D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E3C6-E020-4B4F-B3B1-61E1379E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61D1A-E121-458E-B176-FD49FD51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9B5B-3783-4F27-9278-28A097A4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4483-C228-4C98-A9A4-AF36FB83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2B180-71EA-45C4-B904-07271788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71B98-B03D-47D2-A224-D6B9ACD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38E3-2C4E-4DF7-9AB5-001D87B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56C55-2D71-4CB6-BE11-0BA763B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7BBF-B85F-40F7-8AC1-980676B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51A-7DA5-49E0-9858-C3275D8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6212-3A3A-4086-BF5D-4B6230DB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C6D42-5977-4563-97E4-D535331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662F6-C8F5-4126-834F-2C80BD3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86527-BB6E-4880-8FAC-12928811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2CDA-BB7A-403D-8B8A-106A752F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754EE-B364-4F02-BB39-4AF04D82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85DBD-DC26-4795-9E58-87857739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894FE-02E1-4878-A6CE-1C940C6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9E975-799F-4562-964D-545E2EF0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E9F97-B18C-46D3-B2CC-2110AF8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FA9-AED2-47D6-B692-1C681193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F5BB5-76E4-4281-A544-18DFD3FC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19D77-E283-45B2-94D0-7B42C3F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F2B3D-3954-4CE0-B0B2-2390782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67A6-4A74-4A96-B886-1B59E58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A5780-D57A-4A70-9CD5-FFB7A417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F1A3D-F303-4FEA-B7FE-9E05B771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CFB70-E51C-4C30-B1F3-2E41560E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84C-DB6A-4ED3-9907-B755E135A9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FCC-4EF7-44B5-B869-E9661A2750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7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95EC-EF55-400C-9AED-4ECC4410FD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2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A1A-60F0-4DA2-B300-FA4AD982C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EA22-3DFF-4F84-8464-1B301CFBF94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CB6-4D0C-4640-B089-C5028FAEFF4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BE8-B307-4C49-A2DD-3E012984E0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2ACB-EC5D-47F9-979D-14A140B47D4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wmf"/><Relationship Id="rId6" Type="http://schemas.openxmlformats.org/officeDocument/2006/relationships/image" Target="../media/image44.wmf"/><Relationship Id="rId7" Type="http://schemas.openxmlformats.org/officeDocument/2006/relationships/image" Target="../media/image44.wmf"/><Relationship Id="rId8" Type="http://schemas.openxmlformats.org/officeDocument/2006/relationships/image" Target="../media/image44.wmf"/><Relationship Id="rId9" Type="http://schemas.openxmlformats.org/officeDocument/2006/relationships/image" Target="../media/image44.wmf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3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8.gif"/><Relationship Id="rId23" Type="http://schemas.openxmlformats.org/officeDocument/2006/relationships/image" Target="../media/image8.gif"/><Relationship Id="rId24" Type="http://schemas.openxmlformats.org/officeDocument/2006/relationships/image" Target="../media/image14.gif"/><Relationship Id="rId25" Type="http://schemas.openxmlformats.org/officeDocument/2006/relationships/image" Target="../media/image14.gif"/><Relationship Id="rId2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30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8.gif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936080" y="4724280"/>
            <a:ext cx="50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Болобон Наталья Николаевн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imes New Roman Cyr"/>
              </a:rPr>
              <a:t>МОУ Глинновская СОШ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4952880" y="4073400"/>
            <a:ext cx="3886200" cy="263232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4"/>
          <p:cNvSpPr/>
          <p:nvPr/>
        </p:nvSpPr>
        <p:spPr>
          <a:xfrm>
            <a:off x="137160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Прямоугольник 5"/>
          <p:cNvSpPr/>
          <p:nvPr/>
        </p:nvSpPr>
        <p:spPr>
          <a:xfrm>
            <a:off x="5867280" y="2057400"/>
            <a:ext cx="2286000" cy="78588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Стрелка вниз 6"/>
          <p:cNvSpPr/>
          <p:nvPr/>
        </p:nvSpPr>
        <p:spPr>
          <a:xfrm flipH="1">
            <a:off x="1599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Стрелка вниз 7"/>
          <p:cNvSpPr/>
          <p:nvPr/>
        </p:nvSpPr>
        <p:spPr>
          <a:xfrm flipH="1">
            <a:off x="31996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Прямоугольник 8"/>
          <p:cNvSpPr/>
          <p:nvPr/>
        </p:nvSpPr>
        <p:spPr>
          <a:xfrm>
            <a:off x="419040" y="345744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Прямоугольник 9"/>
          <p:cNvSpPr/>
          <p:nvPr/>
        </p:nvSpPr>
        <p:spPr>
          <a:xfrm>
            <a:off x="2971800" y="3429000"/>
            <a:ext cx="171468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Стрелка вниз 10"/>
          <p:cNvSpPr/>
          <p:nvPr/>
        </p:nvSpPr>
        <p:spPr>
          <a:xfrm flipH="1">
            <a:off x="6171480" y="285768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Стрелка вниз 11"/>
          <p:cNvSpPr/>
          <p:nvPr/>
        </p:nvSpPr>
        <p:spPr>
          <a:xfrm flipH="1">
            <a:off x="7938360" y="2819520"/>
            <a:ext cx="214200" cy="571320"/>
          </a:xfrm>
          <a:prstGeom prst="downArrow">
            <a:avLst>
              <a:gd name="adj1" fmla="val 0"/>
              <a:gd name="adj2" fmla="val 48146"/>
            </a:avLst>
          </a:prstGeom>
          <a:solidFill>
            <a:srgbClr val="98ba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Прямоугольник 12"/>
          <p:cNvSpPr/>
          <p:nvPr/>
        </p:nvSpPr>
        <p:spPr>
          <a:xfrm>
            <a:off x="53578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Прямоугольник 13"/>
          <p:cNvSpPr/>
          <p:nvPr/>
        </p:nvSpPr>
        <p:spPr>
          <a:xfrm>
            <a:off x="7415280" y="3429000"/>
            <a:ext cx="150012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605" name="Прямая со стрелкой 15"/>
          <p:cNvCxnSpPr/>
          <p:nvPr/>
        </p:nvCxnSpPr>
        <p:spPr>
          <a:xfrm>
            <a:off x="2132640" y="3848040"/>
            <a:ext cx="50076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606" name="Прямая со стрелкой 18"/>
          <p:cNvCxnSpPr/>
          <p:nvPr/>
        </p:nvCxnSpPr>
        <p:spPr>
          <a:xfrm flipH="1">
            <a:off x="1523520" y="3848040"/>
            <a:ext cx="572400" cy="5724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607" name="Прямоугольник 24"/>
          <p:cNvSpPr/>
          <p:nvPr/>
        </p:nvSpPr>
        <p:spPr>
          <a:xfrm>
            <a:off x="152280" y="4448160"/>
            <a:ext cx="164304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Прямоугольник 25"/>
          <p:cNvSpPr/>
          <p:nvPr/>
        </p:nvSpPr>
        <p:spPr>
          <a:xfrm>
            <a:off x="2286000" y="4448160"/>
            <a:ext cx="1557360" cy="428760"/>
          </a:xfrm>
          <a:prstGeom prst="rect">
            <a:avLst/>
          </a:prstGeom>
          <a:solidFill>
            <a:srgbClr val="ff66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404640"/>
            <a:ext cx="784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663012"/>
                    </a:gs>
                  </a:gsLst>
                  <a:lin ang="8100000"/>
                </a:gradFill>
                <a:effectLst>
                  <a:outerShdw dist="96762" dir="17593595" blurRad="0" rotWithShape="0">
                    <a:srgbClr val="868686"/>
                  </a:outerShdw>
                </a:effectLst>
                <a:latin typeface="Birusa"/>
              </a:rPr>
              <a:t>Состав населения Аттики VII в. до н.э.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663012"/>
                  </a:gs>
                </a:gsLst>
                <a:lin ang="8100000"/>
              </a:gradFill>
              <a:effectLst>
                <a:outerShdw dist="96762" dir="17593595" blurRad="0" rotWithShape="0">
                  <a:srgbClr val="868686"/>
                </a:outerShdw>
              </a:effectLst>
              <a:latin typeface="Birusa"/>
              <a:ea typeface="Birusa"/>
            </a:endParaRPr>
          </a:p>
        </p:txBody>
      </p:sp>
      <p:sp>
        <p:nvSpPr>
          <p:cNvPr id="610" name=""/>
          <p:cNvSpPr/>
          <p:nvPr/>
        </p:nvSpPr>
        <p:spPr>
          <a:xfrm>
            <a:off x="147636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Свободны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2720" y="34416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Граждане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87640" y="3429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Переселен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080" y="443700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Аристократ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29080" y="443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емос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0360" y="220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Раб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Должники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Чужеземцы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9640" y="5877000"/>
            <a:ext cx="863640" cy="792000"/>
          </a:xfrm>
          <a:custGeom>
            <a:avLst/>
            <a:gdLst>
              <a:gd name="textAreaLeft" fmla="*/ 196920 w 863640"/>
              <a:gd name="textAreaRight" fmla="*/ 666720 w 863640"/>
              <a:gd name="textAreaTop" fmla="*/ 180720 h 792000"/>
              <a:gd name="textAreaBottom" fmla="*/ 6112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cc00"/>
            </a:solidFill>
            <a:miter/>
          </a:ln>
          <a:effectLst>
            <a:outerShdw dist="137587" dir="14178596" blurRad="0" rotWithShape="0">
              <a:srgbClr val="ff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0486" dir="1110959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br>
              <a:rPr sz="5400"/>
            </a:b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716000" y="2201760"/>
            <a:ext cx="4248360" cy="454032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Засухи и неплодо-родные почвы не позволяли выра-щивать злаки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сновной культурой в Афинах стали</a:t>
            </a: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ливки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-их ели, из них делали масло, маслом освещали дом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395280" y="2394000"/>
            <a:ext cx="4106880" cy="4464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622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3918240" y="4586760"/>
            <a:ext cx="116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6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14336436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114800" cy="48006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торой по значимости культурой был 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виноград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Из него сушили изюм, давили сок, изготав-ливали вин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ино пили разбав-ленным.В некото-рых домах был проведен виновод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13400" y="5881680"/>
            <a:ext cx="3368880" cy="52056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Виноградный пресс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3713400" cy="2835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6" dur="1" fill="hold"/>
                                  <p:tgtEl>
                                    <p:spTgt spid="6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37" dur="1" fill="hold"/>
                                  <p:tgtEl>
                                    <p:spTgt spid="6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703" dir="5060257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Занятия жителей афинского полиса.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647960" y="2204640"/>
            <a:ext cx="3809880" cy="42512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Многие жители Афин были прекрасными ремесленник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Афинские амфоры славились на всю Грецию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995400" y="2452680"/>
            <a:ext cx="3432240" cy="3713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0" dur="1" fill="hold"/>
                                  <p:tgtEl>
                                    <p:spTgt spid="6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451" dur="1" fill="hold"/>
                                  <p:tgtEl>
                                    <p:spTgt spid="6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539640" y="2205000"/>
          <a:ext cx="34149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3414960" cy="411480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10670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Правители города и судь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91120" y="3575160"/>
            <a:ext cx="464796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овет знати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76000" y="5489640"/>
            <a:ext cx="4685760" cy="106884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Народ, в управлении не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участвовал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26760" y="4533840"/>
            <a:ext cx="4557600" cy="581400"/>
          </a:xfrm>
          <a:prstGeom prst="rect">
            <a:avLst/>
          </a:prstGeom>
          <a:solidFill>
            <a:srgbClr val="98ba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бладала всей властью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70836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33920" y="474984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791320"/>
            <a:ext cx="533160" cy="48564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33920" y="2666880"/>
            <a:ext cx="533160" cy="486000"/>
          </a:xfrm>
          <a:custGeom>
            <a:avLst/>
            <a:gdLst>
              <a:gd name="textAreaLeft" fmla="*/ 83160 w 533160"/>
              <a:gd name="textAreaRight" fmla="*/ 466560 w 533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533160" cy="3581280"/>
          </a:xfrm>
          <a:custGeom>
            <a:avLst/>
            <a:gdLst>
              <a:gd name="textAreaLeft" fmla="*/ 71280 w 533160"/>
              <a:gd name="textAreaRight" fmla="*/ 461880 w 5331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905120" y="4038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905120" y="2895480"/>
            <a:ext cx="304560" cy="685800"/>
          </a:xfrm>
          <a:prstGeom prst="upArrowCallout">
            <a:avLst>
              <a:gd name="adj1" fmla="val 25002"/>
              <a:gd name="adj2" fmla="val 25000"/>
              <a:gd name="adj3" fmla="val 37530"/>
              <a:gd name="adj4" fmla="val 66660"/>
            </a:avLst>
          </a:prstGeom>
          <a:solidFill>
            <a:srgbClr val="0000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38080" y="54936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102298" dir="49755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Times New Roman"/>
              </a:rPr>
              <a:t>Организация власти в Афинах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89080" y="1413000"/>
            <a:ext cx="8675640" cy="51958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6645240" y="5934240"/>
            <a:ext cx="131760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Египе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15320" y="4508640"/>
            <a:ext cx="1715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а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Африк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65440" y="1600200"/>
            <a:ext cx="2759400" cy="9471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Северное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ричерноморье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07720" y="3809880"/>
            <a:ext cx="2148120" cy="520560"/>
          </a:xfrm>
          <a:prstGeom prst="rect">
            <a:avLst/>
          </a:prstGeom>
          <a:solidFill>
            <a:srgbClr val="00005b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Малая Азия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852000" y="3776760"/>
            <a:ext cx="2963520" cy="2320920"/>
            <a:chOff x="3852000" y="3776760"/>
            <a:chExt cx="2963520" cy="2320920"/>
          </a:xfrm>
        </p:grpSpPr>
        <p:sp>
          <p:nvSpPr>
            <p:cNvPr id="650" name=""/>
            <p:cNvSpPr/>
            <p:nvPr/>
          </p:nvSpPr>
          <p:spPr>
            <a:xfrm rot="3019200">
              <a:off x="4797000" y="4760280"/>
              <a:ext cx="2177640" cy="609480"/>
            </a:xfrm>
            <a:prstGeom prst="leftArrow">
              <a:avLst>
                <a:gd name="adj1" fmla="val 50000"/>
                <a:gd name="adj2" fmla="val 893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72000">
              <a:off x="548568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52000" y="3886200"/>
              <a:ext cx="2513880" cy="82548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Льняные ткани ,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апирус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383720" y="2523960"/>
            <a:ext cx="1866240" cy="1812600"/>
            <a:chOff x="4383720" y="2523960"/>
            <a:chExt cx="1866240" cy="1812600"/>
          </a:xfrm>
        </p:grpSpPr>
        <p:sp>
          <p:nvSpPr>
            <p:cNvPr id="654" name=""/>
            <p:cNvSpPr/>
            <p:nvPr/>
          </p:nvSpPr>
          <p:spPr>
            <a:xfrm>
              <a:off x="4383720" y="3876840"/>
              <a:ext cx="17625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Зерно,раб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8048600">
              <a:off x="4933800" y="3085560"/>
              <a:ext cx="1523880" cy="380880"/>
            </a:xfrm>
            <a:prstGeom prst="leftArrow">
              <a:avLst>
                <a:gd name="adj1" fmla="val 50000"/>
                <a:gd name="adj2" fmla="val 100024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78600" y="3789360"/>
            <a:ext cx="3344760" cy="1645920"/>
            <a:chOff x="2478600" y="3789360"/>
            <a:chExt cx="3344760" cy="1645920"/>
          </a:xfrm>
        </p:grpSpPr>
        <p:sp>
          <p:nvSpPr>
            <p:cNvPr id="657" name=""/>
            <p:cNvSpPr/>
            <p:nvPr/>
          </p:nvSpPr>
          <p:spPr>
            <a:xfrm>
              <a:off x="3440520" y="3789360"/>
              <a:ext cx="238284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лоновая к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9307200">
              <a:off x="2483640" y="4474440"/>
              <a:ext cx="2227320" cy="515880"/>
            </a:xfrm>
            <a:prstGeom prst="leftArrow">
              <a:avLst>
                <a:gd name="adj1" fmla="val 50000"/>
                <a:gd name="adj2" fmla="val 107938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78440" y="3886200"/>
            <a:ext cx="2384280" cy="485640"/>
            <a:chOff x="4078440" y="3886200"/>
            <a:chExt cx="2384280" cy="485640"/>
          </a:xfrm>
        </p:grpSpPr>
        <p:sp>
          <p:nvSpPr>
            <p:cNvPr id="660" name=""/>
            <p:cNvSpPr/>
            <p:nvPr/>
          </p:nvSpPr>
          <p:spPr>
            <a:xfrm>
              <a:off x="4078440" y="3886200"/>
              <a:ext cx="1485360" cy="459720"/>
            </a:xfrm>
            <a:prstGeom prst="rect">
              <a:avLst/>
            </a:pr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таллы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86400" y="38862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98ba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aphicFrame>
        <p:nvGraphicFramePr>
          <p:cNvPr id="662" name=""/>
          <p:cNvGraphicFramePr/>
          <p:nvPr/>
        </p:nvGraphicFramePr>
        <p:xfrm>
          <a:off x="5334120" y="3962520"/>
          <a:ext cx="914400" cy="64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3962520"/>
                    <a:ext cx="914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498240" y="1523880"/>
            <a:ext cx="299556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Чужеземные купцы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за право торговать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в Афинах платил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0035"/>
                </a:solidFill>
                <a:latin typeface="Times New Roman"/>
              </a:rPr>
              <a:t>пошлин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356000" y="2565360"/>
            <a:ext cx="1605240" cy="1589040"/>
            <a:chOff x="4356000" y="2565360"/>
            <a:chExt cx="1605240" cy="1589040"/>
          </a:xfrm>
        </p:grpSpPr>
        <p:pic>
          <p:nvPicPr>
            <p:cNvPr id="666" name="" descr=""/>
            <p:cNvPicPr/>
            <p:nvPr/>
          </p:nvPicPr>
          <p:blipFill>
            <a:blip r:embed="rId5"/>
            <a:stretch/>
          </p:blipFill>
          <p:spPr>
            <a:xfrm>
              <a:off x="4356000" y="25653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6"/>
            <a:stretch/>
          </p:blipFill>
          <p:spPr>
            <a:xfrm>
              <a:off x="4508640" y="27176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7"/>
            <a:stretch/>
          </p:blipFill>
          <p:spPr>
            <a:xfrm>
              <a:off x="4660920" y="287028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8"/>
            <a:stretch/>
          </p:blipFill>
          <p:spPr>
            <a:xfrm>
              <a:off x="4813200" y="3022560"/>
              <a:ext cx="84312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9"/>
            <a:stretch/>
          </p:blipFill>
          <p:spPr>
            <a:xfrm>
              <a:off x="4965840" y="3174840"/>
              <a:ext cx="84276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10"/>
            <a:stretch/>
          </p:blipFill>
          <p:spPr>
            <a:xfrm>
              <a:off x="5118120" y="3327480"/>
              <a:ext cx="843120" cy="82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"/>
          <p:cNvSpPr/>
          <p:nvPr/>
        </p:nvSpPr>
        <p:spPr>
          <a:xfrm>
            <a:off x="3666600" y="2349360"/>
            <a:ext cx="2680200" cy="8254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ливковое масло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89720" y="4724280"/>
            <a:ext cx="145332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Амфоры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тату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91960" y="3716280"/>
            <a:ext cx="196380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Ювелирные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украшен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60960" y="3809880"/>
            <a:ext cx="8863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Ви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429000"/>
            <a:ext cx="1214280" cy="12142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7632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80" y="1523880"/>
            <a:ext cx="171684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з Греции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возили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3" descr="180px-Solon.jpg"/>
          <p:cNvPicPr/>
          <p:nvPr/>
        </p:nvPicPr>
        <p:blipFill>
          <a:blip r:embed="rId1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  <p:pic>
        <p:nvPicPr>
          <p:cNvPr id="679" name="Прямоугольник 5" descr=""/>
          <p:cNvPicPr/>
          <p:nvPr/>
        </p:nvPicPr>
        <p:blipFill>
          <a:blip r:embed="rId2"/>
          <a:stretch/>
        </p:blipFill>
        <p:spPr>
          <a:xfrm>
            <a:off x="3429000" y="4840200"/>
            <a:ext cx="6102360" cy="12556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4500720" y="1916280"/>
            <a:ext cx="3504960" cy="17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01770" dir="15321023" blurRad="0" rotWithShape="0">
                    <a:srgbClr val="cc0000">
                      <a:alpha val="50000"/>
                    </a:srgbClr>
                  </a:outerShdw>
                </a:effectLst>
                <a:latin typeface="Impact"/>
              </a:rPr>
              <a:t>Солон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01770" dir="15321023" blurRad="0" rotWithShape="0">
                  <a:srgbClr val="cc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1" name="Рисунок 3" descr="180px-Solon.jpg"/>
          <p:cNvPicPr/>
          <p:nvPr/>
        </p:nvPicPr>
        <p:blipFill>
          <a:blip r:embed="rId5"/>
          <a:stretch/>
        </p:blipFill>
        <p:spPr>
          <a:xfrm>
            <a:off x="228600" y="914400"/>
            <a:ext cx="3429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ерикл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40360" y="1125000"/>
            <a:ext cx="4495680" cy="5257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ерикл отдавал госу-дарственным делам всего себ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Его друзьями были-драматург Софокл,ис-торик Геродот, скуль-птор Фиди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Но Перикла окружали и враги пытавшиеся опорочить стратега и его друз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755640" y="1096920"/>
            <a:ext cx="3201840" cy="4924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ransition spd="slow"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85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385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2" dur="1" fill="hold"/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3" dur="1" fill="hold"/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  <p:animClr clrSpc="rgb">
                                <p:cBhvr>
                                  <p:cTn id="604" dur="1" fill="hold"/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794120" y="1915920"/>
            <a:ext cx="3810240" cy="380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  <a:effectLst>
            <a:outerShdw dist="89808" dir="4916091" blurRad="0" rotWithShape="0">
              <a:srgbClr val="00005b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Похоронив отца, Александр решил осуществить его планы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857400" cy="45306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40247" dir="5090731" blurRad="0" rotWithShape="0">
              <a:srgbClr val="808080"/>
            </a:outerShdw>
          </a:effectLst>
        </p:spPr>
      </p:pic>
      <p:sp>
        <p:nvSpPr>
          <p:cNvPr id="687" name=""/>
          <p:cNvSpPr/>
          <p:nvPr/>
        </p:nvSpPr>
        <p:spPr>
          <a:xfrm>
            <a:off x="2665800" y="620640"/>
            <a:ext cx="4807440" cy="58140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  <a:effectLst>
            <a:outerShdw dist="140247" dir="16509269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Александр Македонск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1" dur="1" fill="hold"/>
                                  <p:tgtEl>
                                    <p:spTgt spid="6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4343400" y="1295280"/>
            <a:ext cx="4495680" cy="371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Благодаря Фемистоклу 30 эллинских государств  создали союз против перс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971640" y="1373040"/>
            <a:ext cx="3112920" cy="41436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690" name=""/>
          <p:cNvSpPr/>
          <p:nvPr/>
        </p:nvSpPr>
        <p:spPr>
          <a:xfrm>
            <a:off x="305928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</a:rPr>
              <a:t>Фемистокл</a:t>
            </a: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53,0,5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5" dur="1" fill="hold"/>
                                  <p:tgtEl>
                                    <p:spTgt spid="6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"/>
          <p:cNvPicPr/>
          <p:nvPr/>
        </p:nvPicPr>
        <p:blipFill>
          <a:blip r:embed="rId1"/>
          <a:stretch/>
        </p:blipFill>
        <p:spPr>
          <a:xfrm>
            <a:off x="8861400" y="6237360"/>
            <a:ext cx="282600" cy="144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"/>
          <p:cNvPicPr/>
          <p:nvPr/>
        </p:nvPicPr>
        <p:blipFill>
          <a:blip r:embed="rId2"/>
          <a:stretch/>
        </p:blipFill>
        <p:spPr>
          <a:xfrm>
            <a:off x="8820000" y="6453360"/>
            <a:ext cx="324000" cy="1825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57680" cy="12682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5"/>
          <a:stretch/>
        </p:blipFill>
        <p:spPr>
          <a:xfrm>
            <a:off x="1908000" y="3284640"/>
            <a:ext cx="61549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1403280" y="2997360"/>
            <a:ext cx="3025800" cy="23256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8"/>
          <a:stretch/>
        </p:blipFill>
        <p:spPr>
          <a:xfrm>
            <a:off x="0" y="2852640"/>
            <a:ext cx="4284720" cy="10810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9"/>
          <a:stretch/>
        </p:blipFill>
        <p:spPr>
          <a:xfrm>
            <a:off x="7537320" y="2997360"/>
            <a:ext cx="1606680" cy="15127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10"/>
          <a:stretch/>
        </p:blipFill>
        <p:spPr>
          <a:xfrm>
            <a:off x="1116000" y="580536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11"/>
          <a:stretch/>
        </p:blipFill>
        <p:spPr>
          <a:xfrm rot="20698200">
            <a:off x="7020000" y="566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12"/>
          <a:stretch/>
        </p:blipFill>
        <p:spPr>
          <a:xfrm>
            <a:off x="7236000" y="5661000"/>
            <a:ext cx="502920" cy="792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3"/>
          <a:stretch/>
        </p:blipFill>
        <p:spPr>
          <a:xfrm>
            <a:off x="4284720" y="561960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4"/>
          <a:stretch/>
        </p:blipFill>
        <p:spPr>
          <a:xfrm>
            <a:off x="8172360" y="5300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5"/>
          <a:stretch/>
        </p:blipFill>
        <p:spPr>
          <a:xfrm>
            <a:off x="8388360" y="537372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6"/>
          <a:stretch/>
        </p:blipFill>
        <p:spPr>
          <a:xfrm>
            <a:off x="900000" y="5084640"/>
            <a:ext cx="582840" cy="8636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7"/>
          <a:stretch/>
        </p:blipFill>
        <p:spPr>
          <a:xfrm>
            <a:off x="611280" y="5013360"/>
            <a:ext cx="582480" cy="863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8"/>
          <a:stretch/>
        </p:blipFill>
        <p:spPr>
          <a:xfrm>
            <a:off x="3059280" y="6165720"/>
            <a:ext cx="475920" cy="6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9"/>
          <a:stretch/>
        </p:blipFill>
        <p:spPr>
          <a:xfrm>
            <a:off x="8101080" y="4508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0"/>
          <a:stretch/>
        </p:blipFill>
        <p:spPr>
          <a:xfrm>
            <a:off x="5940360" y="537372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1"/>
          <a:stretch/>
        </p:blipFill>
        <p:spPr>
          <a:xfrm>
            <a:off x="3203640" y="5516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2"/>
          <a:stretch/>
        </p:blipFill>
        <p:spPr>
          <a:xfrm rot="19273800">
            <a:off x="5292720" y="5300280"/>
            <a:ext cx="1079640" cy="8445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3"/>
          <a:stretch/>
        </p:blipFill>
        <p:spPr>
          <a:xfrm rot="19531800">
            <a:off x="323640" y="5660640"/>
            <a:ext cx="107928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4"/>
          <a:stretch/>
        </p:blipFill>
        <p:spPr>
          <a:xfrm>
            <a:off x="2340000" y="5300640"/>
            <a:ext cx="792000" cy="1019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5"/>
          <a:stretch/>
        </p:blipFill>
        <p:spPr>
          <a:xfrm>
            <a:off x="6084720" y="5838840"/>
            <a:ext cx="7923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5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25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395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7772400" cy="28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187280" y="1557360"/>
            <a:ext cx="71298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lamingo"/>
              </a:rPr>
              <a:t>М и ф</a:t>
            </a:r>
            <a:endParaRPr b="0" lang="en-US" sz="2400" spc="1" strike="noStrike">
              <a:ln w="381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lamingo"/>
              <a:ea typeface="Flaming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8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5b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0000"/>
                </a:solidFill>
                <a:latin typeface="Comic Sans MS"/>
              </a:rPr>
              <a:t>БОГИ ГРЕЦИИ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371600" cy="41623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3657600" y="4191120"/>
            <a:ext cx="28954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62160" y="27432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Посейдон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Comic Sans MS"/>
              </a:rPr>
              <a:t>бог мор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32000" cy="51814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5333760" y="1905120"/>
            <a:ext cx="2895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Зев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неб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421956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876560" y="1828440"/>
            <a:ext cx="394308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ид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в царстве мёртвых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3961080" cy="47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419360" y="762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верховнаябогиня, жена бога неба Зевса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2708280" cy="44197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114800" y="1980720"/>
            <a:ext cx="4648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ртемид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ей охоты, гор и лесов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2739960" cy="45720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3635280" y="1218960"/>
            <a:ext cx="5508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фин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иня мудрости и справедливой войны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343400" y="1752480"/>
            <a:ext cx="431784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Афродита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любви и красоты</a:t>
            </a:r>
            <a:r>
              <a:rPr b="0" lang="ru-RU" sz="6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747880" cy="50292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114800" y="2057400"/>
            <a:ext cx="4648320" cy="25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Деметра –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иня земледелия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2365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879640" cy="52578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Рисунок 3" descr="athena.jpg"/>
          <p:cNvPicPr/>
          <p:nvPr/>
        </p:nvPicPr>
        <p:blipFill>
          <a:blip r:embed="rId1"/>
          <a:stretch/>
        </p:blipFill>
        <p:spPr>
          <a:xfrm>
            <a:off x="3780000" y="692280"/>
            <a:ext cx="1960560" cy="273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826920" y="2205000"/>
            <a:ext cx="756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54000">
                  <a:solidFill>
                    <a:srgbClr val="800000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latin typeface="Arlekino"/>
              </a:rPr>
              <a:t>Древняя Греция</a:t>
            </a:r>
            <a:endParaRPr b="1" lang="en-US" sz="2400" spc="1" strike="noStrike">
              <a:ln w="54000">
                <a:solidFill>
                  <a:srgbClr val="800000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latin typeface="Arlekino"/>
              <a:ea typeface="Arlekino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684360" y="6400800"/>
            <a:ext cx="771660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3564000" y="4292640"/>
            <a:ext cx="21603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3505320" y="533520"/>
            <a:ext cx="541008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Дионис –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бог плодоносящих сил земли, растительности, виноградарства, виноделия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291924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190760" y="1383840"/>
            <a:ext cx="43210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Гефест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бог огня и кузнечного дела</a:t>
            </a:r>
            <a:r>
              <a:rPr b="0" lang="ru-RU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2743200" cy="480060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525780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Гермес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вестник</a:t>
            </a:r>
            <a:r>
              <a:rPr b="0" lang="en-US" sz="54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ов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2974680" cy="510552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4267080" y="2286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Арес –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бог войны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2755800" cy="518184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0" y="6262560"/>
            <a:ext cx="341964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. «Песнь козлов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84320" y="6361200"/>
            <a:ext cx="27424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2.Предмет для письм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0" y="6324480"/>
            <a:ext cx="51372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3.Участник Олимпийских игр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0" y="6324480"/>
            <a:ext cx="41911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4. «Место для зрелищ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0" y="6248520"/>
            <a:ext cx="72388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5.Центральная площадь Афин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5" name=""/>
          <p:cNvSpPr/>
          <p:nvPr/>
        </p:nvSpPr>
        <p:spPr>
          <a:xfrm>
            <a:off x="0" y="6248520"/>
            <a:ext cx="662940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6.Место выступления актеров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116000" y="1041840"/>
            <a:ext cx="6432480" cy="5031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5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1.Страна Греция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2.Историческая личность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3.Боги и мифы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4.Тесты по Древней Греции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5.Разгадай кроссворд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Rubius"/>
              </a:rPr>
              <a:t>6.Хронологический конкурс</a:t>
            </a:r>
            <a:r>
              <a:rPr b="1" lang="en-US" sz="3200" spc="-1" strike="noStrike">
                <a:solidFill>
                  <a:srgbClr val="f8f8f8"/>
                </a:solidFill>
                <a:latin typeface="Rubius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0" y="638496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5b"/>
                </a:solidFill>
                <a:latin typeface="Times New Roman Cyr"/>
              </a:rPr>
              <a:t>7.Трагедия Софокла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8.Место декорац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"/>
          <p:cNvSpPr/>
          <p:nvPr/>
        </p:nvSpPr>
        <p:spPr>
          <a:xfrm>
            <a:off x="0" y="6248520"/>
            <a:ext cx="373392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9. «Веселое шествие»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0" y="6248520"/>
            <a:ext cx="4267080" cy="398880"/>
          </a:xfrm>
          <a:prstGeom prst="rect">
            <a:avLst/>
          </a:prstGeom>
          <a:solidFill>
            <a:srgbClr val="98ba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b"/>
                </a:solidFill>
                <a:latin typeface="Times New Roman Cyr"/>
              </a:rPr>
              <a:t>10.Место соревнований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611280" y="3429000"/>
            <a:ext cx="439236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Первые Олимпийские игры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11280" y="4508640"/>
            <a:ext cx="453528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Перикла стратего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1280" y="573408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Поход Ал.Македонского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На Восток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9640" y="227664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70334" dir="14602848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Избрание Солона архонтом</a:t>
            </a:r>
            <a:r>
              <a:rPr b="1" lang="en-US" sz="3200" spc="-1" strike="noStrike">
                <a:solidFill>
                  <a:srgbClr val="ff0000"/>
                </a:solidFill>
                <a:latin typeface="Times New Roman Cyr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8360" y="1197000"/>
            <a:ext cx="446400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 Cyr"/>
              </a:rPr>
              <a:t>Троянская войн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2360" y="1197000"/>
            <a:ext cx="2808360" cy="863640"/>
          </a:xfrm>
          <a:prstGeom prst="leftArrowCallout">
            <a:avLst>
              <a:gd name="adj1" fmla="val 25002"/>
              <a:gd name="adj2" fmla="val 25000"/>
              <a:gd name="adj3" fmla="val 54196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03640" y="2276640"/>
            <a:ext cx="2737080" cy="863280"/>
          </a:xfrm>
          <a:prstGeom prst="leftArrowCallout">
            <a:avLst>
              <a:gd name="adj1" fmla="val 25002"/>
              <a:gd name="adj2" fmla="val 25000"/>
              <a:gd name="adj3" fmla="val 52843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76720" y="342900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148360" y="4581360"/>
            <a:ext cx="2592360" cy="863640"/>
          </a:xfrm>
          <a:prstGeom prst="leftArrowCallout">
            <a:avLst>
              <a:gd name="adj1" fmla="val 25002"/>
              <a:gd name="adj2" fmla="val 25000"/>
              <a:gd name="adj3" fmla="val 50028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76720" y="5734080"/>
            <a:ext cx="2664000" cy="863640"/>
          </a:xfrm>
          <a:prstGeom prst="leftArrowCallout">
            <a:avLst>
              <a:gd name="adj1" fmla="val 25002"/>
              <a:gd name="adj2" fmla="val 25000"/>
              <a:gd name="adj3" fmla="val 51410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16720" y="1197000"/>
            <a:ext cx="865080" cy="93672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1200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8000" y="2276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59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16720" y="335772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77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16720" y="450864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44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516720" y="5734080"/>
            <a:ext cx="914400" cy="91440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9640" y="189000"/>
            <a:ext cx="4392720" cy="792000"/>
          </a:xfrm>
          <a:prstGeom prst="rect">
            <a:avLst/>
          </a:prstGeom>
          <a:solidFill>
            <a:srgbClr val="ffffcc"/>
          </a:solidFill>
          <a:ln w="76320">
            <a:solidFill>
              <a:srgbClr val="ffffcc"/>
            </a:solidFill>
            <a:miter/>
          </a:ln>
          <a:effectLst>
            <a:outerShdw dist="182013" dir="14712542" blurRad="0" rotWithShape="0">
              <a:srgbClr val="c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 Cyr"/>
              </a:rPr>
              <a:t>Битва при Хероне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932360" y="189000"/>
            <a:ext cx="2881440" cy="863640"/>
          </a:xfrm>
          <a:prstGeom prst="leftArrowCallout">
            <a:avLst>
              <a:gd name="adj1" fmla="val 25002"/>
              <a:gd name="adj2" fmla="val 25000"/>
              <a:gd name="adj3" fmla="val 55607"/>
              <a:gd name="adj4" fmla="val 66673"/>
            </a:avLst>
          </a:prstGeom>
          <a:solidFill>
            <a:srgbClr val="ffffcc"/>
          </a:solidFill>
          <a:ln w="76320">
            <a:solidFill>
              <a:srgbClr val="ff0000"/>
            </a:solidFill>
            <a:miter/>
          </a:ln>
          <a:effectLst>
            <a:outerShdw dist="140247" dir="16509269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16720" y="189000"/>
            <a:ext cx="865080" cy="936360"/>
          </a:xfrm>
          <a:prstGeom prst="ellipse">
            <a:avLst/>
          </a:prstGeom>
          <a:solidFill>
            <a:srgbClr val="ffffcc"/>
          </a:solidFill>
          <a:ln w="76320">
            <a:solidFill>
              <a:srgbClr val="ffffff"/>
            </a:solidFill>
            <a:miter/>
          </a:ln>
          <a:effectLst>
            <a:outerShdw dist="140247" dir="10490731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 Cyr"/>
              </a:rPr>
              <a:t>33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 Cyr"/>
              </a:rPr>
              <a:t>До н.э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95280" y="544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 txBox="1"/>
          <p:nvPr/>
        </p:nvSpPr>
        <p:spPr>
          <a:xfrm>
            <a:off x="2340000" y="5877000"/>
            <a:ext cx="4537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99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сиртаки</a:t>
            </a:r>
            <a:endParaRPr b="0" lang="en-US" sz="2400" spc="1" strike="noStrike">
              <a:ln w="28440">
                <a:solidFill>
                  <a:srgbClr val="99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newsflash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5.0)">
                                      <p:cBhvr>
                                        <p:cTn id="894" dur="188475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780000" y="358128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432000" cy="3380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932360" y="5732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5148360" y="4559400"/>
            <a:ext cx="431640" cy="409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971640" y="213372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58920" y="270828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19280" y="3284640"/>
            <a:ext cx="433440" cy="5032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 flipH="1" rot="10800000">
            <a:off x="1547640" y="2205000"/>
            <a:ext cx="1079640" cy="504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"/>
          <a:stretch/>
        </p:blipFill>
        <p:spPr>
          <a:xfrm>
            <a:off x="1835280" y="2492280"/>
            <a:ext cx="1008000" cy="69552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8"/>
          <a:stretch/>
        </p:blipFill>
        <p:spPr>
          <a:xfrm>
            <a:off x="2124000" y="3716280"/>
            <a:ext cx="935280" cy="6303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9"/>
          <a:stretch/>
        </p:blipFill>
        <p:spPr>
          <a:xfrm flipH="1" rot="4988400">
            <a:off x="2918160" y="176868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10"/>
          <a:stretch/>
        </p:blipFill>
        <p:spPr>
          <a:xfrm>
            <a:off x="5940360" y="191628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1"/>
          <a:stretch/>
        </p:blipFill>
        <p:spPr>
          <a:xfrm flipH="1" rot="4384800">
            <a:off x="3135600" y="22741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2"/>
          <a:stretch/>
        </p:blipFill>
        <p:spPr>
          <a:xfrm flipH="1" rot="4386600">
            <a:off x="3494520" y="2776320"/>
            <a:ext cx="626760" cy="346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3"/>
          <a:stretch/>
        </p:blipFill>
        <p:spPr>
          <a:xfrm flipH="1" rot="3121200">
            <a:off x="4070880" y="3209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14"/>
          <a:stretch/>
        </p:blipFill>
        <p:spPr>
          <a:xfrm flipH="1" rot="8646600">
            <a:off x="4066920" y="386064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15"/>
          <a:stretch/>
        </p:blipFill>
        <p:spPr>
          <a:xfrm flipH="1" rot="8894400">
            <a:off x="3708000" y="414936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6"/>
          <a:stretch/>
        </p:blipFill>
        <p:spPr>
          <a:xfrm flipH="1" rot="8894400">
            <a:off x="3276000" y="458100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7"/>
          <a:stretch/>
        </p:blipFill>
        <p:spPr>
          <a:xfrm flipH="1" rot="9466800">
            <a:off x="2842560" y="50846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8"/>
          <a:stretch/>
        </p:blipFill>
        <p:spPr>
          <a:xfrm flipH="1" rot="12831000">
            <a:off x="2194920" y="4941720"/>
            <a:ext cx="626760" cy="3463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19"/>
          <a:stretch/>
        </p:blipFill>
        <p:spPr>
          <a:xfrm flipH="1" rot="13297800">
            <a:off x="1547640" y="4507920"/>
            <a:ext cx="627120" cy="3459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0"/>
          <a:stretch/>
        </p:blipFill>
        <p:spPr>
          <a:xfrm flipH="1" rot="15796200">
            <a:off x="1116000" y="400392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1"/>
          <a:stretch/>
        </p:blipFill>
        <p:spPr>
          <a:xfrm flipH="1" rot="15796200">
            <a:off x="830160" y="3353040"/>
            <a:ext cx="627120" cy="3463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2"/>
          <a:stretch/>
        </p:blipFill>
        <p:spPr>
          <a:xfrm flipH="1" rot="15796200">
            <a:off x="399240" y="2705400"/>
            <a:ext cx="627120" cy="3466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3"/>
          <a:stretch/>
        </p:blipFill>
        <p:spPr>
          <a:xfrm flipH="1" rot="16270800">
            <a:off x="109440" y="2056680"/>
            <a:ext cx="626760" cy="3459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4"/>
          <a:stretch/>
        </p:blipFill>
        <p:spPr>
          <a:xfrm>
            <a:off x="2916360" y="4221000"/>
            <a:ext cx="28728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"/>
                            </p:stCondLst>
                            <p:childTnLst>
                              <p:par>
                                <p:cTn id="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"/>
                            </p:stCondLst>
                            <p:childTnLst>
                              <p:par>
                                <p:cTn id="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"/>
                            </p:stCondLst>
                            <p:childTnLst>
                              <p:par>
                                <p:cTn id="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900"/>
                            </p:stCondLst>
                            <p:childTnLst>
                              <p:par>
                                <p:cTn id="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6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7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300"/>
                            </p:stCondLst>
                            <p:childTnLst>
                              <p:par>
                                <p:cTn id="1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8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900"/>
                            </p:stCondLst>
                            <p:childTnLst>
                              <p:par>
                                <p:cTn id="11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4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6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70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2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300"/>
                            </p:stCondLst>
                            <p:childTnLst>
                              <p:par>
                                <p:cTn id="1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8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900"/>
                            </p:stCondLst>
                            <p:childTnLst>
                              <p:par>
                                <p:cTn id="16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"/>
                            </p:stCondLst>
                            <p:childTnLst>
                              <p:par>
                                <p:cTn id="17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551640" cy="504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187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39" dur="1" fill="hold"/>
                                        <p:tgtEl>
                                          <p:spTgt spid="5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140360" y="2708280"/>
            <a:ext cx="4356000" cy="414972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4" descr="afinu_2.jpg"/>
          <p:cNvPicPr/>
          <p:nvPr/>
        </p:nvPicPr>
        <p:blipFill>
          <a:blip r:embed="rId2"/>
          <a:stretch/>
        </p:blipFill>
        <p:spPr>
          <a:xfrm>
            <a:off x="755640" y="1341360"/>
            <a:ext cx="360036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87" name="Рисунок 9" descr="olivetree.jpg"/>
          <p:cNvPicPr/>
          <p:nvPr/>
        </p:nvPicPr>
        <p:blipFill>
          <a:blip r:embed="rId1"/>
          <a:stretch/>
        </p:blipFill>
        <p:spPr>
          <a:xfrm>
            <a:off x="1258920" y="1052640"/>
            <a:ext cx="5441760" cy="560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10" descr="olivki1.jpg"/>
          <p:cNvPicPr/>
          <p:nvPr/>
        </p:nvPicPr>
        <p:blipFill>
          <a:blip r:embed="rId2"/>
          <a:stretch/>
        </p:blipFill>
        <p:spPr>
          <a:xfrm rot="3075600">
            <a:off x="6001200" y="1063080"/>
            <a:ext cx="216216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65520" cy="39607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3886200" cy="3743640"/>
          </a:xfrm>
          <a:prstGeom prst="rect">
            <a:avLst/>
          </a:prstGeom>
          <a:ln w="0">
            <a:noFill/>
          </a:ln>
        </p:spPr>
      </p:pic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826920" y="5734080"/>
            <a:ext cx="505080" cy="60948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609480"/>
              <a:gd name="textAreaBottom" fmla="*/ 577080 h 609480"/>
            </a:gdLst>
            <a:ahLst/>
            <a:rect l="textAreaLeft" t="textAreaTop" r="textAreaRight" b="textAreaBottom"/>
            <a:pathLst>
              <a:path w="21600" h="26062">
                <a:moveTo>
                  <a:pt x="0" y="0"/>
                </a:moveTo>
                <a:lnTo>
                  <a:pt x="21600" y="0"/>
                </a:lnTo>
                <a:lnTo>
                  <a:pt x="21600" y="26062"/>
                </a:lnTo>
                <a:lnTo>
                  <a:pt x="0" y="26062"/>
                </a:lnTo>
                <a:close/>
              </a:path>
              <a:path fill="lightenLess" w="21600" h="260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2">
                <a:moveTo>
                  <a:pt x="21600" y="0"/>
                </a:moveTo>
                <a:lnTo>
                  <a:pt x="21600" y="26062"/>
                </a:lnTo>
                <a:lnTo>
                  <a:pt x="20200" y="24662"/>
                </a:lnTo>
                <a:lnTo>
                  <a:pt x="20200" y="1400"/>
                </a:lnTo>
                <a:close/>
              </a:path>
              <a:path fill="darkenLess" w="21600" h="26062">
                <a:moveTo>
                  <a:pt x="21600" y="26062"/>
                </a:moveTo>
                <a:lnTo>
                  <a:pt x="0" y="26062"/>
                </a:lnTo>
                <a:lnTo>
                  <a:pt x="1400" y="24662"/>
                </a:lnTo>
                <a:lnTo>
                  <a:pt x="20200" y="24662"/>
                </a:lnTo>
                <a:close/>
              </a:path>
              <a:path fill="lighten" w="21600" h="26062">
                <a:moveTo>
                  <a:pt x="0" y="260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2"/>
                </a:lnTo>
                <a:close/>
              </a:path>
              <a:path fill="darken" w="21600" h="26062">
                <a:moveTo>
                  <a:pt x="3794" y="6024"/>
                </a:moveTo>
                <a:lnTo>
                  <a:pt x="17806" y="13031"/>
                </a:lnTo>
                <a:lnTo>
                  <a:pt x="3794" y="20037"/>
                </a:lnTo>
                <a:close/>
              </a:path>
            </a:pathLst>
          </a:custGeom>
          <a:solidFill>
            <a:srgbClr val="98b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8T09:16:36Z</dcterms:created>
  <dc:creator>ЧЕРНОВ АЛЕКСЕЙ</dc:creator>
  <dc:description/>
  <dc:language>en-US</dc:language>
  <cp:lastModifiedBy>Admin</cp:lastModifiedBy>
  <dcterms:modified xsi:type="dcterms:W3CDTF">2009-12-28T20:48:44Z</dcterms:modified>
  <cp:revision>59</cp:revision>
  <dc:subject/>
  <dc:title>Заголовок слайда отсутствует</dc:title>
</cp:coreProperties>
</file>