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6.png" ContentType="image/png"/>
  <Override PartName="/ppt/media/image53.gif" ContentType="image/gif"/>
  <Override PartName="/ppt/media/image51.jpeg" ContentType="image/jpeg"/>
  <Override PartName="/ppt/media/image50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70.wmf" ContentType="image/x-wmf"/>
  <Override PartName="/ppt/media/image43.jpeg" ContentType="image/jpeg"/>
  <Override PartName="/ppt/media/image25.gif" ContentType="image/gif"/>
  <Override PartName="/ppt/media/image42.png" ContentType="image/png"/>
  <Override PartName="/ppt/media/image41.jpeg" ContentType="image/jpeg"/>
  <Override PartName="/ppt/media/image66.png" ContentType="image/png"/>
  <Override PartName="/ppt/media/image39.png" ContentType="image/png"/>
  <Override PartName="/ppt/media/image38.png" ContentType="image/png"/>
  <Override PartName="/ppt/media/image36.png" ContentType="image/png"/>
  <Override PartName="/ppt/media/image54.gif" ContentType="image/gif"/>
  <Override PartName="/ppt/media/image57.png" ContentType="image/png"/>
  <Override PartName="/ppt/media/image64.png" ContentType="image/png"/>
  <Override PartName="/ppt/media/image15.jpeg" ContentType="image/jpeg"/>
  <Override PartName="/ppt/media/image67.wmf" ContentType="image/x-wmf"/>
  <Override PartName="/ppt/media/image33.jpeg" ContentType="image/jpeg"/>
  <Override PartName="/ppt/media/image4.gif" ContentType="image/gif"/>
  <Override PartName="/ppt/media/image19.jpeg" ContentType="image/jpeg"/>
  <Override PartName="/ppt/media/image32.jpeg" ContentType="image/jpeg"/>
  <Override PartName="/ppt/media/image27.png" ContentType="image/png"/>
  <Override PartName="/ppt/media/image24.gif" ContentType="image/gif"/>
  <Override PartName="/ppt/media/image20.gif" ContentType="image/gif"/>
  <Override PartName="/ppt/media/image60.png" ContentType="image/png"/>
  <Override PartName="/ppt/media/image79.png" ContentType="image/png"/>
  <Override PartName="/ppt/media/image76.wmf" ContentType="image/x-wmf"/>
  <Override PartName="/ppt/media/image29.jpeg" ContentType="image/jpeg"/>
  <Override PartName="/ppt/media/image65.png" ContentType="image/png"/>
  <Override PartName="/ppt/media/image75.wmf" ContentType="image/x-wmf"/>
  <Override PartName="/ppt/media/image17.png" ContentType="image/png"/>
  <Override PartName="/ppt/media/image14.gif" ContentType="image/gif"/>
  <Override PartName="/ppt/media/image31.jpeg" ContentType="image/jpeg"/>
  <Override PartName="/ppt/media/image74.wmf" ContentType="image/x-wmf"/>
  <Override PartName="/ppt/media/image23.gif" ContentType="image/gif"/>
  <Override PartName="/ppt/media/image63.png" ContentType="image/png"/>
  <Override PartName="/ppt/media/image28.gif" ContentType="image/gif"/>
  <Override PartName="/ppt/media/image73.wmf" ContentType="image/x-wmf"/>
  <Override PartName="/ppt/media/image22.gif" ContentType="image/gif"/>
  <Override PartName="/ppt/media/image62.png" ContentType="image/png"/>
  <Override PartName="/ppt/media/image72.wmf" ContentType="image/x-wmf"/>
  <Override PartName="/ppt/media/image61.png" ContentType="image/png"/>
  <Override PartName="/ppt/media/image26.gif" ContentType="image/gif"/>
  <Override PartName="/ppt/media/image71.wmf" ContentType="image/x-wmf"/>
  <Override PartName="/ppt/media/image69.wmf" ContentType="image/x-wmf"/>
  <Override PartName="/ppt/media/image21.gif" ContentType="image/gif"/>
  <Override PartName="/ppt/media/image2.jpeg" ContentType="image/jpeg"/>
  <Override PartName="/ppt/media/image5.gif" ContentType="image/gif"/>
  <Override PartName="/ppt/media/image52.jpeg" ContentType="image/jpeg"/>
  <Override PartName="/ppt/media/image1.png" ContentType="image/png"/>
  <Override PartName="/ppt/media/image10.gif" ContentType="image/gif"/>
  <Override PartName="/ppt/media/image6.gif" ContentType="image/gif"/>
  <Override PartName="/ppt/media/image18.gif" ContentType="image/gif"/>
  <Override PartName="/ppt/media/image11.gif" ContentType="image/gif"/>
  <Override PartName="/ppt/media/image7.gif" ContentType="image/gif"/>
  <Override PartName="/ppt/media/image44.wmf" ContentType="image/x-wmf"/>
  <Override PartName="/ppt/media/image12.gif" ContentType="image/gif"/>
  <Override PartName="/ppt/media/image49.jpeg" ContentType="image/jpeg"/>
  <Override PartName="/ppt/media/image8.gif" ContentType="image/gif"/>
  <Override PartName="/ppt/media/image34.jpeg" ContentType="image/jpeg"/>
  <Override PartName="/ppt/media/image37.png" ContentType="image/png"/>
  <Override PartName="/ppt/media/image77.wmf" ContentType="image/x-wmf"/>
  <Override PartName="/ppt/media/image16.jpeg" ContentType="image/jpeg"/>
  <Override PartName="/ppt/media/image9.gif" ContentType="image/gif"/>
  <Override PartName="/ppt/media/image13.gif" ContentType="image/gif"/>
  <Override PartName="/ppt/media/image48.jpeg" ContentType="image/jpeg"/>
  <Override PartName="/ppt/media/image78.png" ContentType="image/png"/>
  <Override PartName="/ppt/media/image30.png" ContentType="image/png"/>
  <Override PartName="/ppt/media/image40.wmf" ContentType="image/x-wmf"/>
  <Override PartName="/ppt/media/image3.gif" ContentType="image/gif"/>
  <Override PartName="/ppt/media/image68.wmf" ContentType="image/x-wmf"/>
  <Override PartName="/ppt/media/image35.jpeg" ContentType="image/jpeg"/>
  <Override PartName="/ppt/media/image47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829-6FE0-49B2-BF3C-1B9FE557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C36-8416-4AF1-AAC8-66B39448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640-67A6-4F34-B564-E3C8D8A4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F81-5BD7-4447-B30F-57D4E361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6CA1-991D-44D3-88F2-D27F550C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04F5-F4B4-48A3-AB3C-021CBD9B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0E41-9402-4DF3-AC28-2A53C504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92E6-1B6D-4DFF-AB47-73B36A18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AB4B-52FB-45BC-9D36-58904F87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9CE1-8AD3-45E7-A06D-566CE12F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7BB2-6C38-4155-9965-D32A3DB2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A15-7A2D-45EF-91CC-D5E8F8FB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973B-A65E-4162-A48D-C75A163B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2148-409D-4F8C-806C-F9F13E78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45CF-2544-4E14-9D8F-F1C46E56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B347-377F-4601-84D1-05BA13D3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E4FC-54EF-4ABA-9253-FAF164AE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ECDB-70F9-472F-856F-30A89DF6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B6F8F-8CC9-40B3-B09D-3D701A65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ECEE4-24AC-4196-A342-56EBBE76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625CF-D363-40BD-95E3-EDB7D5AC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89D38-7DAC-4A29-A5D1-313312A5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A76-9187-4F34-B0B8-A049899B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FF279-491B-4D89-A268-B517146D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CC74-2B3E-49F4-8C74-8910BCEF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07F3-44F4-4430-A824-CC960E02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D307E-4FAA-43BE-A5E7-60DAC501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268B5-AA8E-4827-BB25-B49077B2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17E3-0B28-4E77-AD80-4F92FAD1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DE34-6521-44D9-9EAE-81B9E93B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68D4-7FAE-43BC-83D9-131E3284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04928-BF8B-488F-903C-52F84E29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37683-7E85-4FE0-848B-23A8DAF7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DC7-0878-4371-A5C6-155D07FB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E0B50-0FFB-403B-AE3C-2B1F91BC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967B-A0D3-4827-AC62-466364A4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8AC07-4FB3-4CE1-AB6A-ECAE3722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0F05E-73D4-445A-9230-5959B8DF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820D0-AFA8-4529-BEB6-5EAC2F88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4088E-0729-4580-8AB6-9265D6C6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53E5A-211B-467E-8277-B68F742C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E2CB3-BD02-437E-8CBD-AF9D5F7A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71269-0507-4970-B814-FADC6191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BEFF6-A7AF-4BAC-8544-BB1D9D67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662-516F-41F6-9B92-B531AB1B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4B446-46BF-430E-A5E3-5B9F823F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6DEEF-22E8-48CE-B3E3-1F454EB6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55E65-0AF7-4378-96B8-0B3E19BE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F614B-B880-4409-8CBA-12B5B490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9EDC0-3894-448B-9CF3-CD027B6E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81D4F4-EA98-4047-A9D3-482ABD4C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58E7C-4C54-4E8E-A535-EEAF849B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0D13C-2A62-487A-92C7-78DFE6B0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9343C-248E-4292-8ABF-CA9BAB43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54B9B-7A40-4A4F-9520-C2DA5322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038-2201-4C0D-923B-5AC5E0FB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FEC5D-3B0C-43D0-9E07-12C6EA27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05EA7-2DBA-4871-8B22-657FB32C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C62F4-0036-47B0-8C70-0E2108AA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C1FAF-55DF-44BC-94F6-D7D5B304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EC964-D339-4642-886A-8928F6F0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F16B0-CCE2-4C4F-8391-016081A9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79CB1-2BE3-451F-9181-C21FD86E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3C95E-176E-4D79-8C19-27493B4A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79E04-0960-4F58-A004-524482F0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E1741-61F9-4223-B01B-247F2D30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E83-8473-4BFB-BAF0-14B30A1A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6AAF0-0988-4678-8E28-D51E4727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F6335-CA3B-458C-8BC5-790EC25F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39C8F-471C-44A9-B59B-81A56B9A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F47AA-5EA3-4550-A457-5E2F81BF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3A7D3-61B2-4182-AA4F-3DDB76F8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7180D-9886-4230-8848-C8569DB8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B158C-9DA3-46D6-87F6-8EDF8893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D7BE0-308A-4C78-89C5-3ABCEDC6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3D4BA-33D3-4537-BAC0-90D245F2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1975F-FBAB-4538-B20D-3BF1DDD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C68-73CD-4CC7-8C20-32A9CD67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9CC46-96A2-485B-A1C1-F0B5FE8F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C0D5A-161D-46D4-B46B-246E082B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07E8A-D30B-4A33-891C-EAF25BBD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06D1C-A016-4DAF-B42F-B6842B2B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8165A-861E-4616-BC5F-F496036C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78161-DB12-428D-B6A4-056999FF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B7577-FFA9-4173-8E60-706BB2F3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A8470-C87A-4382-AA66-FA5C70F3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A6E9E-318B-4418-8507-BCFE7E3E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FA763-032A-4867-AFC6-2973BEBA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355-7F8B-49E0-99F4-D61926CE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087F7-E10C-4F6C-870E-D9E8AEA5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767A2-5D9C-4050-88E5-6B5C9E92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98CCB-E4E4-4C23-AA3B-33F781D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CDCF7-EA60-4B65-8C30-EEAF7ECF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971F6-9D02-4CA5-8353-3121F11F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5DA72-A66E-4B8A-A91C-5101A7AE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D52EC-C600-4165-BDD7-810892BE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E25F-4356-47E8-BB19-80B628AD52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D6E5-7335-4006-86D5-9F66BB9D42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7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2A9A-BF26-42EA-B193-0A7F62CBB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CC17-38B4-44E6-9340-C90507182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979F-FC48-43A3-873D-3E244DE070E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1011-9C57-4CC4-8569-CADFD5F1286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0D3F-73C2-4922-AA51-6780D7E586E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74A5-CE17-45CB-AC2E-75F1ED4662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wmf"/><Relationship Id="rId6" Type="http://schemas.openxmlformats.org/officeDocument/2006/relationships/image" Target="../media/image44.wmf"/><Relationship Id="rId7" Type="http://schemas.openxmlformats.org/officeDocument/2006/relationships/image" Target="../media/image44.wmf"/><Relationship Id="rId8" Type="http://schemas.openxmlformats.org/officeDocument/2006/relationships/image" Target="../media/image44.wmf"/><Relationship Id="rId9" Type="http://schemas.openxmlformats.org/officeDocument/2006/relationships/image" Target="../media/image44.wmf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3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14.gif"/><Relationship Id="rId25" Type="http://schemas.openxmlformats.org/officeDocument/2006/relationships/image" Target="../media/image14.gif"/><Relationship Id="rId2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30.png"/><Relationship Id="rId3" Type="http://schemas.openxmlformats.org/officeDocument/2006/relationships/image" Target="../media/image79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27.png"/><Relationship Id="rId10" Type="http://schemas.openxmlformats.org/officeDocument/2006/relationships/image" Target="../media/image28.gif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2.gi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936080" y="4724280"/>
            <a:ext cx="50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Болобон Наталья Николаевн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МОУ Глинновская СОШ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952880" y="4073400"/>
            <a:ext cx="3886200" cy="2632320"/>
          </a:xfrm>
          <a:prstGeom prst="rect">
            <a:avLst/>
          </a:prstGeom>
          <a:ln w="0">
            <a:noFill/>
          </a:ln>
        </p:spPr>
      </p:pic>
      <p:sp>
        <p:nvSpPr>
          <p:cNvPr id="595" name="Прямоугольник 4"/>
          <p:cNvSpPr/>
          <p:nvPr/>
        </p:nvSpPr>
        <p:spPr>
          <a:xfrm>
            <a:off x="1371600" y="2057400"/>
            <a:ext cx="2286000" cy="785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6" name="Прямоугольник 5"/>
          <p:cNvSpPr/>
          <p:nvPr/>
        </p:nvSpPr>
        <p:spPr>
          <a:xfrm>
            <a:off x="5867280" y="2057400"/>
            <a:ext cx="2286000" cy="785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7" name="Стрелка вниз 6"/>
          <p:cNvSpPr/>
          <p:nvPr/>
        </p:nvSpPr>
        <p:spPr>
          <a:xfrm flipH="1">
            <a:off x="15994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8" name="Стрелка вниз 7"/>
          <p:cNvSpPr/>
          <p:nvPr/>
        </p:nvSpPr>
        <p:spPr>
          <a:xfrm flipH="1">
            <a:off x="31996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9" name="Прямоугольник 8"/>
          <p:cNvSpPr/>
          <p:nvPr/>
        </p:nvSpPr>
        <p:spPr>
          <a:xfrm>
            <a:off x="419040" y="3457440"/>
            <a:ext cx="171468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0" name="Прямоугольник 9"/>
          <p:cNvSpPr/>
          <p:nvPr/>
        </p:nvSpPr>
        <p:spPr>
          <a:xfrm>
            <a:off x="2971800" y="3429000"/>
            <a:ext cx="171468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1" name="Стрелка вниз 10"/>
          <p:cNvSpPr/>
          <p:nvPr/>
        </p:nvSpPr>
        <p:spPr>
          <a:xfrm flipH="1">
            <a:off x="61714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2" name="Стрелка вниз 11"/>
          <p:cNvSpPr/>
          <p:nvPr/>
        </p:nvSpPr>
        <p:spPr>
          <a:xfrm flipH="1">
            <a:off x="7938360" y="281952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3" name="Прямоугольник 12"/>
          <p:cNvSpPr/>
          <p:nvPr/>
        </p:nvSpPr>
        <p:spPr>
          <a:xfrm>
            <a:off x="5357880" y="3429000"/>
            <a:ext cx="150012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4" name="Прямоугольник 13"/>
          <p:cNvSpPr/>
          <p:nvPr/>
        </p:nvSpPr>
        <p:spPr>
          <a:xfrm>
            <a:off x="7415280" y="3429000"/>
            <a:ext cx="150012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605" name="Прямая со стрелкой 15"/>
          <p:cNvCxnSpPr/>
          <p:nvPr/>
        </p:nvCxnSpPr>
        <p:spPr>
          <a:xfrm>
            <a:off x="2132640" y="3848040"/>
            <a:ext cx="500760" cy="5724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06" name="Прямая со стрелкой 18"/>
          <p:cNvCxnSpPr/>
          <p:nvPr/>
        </p:nvCxnSpPr>
        <p:spPr>
          <a:xfrm flipH="1">
            <a:off x="1523520" y="3848040"/>
            <a:ext cx="572400" cy="5724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07" name="Прямоугольник 24"/>
          <p:cNvSpPr/>
          <p:nvPr/>
        </p:nvSpPr>
        <p:spPr>
          <a:xfrm>
            <a:off x="152280" y="4448160"/>
            <a:ext cx="164304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8" name="Прямоугольник 25"/>
          <p:cNvSpPr/>
          <p:nvPr/>
        </p:nvSpPr>
        <p:spPr>
          <a:xfrm>
            <a:off x="2286000" y="4448160"/>
            <a:ext cx="155736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404640"/>
            <a:ext cx="784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cc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96762" dir="17593595" blurRad="0" rotWithShape="0">
                    <a:srgbClr val="868686"/>
                  </a:outerShdw>
                </a:effectLst>
                <a:latin typeface="Birusa"/>
              </a:rPr>
              <a:t>Состав населения Аттики VII в. до н.э.</a:t>
            </a:r>
            <a:endParaRPr b="0" lang="en-US" sz="2400" spc="1" strike="noStrike">
              <a:ln w="9360">
                <a:solidFill>
                  <a:srgbClr val="cc00cc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96762" dir="17593595" blurRad="0" rotWithShape="0">
                  <a:srgbClr val="868686"/>
                </a:outerShdw>
              </a:effectLst>
              <a:latin typeface="Birusa"/>
              <a:ea typeface="Birusa"/>
            </a:endParaRPr>
          </a:p>
        </p:txBody>
      </p:sp>
      <p:sp>
        <p:nvSpPr>
          <p:cNvPr id="610" name=""/>
          <p:cNvSpPr/>
          <p:nvPr/>
        </p:nvSpPr>
        <p:spPr>
          <a:xfrm>
            <a:off x="147636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Свободны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2720" y="34416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Граждане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87640" y="3429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Переселенц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080" y="443700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ристократ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29080" y="4437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емос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40360" y="220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Рабы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олжники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0872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Чужеземц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9640" y="5877000"/>
            <a:ext cx="863640" cy="792000"/>
          </a:xfrm>
          <a:custGeom>
            <a:avLst/>
            <a:gdLst>
              <a:gd name="textAreaLeft" fmla="*/ 196920 w 863640"/>
              <a:gd name="textAreaRight" fmla="*/ 666720 w 86364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cc00"/>
            </a:solidFill>
            <a:miter/>
          </a:ln>
          <a:effectLst>
            <a:outerShdw dist="137587" dir="14178596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0486" dir="1110959" blurRad="0" rotWithShape="0">
              <a:srgbClr val="00005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br>
              <a:rPr sz="54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716000" y="2201760"/>
            <a:ext cx="4248360" cy="454032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Засухи и неплодо-родные почвы не позволяли выра-щивать злаки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сновной культурой в Афинах стали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оливки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-их ели, из них делали масло, маслом освещали дом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395280" y="2394000"/>
            <a:ext cx="4106880" cy="4464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622" name="Рисунок 10" descr="olivki1.jpg"/>
          <p:cNvPicPr/>
          <p:nvPr/>
        </p:nvPicPr>
        <p:blipFill>
          <a:blip r:embed="rId2"/>
          <a:stretch/>
        </p:blipFill>
        <p:spPr>
          <a:xfrm rot="3075600">
            <a:off x="3918240" y="4586760"/>
            <a:ext cx="11671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6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14336436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114800" cy="48006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торой по значимости культурой был </a:t>
            </a: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виноград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з него сушили изюм, давили сок, изготав-ливали вино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ино пили разбав-ленным.В некото-рых домах был проведен виновод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13400" y="5881680"/>
            <a:ext cx="3368880" cy="52056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иноградный прес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900000" y="2538360"/>
            <a:ext cx="3713400" cy="2835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5" dur="1" fill="hold"/>
                                  <p:tgtEl>
                                    <p:spTgt spid="6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36" dur="1" fill="hold"/>
                                  <p:tgtEl>
                                    <p:spTgt spid="6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37" dur="1" fill="hold"/>
                                  <p:tgtEl>
                                    <p:spTgt spid="6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703" dir="5060257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647960" y="2204640"/>
            <a:ext cx="3809880" cy="42512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Многие жители Афин были прекрасными ремесленникам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Афинские амфоры славились на всю Грецию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995400" y="2452680"/>
            <a:ext cx="3432240" cy="3713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0" dur="1" fill="hold"/>
                                  <p:tgtEl>
                                    <p:spTgt spid="6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51" dur="1" fill="hold"/>
                                  <p:tgtEl>
                                    <p:spTgt spid="6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539640" y="2205000"/>
          <a:ext cx="34149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05000"/>
                    <a:ext cx="3414960" cy="4114800"/>
                  </a:xfrm>
                  <a:prstGeom prst="rect">
                    <a:avLst/>
                  </a:prstGeom>
                  <a:ln w="7632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4190760" y="2209680"/>
            <a:ext cx="4647960" cy="10670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равители города и судь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91120" y="3575160"/>
            <a:ext cx="4647960" cy="5814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овет знат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76000" y="5489640"/>
            <a:ext cx="4685760" cy="10688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арод, в управлении не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участвовал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26760" y="4533840"/>
            <a:ext cx="4557600" cy="5814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бладала всей властью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370836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33920" y="474984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79132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33920" y="2666880"/>
            <a:ext cx="533160" cy="48600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2819520"/>
            <a:ext cx="533160" cy="3581280"/>
          </a:xfrm>
          <a:custGeom>
            <a:avLst/>
            <a:gdLst>
              <a:gd name="textAreaLeft" fmla="*/ 71280 w 533160"/>
              <a:gd name="textAreaRight" fmla="*/ 461880 w 533160"/>
              <a:gd name="textAreaTop" fmla="*/ 626760 h 3581280"/>
              <a:gd name="textAreaBottom" fmla="*/ 259668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f8f8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05120" y="4038480"/>
            <a:ext cx="304560" cy="685800"/>
          </a:xfrm>
          <a:prstGeom prst="upArrowCallout">
            <a:avLst>
              <a:gd name="adj1" fmla="val 25002"/>
              <a:gd name="adj2" fmla="val 25000"/>
              <a:gd name="adj3" fmla="val 37530"/>
              <a:gd name="adj4" fmla="val 66660"/>
            </a:avLst>
          </a:prstGeom>
          <a:solidFill>
            <a:srgbClr val="0000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2895480"/>
            <a:ext cx="304560" cy="685800"/>
          </a:xfrm>
          <a:prstGeom prst="upArrowCallout">
            <a:avLst>
              <a:gd name="adj1" fmla="val 25002"/>
              <a:gd name="adj2" fmla="val 25000"/>
              <a:gd name="adj3" fmla="val 37530"/>
              <a:gd name="adj4" fmla="val 66660"/>
            </a:avLst>
          </a:prstGeom>
          <a:solidFill>
            <a:srgbClr val="0000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8080" y="549360"/>
            <a:ext cx="8305920" cy="1556280"/>
          </a:xfrm>
          <a:prstGeom prst="rect">
            <a:avLst/>
          </a:prstGeom>
          <a:noFill/>
          <a:ln w="0">
            <a:noFill/>
          </a:ln>
          <a:effectLst>
            <a:outerShdw dist="102298" dir="49755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Организация власти в Афинах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89080" y="1413000"/>
            <a:ext cx="8675640" cy="51958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6645240" y="5934240"/>
            <a:ext cx="1317600" cy="5205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Египе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15320" y="4508640"/>
            <a:ext cx="1715400" cy="9471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еверна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Африк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65440" y="1600200"/>
            <a:ext cx="2759400" cy="9471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еверное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ричерноморь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507720" y="3809880"/>
            <a:ext cx="2148120" cy="5205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Малая Ази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3852000" y="3776760"/>
            <a:ext cx="2963520" cy="2320920"/>
            <a:chOff x="3852000" y="3776760"/>
            <a:chExt cx="2963520" cy="2320920"/>
          </a:xfrm>
        </p:grpSpPr>
        <p:sp>
          <p:nvSpPr>
            <p:cNvPr id="650" name=""/>
            <p:cNvSpPr/>
            <p:nvPr/>
          </p:nvSpPr>
          <p:spPr>
            <a:xfrm rot="3019200">
              <a:off x="4797000" y="4760280"/>
              <a:ext cx="2177640" cy="609480"/>
            </a:xfrm>
            <a:prstGeom prst="leftArrow">
              <a:avLst>
                <a:gd name="adj1" fmla="val 50000"/>
                <a:gd name="adj2" fmla="val 89324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72000">
              <a:off x="5485680" y="3886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52000" y="3886200"/>
              <a:ext cx="2513880" cy="82548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Льняные ткани ,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апирус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383720" y="2523960"/>
            <a:ext cx="1866240" cy="1812600"/>
            <a:chOff x="4383720" y="2523960"/>
            <a:chExt cx="1866240" cy="1812600"/>
          </a:xfrm>
        </p:grpSpPr>
        <p:sp>
          <p:nvSpPr>
            <p:cNvPr id="654" name=""/>
            <p:cNvSpPr/>
            <p:nvPr/>
          </p:nvSpPr>
          <p:spPr>
            <a:xfrm>
              <a:off x="4383720" y="3876840"/>
              <a:ext cx="176256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Зерно,рабы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8048600">
              <a:off x="4933800" y="3085560"/>
              <a:ext cx="1523880" cy="380880"/>
            </a:xfrm>
            <a:prstGeom prst="leftArrow">
              <a:avLst>
                <a:gd name="adj1" fmla="val 50000"/>
                <a:gd name="adj2" fmla="val 100024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478600" y="3789360"/>
            <a:ext cx="3344760" cy="1645920"/>
            <a:chOff x="2478600" y="3789360"/>
            <a:chExt cx="3344760" cy="1645920"/>
          </a:xfrm>
        </p:grpSpPr>
        <p:sp>
          <p:nvSpPr>
            <p:cNvPr id="657" name=""/>
            <p:cNvSpPr/>
            <p:nvPr/>
          </p:nvSpPr>
          <p:spPr>
            <a:xfrm>
              <a:off x="3440520" y="3789360"/>
              <a:ext cx="238284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лоновая к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9307200">
              <a:off x="2483640" y="4474440"/>
              <a:ext cx="2227320" cy="515880"/>
            </a:xfrm>
            <a:prstGeom prst="leftArrow">
              <a:avLst>
                <a:gd name="adj1" fmla="val 50000"/>
                <a:gd name="adj2" fmla="val 107938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78440" y="3886200"/>
            <a:ext cx="2384280" cy="485640"/>
            <a:chOff x="4078440" y="3886200"/>
            <a:chExt cx="2384280" cy="485640"/>
          </a:xfrm>
        </p:grpSpPr>
        <p:sp>
          <p:nvSpPr>
            <p:cNvPr id="660" name=""/>
            <p:cNvSpPr/>
            <p:nvPr/>
          </p:nvSpPr>
          <p:spPr>
            <a:xfrm>
              <a:off x="4078440" y="3886200"/>
              <a:ext cx="148536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таллы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86400" y="3886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aphicFrame>
        <p:nvGraphicFramePr>
          <p:cNvPr id="662" name=""/>
          <p:cNvGraphicFramePr/>
          <p:nvPr/>
        </p:nvGraphicFramePr>
        <p:xfrm>
          <a:off x="5334120" y="3962520"/>
          <a:ext cx="914400" cy="64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962520"/>
                    <a:ext cx="9144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498240" y="1523880"/>
            <a:ext cx="299556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Чужеземные купцы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за право торговать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в Афинах платили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пошлин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356000" y="2565360"/>
            <a:ext cx="1605240" cy="1589040"/>
            <a:chOff x="4356000" y="2565360"/>
            <a:chExt cx="1605240" cy="1589040"/>
          </a:xfrm>
        </p:grpSpPr>
        <p:pic>
          <p:nvPicPr>
            <p:cNvPr id="666" name="" descr=""/>
            <p:cNvPicPr/>
            <p:nvPr/>
          </p:nvPicPr>
          <p:blipFill>
            <a:blip r:embed="rId5"/>
            <a:stretch/>
          </p:blipFill>
          <p:spPr>
            <a:xfrm>
              <a:off x="4356000" y="256536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6"/>
            <a:stretch/>
          </p:blipFill>
          <p:spPr>
            <a:xfrm>
              <a:off x="4508640" y="2717640"/>
              <a:ext cx="84276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7"/>
            <a:stretch/>
          </p:blipFill>
          <p:spPr>
            <a:xfrm>
              <a:off x="4660920" y="287028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8"/>
            <a:stretch/>
          </p:blipFill>
          <p:spPr>
            <a:xfrm>
              <a:off x="4813200" y="302256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9"/>
            <a:stretch/>
          </p:blipFill>
          <p:spPr>
            <a:xfrm>
              <a:off x="4965840" y="3174840"/>
              <a:ext cx="84276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10"/>
            <a:stretch/>
          </p:blipFill>
          <p:spPr>
            <a:xfrm>
              <a:off x="5118120" y="3327480"/>
              <a:ext cx="843120" cy="8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"/>
          <p:cNvSpPr/>
          <p:nvPr/>
        </p:nvSpPr>
        <p:spPr>
          <a:xfrm>
            <a:off x="3666600" y="2349360"/>
            <a:ext cx="2680200" cy="8254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Оливковое масло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89720" y="4724280"/>
            <a:ext cx="145332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Амфоры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тату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91960" y="3716280"/>
            <a:ext cx="196380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Ювелирные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украшен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60960" y="3809880"/>
            <a:ext cx="88632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ин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76920" y="3429000"/>
            <a:ext cx="1214280" cy="12142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00ff"/>
          </a:solidFill>
          <a:ln w="7632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7880" y="1523880"/>
            <a:ext cx="171684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з Греции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ывозил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Рисунок 3" descr="180px-Solon.jpg"/>
          <p:cNvPicPr/>
          <p:nvPr/>
        </p:nvPicPr>
        <p:blipFill>
          <a:blip r:embed="rId1"/>
          <a:stretch/>
        </p:blipFill>
        <p:spPr>
          <a:xfrm>
            <a:off x="228600" y="914400"/>
            <a:ext cx="3429000" cy="5715000"/>
          </a:xfrm>
          <a:prstGeom prst="rect">
            <a:avLst/>
          </a:prstGeom>
          <a:ln w="0">
            <a:noFill/>
          </a:ln>
        </p:spPr>
      </p:pic>
      <p:pic>
        <p:nvPicPr>
          <p:cNvPr id="679" name="Прямоугольник 5" descr=""/>
          <p:cNvPicPr/>
          <p:nvPr/>
        </p:nvPicPr>
        <p:blipFill>
          <a:blip r:embed="rId2"/>
          <a:stretch/>
        </p:blipFill>
        <p:spPr>
          <a:xfrm>
            <a:off x="3429000" y="4840200"/>
            <a:ext cx="6102360" cy="12556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4500720" y="1916280"/>
            <a:ext cx="350496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01770" dir="15321023" blurRad="0" rotWithShape="0">
                    <a:srgbClr val="cc0000">
                      <a:alpha val="50000"/>
                    </a:srgbClr>
                  </a:outerShdw>
                </a:effectLst>
                <a:latin typeface="Impact"/>
              </a:rPr>
              <a:t>Солон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01770" dir="15321023" blurRad="0" rotWithShape="0">
                  <a:srgbClr val="cc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1" name="Рисунок 3" descr="180px-Solon.jpg"/>
          <p:cNvPicPr/>
          <p:nvPr/>
        </p:nvPicPr>
        <p:blipFill>
          <a:blip r:embed="rId5"/>
          <a:stretch/>
        </p:blipFill>
        <p:spPr>
          <a:xfrm>
            <a:off x="228600" y="914400"/>
            <a:ext cx="3429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ерикл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4495680" cy="5257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ерикл отдавал госу-дарственным делам всего себя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Его друзьями были-драматург Софокл,ис-торик Геродот, скуль-птор Фиди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Но Перикла окружали и враги пытавшиеся опорочить стратега и его друзе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755640" y="1096920"/>
            <a:ext cx="3201840" cy="4924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slow">
    <p:dissolv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85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85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2" dur="1" fill="hold"/>
                                  <p:tgtEl>
                                    <p:spTgt spid="6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3" dur="1" fill="hold"/>
                                  <p:tgtEl>
                                    <p:spTgt spid="6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4" dur="1" fill="hold"/>
                                  <p:tgtEl>
                                    <p:spTgt spid="6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4794120" y="1915920"/>
            <a:ext cx="3810240" cy="380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  <a:effectLst>
            <a:outerShdw dist="89808" dir="4916091" blurRad="0" rotWithShape="0">
              <a:srgbClr val="00005b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Похоронив отца, Александр решил осуществить его планы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57400" cy="4530600"/>
          </a:xfrm>
          <a:prstGeom prst="rect">
            <a:avLst/>
          </a:prstGeom>
          <a:ln w="76320">
            <a:solidFill>
              <a:srgbClr val="ffcc00"/>
            </a:solidFill>
            <a:miter/>
          </a:ln>
          <a:effectLst>
            <a:outerShdw dist="140247" dir="5090731" blurRad="0" rotWithShape="0">
              <a:srgbClr val="808080"/>
            </a:outerShdw>
          </a:effectLst>
        </p:spPr>
      </p:pic>
      <p:sp>
        <p:nvSpPr>
          <p:cNvPr id="687" name=""/>
          <p:cNvSpPr/>
          <p:nvPr/>
        </p:nvSpPr>
        <p:spPr>
          <a:xfrm>
            <a:off x="2665800" y="620640"/>
            <a:ext cx="4807440" cy="5814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  <a:effectLst>
            <a:outerShdw dist="140247" dir="16509269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Александр Македонский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1" dur="1" fill="hold"/>
                                  <p:tgtEl>
                                    <p:spTgt spid="6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4343400" y="1295280"/>
            <a:ext cx="4495680" cy="371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Благодаря Фемистоклу 30 эллинских государств  создали союз против персов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971640" y="1373040"/>
            <a:ext cx="3112920" cy="41436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690" name=""/>
          <p:cNvSpPr/>
          <p:nvPr/>
        </p:nvSpPr>
        <p:spPr>
          <a:xfrm>
            <a:off x="3059280" y="476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Фемистокл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5" dur="1" fill="hold"/>
                                  <p:tgtEl>
                                    <p:spTgt spid="6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9" descr=""/>
          <p:cNvPicPr/>
          <p:nvPr/>
        </p:nvPicPr>
        <p:blipFill>
          <a:blip r:embed="rId1"/>
          <a:stretch/>
        </p:blipFill>
        <p:spPr>
          <a:xfrm>
            <a:off x="8861400" y="6237360"/>
            <a:ext cx="282600" cy="144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"/>
          <p:cNvPicPr/>
          <p:nvPr/>
        </p:nvPicPr>
        <p:blipFill>
          <a:blip r:embed="rId2"/>
          <a:stretch/>
        </p:blipFill>
        <p:spPr>
          <a:xfrm>
            <a:off x="8820000" y="6453360"/>
            <a:ext cx="324000" cy="1825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57680" cy="1268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>
            <a:off x="1908000" y="3284640"/>
            <a:ext cx="6154920" cy="20890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1403280" y="2997360"/>
            <a:ext cx="3025800" cy="23256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4284720" y="2852640"/>
            <a:ext cx="4284720" cy="10810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8"/>
          <a:stretch/>
        </p:blipFill>
        <p:spPr>
          <a:xfrm>
            <a:off x="0" y="2852640"/>
            <a:ext cx="4284720" cy="10810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9"/>
          <a:stretch/>
        </p:blipFill>
        <p:spPr>
          <a:xfrm>
            <a:off x="7537320" y="2997360"/>
            <a:ext cx="1606680" cy="15127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0"/>
          <a:stretch/>
        </p:blipFill>
        <p:spPr>
          <a:xfrm>
            <a:off x="1116000" y="580536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1"/>
          <a:stretch/>
        </p:blipFill>
        <p:spPr>
          <a:xfrm rot="20698200">
            <a:off x="7020000" y="566100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2"/>
          <a:stretch/>
        </p:blipFill>
        <p:spPr>
          <a:xfrm>
            <a:off x="7236000" y="5661000"/>
            <a:ext cx="502920" cy="792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3"/>
          <a:stretch/>
        </p:blipFill>
        <p:spPr>
          <a:xfrm>
            <a:off x="4284720" y="56196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4"/>
          <a:stretch/>
        </p:blipFill>
        <p:spPr>
          <a:xfrm>
            <a:off x="8172360" y="5300640"/>
            <a:ext cx="582840" cy="8636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5"/>
          <a:stretch/>
        </p:blipFill>
        <p:spPr>
          <a:xfrm>
            <a:off x="8388360" y="5373720"/>
            <a:ext cx="582480" cy="8636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6"/>
          <a:stretch/>
        </p:blipFill>
        <p:spPr>
          <a:xfrm>
            <a:off x="900000" y="5084640"/>
            <a:ext cx="582840" cy="863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7"/>
          <a:stretch/>
        </p:blipFill>
        <p:spPr>
          <a:xfrm>
            <a:off x="611280" y="5013360"/>
            <a:ext cx="582480" cy="8636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8"/>
          <a:stretch/>
        </p:blipFill>
        <p:spPr>
          <a:xfrm>
            <a:off x="3059280" y="6165720"/>
            <a:ext cx="475920" cy="692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9"/>
          <a:stretch/>
        </p:blipFill>
        <p:spPr>
          <a:xfrm>
            <a:off x="8101080" y="4508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0"/>
          <a:stretch/>
        </p:blipFill>
        <p:spPr>
          <a:xfrm>
            <a:off x="5940360" y="537372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1"/>
          <a:stretch/>
        </p:blipFill>
        <p:spPr>
          <a:xfrm>
            <a:off x="3203640" y="5516640"/>
            <a:ext cx="1079280" cy="8445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2"/>
          <a:stretch/>
        </p:blipFill>
        <p:spPr>
          <a:xfrm rot="19273800">
            <a:off x="5292720" y="53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3"/>
          <a:stretch/>
        </p:blipFill>
        <p:spPr>
          <a:xfrm rot="19531800">
            <a:off x="323640" y="5660640"/>
            <a:ext cx="107928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4"/>
          <a:stretch/>
        </p:blipFill>
        <p:spPr>
          <a:xfrm>
            <a:off x="2340000" y="5300640"/>
            <a:ext cx="792000" cy="10191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5"/>
          <a:stretch/>
        </p:blipFill>
        <p:spPr>
          <a:xfrm>
            <a:off x="6084720" y="5838840"/>
            <a:ext cx="7923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57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25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6395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7772400" cy="28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187280" y="1557360"/>
            <a:ext cx="7129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lamingo"/>
              </a:rPr>
              <a:t>М и ф</a:t>
            </a:r>
            <a:endParaRPr b="0" lang="en-US" sz="2400" spc="1" strike="noStrike">
              <a:ln w="381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lamingo"/>
              <a:ea typeface="Flamin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2133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5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0000"/>
                </a:solidFill>
                <a:latin typeface="Comic Sans MS"/>
              </a:rPr>
              <a:t>БОГИ ГРЕЦИИ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371600" cy="41623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3657600" y="4191120"/>
            <a:ext cx="289548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962160" y="27432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Посейдон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бог моря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32000" cy="5181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5333760" y="190512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Зевс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неба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4219560" cy="4419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876560" y="1828440"/>
            <a:ext cx="394308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ид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в царстве мёртвых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961080" cy="47242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419360" y="762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Гера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верховнаябогиня, жена бога неба Зевса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2708280" cy="4419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114800" y="198072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ртемид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ей охоты, гор и лесов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2739960" cy="45720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3635280" y="1218960"/>
            <a:ext cx="550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Афин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иня мудрости и справедливой войны</a:t>
            </a: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2747880" cy="5029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286000" y="5540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343400" y="1752480"/>
            <a:ext cx="431784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фродит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я любви и красоты</a:t>
            </a:r>
            <a:r>
              <a:rPr b="0" lang="ru-RU" sz="60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2747880" cy="5029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114800" y="2057400"/>
            <a:ext cx="4648320" cy="25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Деметра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я земледелия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879640" cy="52578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Рисунок 3" descr="athena.jpg"/>
          <p:cNvPicPr/>
          <p:nvPr/>
        </p:nvPicPr>
        <p:blipFill>
          <a:blip r:embed="rId1"/>
          <a:stretch/>
        </p:blipFill>
        <p:spPr>
          <a:xfrm>
            <a:off x="3780000" y="692280"/>
            <a:ext cx="1960560" cy="27352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826920" y="2205000"/>
            <a:ext cx="7560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4000">
                  <a:solidFill>
                    <a:srgbClr val="8000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latin typeface="Arlekino"/>
              </a:rPr>
              <a:t>Древняя Греция</a:t>
            </a:r>
            <a:endParaRPr b="1" lang="en-US" sz="2400" spc="1" strike="noStrike">
              <a:ln w="54000">
                <a:solidFill>
                  <a:srgbClr val="8000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atin typeface="Arlekino"/>
              <a:ea typeface="Arlekino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684360" y="6400800"/>
            <a:ext cx="7716600" cy="4572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564000" y="4292640"/>
            <a:ext cx="216036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505320" y="533520"/>
            <a:ext cx="541008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Дионис –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бог плодоносящих сил земли, растительности, виноградарства, виноделия</a:t>
            </a: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2919240" cy="51055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4190760" y="1383840"/>
            <a:ext cx="432108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Гефест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огня и кузнечного дела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743200" cy="48006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5257800" y="1752120"/>
            <a:ext cx="3200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Гермес</a:t>
            </a:r>
            <a:r>
              <a:rPr b="0" lang="en-US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вестник</a:t>
            </a:r>
            <a:r>
              <a:rPr b="0" lang="en-US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ов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2974680" cy="51055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4267080" y="22860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Арес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 войны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2755800" cy="51818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>
            <a:off x="0" y="6262560"/>
            <a:ext cx="341964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1. «Песнь козлов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184320" y="6361200"/>
            <a:ext cx="27424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2.Предмет для письма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0" y="6324480"/>
            <a:ext cx="513720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3.Участник Олимпийских игр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0" y="6324480"/>
            <a:ext cx="41911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4. «Место для зрелищ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0" y="6248520"/>
            <a:ext cx="72388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5.Центральная площадь Афин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"/>
          <p:cNvSpPr/>
          <p:nvPr/>
        </p:nvSpPr>
        <p:spPr>
          <a:xfrm>
            <a:off x="0" y="6248520"/>
            <a:ext cx="662940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6.Место выступления актеров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16000" y="1041840"/>
            <a:ext cx="6432480" cy="50317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1.Страна Греция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2.Историческая личность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3.Боги и мифы Древней Греции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4.Тесты по Древней Греции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5.Разгадай кроссворд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6.Хронологический конкурс</a:t>
            </a:r>
            <a:r>
              <a:rPr b="1" lang="en-US" sz="3200" spc="-1" strike="noStrike">
                <a:solidFill>
                  <a:srgbClr val="f8f8f8"/>
                </a:solidFill>
                <a:latin typeface="Rubius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0" y="638496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b"/>
                </a:solidFill>
                <a:latin typeface="Times New Roman Cyr"/>
              </a:rPr>
              <a:t>7.Трагедия Софокла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0" y="624852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8.Место декораций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>
            <a:off x="0" y="624852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9. «Веселое шествие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0" y="6248520"/>
            <a:ext cx="42670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10.Место соревнований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611280" y="3429000"/>
            <a:ext cx="439236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Первые Олимпийские игры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11280" y="4508640"/>
            <a:ext cx="453528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Избрание Перикла стратего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1280" y="573408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Поход Ал.Македонского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На Восток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9640" y="227664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Избрание Солона архонтом</a:t>
            </a:r>
            <a:r>
              <a:rPr b="1" lang="en-US" sz="3200" spc="-1" strike="noStrike">
                <a:solidFill>
                  <a:srgbClr val="ff0000"/>
                </a:solidFill>
                <a:latin typeface="Times New Roman Cyr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8360" y="119700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82013" dir="14712542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Троянская войн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32360" y="1197000"/>
            <a:ext cx="2808360" cy="863640"/>
          </a:xfrm>
          <a:prstGeom prst="leftArrowCallout">
            <a:avLst>
              <a:gd name="adj1" fmla="val 25002"/>
              <a:gd name="adj2" fmla="val 25000"/>
              <a:gd name="adj3" fmla="val 54196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03640" y="2276640"/>
            <a:ext cx="2737080" cy="863280"/>
          </a:xfrm>
          <a:prstGeom prst="leftArrowCallout">
            <a:avLst>
              <a:gd name="adj1" fmla="val 25002"/>
              <a:gd name="adj2" fmla="val 25000"/>
              <a:gd name="adj3" fmla="val 52843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76720" y="3429000"/>
            <a:ext cx="2664000" cy="863640"/>
          </a:xfrm>
          <a:prstGeom prst="leftArrowCallout">
            <a:avLst>
              <a:gd name="adj1" fmla="val 25002"/>
              <a:gd name="adj2" fmla="val 25000"/>
              <a:gd name="adj3" fmla="val 51410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48360" y="4581360"/>
            <a:ext cx="2592360" cy="863640"/>
          </a:xfrm>
          <a:prstGeom prst="leftArrowCallout">
            <a:avLst>
              <a:gd name="adj1" fmla="val 25002"/>
              <a:gd name="adj2" fmla="val 25000"/>
              <a:gd name="adj3" fmla="val 50028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76720" y="5734080"/>
            <a:ext cx="2664000" cy="863640"/>
          </a:xfrm>
          <a:prstGeom prst="leftArrowCallout">
            <a:avLst>
              <a:gd name="adj1" fmla="val 25002"/>
              <a:gd name="adj2" fmla="val 25000"/>
              <a:gd name="adj3" fmla="val 51410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16720" y="1197000"/>
            <a:ext cx="865080" cy="93672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120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8000" y="227664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59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16720" y="335772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77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16720" y="450864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44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516720" y="573408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33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39640" y="189000"/>
            <a:ext cx="439272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82013" dir="14712542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Битва при Хероне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932360" y="189000"/>
            <a:ext cx="2881440" cy="863640"/>
          </a:xfrm>
          <a:prstGeom prst="leftArrowCallout">
            <a:avLst>
              <a:gd name="adj1" fmla="val 25002"/>
              <a:gd name="adj2" fmla="val 25000"/>
              <a:gd name="adj3" fmla="val 55607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16720" y="189000"/>
            <a:ext cx="865080" cy="93636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338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395280" y="544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 txBox="1"/>
          <p:nvPr/>
        </p:nvSpPr>
        <p:spPr>
          <a:xfrm>
            <a:off x="2340000" y="5877000"/>
            <a:ext cx="4537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сиртаки</a:t>
            </a:r>
            <a:endParaRPr b="0" lang="en-US" sz="2400" spc="1" strike="noStrike">
              <a:ln w="2844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5.0)">
                                      <p:cBhvr>
                                        <p:cTn id="894" dur="188475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3780000" y="358128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5219640" y="4869000"/>
            <a:ext cx="432000" cy="3380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4932360" y="5732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5148360" y="4559400"/>
            <a:ext cx="431640" cy="4093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971640" y="213372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58920" y="270828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19280" y="328464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6"/>
          <a:stretch/>
        </p:blipFill>
        <p:spPr>
          <a:xfrm flipH="1" rot="10800000">
            <a:off x="1547640" y="220500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7"/>
          <a:stretch/>
        </p:blipFill>
        <p:spPr>
          <a:xfrm>
            <a:off x="1835280" y="2492280"/>
            <a:ext cx="1008000" cy="6955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8"/>
          <a:stretch/>
        </p:blipFill>
        <p:spPr>
          <a:xfrm>
            <a:off x="2124000" y="3716280"/>
            <a:ext cx="935280" cy="6303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9"/>
          <a:stretch/>
        </p:blipFill>
        <p:spPr>
          <a:xfrm flipH="1" rot="4988400">
            <a:off x="2918160" y="176868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0"/>
          <a:stretch/>
        </p:blipFill>
        <p:spPr>
          <a:xfrm>
            <a:off x="5940360" y="191628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1"/>
          <a:stretch/>
        </p:blipFill>
        <p:spPr>
          <a:xfrm flipH="1" rot="4384800">
            <a:off x="3135600" y="227412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2"/>
          <a:stretch/>
        </p:blipFill>
        <p:spPr>
          <a:xfrm flipH="1" rot="4386600">
            <a:off x="3494520" y="2776320"/>
            <a:ext cx="626760" cy="3466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13"/>
          <a:stretch/>
        </p:blipFill>
        <p:spPr>
          <a:xfrm flipH="1" rot="3121200">
            <a:off x="4070880" y="32090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4"/>
          <a:stretch/>
        </p:blipFill>
        <p:spPr>
          <a:xfrm flipH="1" rot="8646600">
            <a:off x="4066920" y="386064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15"/>
          <a:stretch/>
        </p:blipFill>
        <p:spPr>
          <a:xfrm flipH="1" rot="8894400">
            <a:off x="3708000" y="414936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16"/>
          <a:stretch/>
        </p:blipFill>
        <p:spPr>
          <a:xfrm flipH="1" rot="8894400">
            <a:off x="3276000" y="458100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17"/>
          <a:stretch/>
        </p:blipFill>
        <p:spPr>
          <a:xfrm flipH="1" rot="9466800">
            <a:off x="2842560" y="50846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8"/>
          <a:stretch/>
        </p:blipFill>
        <p:spPr>
          <a:xfrm flipH="1" rot="12831000">
            <a:off x="2194920" y="4941720"/>
            <a:ext cx="626760" cy="3463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9"/>
          <a:stretch/>
        </p:blipFill>
        <p:spPr>
          <a:xfrm flipH="1" rot="13297800">
            <a:off x="1547640" y="450792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0"/>
          <a:stretch/>
        </p:blipFill>
        <p:spPr>
          <a:xfrm flipH="1" rot="15796200">
            <a:off x="1116000" y="400392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1"/>
          <a:stretch/>
        </p:blipFill>
        <p:spPr>
          <a:xfrm flipH="1" rot="15796200">
            <a:off x="830160" y="33530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2"/>
          <a:stretch/>
        </p:blipFill>
        <p:spPr>
          <a:xfrm flipH="1" rot="15796200">
            <a:off x="399240" y="2705400"/>
            <a:ext cx="627120" cy="3466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3"/>
          <a:stretch/>
        </p:blipFill>
        <p:spPr>
          <a:xfrm flipH="1" rot="16270800">
            <a:off x="109440" y="2056680"/>
            <a:ext cx="626760" cy="3459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4"/>
          <a:stretch/>
        </p:blipFill>
        <p:spPr>
          <a:xfrm>
            <a:off x="2916360" y="422100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"/>
                            </p:stCondLst>
                            <p:childTnLst>
                              <p:par>
                                <p:cTn id="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"/>
                            </p:stCondLst>
                            <p:childTnLst>
                              <p:par>
                                <p:cTn id="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00"/>
                            </p:stCondLst>
                            <p:childTnLst>
                              <p:par>
                                <p:cTn id="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"/>
                            </p:stCondLst>
                            <p:childTnLst>
                              <p:par>
                                <p:cTn id="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4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00"/>
                            </p:stCondLst>
                            <p:childTnLst>
                              <p:par>
                                <p:cTn id="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6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700"/>
                            </p:stCondLst>
                            <p:childTnLst>
                              <p:par>
                                <p:cTn id="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2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300"/>
                            </p:stCondLst>
                            <p:childTnLst>
                              <p:par>
                                <p:cTn id="1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8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900"/>
                            </p:stCondLst>
                            <p:childTnLst>
                              <p:par>
                                <p:cTn id="11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4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6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700"/>
                            </p:stCondLst>
                            <p:childTnLst>
                              <p:par>
                                <p:cTn id="1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2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300"/>
                            </p:stCondLst>
                            <p:childTnLst>
                              <p:par>
                                <p:cTn id="1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8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900"/>
                            </p:stCondLst>
                            <p:childTnLst>
                              <p:par>
                                <p:cTn id="1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"/>
                            </p:stCondLst>
                            <p:childTnLst>
                              <p:par>
                                <p:cTn id="17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551640" cy="5040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.0)">
                                      <p:cBhvr>
                                        <p:cTn id="239" dur="1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140360" y="2708280"/>
            <a:ext cx="4356000" cy="414972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4" descr="afinu_2.jpg"/>
          <p:cNvPicPr/>
          <p:nvPr/>
        </p:nvPicPr>
        <p:blipFill>
          <a:blip r:embed="rId2"/>
          <a:stretch/>
        </p:blipFill>
        <p:spPr>
          <a:xfrm>
            <a:off x="755640" y="1341360"/>
            <a:ext cx="360036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87" name="Рисунок 9" descr="olivetree.jpg"/>
          <p:cNvPicPr/>
          <p:nvPr/>
        </p:nvPicPr>
        <p:blipFill>
          <a:blip r:embed="rId1"/>
          <a:stretch/>
        </p:blipFill>
        <p:spPr>
          <a:xfrm>
            <a:off x="1258920" y="1052640"/>
            <a:ext cx="5441760" cy="560052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10" descr="olivki1.jpg"/>
          <p:cNvPicPr/>
          <p:nvPr/>
        </p:nvPicPr>
        <p:blipFill>
          <a:blip r:embed="rId2"/>
          <a:stretch/>
        </p:blipFill>
        <p:spPr>
          <a:xfrm rot="3075600">
            <a:off x="6001200" y="1063080"/>
            <a:ext cx="216216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076720" y="2637000"/>
            <a:ext cx="3665520" cy="39607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3886200" cy="3743640"/>
          </a:xfrm>
          <a:prstGeom prst="rect">
            <a:avLst/>
          </a:prstGeom>
          <a:ln w="0">
            <a:noFill/>
          </a:ln>
        </p:spPr>
      </p:pic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826920" y="5734080"/>
            <a:ext cx="505080" cy="60948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6062">
                <a:moveTo>
                  <a:pt x="0" y="0"/>
                </a:moveTo>
                <a:lnTo>
                  <a:pt x="21600" y="0"/>
                </a:lnTo>
                <a:lnTo>
                  <a:pt x="21600" y="26062"/>
                </a:lnTo>
                <a:lnTo>
                  <a:pt x="0" y="26062"/>
                </a:lnTo>
                <a:close/>
              </a:path>
              <a:path fill="lightenLess" w="21600" h="260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2">
                <a:moveTo>
                  <a:pt x="21600" y="0"/>
                </a:moveTo>
                <a:lnTo>
                  <a:pt x="21600" y="26062"/>
                </a:lnTo>
                <a:lnTo>
                  <a:pt x="20200" y="24662"/>
                </a:lnTo>
                <a:lnTo>
                  <a:pt x="20200" y="1400"/>
                </a:lnTo>
                <a:close/>
              </a:path>
              <a:path fill="darkenLess" w="21600" h="26062">
                <a:moveTo>
                  <a:pt x="21600" y="26062"/>
                </a:moveTo>
                <a:lnTo>
                  <a:pt x="0" y="26062"/>
                </a:lnTo>
                <a:lnTo>
                  <a:pt x="1400" y="24662"/>
                </a:lnTo>
                <a:lnTo>
                  <a:pt x="20200" y="24662"/>
                </a:lnTo>
                <a:close/>
              </a:path>
              <a:path fill="lighten" w="21600" h="26062">
                <a:moveTo>
                  <a:pt x="0" y="260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2"/>
                </a:lnTo>
                <a:close/>
              </a:path>
              <a:path fill="darken" w="21600" h="26062">
                <a:moveTo>
                  <a:pt x="3794" y="6024"/>
                </a:moveTo>
                <a:lnTo>
                  <a:pt x="17806" y="13031"/>
                </a:lnTo>
                <a:lnTo>
                  <a:pt x="3794" y="20037"/>
                </a:ln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8T09:16:36Z</dcterms:created>
  <dc:creator>ЧЕРНОВ АЛЕКСЕЙ</dc:creator>
  <dc:description/>
  <dc:language>en-US</dc:language>
  <cp:lastModifiedBy>Admin</cp:lastModifiedBy>
  <dcterms:modified xsi:type="dcterms:W3CDTF">2009-12-28T20:48:44Z</dcterms:modified>
  <cp:revision>59</cp:revision>
  <dc:subject/>
  <dc:title>Заголовок слайда отсутствует</dc:title>
</cp:coreProperties>
</file>