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56.png" ContentType="image/png"/>
  <Override PartName="/ppt/media/image53.gif" ContentType="image/gif"/>
  <Override PartName="/ppt/media/image51.jpeg" ContentType="image/jpeg"/>
  <Override PartName="/ppt/media/image50.png" ContentType="image/png"/>
  <Override PartName="/ppt/media/image46.png" ContentType="image/png"/>
  <Override PartName="/ppt/media/image55.png" ContentType="image/png"/>
  <Override PartName="/ppt/media/image45.jpeg" ContentType="image/jpeg"/>
  <Override PartName="/ppt/media/image70.wmf" ContentType="image/x-wmf"/>
  <Override PartName="/ppt/media/image43.jpeg" ContentType="image/jpeg"/>
  <Override PartName="/ppt/media/image25.gif" ContentType="image/gif"/>
  <Override PartName="/ppt/media/image42.png" ContentType="image/png"/>
  <Override PartName="/ppt/media/image41.jpeg" ContentType="image/jpeg"/>
  <Override PartName="/ppt/media/image66.png" ContentType="image/png"/>
  <Override PartName="/ppt/media/image39.png" ContentType="image/png"/>
  <Override PartName="/ppt/media/image38.png" ContentType="image/png"/>
  <Override PartName="/ppt/media/image36.png" ContentType="image/png"/>
  <Override PartName="/ppt/media/image54.gif" ContentType="image/gif"/>
  <Override PartName="/ppt/media/image57.png" ContentType="image/png"/>
  <Override PartName="/ppt/media/image64.png" ContentType="image/png"/>
  <Override PartName="/ppt/media/image15.jpeg" ContentType="image/jpeg"/>
  <Override PartName="/ppt/media/image67.wmf" ContentType="image/x-wmf"/>
  <Override PartName="/ppt/media/image33.jpeg" ContentType="image/jpeg"/>
  <Override PartName="/ppt/media/image4.gif" ContentType="image/gif"/>
  <Override PartName="/ppt/media/image19.jpeg" ContentType="image/jpeg"/>
  <Override PartName="/ppt/media/image32.jpeg" ContentType="image/jpeg"/>
  <Override PartName="/ppt/media/image27.png" ContentType="image/png"/>
  <Override PartName="/ppt/media/image24.gif" ContentType="image/gif"/>
  <Override PartName="/ppt/media/image20.gif" ContentType="image/gif"/>
  <Override PartName="/ppt/media/image60.png" ContentType="image/png"/>
  <Override PartName="/ppt/media/image79.png" ContentType="image/png"/>
  <Override PartName="/ppt/media/image76.wmf" ContentType="image/x-wmf"/>
  <Override PartName="/ppt/media/image29.jpeg" ContentType="image/jpeg"/>
  <Override PartName="/ppt/media/image65.png" ContentType="image/png"/>
  <Override PartName="/ppt/media/image75.wmf" ContentType="image/x-wmf"/>
  <Override PartName="/ppt/media/image17.png" ContentType="image/png"/>
  <Override PartName="/ppt/media/image14.gif" ContentType="image/gif"/>
  <Override PartName="/ppt/media/image31.jpeg" ContentType="image/jpeg"/>
  <Override PartName="/ppt/media/image74.wmf" ContentType="image/x-wmf"/>
  <Override PartName="/ppt/media/image23.gif" ContentType="image/gif"/>
  <Override PartName="/ppt/media/image63.png" ContentType="image/png"/>
  <Override PartName="/ppt/media/image28.gif" ContentType="image/gif"/>
  <Override PartName="/ppt/media/image73.wmf" ContentType="image/x-wmf"/>
  <Override PartName="/ppt/media/image22.gif" ContentType="image/gif"/>
  <Override PartName="/ppt/media/image62.png" ContentType="image/png"/>
  <Override PartName="/ppt/media/image72.wmf" ContentType="image/x-wmf"/>
  <Override PartName="/ppt/media/image61.png" ContentType="image/png"/>
  <Override PartName="/ppt/media/image26.gif" ContentType="image/gif"/>
  <Override PartName="/ppt/media/image71.wmf" ContentType="image/x-wmf"/>
  <Override PartName="/ppt/media/image69.wmf" ContentType="image/x-wmf"/>
  <Override PartName="/ppt/media/image21.gif" ContentType="image/gif"/>
  <Override PartName="/ppt/media/image2.jpeg" ContentType="image/jpeg"/>
  <Override PartName="/ppt/media/image5.gif" ContentType="image/gif"/>
  <Override PartName="/ppt/media/image52.jpeg" ContentType="image/jpeg"/>
  <Override PartName="/ppt/media/image1.png" ContentType="image/png"/>
  <Override PartName="/ppt/media/image10.gif" ContentType="image/gif"/>
  <Override PartName="/ppt/media/image6.gif" ContentType="image/gif"/>
  <Override PartName="/ppt/media/image18.gif" ContentType="image/gif"/>
  <Override PartName="/ppt/media/image11.gif" ContentType="image/gif"/>
  <Override PartName="/ppt/media/image7.gif" ContentType="image/gif"/>
  <Override PartName="/ppt/media/image44.wmf" ContentType="image/x-wmf"/>
  <Override PartName="/ppt/media/image12.gif" ContentType="image/gif"/>
  <Override PartName="/ppt/media/image49.jpeg" ContentType="image/jpeg"/>
  <Override PartName="/ppt/media/image8.gif" ContentType="image/gif"/>
  <Override PartName="/ppt/media/image34.jpeg" ContentType="image/jpeg"/>
  <Override PartName="/ppt/media/image37.png" ContentType="image/png"/>
  <Override PartName="/ppt/media/image77.wmf" ContentType="image/x-wmf"/>
  <Override PartName="/ppt/media/image16.jpeg" ContentType="image/jpeg"/>
  <Override PartName="/ppt/media/image9.gif" ContentType="image/gif"/>
  <Override PartName="/ppt/media/image13.gif" ContentType="image/gif"/>
  <Override PartName="/ppt/media/image48.jpeg" ContentType="image/jpeg"/>
  <Override PartName="/ppt/media/image78.png" ContentType="image/png"/>
  <Override PartName="/ppt/media/image30.png" ContentType="image/png"/>
  <Override PartName="/ppt/media/image40.wmf" ContentType="image/x-wmf"/>
  <Override PartName="/ppt/media/image3.gif" ContentType="image/gif"/>
  <Override PartName="/ppt/media/image68.wmf" ContentType="image/x-wmf"/>
  <Override PartName="/ppt/media/image35.jpeg" ContentType="image/jpeg"/>
  <Override PartName="/ppt/media/image47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7296-D05D-442E-9482-3F530766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49AA-23EC-4E1D-B99A-C01E38B8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F2C6-AB21-49B8-9B62-9ABFB948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C47B-5187-408A-BC03-2D07E23E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217C-ECC0-47CF-B6E9-C57C64F2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98F9-AA93-47DD-AACD-5972B945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B6FE-E046-473F-902B-73F6A505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044E-8779-46E8-A1CF-F25DC73D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B884-CE0D-4937-BB58-1EB58BCD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A19B-E7A8-4851-B31F-E80FD130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24FD-5A15-4527-A421-284247EF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4B6D-2811-4218-BF0E-23FFCEA5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EB98-EE4B-4397-A871-AD242066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E3E1-EEBF-49F8-811E-800F9C80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85AD-069B-4AF9-BE59-6C22F304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31C2-5F92-4581-BE6A-CFA25EF8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8860-A712-4420-AA28-09FDD143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96935-0DD7-42A3-BCFA-CC84F75A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C3224-44C5-4648-A6B1-C45FB6C8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14DEE-F85E-4914-AEFF-C9A92681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F46ED-E393-45AA-B5C9-C386EDA8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4F477-CF33-48ED-B82C-4D2D4D82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1938-0175-4BDA-8602-3F320131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36FE7-07D8-44AF-9996-B5CFD588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5A38B-C306-4FAF-8514-38265CF8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A539C-95C6-45F9-AA3C-F29C5478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76A5E-C421-41AB-B5AD-A6B8638D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29160-2E65-433F-B19F-338B29DD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67E8D-C410-49E6-BE12-0AC2442C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0820F-4AA2-4ECD-BF69-D7C994B8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4C151-D3FE-46B3-A13D-7A771F00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33622-D5F8-48FD-B603-D118669C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53246-B4F1-44CB-BA10-2F85781A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D979-8CF6-4A08-BEBD-DA25535C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187DC-3344-4080-8B62-9BC9D6DE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8E8D8-7C14-4132-97C5-4AFF3AB4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DB29F-D0EA-4C77-A8AE-EEEAF783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42D97-3E14-41C7-8644-AD3C4E9F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4D955-D14C-494A-A085-5D401A60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A49DD-C800-4012-AEB8-30CD7F26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90BCD-F986-4596-9AAE-7A393554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CF00C-324C-460C-AA28-CC9D865D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0145A-1427-4AAB-8595-6FF413AA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C77743-C375-42B8-B12B-B3080902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819D-378E-42E6-9046-7903697A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13E962-1363-473D-8C68-98A36190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B02686-94A0-4E09-AF61-D9E45397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B9EF7F-127D-4F79-B1ED-F0CE7ACC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02DCDD-F346-44BF-8C65-CDF4B82E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84DD2D-90A6-48F2-A4F4-76717357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2C36B7-AADC-441A-983E-429CB411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F63919-B969-4A3F-821B-D325AB84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7F8C50-E9F5-4476-854C-712C67E1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D01815-80CC-4C70-84C1-31B3C86B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7A3B4D-34B6-4700-BB72-597B0F07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403F-4A72-4B4E-A2BE-4DBA44CA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787990-7EC8-45FC-B314-D9B814EE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0D69E-E487-48F9-94E0-F54B8B17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B3607-C57C-4C11-A83F-9A2FC495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7B2BF-A018-45B6-A577-C4D9CFD8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7BE79-F1B8-4D81-B621-3BED3974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29373-CCA0-46AF-AD8F-DA0D9FBB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C967F-7442-4F21-8246-7AD6F7EC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F270E-8769-4551-AB5D-7F6F7B4A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952F0-116E-4A62-9B3D-B2380DF9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37B4B-F598-4E0C-9147-BAE81B16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D403-2F36-4A5B-992E-F478FDD4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AC7E9-7CC3-4526-9B96-AE3F1C10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DD9D7-8892-4360-822B-C4939249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701A3-B5FD-42B5-8026-65450F629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58D3D-A380-4116-8EF8-6445CCC0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48F2B-CFB6-49E2-8811-9E4A2175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59B67-CFFA-4DF8-93C1-26852635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53825-5A4F-4CA0-859B-7E99A7F8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4B384-C669-4D34-8DDF-95CE54B3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80AC3-C039-4DEB-BAD4-A58BC60B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41812-D203-411E-AE5D-9182567B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A2AD-808E-40B7-9195-51E501C5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1D014-E7D4-4EE1-87A5-3CA9596B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BE696-4FF2-4DC9-A639-44827F3B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CE8B9-EF3B-42FF-9055-F64FA499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BB8A2-163E-46E9-8A5D-81CA9CB5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6BF5A-1082-42FB-9AD9-09718327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11041-8A41-4EC0-92A9-749E0C4C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81088-3697-499B-B270-683B6EC0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83378-482A-4A0E-B334-933D3719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6E0EC-1E1D-432A-A019-97620068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1EF3E-B845-4E56-B215-161D11DE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B728-5908-48BC-9335-CEBE6630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9811F-D205-47D5-94BF-7D5318B6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B1BCE-E86E-4815-A597-EB0A9903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957EB-7424-4397-B0A2-BD559235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58CAF-5DB3-4E19-A577-AD2118A9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7DBC9-D768-4401-A41D-C0B0C541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52D79-9756-43A5-8F27-39CA88AA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EF2E2-DB27-41F5-9212-9EB099FE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FD90-1CBB-4984-899F-A595883ED7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E72B-639F-49BE-9088-D9C6A0A003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7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9D8B-264F-4AF2-9935-8456727B7D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2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7AA3-7FF1-49E9-9BA7-225478BA41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7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4893-3B7A-4A49-86F5-F9D2D1FACF5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3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5266-FE56-4AC5-9877-FE6EC98B82C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FE57-AB4A-4650-BE45-9FCD567DA32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5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AD12-8860-4860-8195-B8764B93159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image" Target="../media/image44.wmf"/><Relationship Id="rId6" Type="http://schemas.openxmlformats.org/officeDocument/2006/relationships/image" Target="../media/image44.wmf"/><Relationship Id="rId7" Type="http://schemas.openxmlformats.org/officeDocument/2006/relationships/image" Target="../media/image44.wmf"/><Relationship Id="rId8" Type="http://schemas.openxmlformats.org/officeDocument/2006/relationships/image" Target="../media/image44.wmf"/><Relationship Id="rId9" Type="http://schemas.openxmlformats.org/officeDocument/2006/relationships/image" Target="../media/image44.wmf"/><Relationship Id="rId10" Type="http://schemas.openxmlformats.org/officeDocument/2006/relationships/image" Target="../media/image44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7.gif"/><Relationship Id="rId10" Type="http://schemas.openxmlformats.org/officeDocument/2006/relationships/image" Target="../media/image8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10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2.gif"/><Relationship Id="rId19" Type="http://schemas.openxmlformats.org/officeDocument/2006/relationships/image" Target="../media/image13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image" Target="../media/image8.gif"/><Relationship Id="rId23" Type="http://schemas.openxmlformats.org/officeDocument/2006/relationships/image" Target="../media/image8.gif"/><Relationship Id="rId24" Type="http://schemas.openxmlformats.org/officeDocument/2006/relationships/image" Target="../media/image14.gif"/><Relationship Id="rId25" Type="http://schemas.openxmlformats.org/officeDocument/2006/relationships/image" Target="../media/image14.gif"/><Relationship Id="rId2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54.gif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6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30.png"/><Relationship Id="rId3" Type="http://schemas.openxmlformats.org/officeDocument/2006/relationships/image" Target="../media/image79.png"/><Relationship Id="rId4" Type="http://schemas.openxmlformats.org/officeDocument/2006/relationships/image" Target="../media/image79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image" Target="../media/image26.gif"/><Relationship Id="rId9" Type="http://schemas.openxmlformats.org/officeDocument/2006/relationships/image" Target="../media/image27.png"/><Relationship Id="rId10" Type="http://schemas.openxmlformats.org/officeDocument/2006/relationships/image" Target="../media/image28.gif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27.png"/><Relationship Id="rId16" Type="http://schemas.openxmlformats.org/officeDocument/2006/relationships/image" Target="../media/image27.png"/><Relationship Id="rId17" Type="http://schemas.openxmlformats.org/officeDocument/2006/relationships/image" Target="../media/image27.png"/><Relationship Id="rId18" Type="http://schemas.openxmlformats.org/officeDocument/2006/relationships/image" Target="../media/image27.png"/><Relationship Id="rId19" Type="http://schemas.openxmlformats.org/officeDocument/2006/relationships/image" Target="../media/image27.png"/><Relationship Id="rId20" Type="http://schemas.openxmlformats.org/officeDocument/2006/relationships/image" Target="../media/image27.png"/><Relationship Id="rId21" Type="http://schemas.openxmlformats.org/officeDocument/2006/relationships/image" Target="../media/image27.png"/><Relationship Id="rId22" Type="http://schemas.openxmlformats.org/officeDocument/2006/relationships/image" Target="../media/image27.png"/><Relationship Id="rId23" Type="http://schemas.openxmlformats.org/officeDocument/2006/relationships/image" Target="../media/image27.png"/><Relationship Id="rId24" Type="http://schemas.openxmlformats.org/officeDocument/2006/relationships/image" Target="../media/image22.gif"/><Relationship Id="rId2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1936080" y="4724280"/>
            <a:ext cx="506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 Cyr"/>
              </a:rPr>
              <a:t>Болобон Наталья Николаевн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 Cyr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Times New Roman Cyr"/>
              </a:rPr>
              <a:t>МОУ Глинновская СОШ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4952880" y="4073400"/>
            <a:ext cx="3886200" cy="2632320"/>
          </a:xfrm>
          <a:prstGeom prst="rect">
            <a:avLst/>
          </a:prstGeom>
          <a:ln w="0">
            <a:noFill/>
          </a:ln>
        </p:spPr>
      </p:pic>
      <p:sp>
        <p:nvSpPr>
          <p:cNvPr id="595" name="Прямоугольник 4"/>
          <p:cNvSpPr/>
          <p:nvPr/>
        </p:nvSpPr>
        <p:spPr>
          <a:xfrm>
            <a:off x="1371600" y="2057400"/>
            <a:ext cx="2286000" cy="78588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6" name="Прямоугольник 5"/>
          <p:cNvSpPr/>
          <p:nvPr/>
        </p:nvSpPr>
        <p:spPr>
          <a:xfrm>
            <a:off x="5867280" y="2057400"/>
            <a:ext cx="2286000" cy="78588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7" name="Стрелка вниз 6"/>
          <p:cNvSpPr/>
          <p:nvPr/>
        </p:nvSpPr>
        <p:spPr>
          <a:xfrm flipH="1">
            <a:off x="1599480" y="2857680"/>
            <a:ext cx="214200" cy="571320"/>
          </a:xfrm>
          <a:prstGeom prst="downArrow">
            <a:avLst>
              <a:gd name="adj1" fmla="val 0"/>
              <a:gd name="adj2" fmla="val 48146"/>
            </a:avLst>
          </a:prstGeom>
          <a:solidFill>
            <a:srgbClr val="98ba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8" name="Стрелка вниз 7"/>
          <p:cNvSpPr/>
          <p:nvPr/>
        </p:nvSpPr>
        <p:spPr>
          <a:xfrm flipH="1">
            <a:off x="3199680" y="2857680"/>
            <a:ext cx="214200" cy="571320"/>
          </a:xfrm>
          <a:prstGeom prst="downArrow">
            <a:avLst>
              <a:gd name="adj1" fmla="val 0"/>
              <a:gd name="adj2" fmla="val 48146"/>
            </a:avLst>
          </a:prstGeom>
          <a:solidFill>
            <a:srgbClr val="98ba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9" name="Прямоугольник 8"/>
          <p:cNvSpPr/>
          <p:nvPr/>
        </p:nvSpPr>
        <p:spPr>
          <a:xfrm>
            <a:off x="419040" y="3457440"/>
            <a:ext cx="171468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0" name="Прямоугольник 9"/>
          <p:cNvSpPr/>
          <p:nvPr/>
        </p:nvSpPr>
        <p:spPr>
          <a:xfrm>
            <a:off x="2971800" y="3429000"/>
            <a:ext cx="171468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1" name="Стрелка вниз 10"/>
          <p:cNvSpPr/>
          <p:nvPr/>
        </p:nvSpPr>
        <p:spPr>
          <a:xfrm flipH="1">
            <a:off x="6171480" y="2857680"/>
            <a:ext cx="214200" cy="571320"/>
          </a:xfrm>
          <a:prstGeom prst="downArrow">
            <a:avLst>
              <a:gd name="adj1" fmla="val 0"/>
              <a:gd name="adj2" fmla="val 48146"/>
            </a:avLst>
          </a:prstGeom>
          <a:solidFill>
            <a:srgbClr val="98ba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2" name="Стрелка вниз 11"/>
          <p:cNvSpPr/>
          <p:nvPr/>
        </p:nvSpPr>
        <p:spPr>
          <a:xfrm flipH="1">
            <a:off x="7938360" y="2819520"/>
            <a:ext cx="214200" cy="571320"/>
          </a:xfrm>
          <a:prstGeom prst="downArrow">
            <a:avLst>
              <a:gd name="adj1" fmla="val 0"/>
              <a:gd name="adj2" fmla="val 48146"/>
            </a:avLst>
          </a:prstGeom>
          <a:solidFill>
            <a:srgbClr val="98ba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3" name="Прямоугольник 12"/>
          <p:cNvSpPr/>
          <p:nvPr/>
        </p:nvSpPr>
        <p:spPr>
          <a:xfrm>
            <a:off x="5357880" y="3429000"/>
            <a:ext cx="150012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4" name="Прямоугольник 13"/>
          <p:cNvSpPr/>
          <p:nvPr/>
        </p:nvSpPr>
        <p:spPr>
          <a:xfrm>
            <a:off x="7415280" y="3429000"/>
            <a:ext cx="150012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605" name="Прямая со стрелкой 15"/>
          <p:cNvCxnSpPr/>
          <p:nvPr/>
        </p:nvCxnSpPr>
        <p:spPr>
          <a:xfrm>
            <a:off x="2132640" y="3848040"/>
            <a:ext cx="500760" cy="5724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606" name="Прямая со стрелкой 18"/>
          <p:cNvCxnSpPr/>
          <p:nvPr/>
        </p:nvCxnSpPr>
        <p:spPr>
          <a:xfrm flipH="1">
            <a:off x="1523520" y="3848040"/>
            <a:ext cx="572400" cy="5724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607" name="Прямоугольник 24"/>
          <p:cNvSpPr/>
          <p:nvPr/>
        </p:nvSpPr>
        <p:spPr>
          <a:xfrm>
            <a:off x="152280" y="4448160"/>
            <a:ext cx="164304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8" name="Прямоугольник 25"/>
          <p:cNvSpPr/>
          <p:nvPr/>
        </p:nvSpPr>
        <p:spPr>
          <a:xfrm>
            <a:off x="2286000" y="4448160"/>
            <a:ext cx="155736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85800" y="404640"/>
            <a:ext cx="7848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00cc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663012"/>
                    </a:gs>
                  </a:gsLst>
                  <a:lin ang="8100000"/>
                </a:gradFill>
                <a:effectLst>
                  <a:outerShdw dist="96762" dir="17593595" blurRad="0" rotWithShape="0">
                    <a:srgbClr val="868686"/>
                  </a:outerShdw>
                </a:effectLst>
                <a:latin typeface="Birusa"/>
              </a:rPr>
              <a:t>Состав населения Аттики VII в. до н.э.</a:t>
            </a:r>
            <a:endParaRPr b="0" lang="en-US" sz="2400" spc="1" strike="noStrike">
              <a:ln w="9360">
                <a:solidFill>
                  <a:srgbClr val="cc00cc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663012"/>
                  </a:gs>
                </a:gsLst>
                <a:lin ang="8100000"/>
              </a:gradFill>
              <a:effectLst>
                <a:outerShdw dist="96762" dir="17593595" blurRad="0" rotWithShape="0">
                  <a:srgbClr val="868686"/>
                </a:outerShdw>
              </a:effectLst>
              <a:latin typeface="Birusa"/>
              <a:ea typeface="Birusa"/>
            </a:endParaRPr>
          </a:p>
        </p:txBody>
      </p:sp>
      <p:sp>
        <p:nvSpPr>
          <p:cNvPr id="610" name=""/>
          <p:cNvSpPr/>
          <p:nvPr/>
        </p:nvSpPr>
        <p:spPr>
          <a:xfrm>
            <a:off x="1476360" y="220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Свободные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2720" y="34416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Граждане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987640" y="3429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Переселенцы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1080" y="443700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Аристократы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629080" y="4437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Демос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940360" y="2205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Рабы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64000" y="3429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Должники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308720" y="34290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Чужеземцы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9640" y="5877000"/>
            <a:ext cx="863640" cy="792000"/>
          </a:xfrm>
          <a:custGeom>
            <a:avLst/>
            <a:gdLst>
              <a:gd name="textAreaLeft" fmla="*/ 196920 w 863640"/>
              <a:gd name="textAreaRight" fmla="*/ 666720 w 86364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cc00"/>
            </a:solidFill>
            <a:miter/>
          </a:ln>
          <a:effectLst>
            <a:outerShdw dist="137587" dir="14178596" blurRad="0" rotWithShape="0">
              <a:srgbClr val="ff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0486" dir="1110959" blurRad="0" rotWithShape="0">
              <a:srgbClr val="00005b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Times New Roman"/>
              </a:rPr>
              <a:t>Занятия жителей афинского полиса.</a:t>
            </a:r>
            <a:br>
              <a:rPr sz="5400"/>
            </a:b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716000" y="2201760"/>
            <a:ext cx="4248360" cy="454032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Засухи и неплодо-родные почвы не позволяли выра-щивать злаки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сновной культурой в Афинах стали</a:t>
            </a: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800080"/>
                </a:solidFill>
                <a:latin typeface="Times New Roman"/>
              </a:rPr>
              <a:t>оливки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-их ели, из них делали масло, маслом освещали дом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395280" y="2394000"/>
            <a:ext cx="4106880" cy="4464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622" name="Рисунок 10" descr="olivki1.jpg"/>
          <p:cNvPicPr/>
          <p:nvPr/>
        </p:nvPicPr>
        <p:blipFill>
          <a:blip r:embed="rId2"/>
          <a:stretch/>
        </p:blipFill>
        <p:spPr>
          <a:xfrm rot="3075600">
            <a:off x="3918240" y="4586760"/>
            <a:ext cx="11671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6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14336436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Times New Roman"/>
              </a:rPr>
              <a:t>Занятия жителей афинского полиса.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648320" y="2057040"/>
            <a:ext cx="4114800" cy="480060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Второй по значимости культурой был </a:t>
            </a: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виноград.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Из него сушили изюм, давили сок, изготав-ливали вино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Вино пили разбав-ленным.В некото-рых домах был проведен виновод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13400" y="5881680"/>
            <a:ext cx="3368880" cy="52056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Виноградный пресс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900000" y="2538360"/>
            <a:ext cx="3713400" cy="2835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5" dur="1" fill="hold"/>
                                  <p:tgtEl>
                                    <p:spTgt spid="6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  <p:animClr clrSpc="rgb">
                                <p:cBhvr>
                                  <p:cTn id="436" dur="1" fill="hold"/>
                                  <p:tgtEl>
                                    <p:spTgt spid="6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  <p:animClr clrSpc="rgb">
                                <p:cBhvr>
                                  <p:cTn id="437" dur="1" fill="hold"/>
                                  <p:tgtEl>
                                    <p:spTgt spid="6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703" dir="5060257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Times New Roman"/>
              </a:rPr>
              <a:t>Занятия жителей афинского полиса.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647960" y="2204640"/>
            <a:ext cx="3809880" cy="425124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Многие жители Афин были прекрасными ремесленниками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Афинские амфоры славились на всю Грецию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995400" y="2452680"/>
            <a:ext cx="3432240" cy="37130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0" dur="1" fill="hold"/>
                                  <p:tgtEl>
                                    <p:spTgt spid="6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  <p:animClr clrSpc="rgb">
                                <p:cBhvr>
                                  <p:cTn id="451" dur="1" fill="hold"/>
                                  <p:tgtEl>
                                    <p:spTgt spid="6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0" name=""/>
          <p:cNvGraphicFramePr/>
          <p:nvPr/>
        </p:nvGraphicFramePr>
        <p:xfrm>
          <a:off x="539640" y="2205000"/>
          <a:ext cx="34149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205000"/>
                    <a:ext cx="3414960" cy="4114800"/>
                  </a:xfrm>
                  <a:prstGeom prst="rect">
                    <a:avLst/>
                  </a:prstGeom>
                  <a:ln w="76320">
                    <a:solidFill>
                      <a:srgbClr val="ffcc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4190760" y="2209680"/>
            <a:ext cx="4647960" cy="106704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Правители города и судьи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91120" y="3575160"/>
            <a:ext cx="4647960" cy="58140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Совет знати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76000" y="5489640"/>
            <a:ext cx="4685760" cy="106884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Народ, в управлении не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участвовал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226760" y="4533840"/>
            <a:ext cx="4557600" cy="58140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Обладала всей властью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33920" y="3708360"/>
            <a:ext cx="533160" cy="485640"/>
          </a:xfrm>
          <a:custGeom>
            <a:avLst/>
            <a:gdLst>
              <a:gd name="textAreaLeft" fmla="*/ 83160 w 533160"/>
              <a:gd name="textAreaRight" fmla="*/ 466560 w 5331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733920" y="4749840"/>
            <a:ext cx="533160" cy="485640"/>
          </a:xfrm>
          <a:custGeom>
            <a:avLst/>
            <a:gdLst>
              <a:gd name="textAreaLeft" fmla="*/ 83160 w 533160"/>
              <a:gd name="textAreaRight" fmla="*/ 466560 w 5331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733920" y="5791320"/>
            <a:ext cx="533160" cy="485640"/>
          </a:xfrm>
          <a:custGeom>
            <a:avLst/>
            <a:gdLst>
              <a:gd name="textAreaLeft" fmla="*/ 83160 w 533160"/>
              <a:gd name="textAreaRight" fmla="*/ 466560 w 5331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733920" y="2666880"/>
            <a:ext cx="533160" cy="486000"/>
          </a:xfrm>
          <a:custGeom>
            <a:avLst/>
            <a:gdLst>
              <a:gd name="textAreaLeft" fmla="*/ 83160 w 533160"/>
              <a:gd name="textAreaRight" fmla="*/ 466560 w 5331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04920" y="2819520"/>
            <a:ext cx="533160" cy="3581280"/>
          </a:xfrm>
          <a:custGeom>
            <a:avLst/>
            <a:gdLst>
              <a:gd name="textAreaLeft" fmla="*/ 71280 w 533160"/>
              <a:gd name="textAreaRight" fmla="*/ 461880 w 533160"/>
              <a:gd name="textAreaTop" fmla="*/ 626760 h 3581280"/>
              <a:gd name="textAreaBottom" fmla="*/ 259668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8f8f8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905120" y="4038480"/>
            <a:ext cx="304560" cy="685800"/>
          </a:xfrm>
          <a:prstGeom prst="upArrowCallout">
            <a:avLst>
              <a:gd name="adj1" fmla="val 25002"/>
              <a:gd name="adj2" fmla="val 25000"/>
              <a:gd name="adj3" fmla="val 37530"/>
              <a:gd name="adj4" fmla="val 66660"/>
            </a:avLst>
          </a:prstGeom>
          <a:solidFill>
            <a:srgbClr val="0000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2895480"/>
            <a:ext cx="304560" cy="685800"/>
          </a:xfrm>
          <a:prstGeom prst="upArrowCallout">
            <a:avLst>
              <a:gd name="adj1" fmla="val 25002"/>
              <a:gd name="adj2" fmla="val 25000"/>
              <a:gd name="adj3" fmla="val 37530"/>
              <a:gd name="adj4" fmla="val 66660"/>
            </a:avLst>
          </a:prstGeom>
          <a:solidFill>
            <a:srgbClr val="0000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38080" y="549360"/>
            <a:ext cx="8305920" cy="1556280"/>
          </a:xfrm>
          <a:prstGeom prst="rect">
            <a:avLst/>
          </a:prstGeom>
          <a:noFill/>
          <a:ln w="0">
            <a:noFill/>
          </a:ln>
          <a:effectLst>
            <a:outerShdw dist="102298" dir="49755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Times New Roman"/>
              </a:rPr>
              <a:t>Организация власти в Афинах.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89080" y="1413000"/>
            <a:ext cx="8675640" cy="519588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6645240" y="5934240"/>
            <a:ext cx="1317600" cy="520560"/>
          </a:xfrm>
          <a:prstGeom prst="rect">
            <a:avLst/>
          </a:prstGeom>
          <a:solidFill>
            <a:srgbClr val="00005b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Египе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15320" y="4508640"/>
            <a:ext cx="1715400" cy="947160"/>
          </a:xfrm>
          <a:prstGeom prst="rect">
            <a:avLst/>
          </a:prstGeom>
          <a:solidFill>
            <a:srgbClr val="00005b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Северная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Африк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65440" y="1600200"/>
            <a:ext cx="2759400" cy="947160"/>
          </a:xfrm>
          <a:prstGeom prst="rect">
            <a:avLst/>
          </a:prstGeom>
          <a:solidFill>
            <a:srgbClr val="00005b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Северное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Причерноморье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507720" y="3809880"/>
            <a:ext cx="2148120" cy="520560"/>
          </a:xfrm>
          <a:prstGeom prst="rect">
            <a:avLst/>
          </a:prstGeom>
          <a:solidFill>
            <a:srgbClr val="00005b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Малая Азия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3852000" y="3776760"/>
            <a:ext cx="2963520" cy="2320920"/>
            <a:chOff x="3852000" y="3776760"/>
            <a:chExt cx="2963520" cy="2320920"/>
          </a:xfrm>
        </p:grpSpPr>
        <p:sp>
          <p:nvSpPr>
            <p:cNvPr id="650" name=""/>
            <p:cNvSpPr/>
            <p:nvPr/>
          </p:nvSpPr>
          <p:spPr>
            <a:xfrm rot="3019200">
              <a:off x="4797000" y="4760280"/>
              <a:ext cx="2177640" cy="609480"/>
            </a:xfrm>
            <a:prstGeom prst="leftArrow">
              <a:avLst>
                <a:gd name="adj1" fmla="val 50000"/>
                <a:gd name="adj2" fmla="val 89324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0772000">
              <a:off x="5485680" y="388620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852000" y="3886200"/>
              <a:ext cx="2513880" cy="82548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Льняные ткани ,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папирус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383720" y="2523960"/>
            <a:ext cx="1866240" cy="1812600"/>
            <a:chOff x="4383720" y="2523960"/>
            <a:chExt cx="1866240" cy="1812600"/>
          </a:xfrm>
        </p:grpSpPr>
        <p:sp>
          <p:nvSpPr>
            <p:cNvPr id="654" name=""/>
            <p:cNvSpPr/>
            <p:nvPr/>
          </p:nvSpPr>
          <p:spPr>
            <a:xfrm>
              <a:off x="4383720" y="3876840"/>
              <a:ext cx="1762560" cy="45972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Зерно,рабы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8048600">
              <a:off x="4933800" y="3085560"/>
              <a:ext cx="1523880" cy="380880"/>
            </a:xfrm>
            <a:prstGeom prst="leftArrow">
              <a:avLst>
                <a:gd name="adj1" fmla="val 50000"/>
                <a:gd name="adj2" fmla="val 100024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2478600" y="3789360"/>
            <a:ext cx="3344760" cy="1645920"/>
            <a:chOff x="2478600" y="3789360"/>
            <a:chExt cx="3344760" cy="1645920"/>
          </a:xfrm>
        </p:grpSpPr>
        <p:sp>
          <p:nvSpPr>
            <p:cNvPr id="657" name=""/>
            <p:cNvSpPr/>
            <p:nvPr/>
          </p:nvSpPr>
          <p:spPr>
            <a:xfrm>
              <a:off x="3440520" y="3789360"/>
              <a:ext cx="2382840" cy="45972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Слоновая кость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9307200">
              <a:off x="2483640" y="4474440"/>
              <a:ext cx="2227320" cy="515880"/>
            </a:xfrm>
            <a:prstGeom prst="leftArrow">
              <a:avLst>
                <a:gd name="adj1" fmla="val 50000"/>
                <a:gd name="adj2" fmla="val 107938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078440" y="3886200"/>
            <a:ext cx="2384280" cy="485640"/>
            <a:chOff x="4078440" y="3886200"/>
            <a:chExt cx="2384280" cy="485640"/>
          </a:xfrm>
        </p:grpSpPr>
        <p:sp>
          <p:nvSpPr>
            <p:cNvPr id="660" name=""/>
            <p:cNvSpPr/>
            <p:nvPr/>
          </p:nvSpPr>
          <p:spPr>
            <a:xfrm>
              <a:off x="4078440" y="3886200"/>
              <a:ext cx="1485360" cy="45972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Металлы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486400" y="388620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aphicFrame>
        <p:nvGraphicFramePr>
          <p:cNvPr id="662" name=""/>
          <p:cNvGraphicFramePr/>
          <p:nvPr/>
        </p:nvGraphicFramePr>
        <p:xfrm>
          <a:off x="5334120" y="3962520"/>
          <a:ext cx="914400" cy="64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3962520"/>
                    <a:ext cx="9144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"/>
          <p:cNvSpPr/>
          <p:nvPr/>
        </p:nvSpPr>
        <p:spPr>
          <a:xfrm>
            <a:off x="498240" y="1523880"/>
            <a:ext cx="2995560" cy="1557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Чужеземные купцы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за право торговать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в Афинах платили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пошлину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4356000" y="2565360"/>
            <a:ext cx="1605240" cy="1589040"/>
            <a:chOff x="4356000" y="2565360"/>
            <a:chExt cx="1605240" cy="1589040"/>
          </a:xfrm>
        </p:grpSpPr>
        <p:pic>
          <p:nvPicPr>
            <p:cNvPr id="666" name="" descr=""/>
            <p:cNvPicPr/>
            <p:nvPr/>
          </p:nvPicPr>
          <p:blipFill>
            <a:blip r:embed="rId5"/>
            <a:stretch/>
          </p:blipFill>
          <p:spPr>
            <a:xfrm>
              <a:off x="4356000" y="2565360"/>
              <a:ext cx="84312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" descr=""/>
            <p:cNvPicPr/>
            <p:nvPr/>
          </p:nvPicPr>
          <p:blipFill>
            <a:blip r:embed="rId6"/>
            <a:stretch/>
          </p:blipFill>
          <p:spPr>
            <a:xfrm>
              <a:off x="4508640" y="2717640"/>
              <a:ext cx="84276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" descr=""/>
            <p:cNvPicPr/>
            <p:nvPr/>
          </p:nvPicPr>
          <p:blipFill>
            <a:blip r:embed="rId7"/>
            <a:stretch/>
          </p:blipFill>
          <p:spPr>
            <a:xfrm>
              <a:off x="4660920" y="2870280"/>
              <a:ext cx="84312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" descr=""/>
            <p:cNvPicPr/>
            <p:nvPr/>
          </p:nvPicPr>
          <p:blipFill>
            <a:blip r:embed="rId8"/>
            <a:stretch/>
          </p:blipFill>
          <p:spPr>
            <a:xfrm>
              <a:off x="4813200" y="3022560"/>
              <a:ext cx="84312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" descr=""/>
            <p:cNvPicPr/>
            <p:nvPr/>
          </p:nvPicPr>
          <p:blipFill>
            <a:blip r:embed="rId9"/>
            <a:stretch/>
          </p:blipFill>
          <p:spPr>
            <a:xfrm>
              <a:off x="4965840" y="3174840"/>
              <a:ext cx="84276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" descr=""/>
            <p:cNvPicPr/>
            <p:nvPr/>
          </p:nvPicPr>
          <p:blipFill>
            <a:blip r:embed="rId10"/>
            <a:stretch/>
          </p:blipFill>
          <p:spPr>
            <a:xfrm>
              <a:off x="5118120" y="3327480"/>
              <a:ext cx="843120" cy="82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2" name=""/>
          <p:cNvSpPr/>
          <p:nvPr/>
        </p:nvSpPr>
        <p:spPr>
          <a:xfrm>
            <a:off x="3666600" y="2349360"/>
            <a:ext cx="2680200" cy="8254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Оливковое масло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иноград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689720" y="4724280"/>
            <a:ext cx="1453320" cy="82548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Амфоры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стату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91960" y="3716280"/>
            <a:ext cx="1963800" cy="82548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Ювелирные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украшени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60960" y="3809880"/>
            <a:ext cx="886320" cy="45972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ин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876920" y="3429000"/>
            <a:ext cx="1214280" cy="12142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0000ff"/>
          </a:solidFill>
          <a:ln w="7632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7880" y="1523880"/>
            <a:ext cx="1716840" cy="82548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з Греции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ывозили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Рисунок 3" descr="180px-Solon.jpg"/>
          <p:cNvPicPr/>
          <p:nvPr/>
        </p:nvPicPr>
        <p:blipFill>
          <a:blip r:embed="rId1"/>
          <a:stretch/>
        </p:blipFill>
        <p:spPr>
          <a:xfrm>
            <a:off x="228600" y="914400"/>
            <a:ext cx="3429000" cy="5715000"/>
          </a:xfrm>
          <a:prstGeom prst="rect">
            <a:avLst/>
          </a:prstGeom>
          <a:ln w="0">
            <a:noFill/>
          </a:ln>
        </p:spPr>
      </p:pic>
      <p:pic>
        <p:nvPicPr>
          <p:cNvPr id="679" name="Прямоугольник 5" descr=""/>
          <p:cNvPicPr/>
          <p:nvPr/>
        </p:nvPicPr>
        <p:blipFill>
          <a:blip r:embed="rId2"/>
          <a:stretch/>
        </p:blipFill>
        <p:spPr>
          <a:xfrm>
            <a:off x="3429000" y="4840200"/>
            <a:ext cx="6102360" cy="125568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 txBox="1"/>
          <p:nvPr/>
        </p:nvSpPr>
        <p:spPr>
          <a:xfrm>
            <a:off x="4500720" y="1916280"/>
            <a:ext cx="3504960" cy="17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301770" dir="15321023" blurRad="0" rotWithShape="0">
                    <a:srgbClr val="cc0000">
                      <a:alpha val="50000"/>
                    </a:srgbClr>
                  </a:outerShdw>
                </a:effectLst>
                <a:latin typeface="Impact"/>
              </a:rPr>
              <a:t>Солон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301770" dir="15321023" blurRad="0" rotWithShape="0">
                  <a:srgbClr val="cc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1" name="Рисунок 3" descr="180px-Solon.jpg"/>
          <p:cNvPicPr/>
          <p:nvPr/>
        </p:nvPicPr>
        <p:blipFill>
          <a:blip r:embed="rId5"/>
          <a:stretch/>
        </p:blipFill>
        <p:spPr>
          <a:xfrm>
            <a:off x="228600" y="914400"/>
            <a:ext cx="34290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094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Перикл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140360" y="1125000"/>
            <a:ext cx="4495680" cy="5257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ерикл отдавал госу-дарственным делам всего себя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Его друзьями были-драматург Софокл,ис-торик Геродот, скуль-птор Фидий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Но Перикла окружали и враги пытавшиеся опорочить стратега и его друзей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755640" y="1096920"/>
            <a:ext cx="3201840" cy="4924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 spd="slow">
    <p:dissolve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385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5" dur="385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7" dur="385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9" dur="385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385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385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6" dur="385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8" dur="385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2" dur="1" fill="hold"/>
                                  <p:tgtEl>
                                    <p:spTgt spid="6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  <p:animClr clrSpc="rgb">
                                <p:cBhvr>
                                  <p:cTn id="603" dur="1" fill="hold"/>
                                  <p:tgtEl>
                                    <p:spTgt spid="6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  <p:animClr clrSpc="rgb">
                                <p:cBhvr>
                                  <p:cTn id="604" dur="1" fill="hold"/>
                                  <p:tgtEl>
                                    <p:spTgt spid="6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4794120" y="1915920"/>
            <a:ext cx="3810240" cy="3809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  <a:effectLst>
            <a:outerShdw dist="89808" dir="4916091" blurRad="0" rotWithShape="0">
              <a:srgbClr val="00005b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Похоронив отца, Александр решил осуществить его планы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3857400" cy="4530600"/>
          </a:xfrm>
          <a:prstGeom prst="rect">
            <a:avLst/>
          </a:prstGeom>
          <a:ln w="76320">
            <a:solidFill>
              <a:srgbClr val="ffcc00"/>
            </a:solidFill>
            <a:miter/>
          </a:ln>
          <a:effectLst>
            <a:outerShdw dist="140247" dir="5090731" blurRad="0" rotWithShape="0">
              <a:srgbClr val="808080"/>
            </a:outerShdw>
          </a:effectLst>
        </p:spPr>
      </p:pic>
      <p:sp>
        <p:nvSpPr>
          <p:cNvPr id="687" name=""/>
          <p:cNvSpPr/>
          <p:nvPr/>
        </p:nvSpPr>
        <p:spPr>
          <a:xfrm>
            <a:off x="2665800" y="620640"/>
            <a:ext cx="4807440" cy="5814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  <a:effectLst>
            <a:outerShdw dist="140247" dir="16509269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Александр Македонский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8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1" dur="1" fill="hold"/>
                                  <p:tgtEl>
                                    <p:spTgt spid="6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4343400" y="1295280"/>
            <a:ext cx="4495680" cy="371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Times New Roman"/>
              </a:rPr>
              <a:t>Благодаря Фемистоклу 30 эллинских государств  создали союз против персов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971640" y="1373040"/>
            <a:ext cx="3112920" cy="41436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690" name=""/>
          <p:cNvSpPr/>
          <p:nvPr/>
        </p:nvSpPr>
        <p:spPr>
          <a:xfrm>
            <a:off x="3059280" y="476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imes New Roman"/>
              </a:rPr>
              <a:t>Фемистокл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8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5" dur="1" fill="hold"/>
                                  <p:tgtEl>
                                    <p:spTgt spid="6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9" descr=""/>
          <p:cNvPicPr/>
          <p:nvPr/>
        </p:nvPicPr>
        <p:blipFill>
          <a:blip r:embed="rId1"/>
          <a:stretch/>
        </p:blipFill>
        <p:spPr>
          <a:xfrm>
            <a:off x="8861400" y="6237360"/>
            <a:ext cx="282600" cy="1443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0" descr=""/>
          <p:cNvPicPr/>
          <p:nvPr/>
        </p:nvPicPr>
        <p:blipFill>
          <a:blip r:embed="rId2"/>
          <a:stretch/>
        </p:blipFill>
        <p:spPr>
          <a:xfrm>
            <a:off x="8820000" y="6453360"/>
            <a:ext cx="324000" cy="18252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306864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857680" cy="12682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5"/>
          <a:stretch/>
        </p:blipFill>
        <p:spPr>
          <a:xfrm>
            <a:off x="1908000" y="3284640"/>
            <a:ext cx="6154920" cy="208908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6"/>
          <a:stretch/>
        </p:blipFill>
        <p:spPr>
          <a:xfrm>
            <a:off x="1403280" y="2997360"/>
            <a:ext cx="3025800" cy="232560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7"/>
          <a:stretch/>
        </p:blipFill>
        <p:spPr>
          <a:xfrm>
            <a:off x="4284720" y="2852640"/>
            <a:ext cx="4284720" cy="108108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8"/>
          <a:stretch/>
        </p:blipFill>
        <p:spPr>
          <a:xfrm>
            <a:off x="0" y="2852640"/>
            <a:ext cx="4284720" cy="10810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9"/>
          <a:stretch/>
        </p:blipFill>
        <p:spPr>
          <a:xfrm>
            <a:off x="7537320" y="2997360"/>
            <a:ext cx="1606680" cy="151272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10"/>
          <a:stretch/>
        </p:blipFill>
        <p:spPr>
          <a:xfrm>
            <a:off x="1116000" y="580536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11"/>
          <a:stretch/>
        </p:blipFill>
        <p:spPr>
          <a:xfrm rot="20698200">
            <a:off x="7020000" y="566100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12"/>
          <a:stretch/>
        </p:blipFill>
        <p:spPr>
          <a:xfrm>
            <a:off x="7236000" y="5661000"/>
            <a:ext cx="502920" cy="79236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13"/>
          <a:stretch/>
        </p:blipFill>
        <p:spPr>
          <a:xfrm>
            <a:off x="4284720" y="561960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14"/>
          <a:stretch/>
        </p:blipFill>
        <p:spPr>
          <a:xfrm>
            <a:off x="8172360" y="5300640"/>
            <a:ext cx="582840" cy="8636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15"/>
          <a:stretch/>
        </p:blipFill>
        <p:spPr>
          <a:xfrm>
            <a:off x="8388360" y="5373720"/>
            <a:ext cx="582480" cy="86364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16"/>
          <a:stretch/>
        </p:blipFill>
        <p:spPr>
          <a:xfrm>
            <a:off x="900000" y="5084640"/>
            <a:ext cx="582840" cy="86364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17"/>
          <a:stretch/>
        </p:blipFill>
        <p:spPr>
          <a:xfrm>
            <a:off x="611280" y="5013360"/>
            <a:ext cx="582480" cy="8636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18"/>
          <a:stretch/>
        </p:blipFill>
        <p:spPr>
          <a:xfrm>
            <a:off x="3059280" y="6165720"/>
            <a:ext cx="475920" cy="6922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19"/>
          <a:stretch/>
        </p:blipFill>
        <p:spPr>
          <a:xfrm>
            <a:off x="8101080" y="45086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0"/>
          <a:stretch/>
        </p:blipFill>
        <p:spPr>
          <a:xfrm>
            <a:off x="5940360" y="537372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1"/>
          <a:stretch/>
        </p:blipFill>
        <p:spPr>
          <a:xfrm>
            <a:off x="3203640" y="5516640"/>
            <a:ext cx="1079280" cy="8445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2"/>
          <a:stretch/>
        </p:blipFill>
        <p:spPr>
          <a:xfrm rot="19273800">
            <a:off x="5292720" y="53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3"/>
          <a:stretch/>
        </p:blipFill>
        <p:spPr>
          <a:xfrm rot="19531800">
            <a:off x="323640" y="5660640"/>
            <a:ext cx="1079280" cy="8445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4"/>
          <a:stretch/>
        </p:blipFill>
        <p:spPr>
          <a:xfrm>
            <a:off x="2340000" y="5300640"/>
            <a:ext cx="792000" cy="101916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5"/>
          <a:stretch/>
        </p:blipFill>
        <p:spPr>
          <a:xfrm>
            <a:off x="6084720" y="5838840"/>
            <a:ext cx="7923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257" fill="hold"/>
                                        <p:tgtEl>
                                          <p:spTgt spid="5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7257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6395" fill="hold"/>
                                        <p:tgtEl>
                                          <p:spTgt spid="5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7772400" cy="287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1187280" y="1557360"/>
            <a:ext cx="712980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Flamingo"/>
              </a:rPr>
              <a:t>М и ф</a:t>
            </a:r>
            <a:endParaRPr b="0" lang="en-US" sz="2400" spc="1" strike="noStrike">
              <a:ln w="381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Flamingo"/>
              <a:ea typeface="Flamin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8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21337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5b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0000"/>
                </a:solidFill>
                <a:latin typeface="Comic Sans MS"/>
              </a:rPr>
              <a:t>БОГИ ГРЕЦИИ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1371600" cy="416232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3657600" y="4191120"/>
            <a:ext cx="2895480" cy="23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3962160" y="2743200"/>
            <a:ext cx="4800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Comic Sans MS"/>
              </a:rPr>
              <a:t>Посейдон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Comic Sans MS"/>
              </a:rPr>
              <a:t>бог моря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132000" cy="518148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/>
          </p:nvPr>
        </p:nvSpPr>
        <p:spPr>
          <a:xfrm>
            <a:off x="5333760" y="1905120"/>
            <a:ext cx="2895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Зевс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 неба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4219560" cy="441972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4876560" y="1828440"/>
            <a:ext cx="3943080" cy="35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Аид –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 в царстве мёртвых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3961080" cy="472428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4419360" y="762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Гера –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верховнаябогиня, жена бога неба Зевса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2708280" cy="441972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4114800" y="1980720"/>
            <a:ext cx="4648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Артемида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267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иней охоты, гор и лесов</a:t>
            </a: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2739960" cy="45720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3635280" y="1218960"/>
            <a:ext cx="55087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Афина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богиня мудрости и справедливой войны</a:t>
            </a:r>
            <a:r>
              <a:rPr b="0" lang="en-US" sz="5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2747880" cy="50292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2286000" y="5540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4343400" y="1752480"/>
            <a:ext cx="4317840" cy="42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Афродита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иня любви и красоты</a:t>
            </a:r>
            <a:r>
              <a:rPr b="0" lang="ru-RU" sz="60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2747880" cy="50292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4114800" y="2057400"/>
            <a:ext cx="4648320" cy="25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 algn="ctr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Деметра –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236520" indent="0" algn="ctr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иня земледелия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236520" indent="0" algn="ctr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2879640" cy="52578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Рисунок 3" descr="athena.jpg"/>
          <p:cNvPicPr/>
          <p:nvPr/>
        </p:nvPicPr>
        <p:blipFill>
          <a:blip r:embed="rId1"/>
          <a:stretch/>
        </p:blipFill>
        <p:spPr>
          <a:xfrm>
            <a:off x="3780000" y="692280"/>
            <a:ext cx="1960560" cy="273528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 txBox="1"/>
          <p:nvPr/>
        </p:nvSpPr>
        <p:spPr>
          <a:xfrm>
            <a:off x="826920" y="2205000"/>
            <a:ext cx="75600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54000">
                  <a:solidFill>
                    <a:srgbClr val="800000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tile tx="0" ty="0" sx="100000" sy="100000" algn="ctr"/>
                </a:blipFill>
                <a:latin typeface="Arlekino"/>
              </a:rPr>
              <a:t>Древняя Греция</a:t>
            </a:r>
            <a:endParaRPr b="1" lang="en-US" sz="2400" spc="1" strike="noStrike">
              <a:ln w="54000">
                <a:solidFill>
                  <a:srgbClr val="800000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latin typeface="Arlekino"/>
              <a:ea typeface="Arlekino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684360" y="6400800"/>
            <a:ext cx="7716600" cy="45720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3564000" y="4292640"/>
            <a:ext cx="216036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/>
          </p:nvPr>
        </p:nvSpPr>
        <p:spPr>
          <a:xfrm>
            <a:off x="3505320" y="533520"/>
            <a:ext cx="541008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00"/>
                </a:solidFill>
                <a:latin typeface="Comic Sans MS"/>
              </a:rPr>
              <a:t>Дионис – 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00"/>
                </a:solidFill>
                <a:latin typeface="Comic Sans MS"/>
              </a:rPr>
              <a:t>бог плодоносящих сил земли, растительности, виноградарства, виноделия</a:t>
            </a:r>
            <a:r>
              <a:rPr b="0" lang="ru-RU" sz="48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2919240" cy="510552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/>
          </p:nvPr>
        </p:nvSpPr>
        <p:spPr>
          <a:xfrm>
            <a:off x="4190760" y="1383840"/>
            <a:ext cx="432108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Гефест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 огня и кузнечного дела</a:t>
            </a: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2743200" cy="48006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/>
          </p:nvPr>
        </p:nvSpPr>
        <p:spPr>
          <a:xfrm>
            <a:off x="5257800" y="1752120"/>
            <a:ext cx="3200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Гермес</a:t>
            </a:r>
            <a:r>
              <a:rPr b="0" lang="en-US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вестник</a:t>
            </a:r>
            <a:r>
              <a:rPr b="0" lang="en-US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богов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2974680" cy="510552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4267080" y="22860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Арес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бог войны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2755800" cy="518184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5" name=""/>
          <p:cNvSpPr/>
          <p:nvPr/>
        </p:nvSpPr>
        <p:spPr>
          <a:xfrm>
            <a:off x="0" y="6262560"/>
            <a:ext cx="341964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1. «Песнь козлов»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>
            <a:off x="184320" y="6361200"/>
            <a:ext cx="274248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2.Предмет для письма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"/>
          <p:cNvSpPr/>
          <p:nvPr/>
        </p:nvSpPr>
        <p:spPr>
          <a:xfrm>
            <a:off x="0" y="6324480"/>
            <a:ext cx="513720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3.Участник Олимпийских игр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7" name=""/>
          <p:cNvSpPr/>
          <p:nvPr/>
        </p:nvSpPr>
        <p:spPr>
          <a:xfrm>
            <a:off x="0" y="6324480"/>
            <a:ext cx="419112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4. «Место для зрелищ»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"/>
          <p:cNvSpPr/>
          <p:nvPr/>
        </p:nvSpPr>
        <p:spPr>
          <a:xfrm>
            <a:off x="0" y="6248520"/>
            <a:ext cx="723888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5.Центральная площадь Афин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5" name=""/>
          <p:cNvSpPr/>
          <p:nvPr/>
        </p:nvSpPr>
        <p:spPr>
          <a:xfrm>
            <a:off x="0" y="6248520"/>
            <a:ext cx="662940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6.Место выступления актеров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116000" y="1041840"/>
            <a:ext cx="6432480" cy="50317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1.Страна Греция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2.Историческая личность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3.Боги и мифы Древней Греции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4.Тесты по Древней Греции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5.Разгадай кроссворд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6.Хронологический конкурс</a:t>
            </a:r>
            <a:r>
              <a:rPr b="1" lang="en-US" sz="3200" spc="-1" strike="noStrike">
                <a:solidFill>
                  <a:srgbClr val="f8f8f8"/>
                </a:solidFill>
                <a:latin typeface="Rubius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0" y="6384960"/>
            <a:ext cx="373392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b"/>
                </a:solidFill>
                <a:latin typeface="Times New Roman Cyr"/>
              </a:rPr>
              <a:t>7.Трагедия Софокла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"/>
          <p:cNvSpPr/>
          <p:nvPr/>
        </p:nvSpPr>
        <p:spPr>
          <a:xfrm>
            <a:off x="0" y="6248520"/>
            <a:ext cx="373392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8.Место декораций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7" name=""/>
          <p:cNvSpPr/>
          <p:nvPr/>
        </p:nvSpPr>
        <p:spPr>
          <a:xfrm>
            <a:off x="0" y="6248520"/>
            <a:ext cx="373392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9. «Веселое шествие»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1" name=""/>
          <p:cNvSpPr/>
          <p:nvPr/>
        </p:nvSpPr>
        <p:spPr>
          <a:xfrm>
            <a:off x="0" y="6248520"/>
            <a:ext cx="426708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10.Место соревнований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611280" y="3429000"/>
            <a:ext cx="439236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70334" dir="14602848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Первые Олимпийские игры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11280" y="4508640"/>
            <a:ext cx="453528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70334" dir="14602848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Избрание Перикла стратегом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11280" y="5734080"/>
            <a:ext cx="446400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70334" dir="14602848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Поход Ал.Македонского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На Восток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39640" y="2276640"/>
            <a:ext cx="446400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70334" dir="14602848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Избрание Солона архонтом</a:t>
            </a:r>
            <a:r>
              <a:rPr b="1" lang="en-US" sz="3200" spc="-1" strike="noStrike">
                <a:solidFill>
                  <a:srgbClr val="ff0000"/>
                </a:solidFill>
                <a:latin typeface="Times New Roman Cyr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8360" y="1197000"/>
            <a:ext cx="446400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82013" dir="14712542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Троянская войн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932360" y="1197000"/>
            <a:ext cx="2808360" cy="863640"/>
          </a:xfrm>
          <a:prstGeom prst="leftArrowCallout">
            <a:avLst>
              <a:gd name="adj1" fmla="val 25002"/>
              <a:gd name="adj2" fmla="val 25000"/>
              <a:gd name="adj3" fmla="val 54196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003640" y="2276640"/>
            <a:ext cx="2737080" cy="863280"/>
          </a:xfrm>
          <a:prstGeom prst="leftArrowCallout">
            <a:avLst>
              <a:gd name="adj1" fmla="val 25002"/>
              <a:gd name="adj2" fmla="val 25000"/>
              <a:gd name="adj3" fmla="val 52843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076720" y="3429000"/>
            <a:ext cx="2664000" cy="863640"/>
          </a:xfrm>
          <a:prstGeom prst="leftArrowCallout">
            <a:avLst>
              <a:gd name="adj1" fmla="val 25002"/>
              <a:gd name="adj2" fmla="val 25000"/>
              <a:gd name="adj3" fmla="val 51410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148360" y="4581360"/>
            <a:ext cx="2592360" cy="863640"/>
          </a:xfrm>
          <a:prstGeom prst="leftArrowCallout">
            <a:avLst>
              <a:gd name="adj1" fmla="val 25002"/>
              <a:gd name="adj2" fmla="val 25000"/>
              <a:gd name="adj3" fmla="val 50028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076720" y="5734080"/>
            <a:ext cx="2664000" cy="863640"/>
          </a:xfrm>
          <a:prstGeom prst="leftArrowCallout">
            <a:avLst>
              <a:gd name="adj1" fmla="val 25002"/>
              <a:gd name="adj2" fmla="val 25000"/>
              <a:gd name="adj3" fmla="val 51410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516720" y="1197000"/>
            <a:ext cx="865080" cy="93672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1200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588000" y="2276640"/>
            <a:ext cx="914400" cy="9144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594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516720" y="3357720"/>
            <a:ext cx="914400" cy="9144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77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16720" y="4508640"/>
            <a:ext cx="914400" cy="9144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443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516720" y="5734080"/>
            <a:ext cx="914400" cy="9144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334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39640" y="189000"/>
            <a:ext cx="439272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82013" dir="14712542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Битва при Хероне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932360" y="189000"/>
            <a:ext cx="2881440" cy="863640"/>
          </a:xfrm>
          <a:prstGeom prst="leftArrowCallout">
            <a:avLst>
              <a:gd name="adj1" fmla="val 25002"/>
              <a:gd name="adj2" fmla="val 25000"/>
              <a:gd name="adj3" fmla="val 55607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516720" y="189000"/>
            <a:ext cx="865080" cy="93636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338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2"/>
          <a:stretch/>
        </p:blipFill>
        <p:spPr>
          <a:xfrm>
            <a:off x="395280" y="544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 txBox="1"/>
          <p:nvPr/>
        </p:nvSpPr>
        <p:spPr>
          <a:xfrm>
            <a:off x="2340000" y="5877000"/>
            <a:ext cx="45370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сиртаки</a:t>
            </a:r>
            <a:endParaRPr b="0" lang="en-US" sz="2400" spc="1" strike="noStrike">
              <a:ln w="2844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newsflash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85.0)">
                                      <p:cBhvr>
                                        <p:cTn id="894" dur="188475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3780000" y="358128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3"/>
          <a:stretch/>
        </p:blipFill>
        <p:spPr>
          <a:xfrm>
            <a:off x="5219640" y="4869000"/>
            <a:ext cx="432000" cy="33804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4"/>
          <a:stretch/>
        </p:blipFill>
        <p:spPr>
          <a:xfrm>
            <a:off x="4932360" y="5732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5"/>
          <a:stretch/>
        </p:blipFill>
        <p:spPr>
          <a:xfrm>
            <a:off x="5148360" y="4559400"/>
            <a:ext cx="431640" cy="40932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971640" y="2133720"/>
            <a:ext cx="433440" cy="503280"/>
          </a:xfrm>
          <a:custGeom>
            <a:avLst/>
            <a:gdLst>
              <a:gd name="textAreaLeft" fmla="*/ 178560 w 433440"/>
              <a:gd name="textAreaRight" fmla="*/ 254880 w 43344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258920" y="2708280"/>
            <a:ext cx="433440" cy="503280"/>
          </a:xfrm>
          <a:custGeom>
            <a:avLst/>
            <a:gdLst>
              <a:gd name="textAreaLeft" fmla="*/ 178560 w 433440"/>
              <a:gd name="textAreaRight" fmla="*/ 254880 w 43344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19280" y="3284640"/>
            <a:ext cx="433440" cy="503280"/>
          </a:xfrm>
          <a:custGeom>
            <a:avLst/>
            <a:gdLst>
              <a:gd name="textAreaLeft" fmla="*/ 178560 w 433440"/>
              <a:gd name="textAreaRight" fmla="*/ 254880 w 43344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6"/>
          <a:stretch/>
        </p:blipFill>
        <p:spPr>
          <a:xfrm flipH="1" rot="10800000">
            <a:off x="1547640" y="2205000"/>
            <a:ext cx="1079640" cy="5047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7"/>
          <a:stretch/>
        </p:blipFill>
        <p:spPr>
          <a:xfrm>
            <a:off x="1835280" y="2492280"/>
            <a:ext cx="1008000" cy="69552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8"/>
          <a:stretch/>
        </p:blipFill>
        <p:spPr>
          <a:xfrm>
            <a:off x="2124000" y="3716280"/>
            <a:ext cx="935280" cy="63036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9"/>
          <a:stretch/>
        </p:blipFill>
        <p:spPr>
          <a:xfrm flipH="1" rot="4988400">
            <a:off x="2918160" y="176868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10"/>
          <a:stretch/>
        </p:blipFill>
        <p:spPr>
          <a:xfrm>
            <a:off x="5940360" y="1916280"/>
            <a:ext cx="263520" cy="2635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11"/>
          <a:stretch/>
        </p:blipFill>
        <p:spPr>
          <a:xfrm flipH="1" rot="4384800">
            <a:off x="3135600" y="227412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12"/>
          <a:stretch/>
        </p:blipFill>
        <p:spPr>
          <a:xfrm flipH="1" rot="4386600">
            <a:off x="3494520" y="2776320"/>
            <a:ext cx="626760" cy="3466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13"/>
          <a:stretch/>
        </p:blipFill>
        <p:spPr>
          <a:xfrm flipH="1" rot="3121200">
            <a:off x="4070880" y="320904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14"/>
          <a:stretch/>
        </p:blipFill>
        <p:spPr>
          <a:xfrm flipH="1" rot="8646600">
            <a:off x="4066920" y="386064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15"/>
          <a:stretch/>
        </p:blipFill>
        <p:spPr>
          <a:xfrm flipH="1" rot="8894400">
            <a:off x="3708000" y="414936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16"/>
          <a:stretch/>
        </p:blipFill>
        <p:spPr>
          <a:xfrm flipH="1" rot="8894400">
            <a:off x="3276000" y="458100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17"/>
          <a:stretch/>
        </p:blipFill>
        <p:spPr>
          <a:xfrm flipH="1" rot="9466800">
            <a:off x="2842560" y="508464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18"/>
          <a:stretch/>
        </p:blipFill>
        <p:spPr>
          <a:xfrm flipH="1" rot="12831000">
            <a:off x="2194920" y="4941720"/>
            <a:ext cx="626760" cy="34632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19"/>
          <a:stretch/>
        </p:blipFill>
        <p:spPr>
          <a:xfrm flipH="1" rot="13297800">
            <a:off x="1547640" y="450792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20"/>
          <a:stretch/>
        </p:blipFill>
        <p:spPr>
          <a:xfrm flipH="1" rot="15796200">
            <a:off x="1116000" y="400392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1"/>
          <a:stretch/>
        </p:blipFill>
        <p:spPr>
          <a:xfrm flipH="1" rot="15796200">
            <a:off x="830160" y="335304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22"/>
          <a:stretch/>
        </p:blipFill>
        <p:spPr>
          <a:xfrm flipH="1" rot="15796200">
            <a:off x="399240" y="2705400"/>
            <a:ext cx="627120" cy="34668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23"/>
          <a:stretch/>
        </p:blipFill>
        <p:spPr>
          <a:xfrm flipH="1" rot="16270800">
            <a:off x="109440" y="2056680"/>
            <a:ext cx="626760" cy="34596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24"/>
          <a:stretch/>
        </p:blipFill>
        <p:spPr>
          <a:xfrm>
            <a:off x="2916360" y="4221000"/>
            <a:ext cx="28728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1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"/>
                            </p:stCondLst>
                            <p:childTnLst>
                              <p:par>
                                <p:cTn id="3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"/>
                            </p:stCondLst>
                            <p:childTnLst>
                              <p:par>
                                <p:cTn id="4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2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300"/>
                            </p:stCondLst>
                            <p:childTnLst>
                              <p:par>
                                <p:cTn id="5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8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900"/>
                            </p:stCondLst>
                            <p:childTnLst>
                              <p:par>
                                <p:cTn id="6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4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100"/>
                            </p:stCondLst>
                            <p:childTnLst>
                              <p:par>
                                <p:cTn id="8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6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700"/>
                            </p:stCondLst>
                            <p:childTnLst>
                              <p:par>
                                <p:cTn id="9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2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1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300"/>
                            </p:stCondLst>
                            <p:childTnLst>
                              <p:par>
                                <p:cTn id="10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8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900"/>
                            </p:stCondLst>
                            <p:childTnLst>
                              <p:par>
                                <p:cTn id="11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4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100"/>
                            </p:stCondLst>
                            <p:childTnLst>
                              <p:par>
                                <p:cTn id="13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6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700"/>
                            </p:stCondLst>
                            <p:childTnLst>
                              <p:par>
                                <p:cTn id="14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2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300"/>
                            </p:stCondLst>
                            <p:childTnLst>
                              <p:par>
                                <p:cTn id="15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8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900"/>
                            </p:stCondLst>
                            <p:childTnLst>
                              <p:par>
                                <p:cTn id="16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"/>
                            </p:stCondLst>
                            <p:childTnLst>
                              <p:par>
                                <p:cTn id="17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6551640" cy="504036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11872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34" dur="indefinite" restart="never" nodeType="tmRoot">
          <p:childTnLst>
            <p:seq>
              <p:cTn id="235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1.0)">
                                      <p:cBhvr>
                                        <p:cTn id="239" dur="1" fill="hold"/>
                                        <p:tgtEl>
                                          <p:spTgt spid="5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4140360" y="2708280"/>
            <a:ext cx="4356000" cy="4149720"/>
          </a:xfrm>
          <a:prstGeom prst="rect">
            <a:avLst/>
          </a:prstGeom>
          <a:ln w="0">
            <a:noFill/>
          </a:ln>
        </p:spPr>
      </p:pic>
      <p:pic>
        <p:nvPicPr>
          <p:cNvPr id="584" name="Рисунок 4" descr="afinu_2.jpg"/>
          <p:cNvPicPr/>
          <p:nvPr/>
        </p:nvPicPr>
        <p:blipFill>
          <a:blip r:embed="rId2"/>
          <a:stretch/>
        </p:blipFill>
        <p:spPr>
          <a:xfrm>
            <a:off x="755640" y="1341360"/>
            <a:ext cx="3600360" cy="4076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87" name="Рисунок 9" descr="olivetree.jpg"/>
          <p:cNvPicPr/>
          <p:nvPr/>
        </p:nvPicPr>
        <p:blipFill>
          <a:blip r:embed="rId1"/>
          <a:stretch/>
        </p:blipFill>
        <p:spPr>
          <a:xfrm>
            <a:off x="1258920" y="1052640"/>
            <a:ext cx="5441760" cy="5600520"/>
          </a:xfrm>
          <a:prstGeom prst="rect">
            <a:avLst/>
          </a:prstGeom>
          <a:ln w="0">
            <a:noFill/>
          </a:ln>
        </p:spPr>
      </p:pic>
      <p:pic>
        <p:nvPicPr>
          <p:cNvPr id="588" name="Рисунок 10" descr="olivki1.jpg"/>
          <p:cNvPicPr/>
          <p:nvPr/>
        </p:nvPicPr>
        <p:blipFill>
          <a:blip r:embed="rId2"/>
          <a:stretch/>
        </p:blipFill>
        <p:spPr>
          <a:xfrm rot="3075600">
            <a:off x="6001200" y="1063080"/>
            <a:ext cx="216216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5076720" y="2637000"/>
            <a:ext cx="3665520" cy="396072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3886200" cy="3743640"/>
          </a:xfrm>
          <a:prstGeom prst="rect">
            <a:avLst/>
          </a:prstGeom>
          <a:ln w="0">
            <a:noFill/>
          </a:ln>
        </p:spPr>
      </p:pic>
      <p:sp>
        <p:nvSpPr>
          <p:cNvPr id="593" name="">
            <a:hlinkClick r:id="" action="ppaction://hlinkshowjump?jump=nextslide"/>
          </p:cNvPr>
          <p:cNvSpPr/>
          <p:nvPr/>
        </p:nvSpPr>
        <p:spPr>
          <a:xfrm>
            <a:off x="826920" y="5734080"/>
            <a:ext cx="505080" cy="60948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609480"/>
              <a:gd name="textAreaBottom" fmla="*/ 577080 h 609480"/>
            </a:gdLst>
            <a:ahLst/>
            <a:rect l="textAreaLeft" t="textAreaTop" r="textAreaRight" b="textAreaBottom"/>
            <a:pathLst>
              <a:path w="21600" h="26062">
                <a:moveTo>
                  <a:pt x="0" y="0"/>
                </a:moveTo>
                <a:lnTo>
                  <a:pt x="21600" y="0"/>
                </a:lnTo>
                <a:lnTo>
                  <a:pt x="21600" y="26062"/>
                </a:lnTo>
                <a:lnTo>
                  <a:pt x="0" y="26062"/>
                </a:lnTo>
                <a:close/>
              </a:path>
              <a:path fill="lightenLess" w="21600" h="260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62">
                <a:moveTo>
                  <a:pt x="21600" y="0"/>
                </a:moveTo>
                <a:lnTo>
                  <a:pt x="21600" y="26062"/>
                </a:lnTo>
                <a:lnTo>
                  <a:pt x="20200" y="24662"/>
                </a:lnTo>
                <a:lnTo>
                  <a:pt x="20200" y="1400"/>
                </a:lnTo>
                <a:close/>
              </a:path>
              <a:path fill="darkenLess" w="21600" h="26062">
                <a:moveTo>
                  <a:pt x="21600" y="26062"/>
                </a:moveTo>
                <a:lnTo>
                  <a:pt x="0" y="26062"/>
                </a:lnTo>
                <a:lnTo>
                  <a:pt x="1400" y="24662"/>
                </a:lnTo>
                <a:lnTo>
                  <a:pt x="20200" y="24662"/>
                </a:lnTo>
                <a:close/>
              </a:path>
              <a:path fill="lighten" w="21600" h="26062">
                <a:moveTo>
                  <a:pt x="0" y="260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62"/>
                </a:lnTo>
                <a:close/>
              </a:path>
              <a:path fill="darken" w="21600" h="26062">
                <a:moveTo>
                  <a:pt x="3794" y="6024"/>
                </a:moveTo>
                <a:lnTo>
                  <a:pt x="17806" y="13031"/>
                </a:lnTo>
                <a:lnTo>
                  <a:pt x="3794" y="20037"/>
                </a:lnTo>
                <a:close/>
              </a:path>
            </a:pathLst>
          </a:custGeom>
          <a:solidFill>
            <a:srgbClr val="98b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8T09:16:36Z</dcterms:created>
  <dc:creator>ЧЕРНОВ АЛЕКСЕЙ</dc:creator>
  <dc:description/>
  <dc:language>en-US</dc:language>
  <cp:lastModifiedBy>Admin</cp:lastModifiedBy>
  <dcterms:modified xsi:type="dcterms:W3CDTF">2009-12-28T20:48:44Z</dcterms:modified>
  <cp:revision>59</cp:revision>
  <dc:subject/>
  <dc:title>Заголовок слайда отсутствует</dc:title>
</cp:coreProperties>
</file>