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3.gif" ContentType="image/gif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3.jpeg" ContentType="image/jpeg"/>
  <Override PartName="/ppt/media/image25.gif" ContentType="image/gif"/>
  <Override PartName="/ppt/media/image42.png" ContentType="image/png"/>
  <Override PartName="/ppt/media/image41.jpeg" ContentType="image/jpeg"/>
  <Override PartName="/ppt/media/image66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54.gif" ContentType="image/gif"/>
  <Override PartName="/ppt/media/image57.png" ContentType="image/png"/>
  <Override PartName="/ppt/media/image64.png" ContentType="image/png"/>
  <Override PartName="/ppt/media/image15.jpeg" ContentType="image/jpeg"/>
  <Override PartName="/ppt/media/image67.wmf" ContentType="image/x-wmf"/>
  <Override PartName="/ppt/media/image33.jpeg" ContentType="image/jpeg"/>
  <Override PartName="/ppt/media/image4.gif" ContentType="image/gif"/>
  <Override PartName="/ppt/media/image19.jpeg" ContentType="image/jpeg"/>
  <Override PartName="/ppt/media/image32.jpeg" ContentType="image/jpeg"/>
  <Override PartName="/ppt/media/image27.png" ContentType="image/png"/>
  <Override PartName="/ppt/media/image24.gif" ContentType="image/gif"/>
  <Override PartName="/ppt/media/image20.gif" ContentType="image/gif"/>
  <Override PartName="/ppt/media/image60.png" ContentType="image/png"/>
  <Override PartName="/ppt/media/image79.png" ContentType="image/png"/>
  <Override PartName="/ppt/media/image76.wmf" ContentType="image/x-wmf"/>
  <Override PartName="/ppt/media/image29.jpeg" ContentType="image/jpeg"/>
  <Override PartName="/ppt/media/image65.png" ContentType="image/png"/>
  <Override PartName="/ppt/media/image75.wmf" ContentType="image/x-wmf"/>
  <Override PartName="/ppt/media/image17.png" ContentType="image/png"/>
  <Override PartName="/ppt/media/image14.gif" ContentType="image/gif"/>
  <Override PartName="/ppt/media/image31.jpeg" ContentType="image/jpeg"/>
  <Override PartName="/ppt/media/image74.wmf" ContentType="image/x-wmf"/>
  <Override PartName="/ppt/media/image23.gif" ContentType="image/gif"/>
  <Override PartName="/ppt/media/image63.png" ContentType="image/png"/>
  <Override PartName="/ppt/media/image28.gif" ContentType="image/gif"/>
  <Override PartName="/ppt/media/image73.wmf" ContentType="image/x-wmf"/>
  <Override PartName="/ppt/media/image22.gif" ContentType="image/gif"/>
  <Override PartName="/ppt/media/image62.png" ContentType="image/png"/>
  <Override PartName="/ppt/media/image72.wmf" ContentType="image/x-wmf"/>
  <Override PartName="/ppt/media/image61.png" ContentType="image/png"/>
  <Override PartName="/ppt/media/image26.gif" ContentType="image/gif"/>
  <Override PartName="/ppt/media/image71.wmf" ContentType="image/x-wmf"/>
  <Override PartName="/ppt/media/image69.wmf" ContentType="image/x-wmf"/>
  <Override PartName="/ppt/media/image21.gif" ContentType="image/gif"/>
  <Override PartName="/ppt/media/image2.jpeg" ContentType="image/jpeg"/>
  <Override PartName="/ppt/media/image5.gif" ContentType="image/gif"/>
  <Override PartName="/ppt/media/image52.jpeg" ContentType="image/jpeg"/>
  <Override PartName="/ppt/media/image1.png" ContentType="image/png"/>
  <Override PartName="/ppt/media/image10.gif" ContentType="image/gif"/>
  <Override PartName="/ppt/media/image6.gif" ContentType="image/gif"/>
  <Override PartName="/ppt/media/image18.gif" ContentType="image/gif"/>
  <Override PartName="/ppt/media/image11.gif" ContentType="image/gif"/>
  <Override PartName="/ppt/media/image7.gif" ContentType="image/gif"/>
  <Override PartName="/ppt/media/image44.wmf" ContentType="image/x-wmf"/>
  <Override PartName="/ppt/media/image12.gif" ContentType="image/gif"/>
  <Override PartName="/ppt/media/image49.jpeg" ContentType="image/jpeg"/>
  <Override PartName="/ppt/media/image8.gif" ContentType="image/gif"/>
  <Override PartName="/ppt/media/image34.jpeg" ContentType="image/jpeg"/>
  <Override PartName="/ppt/media/image37.png" ContentType="image/png"/>
  <Override PartName="/ppt/media/image77.wmf" ContentType="image/x-wm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78.png" ContentType="image/png"/>
  <Override PartName="/ppt/media/image30.png" ContentType="image/png"/>
  <Override PartName="/ppt/media/image40.wmf" ContentType="image/x-wmf"/>
  <Override PartName="/ppt/media/image3.gif" ContentType="image/gif"/>
  <Override PartName="/ppt/media/image68.wmf" ContentType="image/x-wmf"/>
  <Override PartName="/ppt/media/image35.jpeg" ContentType="image/jpeg"/>
  <Override PartName="/ppt/media/image4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EFC-DF4C-4A16-8000-67D4DD56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EEE-9657-4DA4-8FE6-E832C934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546-22ED-4464-B211-B203C7BD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362-4F7F-476F-B531-D73E68FB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B9CC-271C-4191-8DCD-E5E10521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5A3-7D43-4B18-9253-B9C2A4D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D5D0-5031-44F7-8E91-9809187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3D0C-E6AA-4096-BA4A-7246E6D3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EF2-EC86-4764-9115-8B384C56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E67D-42F2-4C2F-8FA9-1A36ED6B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0982-96F4-4D34-AAFB-4B1C9F5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710-623C-44E3-887C-5815286A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D1F8-DE7A-4F35-AA2E-B1D6CCF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98A4-3E2C-4DE2-B0E2-7569F1C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3871-C3F2-4280-A55A-CD470225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DF7D-4396-489D-A322-6F5F1483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2365-BF86-439E-938F-220025E7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2363-4436-44B2-98D5-8F22CA10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186F-143B-4EB2-94C0-955226E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723F-CF10-498A-9536-74D1888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510F-9103-49ED-AAFA-2E0EA95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E342-1285-4BC5-975D-2284EF5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BC1-248B-4231-98AA-06421C1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9512-36A8-4174-82A0-71BF3C3D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602A-B285-4A93-AF20-73A44852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CB9C-E5A4-4306-9A51-C84C688A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FBC1-FDA5-4543-BD01-513AD4A9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E86E-9E99-4185-B921-88AFA484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E12E-8A25-4A94-B041-C807F1E7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7454-C5AD-4EE2-BACD-17588F45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6402-EE39-4266-AD28-0F05AF59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24E0-4517-4408-9B56-C76490E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1905-7F06-45AE-BB07-05A244EA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916-BABC-407A-92AD-6E86BD13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8341-7E3E-4AE2-8203-7B388FA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AEFC-4693-498A-BD65-F82C6166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82A6-C80D-4C7C-9C17-1E879693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2ED7-3A8E-40F5-B3B7-083A62D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EF35-748C-4211-BA2A-09DEB0C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E7F3-1B8C-483C-8664-26212EB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AA2A-EEE4-495B-B05B-DC35ADBC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D8D9-A291-4DEA-A7D5-81CB4511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F097-CEDC-4834-B4EF-74DAB218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95445-4E39-47E4-8D24-D971B1DB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2C9-31CD-4682-AC10-42F7AC9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8F51C-9D24-43BC-954E-FE85A2F3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00A76-3C31-420D-90DA-198767EA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C4EBC-D3C2-434B-9886-29E35C6F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DD4A9-6FCC-4D24-BABD-1E5E77A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5273F-78AF-4D2A-A5C4-B0404C1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483FC-53CA-4D96-9249-94DE6A3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A537C-DA88-40A3-9AEE-E5501CE8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BB5EC-76EB-4EA7-90FF-B65771D3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A4D97-093B-44EC-ADFE-8589A1C3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359C6-6EDE-4922-A6C3-D4D1E65B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568-59D8-4621-AC07-A18B58C5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64456-D5EE-4916-BD9F-7757C5E8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33F6-5B23-4A76-B6AF-1216A595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F942-3C16-4D85-A95C-4BC15E8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41541-2A3B-4F9C-9DF4-147A9872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38D76-E5D5-4166-B8D7-F0EE9AFA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B76D-AE6B-444A-B5CC-C37D486E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9A16-B0C5-4144-9152-4C64DE4E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0B5C-043C-4463-903D-CCCB71C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A81C-B7F9-400B-A2D8-9D9CEED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E71BF-B069-4A43-9FE2-23CA2DB7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9D4-D59A-4548-9AF8-000E310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A02A-892E-4489-A3A9-F1370802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3623-ACC4-4216-B4C2-940BC2F9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13DA-A4BA-4969-948A-4940ECBB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F34B-85DF-4A68-B0DB-035B9993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9A5C-70E3-47E4-9C9A-872AA8B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1BC7-0F2D-44CA-9B7A-45C5986A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43D5-84EC-4526-9E1E-98D7170B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61BA-C02B-481F-891B-064213DD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E41F-9CFC-42A9-AAE0-2771F979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8652-7DF9-4C61-B956-BFB03507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078-5FEC-48CF-A149-A56CE97A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89EB5-6417-431D-ACCE-198F7EEF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A5000-D5EC-4F04-A2EE-4D90B63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D2644-193B-4AB5-A08D-A2DD39DF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9B37B-FA9B-4AEC-B0A3-491EE81B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B46F-3C62-48CC-A97C-EECBAEE7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C2E4C-675E-4C61-9FD8-606E24A2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4851A-99B1-4ECE-BD29-AA3C2582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17B8B-B571-4BD4-A54C-CB37AE82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AAD74-4987-4A4E-9B59-1E52CB8B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F86BD-2720-49B3-BACF-1FAB4D7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8FC-157A-4DCB-97EF-A447770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18DA2-BBDF-4C68-B9E6-7C242E72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4361C-B18B-4A87-8C6C-A74D226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2C428-BB47-4AC8-8F1A-8F67B91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67931-F9CA-40E6-A65E-E5E90E3B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C4B04-E062-488C-8EB8-087D337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C8E7-7E88-43FC-B1E4-4A65710B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8DD3B-6289-4B7C-B3ED-3AC1D81C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227E-B604-4142-8212-0B94F1F455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5329-E1B7-4DAE-90BE-5B6A7CD5FE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23EC-BDE7-49A0-BB2B-1103A4A9C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7F7C-741F-45D3-8F91-178871C63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5CC2-217F-4B5B-8DD5-B78242FE324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DAAB-4F36-4566-A783-C72338B8B1A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1643-566B-43E8-9F09-931062CF9D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B87-3126-4685-93AA-03F39BC218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image" Target="../media/image44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0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36080" y="472428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Болобон Наталья Николаев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МОУ Глинновская СОШ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952880" y="407340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4"/>
          <p:cNvSpPr/>
          <p:nvPr/>
        </p:nvSpPr>
        <p:spPr>
          <a:xfrm>
            <a:off x="137160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Прямоугольник 5"/>
          <p:cNvSpPr/>
          <p:nvPr/>
        </p:nvSpPr>
        <p:spPr>
          <a:xfrm>
            <a:off x="586728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Стрелка вниз 6"/>
          <p:cNvSpPr/>
          <p:nvPr/>
        </p:nvSpPr>
        <p:spPr>
          <a:xfrm flipH="1">
            <a:off x="1599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Стрелка вниз 7"/>
          <p:cNvSpPr/>
          <p:nvPr/>
        </p:nvSpPr>
        <p:spPr>
          <a:xfrm flipH="1">
            <a:off x="31996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419040" y="345744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Прямоугольник 9"/>
          <p:cNvSpPr/>
          <p:nvPr/>
        </p:nvSpPr>
        <p:spPr>
          <a:xfrm>
            <a:off x="2971800" y="342900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Стрелка вниз 10"/>
          <p:cNvSpPr/>
          <p:nvPr/>
        </p:nvSpPr>
        <p:spPr>
          <a:xfrm flipH="1">
            <a:off x="6171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Стрелка вниз 11"/>
          <p:cNvSpPr/>
          <p:nvPr/>
        </p:nvSpPr>
        <p:spPr>
          <a:xfrm flipH="1">
            <a:off x="7938360" y="281952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Прямоугольник 12"/>
          <p:cNvSpPr/>
          <p:nvPr/>
        </p:nvSpPr>
        <p:spPr>
          <a:xfrm>
            <a:off x="53578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Прямоугольник 13"/>
          <p:cNvSpPr/>
          <p:nvPr/>
        </p:nvSpPr>
        <p:spPr>
          <a:xfrm>
            <a:off x="74152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605" name="Прямая со стрелкой 15"/>
          <p:cNvCxnSpPr/>
          <p:nvPr/>
        </p:nvCxnSpPr>
        <p:spPr>
          <a:xfrm>
            <a:off x="2132640" y="3848040"/>
            <a:ext cx="50076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06" name="Прямая со стрелкой 18"/>
          <p:cNvCxnSpPr/>
          <p:nvPr/>
        </p:nvCxnSpPr>
        <p:spPr>
          <a:xfrm flipH="1">
            <a:off x="1523520" y="3848040"/>
            <a:ext cx="57240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07" name="Прямоугольник 24"/>
          <p:cNvSpPr/>
          <p:nvPr/>
        </p:nvSpPr>
        <p:spPr>
          <a:xfrm>
            <a:off x="152280" y="4448160"/>
            <a:ext cx="164304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2286000" y="4448160"/>
            <a:ext cx="155736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40464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96762" dir="17593595" blurRad="0" rotWithShape="0">
                    <a:srgbClr val="868686"/>
                  </a:outerShdw>
                </a:effectLst>
                <a:latin typeface="Birusa"/>
              </a:rPr>
              <a:t>Состав населения Аттики VII в. до н.э.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96762" dir="17593595" blurRad="0" rotWithShape="0">
                  <a:srgbClr val="868686"/>
                </a:outerShdw>
              </a:effectLst>
              <a:latin typeface="Birusa"/>
              <a:ea typeface="Birusa"/>
            </a:endParaRPr>
          </a:p>
        </p:txBody>
      </p:sp>
      <p:sp>
        <p:nvSpPr>
          <p:cNvPr id="610" name=""/>
          <p:cNvSpPr/>
          <p:nvPr/>
        </p:nvSpPr>
        <p:spPr>
          <a:xfrm>
            <a:off x="147636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ободны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34416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раждане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ереселен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080" y="4437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ристократ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9080" y="443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мос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б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олжник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Чужезем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5877000"/>
            <a:ext cx="863640" cy="792000"/>
          </a:xfrm>
          <a:custGeom>
            <a:avLst/>
            <a:gdLst>
              <a:gd name="textAreaLeft" fmla="*/ 196920 w 863640"/>
              <a:gd name="textAreaRight" fmla="*/ 666720 w 86364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cc00"/>
            </a:solidFill>
            <a:miter/>
          </a:ln>
          <a:effectLst>
            <a:outerShdw dist="137587" dir="14178596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0486" dir="1110959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br>
              <a:rPr sz="54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16000" y="2201760"/>
            <a:ext cx="4248360" cy="454032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сухи и неплодо-родные почвы не позволяли выра-щивать злак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новной культурой в Афинах стал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ливки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-их ели, из них делали масло, маслом освещали дом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95280" y="2394000"/>
            <a:ext cx="410688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622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3918240" y="4586760"/>
            <a:ext cx="116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6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14336436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114800" cy="48006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торой по значимости культурой был 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иноград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з него сушили изюм, давили сок, изготав-ливали вин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ино пили разбав-ленным.В некото-рых домах был проведен винов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400" y="5881680"/>
            <a:ext cx="3368880" cy="52056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иноградный прес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3713400" cy="283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6" dur="1" fill="hold"/>
                                  <p:tgtEl>
                                    <p:spTgt spid="6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7" dur="1" fill="hold"/>
                                  <p:tgtEl>
                                    <p:spTgt spid="6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703" dir="5060257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7960" y="2204640"/>
            <a:ext cx="3809880" cy="42512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Афинские амфоры славились на всю Грец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995400" y="2452680"/>
            <a:ext cx="3432240" cy="371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51" dur="1" fill="hold"/>
                                  <p:tgtEl>
                                    <p:spTgt spid="6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539640" y="2205000"/>
          <a:ext cx="3414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3414960" cy="411480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10670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авители города и судь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3575160"/>
            <a:ext cx="464796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ет знат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76000" y="5489640"/>
            <a:ext cx="4685760" cy="10688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род, в управлении не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частвова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26760" y="4533840"/>
            <a:ext cx="455760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бладала всей властью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70836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74984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79132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2666880"/>
            <a:ext cx="533160" cy="48600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533160" cy="3581280"/>
          </a:xfrm>
          <a:custGeom>
            <a:avLst/>
            <a:gdLst>
              <a:gd name="textAreaLeft" fmla="*/ 71280 w 533160"/>
              <a:gd name="textAreaRight" fmla="*/ 461880 w 5331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4038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2895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54936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102298" dir="49755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Организация власти в Афинах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080" y="1413000"/>
            <a:ext cx="8675640" cy="5195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6645240" y="5934240"/>
            <a:ext cx="131760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Египе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5320" y="4508640"/>
            <a:ext cx="1715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фр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5440" y="1600200"/>
            <a:ext cx="2759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ое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черноморь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07720" y="3809880"/>
            <a:ext cx="214812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Малая Ази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52000" y="3776760"/>
            <a:ext cx="2963520" cy="2320920"/>
            <a:chOff x="3852000" y="3776760"/>
            <a:chExt cx="2963520" cy="2320920"/>
          </a:xfrm>
        </p:grpSpPr>
        <p:sp>
          <p:nvSpPr>
            <p:cNvPr id="650" name=""/>
            <p:cNvSpPr/>
            <p:nvPr/>
          </p:nvSpPr>
          <p:spPr>
            <a:xfrm rot="3019200">
              <a:off x="4797000" y="4760280"/>
              <a:ext cx="2177640" cy="609480"/>
            </a:xfrm>
            <a:prstGeom prst="leftArrow">
              <a:avLst>
                <a:gd name="adj1" fmla="val 50000"/>
                <a:gd name="adj2" fmla="val 893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72000">
              <a:off x="548568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52000" y="3886200"/>
              <a:ext cx="2513880" cy="82548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Льняные ткани ,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апирус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383720" y="2523960"/>
            <a:ext cx="1866240" cy="1812600"/>
            <a:chOff x="4383720" y="2523960"/>
            <a:chExt cx="1866240" cy="1812600"/>
          </a:xfrm>
        </p:grpSpPr>
        <p:sp>
          <p:nvSpPr>
            <p:cNvPr id="654" name=""/>
            <p:cNvSpPr/>
            <p:nvPr/>
          </p:nvSpPr>
          <p:spPr>
            <a:xfrm>
              <a:off x="4383720" y="3876840"/>
              <a:ext cx="17625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Зерно,раб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8600">
              <a:off x="4933800" y="3085560"/>
              <a:ext cx="1523880" cy="380880"/>
            </a:xfrm>
            <a:prstGeom prst="leftArrow">
              <a:avLst>
                <a:gd name="adj1" fmla="val 50000"/>
                <a:gd name="adj2" fmla="val 1000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78600" y="3789360"/>
            <a:ext cx="3344760" cy="1645920"/>
            <a:chOff x="2478600" y="3789360"/>
            <a:chExt cx="3344760" cy="1645920"/>
          </a:xfrm>
        </p:grpSpPr>
        <p:sp>
          <p:nvSpPr>
            <p:cNvPr id="657" name=""/>
            <p:cNvSpPr/>
            <p:nvPr/>
          </p:nvSpPr>
          <p:spPr>
            <a:xfrm>
              <a:off x="3440520" y="3789360"/>
              <a:ext cx="238284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лоновая к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9307200">
              <a:off x="2483640" y="4474440"/>
              <a:ext cx="2227320" cy="515880"/>
            </a:xfrm>
            <a:prstGeom prst="leftArrow">
              <a:avLst>
                <a:gd name="adj1" fmla="val 50000"/>
                <a:gd name="adj2" fmla="val 107938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78440" y="3886200"/>
            <a:ext cx="2384280" cy="485640"/>
            <a:chOff x="4078440" y="3886200"/>
            <a:chExt cx="2384280" cy="485640"/>
          </a:xfrm>
        </p:grpSpPr>
        <p:sp>
          <p:nvSpPr>
            <p:cNvPr id="660" name=""/>
            <p:cNvSpPr/>
            <p:nvPr/>
          </p:nvSpPr>
          <p:spPr>
            <a:xfrm>
              <a:off x="4078440" y="3886200"/>
              <a:ext cx="14853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талл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34120" y="3962520"/>
          <a:ext cx="9144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914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98240" y="1523880"/>
            <a:ext cx="2995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Чужеземные купцы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за право торговать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в Афинах платил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пошлин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356000" y="2565360"/>
            <a:ext cx="1605240" cy="1589040"/>
            <a:chOff x="4356000" y="2565360"/>
            <a:chExt cx="1605240" cy="1589040"/>
          </a:xfrm>
        </p:grpSpPr>
        <p:pic>
          <p:nvPicPr>
            <p:cNvPr id="666" name="" descr=""/>
            <p:cNvPicPr/>
            <p:nvPr/>
          </p:nvPicPr>
          <p:blipFill>
            <a:blip r:embed="rId5"/>
            <a:stretch/>
          </p:blipFill>
          <p:spPr>
            <a:xfrm>
              <a:off x="4356000" y="25653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6"/>
            <a:stretch/>
          </p:blipFill>
          <p:spPr>
            <a:xfrm>
              <a:off x="4508640" y="27176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7"/>
            <a:stretch/>
          </p:blipFill>
          <p:spPr>
            <a:xfrm>
              <a:off x="4660920" y="287028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8"/>
            <a:stretch/>
          </p:blipFill>
          <p:spPr>
            <a:xfrm>
              <a:off x="4813200" y="30225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9"/>
            <a:stretch/>
          </p:blipFill>
          <p:spPr>
            <a:xfrm>
              <a:off x="4965840" y="31748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0"/>
            <a:stretch/>
          </p:blipFill>
          <p:spPr>
            <a:xfrm>
              <a:off x="5118120" y="3327480"/>
              <a:ext cx="8431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3666600" y="2349360"/>
            <a:ext cx="2680200" cy="8254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ливковое масло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89720" y="4724280"/>
            <a:ext cx="145332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мфоры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91960" y="3716280"/>
            <a:ext cx="196380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Ювелирные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кра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60960" y="3809880"/>
            <a:ext cx="8863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4290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80" y="1523880"/>
            <a:ext cx="171684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з Греци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возил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3" descr="180px-Solon.jpg"/>
          <p:cNvPicPr/>
          <p:nvPr/>
        </p:nvPicPr>
        <p:blipFill>
          <a:blip r:embed="rId1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5" descr=""/>
          <p:cNvPicPr/>
          <p:nvPr/>
        </p:nvPicPr>
        <p:blipFill>
          <a:blip r:embed="rId2"/>
          <a:stretch/>
        </p:blipFill>
        <p:spPr>
          <a:xfrm>
            <a:off x="3429000" y="4840200"/>
            <a:ext cx="6102360" cy="12556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00720" y="1916280"/>
            <a:ext cx="35049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01770" dir="15321023" blurRad="0" rotWithShape="0">
                    <a:srgbClr val="cc0000">
                      <a:alpha val="50000"/>
                    </a:srgbClr>
                  </a:outerShdw>
                </a:effectLst>
                <a:latin typeface="Impact"/>
              </a:rPr>
              <a:t>Сол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01770" dir="15321023" blurRad="0" rotWithShape="0">
                  <a:srgbClr val="cc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1" name="Рисунок 3" descr="180px-Solon.jpg"/>
          <p:cNvPicPr/>
          <p:nvPr/>
        </p:nvPicPr>
        <p:blipFill>
          <a:blip r:embed="rId5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ерикл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49568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икл отдавал госу-дарственным делам всего себ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Его друзьями были-драматург Софокл,ис-торик Геродот, скуль-птор Фиди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о Перикла окружали и враги пытавшиеся опорочить стратега и его друз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1096920"/>
            <a:ext cx="3201840" cy="492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2" dur="1" fill="hold"/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  <a:effectLst>
            <a:outerShdw dist="89808" dir="4916091" blurRad="0" rotWithShape="0">
              <a:srgbClr val="00005b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687" name=""/>
          <p:cNvSpPr/>
          <p:nvPr/>
        </p:nvSpPr>
        <p:spPr>
          <a:xfrm>
            <a:off x="2665800" y="620640"/>
            <a:ext cx="4807440" cy="5814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  <a:effectLst>
            <a:outerShdw dist="140247" dir="16509269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1" dur="1" fill="hold"/>
                                  <p:tgtEl>
                                    <p:spTgt spid="6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371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305928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Фемистокл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6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8861400" y="6237360"/>
            <a:ext cx="282600" cy="144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2"/>
          <a:stretch/>
        </p:blipFill>
        <p:spPr>
          <a:xfrm>
            <a:off x="8820000" y="6453360"/>
            <a:ext cx="324000" cy="182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7680" cy="1268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61549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3025800" cy="2325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7537320" y="2997360"/>
            <a:ext cx="1606680" cy="1512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1116000" y="580536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 rot="20698200">
            <a:off x="7020000" y="566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236000" y="5661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4284720" y="56196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4"/>
          <a:stretch/>
        </p:blipFill>
        <p:spPr>
          <a:xfrm>
            <a:off x="8172360" y="5300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5"/>
          <a:stretch/>
        </p:blipFill>
        <p:spPr>
          <a:xfrm>
            <a:off x="8388360" y="537372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6"/>
          <a:stretch/>
        </p:blipFill>
        <p:spPr>
          <a:xfrm>
            <a:off x="900000" y="5084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7"/>
          <a:stretch/>
        </p:blipFill>
        <p:spPr>
          <a:xfrm>
            <a:off x="611280" y="501336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8"/>
          <a:stretch/>
        </p:blipFill>
        <p:spPr>
          <a:xfrm>
            <a:off x="3059280" y="6165720"/>
            <a:ext cx="475920" cy="6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9"/>
          <a:stretch/>
        </p:blipFill>
        <p:spPr>
          <a:xfrm>
            <a:off x="81010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0"/>
          <a:stretch/>
        </p:blipFill>
        <p:spPr>
          <a:xfrm>
            <a:off x="5940360" y="537372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1"/>
          <a:stretch/>
        </p:blipFill>
        <p:spPr>
          <a:xfrm>
            <a:off x="3203640" y="5516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2"/>
          <a:stretch/>
        </p:blipFill>
        <p:spPr>
          <a:xfrm rot="19273800">
            <a:off x="5292720" y="53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3"/>
          <a:stretch/>
        </p:blipFill>
        <p:spPr>
          <a:xfrm rot="19531800">
            <a:off x="323640" y="5660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4"/>
          <a:stretch/>
        </p:blipFill>
        <p:spPr>
          <a:xfrm>
            <a:off x="2340000" y="5300640"/>
            <a:ext cx="792000" cy="1019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5"/>
          <a:stretch/>
        </p:blipFill>
        <p:spPr>
          <a:xfrm>
            <a:off x="6084720" y="5838840"/>
            <a:ext cx="792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5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5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87280" y="1557360"/>
            <a:ext cx="712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lamingo"/>
              </a:rPr>
              <a:t>М и ф</a:t>
            </a:r>
            <a:endParaRPr b="0" lang="en-US" sz="24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lamingo"/>
              <a:ea typeface="Flamin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Comic Sans MS"/>
              </a:rPr>
              <a:t>БОГИ ГРЕ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371600" cy="41623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28954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62160" y="2743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Посейдон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бог мор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2000" cy="5181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5333760" y="190512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Зев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неб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21956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39430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ид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в царстве мёртвых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961080" cy="47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верховнаябогиня, жена бога неба Зевс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70828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114800" y="198072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ртемид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ей охоты, гор и лесов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9960" cy="4572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635280" y="1218960"/>
            <a:ext cx="550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фин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иня мудрости и справедливой войны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343400" y="1752480"/>
            <a:ext cx="431784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фродит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любви и красоты</a:t>
            </a:r>
            <a:r>
              <a:rPr b="0" lang="ru-RU" sz="6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Демет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земледели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52578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athena.jpg"/>
          <p:cNvPicPr/>
          <p:nvPr/>
        </p:nvPicPr>
        <p:blipFill>
          <a:blip r:embed="rId1"/>
          <a:stretch/>
        </p:blipFill>
        <p:spPr>
          <a:xfrm>
            <a:off x="3780000" y="692280"/>
            <a:ext cx="1960560" cy="273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826920" y="2205000"/>
            <a:ext cx="756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4000">
                  <a:solidFill>
                    <a:srgbClr val="8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Arlekino"/>
              </a:rPr>
              <a:t>Древняя Греция</a:t>
            </a:r>
            <a:endParaRPr b="1" lang="en-US" sz="2400" spc="1" strike="noStrike">
              <a:ln w="54000">
                <a:solidFill>
                  <a:srgbClr val="8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Arlekino"/>
              <a:ea typeface="Arlekino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684360" y="6400800"/>
            <a:ext cx="771660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2160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505320" y="533520"/>
            <a:ext cx="5410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Дионис –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бог плодоносящих сил земли, растительности, виноградарства, виноделия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91924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190760" y="1383840"/>
            <a:ext cx="43210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фест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огня и кузнечного дела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43200" cy="4800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525780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Гермес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вестник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ов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297468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267080" y="2286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ре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 войн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2755800" cy="5181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0" y="6262560"/>
            <a:ext cx="341964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. «Песнь козлов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84320" y="6361200"/>
            <a:ext cx="27424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2.Предмет для письм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0" y="6324480"/>
            <a:ext cx="51372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3.Участник Олимпийских игр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0" y="6324480"/>
            <a:ext cx="41911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4. «Место для зрелищ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0" y="6248520"/>
            <a:ext cx="72388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5.Центральная площадь Афин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0" y="6248520"/>
            <a:ext cx="66294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6.Место выступления актеров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16000" y="1041840"/>
            <a:ext cx="6432480" cy="5031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1.Страна Греция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2.Историческая личность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3.Боги и мифы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4.Тесты по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5.Разгадай кроссворд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6.Хронологический конкурс</a:t>
            </a:r>
            <a:r>
              <a:rPr b="1" lang="en-US" sz="3200" spc="-1" strike="noStrike">
                <a:solidFill>
                  <a:srgbClr val="f8f8f8"/>
                </a:solidFill>
                <a:latin typeface="Rubiu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0" y="638496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b"/>
                </a:solidFill>
                <a:latin typeface="Times New Roman Cyr"/>
              </a:rPr>
              <a:t>7.Трагедия Софокл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8.Место декорац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9. «Веселое шествие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0" y="6248520"/>
            <a:ext cx="42670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0.Место соревнован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11280" y="3429000"/>
            <a:ext cx="439236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Первые Олимпийские игры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1280" y="4508640"/>
            <a:ext cx="453528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Перикла стратего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280" y="573408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Поход Ал.Македонск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На Восток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9640" y="227664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Солона архон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119700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Троянская вой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2360" y="1197000"/>
            <a:ext cx="2808360" cy="863640"/>
          </a:xfrm>
          <a:prstGeom prst="leftArrowCallout">
            <a:avLst>
              <a:gd name="adj1" fmla="val 25002"/>
              <a:gd name="adj2" fmla="val 25000"/>
              <a:gd name="adj3" fmla="val 54196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3640" y="2276640"/>
            <a:ext cx="2737080" cy="863280"/>
          </a:xfrm>
          <a:prstGeom prst="leftArrowCallout">
            <a:avLst>
              <a:gd name="adj1" fmla="val 25002"/>
              <a:gd name="adj2" fmla="val 25000"/>
              <a:gd name="adj3" fmla="val 52843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76720" y="342900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8360" y="4581360"/>
            <a:ext cx="2592360" cy="863640"/>
          </a:xfrm>
          <a:prstGeom prst="leftArrowCallout">
            <a:avLst>
              <a:gd name="adj1" fmla="val 25002"/>
              <a:gd name="adj2" fmla="val 25000"/>
              <a:gd name="adj3" fmla="val 50028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6720" y="573408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16720" y="1197000"/>
            <a:ext cx="865080" cy="936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12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8000" y="2276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59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16720" y="335772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77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6720" y="4508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44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16720" y="573408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189000"/>
            <a:ext cx="439272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итва при Хероне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32360" y="189000"/>
            <a:ext cx="2881440" cy="863640"/>
          </a:xfrm>
          <a:prstGeom prst="leftArrowCallout">
            <a:avLst>
              <a:gd name="adj1" fmla="val 25002"/>
              <a:gd name="adj2" fmla="val 25000"/>
              <a:gd name="adj3" fmla="val 55607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189000"/>
            <a:ext cx="865080" cy="936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2340000" y="5877000"/>
            <a:ext cx="453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иртаки</a:t>
            </a:r>
            <a:endParaRPr b="0" lang="en-US" sz="2400" spc="1" strike="noStrike">
              <a:ln w="2844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5.0)">
                                      <p:cBhvr>
                                        <p:cTn id="894" dur="188475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780000" y="3581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432000" cy="3380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932360" y="5732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148360" y="4559400"/>
            <a:ext cx="431640" cy="409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71640" y="213372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8920" y="270828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19280" y="328464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220500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1835280" y="249228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2124000" y="3716280"/>
            <a:ext cx="935280" cy="630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 flipH="1" rot="4988400">
            <a:off x="2918160" y="17686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5940360" y="19162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 flipH="1" rot="4384800">
            <a:off x="3135600" y="22741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 flipH="1" rot="4386600">
            <a:off x="3494520" y="2776320"/>
            <a:ext cx="626760" cy="346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 flipH="1" rot="3121200">
            <a:off x="4070880" y="3209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 flipH="1" rot="8646600">
            <a:off x="4066920" y="386064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 flipH="1" rot="8894400">
            <a:off x="3708000" y="414936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6"/>
          <a:stretch/>
        </p:blipFill>
        <p:spPr>
          <a:xfrm flipH="1" rot="8894400">
            <a:off x="3276000" y="458100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7"/>
          <a:stretch/>
        </p:blipFill>
        <p:spPr>
          <a:xfrm flipH="1" rot="9466800">
            <a:off x="2842560" y="50846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8"/>
          <a:stretch/>
        </p:blipFill>
        <p:spPr>
          <a:xfrm flipH="1" rot="12831000">
            <a:off x="2194920" y="4941720"/>
            <a:ext cx="626760" cy="346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9"/>
          <a:stretch/>
        </p:blipFill>
        <p:spPr>
          <a:xfrm flipH="1" rot="13297800">
            <a:off x="1547640" y="45079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0"/>
          <a:stretch/>
        </p:blipFill>
        <p:spPr>
          <a:xfrm flipH="1" rot="15796200">
            <a:off x="1116000" y="400392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1"/>
          <a:stretch/>
        </p:blipFill>
        <p:spPr>
          <a:xfrm flipH="1" rot="15796200">
            <a:off x="830160" y="3353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2"/>
          <a:stretch/>
        </p:blipFill>
        <p:spPr>
          <a:xfrm flipH="1" rot="15796200">
            <a:off x="399240" y="2705400"/>
            <a:ext cx="627120" cy="346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3"/>
          <a:stretch/>
        </p:blipFill>
        <p:spPr>
          <a:xfrm flipH="1" rot="16270800">
            <a:off x="109440" y="2056680"/>
            <a:ext cx="626760" cy="345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4"/>
          <a:stretch/>
        </p:blipFill>
        <p:spPr>
          <a:xfrm>
            <a:off x="2916360" y="4221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"/>
                            </p:stCondLst>
                            <p:childTnLst>
                              <p:par>
                                <p:cTn id="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6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70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8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51640" cy="504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39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afinu_2.jpg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7" name="Рисунок 9" descr="olivetree.jpg"/>
          <p:cNvPicPr/>
          <p:nvPr/>
        </p:nvPicPr>
        <p:blipFill>
          <a:blip r:embed="rId1"/>
          <a:stretch/>
        </p:blipFill>
        <p:spPr>
          <a:xfrm>
            <a:off x="1258920" y="1052640"/>
            <a:ext cx="5441760" cy="560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6001200" y="1063080"/>
            <a:ext cx="2162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65520" cy="396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886200" cy="3743640"/>
          </a:xfrm>
          <a:prstGeom prst="rect">
            <a:avLst/>
          </a:prstGeom>
          <a:ln w="0">
            <a:noFill/>
          </a:ln>
        </p:spPr>
      </p:pic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6920" y="5734080"/>
            <a:ext cx="505080" cy="6094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062">
                <a:moveTo>
                  <a:pt x="0" y="0"/>
                </a:moveTo>
                <a:lnTo>
                  <a:pt x="21600" y="0"/>
                </a:lnTo>
                <a:lnTo>
                  <a:pt x="21600" y="26062"/>
                </a:lnTo>
                <a:lnTo>
                  <a:pt x="0" y="26062"/>
                </a:lnTo>
                <a:close/>
              </a:path>
              <a:path fill="lightenLess" w="21600" h="26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2">
                <a:moveTo>
                  <a:pt x="21600" y="0"/>
                </a:moveTo>
                <a:lnTo>
                  <a:pt x="21600" y="26062"/>
                </a:lnTo>
                <a:lnTo>
                  <a:pt x="20200" y="24662"/>
                </a:lnTo>
                <a:lnTo>
                  <a:pt x="20200" y="1400"/>
                </a:lnTo>
                <a:close/>
              </a:path>
              <a:path fill="darkenLess" w="21600" h="26062">
                <a:moveTo>
                  <a:pt x="21600" y="26062"/>
                </a:moveTo>
                <a:lnTo>
                  <a:pt x="0" y="26062"/>
                </a:lnTo>
                <a:lnTo>
                  <a:pt x="1400" y="24662"/>
                </a:lnTo>
                <a:lnTo>
                  <a:pt x="20200" y="24662"/>
                </a:lnTo>
                <a:close/>
              </a:path>
              <a:path fill="lighten" w="21600" h="26062">
                <a:moveTo>
                  <a:pt x="0" y="26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2"/>
                </a:lnTo>
                <a:close/>
              </a:path>
              <a:path fill="darken" w="21600" h="26062">
                <a:moveTo>
                  <a:pt x="3794" y="6024"/>
                </a:moveTo>
                <a:lnTo>
                  <a:pt x="17806" y="13031"/>
                </a:lnTo>
                <a:lnTo>
                  <a:pt x="3794" y="20037"/>
                </a:ln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8T09:16:36Z</dcterms:created>
  <dc:creator>ЧЕРНОВ АЛЕКСЕЙ</dc:creator>
  <dc:description/>
  <dc:language>en-US</dc:language>
  <cp:lastModifiedBy>Admin</cp:lastModifiedBy>
  <dcterms:modified xsi:type="dcterms:W3CDTF">2009-12-28T20:48:44Z</dcterms:modified>
  <cp:revision>59</cp:revision>
  <dc:subject/>
  <dc:title>Заголовок слайда отсутствует</dc:title>
</cp:coreProperties>
</file>