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4.png" ContentType="image/png"/>
  <Override PartName="/ppt/media/image1.png" ContentType="image/png"/>
  <Override PartName="/ppt/media/image3.jpeg" ContentType="image/jpeg"/>
  <Override PartName="/ppt/media/image37.jpeg" ContentType="image/jpeg"/>
  <Override PartName="/ppt/media/image23.jpeg" ContentType="image/jpeg"/>
  <Override PartName="/ppt/media/image2.jpeg" ContentType="image/jpeg"/>
  <Override PartName="/ppt/media/image36.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50.png" ContentType="image/png"/>
  <Override PartName="/ppt/media/image29.jpeg" ContentType="image/jpeg"/>
  <Override PartName="/ppt/media/image52.jpeg" ContentType="image/jpeg"/>
  <Override PartName="/ppt/media/image10.jpeg" ContentType="image/jpeg"/>
  <Override PartName="/ppt/media/image42.jpeg" ContentType="image/jpeg"/>
  <Override PartName="/ppt/media/image43.jpeg" ContentType="image/jpeg"/>
  <Override PartName="/ppt/media/image45.jpeg" ContentType="image/jpeg"/>
  <Override PartName="/ppt/media/image35.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4.png" ContentType="image/png"/>
  <Override PartName="/ppt/media/image40.jpeg" ContentType="image/jpeg"/>
  <Override PartName="/ppt/media/image13.jpeg" ContentType="image/jpeg"/>
  <Override PartName="/ppt/media/image34.png" ContentType="image/png"/>
  <Override PartName="/ppt/media/image12.jpeg" ContentType="image/jpeg"/>
  <Override PartName="/ppt/media/image11.png" ContentType="image/png"/>
  <Override PartName="/ppt/media/image9.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39.jpeg" ContentType="image/jpeg"/>
  <Override PartName="/ppt/media/image8.png" ContentType="image/png"/>
  <Override PartName="/ppt/media/image41.jpeg" ContentType="image/jpeg"/>
  <Override PartName="/ppt/media/image14.jpeg" ContentType="image/jpe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AD9707E-4639-48BF-B5F2-26E5D8A8A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87CB336-E5FB-43EA-9931-F18A52A0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105721-2422-4E35-9A5E-306A5BBF7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BD64B7D-5396-482D-8F2B-75E5FA397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B9C35F-77BC-43D2-979F-ED63ACFC6E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48072-590D-4C1D-93D0-11531A200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B6B5C-3251-4277-B8D9-62D8B74FB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DE904-7223-4195-BE90-7E3AA2D71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1242C-9427-4259-A4A5-03F2024FF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DECF9-841A-4091-82AB-559563DB9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D63F6-B5C9-4EF1-A3BF-64E96EB7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6E49693-84CC-4D02-8AA5-3FB29FABE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08105-9CCB-42A6-A81B-419C029D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D9D09-CB3C-4C44-911D-735B832E5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7432B-C207-4546-8783-C9699D486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3D802-3BBA-440F-8985-F0AEDA541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BE3D8-5CDB-41BE-91DB-CA709CE73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DA3196-31E9-4D3D-97B8-070F4D8B6F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3A050-E925-4FD9-8824-27F569F8F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4DA8B-AA8F-448E-B250-06B5FD5171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E6C47-9F24-447E-BC02-868A24619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3B658-A743-4ABB-B499-69909F17A2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6A630B-5C01-4C0B-8146-006AE3E03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C573D8-6EE4-4AB4-9E02-C4B274E66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D8CF6-BE29-4593-A36D-029509C04B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E07FB1-CA2A-4AC6-B295-8D013AC5E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E4C66-59A6-4993-ACEE-5429A85D6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38EB0F-E769-4E84-BAC4-5A4392D21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494FB9-47A9-4104-AD3F-39736F6D2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413B50-41E1-431A-9BA0-6681E8572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1A49A8-49D0-49CB-94E7-DBB5900AB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5A4290-32F2-40AA-919A-2AB228DAE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ABB1E74-A46B-4B6B-9C33-88BE8C35E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85061A-3C76-4504-81AA-D2C92C651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EA150CF-680C-4CCC-B79F-C840937B6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BA243B-A1B8-4298-A45F-C90800210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4648-5FB4-4971-AEE0-4E44D00A62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EC8E-4A66-4E2F-B547-DCF3310CB7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3C4C-499A-4553-B8E5-90F013CFC4F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slide" Target="slide20.xml"/><Relationship Id="rId7" Type="http://schemas.openxmlformats.org/officeDocument/2006/relationships/slide" Target="slide26.xml"/><Relationship Id="rId8"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jpeg"/><Relationship Id="rId3"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99640" y="620280"/>
            <a:ext cx="7704360" cy="863640"/>
          </a:xfrm>
          <a:prstGeom prst="rect">
            <a:avLst/>
          </a:prstGeom>
          <a:solidFill>
            <a:srgbClr val="f5edcf"/>
          </a:solidFill>
          <a:ln w="9360">
            <a:solidFill>
              <a:srgbClr val="0000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Georgia"/>
              </a:rPr>
              <a:t>Мифы Древней Греции</a:t>
            </a:r>
            <a:endParaRPr b="0" lang="en-US" sz="4400" spc="-1" strike="noStrike">
              <a:solidFill>
                <a:srgbClr val="000000"/>
              </a:solidFill>
              <a:latin typeface="Arial"/>
            </a:endParaRPr>
          </a:p>
        </p:txBody>
      </p:sp>
      <p:sp>
        <p:nvSpPr>
          <p:cNvPr id="141" name=""/>
          <p:cNvSpPr/>
          <p:nvPr/>
        </p:nvSpPr>
        <p:spPr>
          <a:xfrm>
            <a:off x="5796000" y="56610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3357720"/>
            <a:ext cx="8229600" cy="3240000"/>
          </a:xfrm>
          <a:prstGeom prst="rect">
            <a:avLst/>
          </a:prstGeom>
          <a:noFill/>
          <a:ln w="0">
            <a:noFill/>
          </a:ln>
        </p:spPr>
        <p:txBody>
          <a:bodyPr lIns="90000" rIns="90000" tIns="46800" bIns="46800"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Могучи и грозны были их противники титаны. Но Зевсу на помощь пришли циклопы. Они выковали ему громы и молнии, их метал Зевс в титанов. Борьба длилась уже десять лет, но победа не склонялась ни на ту, ни на другую сторону. </a:t>
            </a:r>
            <a:endParaRPr b="0" lang="en-US" sz="3200" spc="-1" strike="noStrike">
              <a:solidFill>
                <a:srgbClr val="000000"/>
              </a:solidFill>
              <a:latin typeface="Arial"/>
            </a:endParaRPr>
          </a:p>
        </p:txBody>
      </p:sp>
      <p:pic>
        <p:nvPicPr>
          <p:cNvPr id="163" name="" descr=""/>
          <p:cNvPicPr/>
          <p:nvPr/>
        </p:nvPicPr>
        <p:blipFill>
          <a:blip r:embed="rId2"/>
          <a:stretch/>
        </p:blipFill>
        <p:spPr>
          <a:xfrm>
            <a:off x="3348000" y="115920"/>
            <a:ext cx="2705040" cy="33051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620640"/>
            <a:ext cx="8229600" cy="5965920"/>
          </a:xfrm>
          <a:prstGeom prst="rect">
            <a:avLst/>
          </a:prstGeom>
          <a:noFill/>
          <a:ln w="0">
            <a:noFill/>
          </a:ln>
        </p:spPr>
        <p:txBody>
          <a:bodyPr lIns="90000" rIns="90000" tIns="46800" bIns="46800" anchor="t">
            <a:normAutofit fontScale="92000"/>
          </a:bodyPr>
          <a:p>
            <a:pPr marL="31536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Наконец, решился Зевс освободить из недр земли сторуких великанов-гекатонхейров; он их призвал на помощь. Ужасные, громадные, как горы, вышли они из недр земли и ринулись в бой. Они отрывали от гор целые скалы и бросали их в титанов. Сотнями летели скалы навстречу титанам, когда они подступили к Олимпу. Стонала земля, грохот наполнил воздух, все кругом колебалось. Даже Тартар содрогался от этой борьбы.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08000" y="2637000"/>
            <a:ext cx="8856720" cy="4032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Зевс метал одну за другой пламенные молнии и оглушительно рокочущие громы. Огонь охватил всю землю, моря кипели, дым и смрад заволокли все густой пеленой.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Наконец, могучие титаны дрогнули. Их сила была сломлена, они были побеждены. Олимпийцы сковали их и низвергли в мрачный Тартар, в вековечную тьму. У медных несокрушимых врат Тартара на стражу стали сторукие гекатонхейры, и стерегут они, чтобы не вырвались опять на свободу из Тартара могучие титаны. Власть титанов в мире миновала. </a:t>
            </a:r>
            <a:endParaRPr b="0" lang="en-US" sz="2400" spc="-1" strike="noStrike">
              <a:solidFill>
                <a:srgbClr val="000000"/>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 name="" descr=""/>
          <p:cNvPicPr/>
          <p:nvPr/>
        </p:nvPicPr>
        <p:blipFill>
          <a:blip r:embed="rId2"/>
          <a:stretch/>
        </p:blipFill>
        <p:spPr>
          <a:xfrm>
            <a:off x="2843280" y="189000"/>
            <a:ext cx="3797280" cy="2519280"/>
          </a:xfrm>
          <a:prstGeom prst="rect">
            <a:avLst/>
          </a:prstGeom>
          <a:ln w="9360">
            <a:solidFill>
              <a:srgbClr val="00ffff"/>
            </a:solidFill>
            <a:miter/>
          </a:ln>
        </p:spPr>
      </p:pic>
      <p:sp>
        <p:nvSpPr>
          <p:cNvPr id="16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8900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БОРЬБА ЗЕВСА С ТИФОНОМ</a:t>
            </a:r>
            <a:endParaRPr b="0" lang="en-US" sz="4400" spc="-1" strike="noStrike">
              <a:solidFill>
                <a:srgbClr val="000000"/>
              </a:solidFill>
              <a:latin typeface="Arial"/>
            </a:endParaRPr>
          </a:p>
        </p:txBody>
      </p:sp>
      <p:sp>
        <p:nvSpPr>
          <p:cNvPr id="169" name="PlaceHolder 2"/>
          <p:cNvSpPr>
            <a:spLocks noGrp="1"/>
          </p:cNvSpPr>
          <p:nvPr>
            <p:ph/>
          </p:nvPr>
        </p:nvSpPr>
        <p:spPr>
          <a:xfrm>
            <a:off x="324000" y="1197000"/>
            <a:ext cx="8208720" cy="302400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не окончилась этим борьба. Гея-Земля разгневалась на олимпийца Зевса за то, что он так сурово поступил с ее побежденными детьми-титанами. Она вступила в брак с мрачным Тартаром и произвела на свет ужасное стоголовое чудовище Тифона. Громадный, с сотней драконовых голов, поднялся Тифон из недр земли. </a:t>
            </a:r>
            <a:endParaRPr b="0" lang="en-US" sz="2800" spc="-1" strike="noStrike">
              <a:solidFill>
                <a:srgbClr val="000000"/>
              </a:solidFill>
              <a:latin typeface="Arial"/>
            </a:endParaRPr>
          </a:p>
        </p:txBody>
      </p:sp>
      <p:pic>
        <p:nvPicPr>
          <p:cNvPr id="170" name="" descr=""/>
          <p:cNvPicPr/>
          <p:nvPr/>
        </p:nvPicPr>
        <p:blipFill>
          <a:blip r:embed="rId2"/>
          <a:stretch/>
        </p:blipFill>
        <p:spPr>
          <a:xfrm>
            <a:off x="2268360" y="4149720"/>
            <a:ext cx="4786560" cy="25192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0" y="404280"/>
            <a:ext cx="4114800" cy="5721480"/>
          </a:xfrm>
          <a:prstGeom prst="rect">
            <a:avLst/>
          </a:prstGeom>
          <a:noFill/>
          <a:ln w="0">
            <a:noFill/>
          </a:ln>
        </p:spPr>
        <p:txBody>
          <a:bodyPr lIns="90000" rIns="90000" tIns="46800" bIns="46800" anchor="t">
            <a:normAutofit fontScale="90000"/>
          </a:bodyPr>
          <a:p>
            <a:pPr marL="3085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Диким воем всколебал он воздух. Лай собак, человеческие голоса, рев разъяренного быка, рыканье льва слышались в этом вое. Бурное пламя клубилось вокруг Тифона, и земля колебалась под его тяжкими шагами. Боги содрогнулись от ужаса Но смело ринулся на него Зевс-громовержец, и загорелся бой. </a:t>
            </a:r>
            <a:endParaRPr b="0" lang="en-US" sz="2800" spc="-1" strike="noStrike">
              <a:solidFill>
                <a:srgbClr val="000000"/>
              </a:solidFill>
              <a:latin typeface="Arial"/>
            </a:endParaRPr>
          </a:p>
        </p:txBody>
      </p:sp>
      <p:pic>
        <p:nvPicPr>
          <p:cNvPr id="172" name="" descr=""/>
          <p:cNvPicPr/>
          <p:nvPr/>
        </p:nvPicPr>
        <p:blipFill>
          <a:blip r:embed="rId2"/>
          <a:stretch/>
        </p:blipFill>
        <p:spPr>
          <a:xfrm>
            <a:off x="250920" y="907920"/>
            <a:ext cx="4041720" cy="503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250920" y="333360"/>
            <a:ext cx="8229600" cy="330048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Опять засверкали молнии в руках Зевса, раздались раскаты грома. Земля и небесный свод потряслись до основания. Ярким пламенем вспыхнула опять земля, как и во время борьбы с титанами. Моря кипели от одного приближения Тифона.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4" name="" descr=""/>
          <p:cNvPicPr/>
          <p:nvPr/>
        </p:nvPicPr>
        <p:blipFill>
          <a:blip r:embed="rId2"/>
          <a:stretch/>
        </p:blipFill>
        <p:spPr>
          <a:xfrm>
            <a:off x="2843280" y="3789360"/>
            <a:ext cx="3387600" cy="26640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04280"/>
            <a:ext cx="4619520" cy="5721480"/>
          </a:xfrm>
          <a:prstGeom prst="rect">
            <a:avLst/>
          </a:prstGeom>
          <a:noFill/>
          <a:ln w="0">
            <a:noFill/>
          </a:ln>
        </p:spPr>
        <p:txBody>
          <a:bodyPr lIns="90000" rIns="90000" tIns="46800" bIns="46800" anchor="t">
            <a:normAutofit fontScale="90000"/>
          </a:bodyPr>
          <a:p>
            <a:pPr marL="308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Сотнями сыпались огненные стрелы-молнии громовержца Зевса; казалось, что от их огня горит самый воздух и горят темные грозовые тучи. Зевс испепелил Тифону все его сто голов. Рухнул Тифон на землю; от тела его исходил такой жар, что плавилось все кругом.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 descr=""/>
          <p:cNvPicPr/>
          <p:nvPr/>
        </p:nvPicPr>
        <p:blipFill>
          <a:blip r:embed="rId2"/>
          <a:stretch/>
        </p:blipFill>
        <p:spPr>
          <a:xfrm>
            <a:off x="5364000" y="2060640"/>
            <a:ext cx="3490920" cy="28796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3068280"/>
            <a:ext cx="8229600" cy="352908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поднял тело Тифона и низверг в мрачный Тартар, породивший его. Но и в Тартаре грозит еще Тифон богам и всему живому. Он вызывает бури и извержения; он породил с Ехидной, полуженщиной-полузмеей, ужасного двуглавого пса Орфа, адского пса Кербера, лернейскую гидру и Химеру; часто колеблет Тифон землю.</a:t>
            </a:r>
            <a:endParaRPr b="0" lang="en-US" sz="2800" spc="-1" strike="noStrike">
              <a:solidFill>
                <a:srgbClr val="000000"/>
              </a:solidFill>
              <a:latin typeface="Arial"/>
            </a:endParaRPr>
          </a:p>
        </p:txBody>
      </p:sp>
      <p:pic>
        <p:nvPicPr>
          <p:cNvPr id="178" name="" descr=""/>
          <p:cNvPicPr/>
          <p:nvPr/>
        </p:nvPicPr>
        <p:blipFill>
          <a:blip r:embed="rId2"/>
          <a:stretch/>
        </p:blipFill>
        <p:spPr>
          <a:xfrm>
            <a:off x="250920" y="189000"/>
            <a:ext cx="458784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4436640"/>
            <a:ext cx="8229600" cy="226548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обедили боги-олимпийцы своих врагов. Никто больше не мог противиться их власти. Они могли теперь спокойно править миром. Самый могущественный из них, громовержец Зевс, взял себе небо, Посейдон -- море, а Аид -- подземное царство душ умерших. </a:t>
            </a:r>
            <a:endParaRPr b="0" lang="en-US" sz="2800" spc="-1" strike="noStrike">
              <a:solidFill>
                <a:srgbClr val="000000"/>
              </a:solidFill>
              <a:latin typeface="Arial"/>
            </a:endParaRPr>
          </a:p>
        </p:txBody>
      </p:sp>
      <p:pic>
        <p:nvPicPr>
          <p:cNvPr id="180" name="" descr=""/>
          <p:cNvPicPr/>
          <p:nvPr/>
        </p:nvPicPr>
        <p:blipFill>
          <a:blip r:embed="rId2"/>
          <a:stretch/>
        </p:blipFill>
        <p:spPr>
          <a:xfrm>
            <a:off x="1763640" y="189000"/>
            <a:ext cx="5283360" cy="4101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Земля же осталась в общем владении. Хотя и поделили сыновья Крона между собой власть над миром, но все же над всеми ними царит повелитель неба Зевс; он правит людьми и богами, он ведает всем в мире.</a:t>
            </a:r>
            <a:endParaRPr b="0" lang="en-US" sz="3200" spc="-1" strike="noStrike">
              <a:solidFill>
                <a:srgbClr val="000000"/>
              </a:solidFill>
              <a:latin typeface="Arial"/>
            </a:endParaRPr>
          </a:p>
        </p:txBody>
      </p:sp>
      <p:sp>
        <p:nvSpPr>
          <p:cNvPr id="182"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68000" y="188640"/>
            <a:ext cx="8351640" cy="633564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2" action="ppaction://hlinksldjump"/>
              </a:rPr>
              <a:t>Введение</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3" action="ppaction://hlinksldjump"/>
              </a:rPr>
              <a:t>Зев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4" action="ppaction://hlinksldjump"/>
              </a:rPr>
              <a:t>Зевс свергает Крона. Борьба Богов-олимпийцев с титанами</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5" action="ppaction://hlinksldjump"/>
              </a:rPr>
              <a:t>Борьба Зевса с Тифоном</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6" action="ppaction://hlinksldjump"/>
              </a:rPr>
              <a:t>Гер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9999"/>
                </a:solidFill>
                <a:uFillTx/>
                <a:latin typeface="Felix Titling"/>
                <a:hlinkClick r:id="rId7" action="ppaction://hlinksldjump"/>
              </a:rPr>
              <a:t>Афродит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поллон</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Борьба Аполлона с Пифоном и основание дельфинийского оракула</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Арес</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Посейдон и Божества моря</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Felix Titling"/>
              </a:rPr>
              <a:t>Царство мрачного Аи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55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Georgia"/>
              </a:rPr>
              <a:t>ГЕРА</a:t>
            </a:r>
            <a:endParaRPr b="0" lang="en-US" sz="4400" spc="-1" strike="noStrike">
              <a:solidFill>
                <a:srgbClr val="000000"/>
              </a:solidFill>
              <a:latin typeface="Arial"/>
            </a:endParaRPr>
          </a:p>
        </p:txBody>
      </p:sp>
      <p:sp>
        <p:nvSpPr>
          <p:cNvPr id="184" name="PlaceHolder 2"/>
          <p:cNvSpPr>
            <a:spLocks noGrp="1"/>
          </p:cNvSpPr>
          <p:nvPr>
            <p:ph/>
          </p:nvPr>
        </p:nvSpPr>
        <p:spPr>
          <a:xfrm>
            <a:off x="456840" y="1600200"/>
            <a:ext cx="6202440" cy="4525920"/>
          </a:xfrm>
          <a:prstGeom prst="rect">
            <a:avLst/>
          </a:prstGeom>
          <a:noFill/>
          <a:ln w="0">
            <a:noFill/>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Felix Titling"/>
              </a:rPr>
              <a:t>Великая богиня Гера, жена эгидодержавного Зевса, покровительствует браку и охраняет святость и нерушимость брачных союзов. Она посылает супругам многочисленное потомство и благословляет мать во время рождения ребенка. </a:t>
            </a:r>
            <a:endParaRPr b="0" lang="en-US" sz="3200" spc="-1" strike="noStrike">
              <a:solidFill>
                <a:srgbClr val="000000"/>
              </a:solidFill>
              <a:latin typeface="Arial"/>
            </a:endParaRPr>
          </a:p>
        </p:txBody>
      </p:sp>
      <p:pic>
        <p:nvPicPr>
          <p:cNvPr id="185" name="" descr=""/>
          <p:cNvPicPr/>
          <p:nvPr/>
        </p:nvPicPr>
        <p:blipFill>
          <a:blip r:embed="rId2"/>
          <a:stretch/>
        </p:blipFill>
        <p:spPr>
          <a:xfrm>
            <a:off x="6588000" y="115920"/>
            <a:ext cx="2419560" cy="3305160"/>
          </a:xfrm>
          <a:prstGeom prst="rect">
            <a:avLst/>
          </a:prstGeom>
          <a:ln w="9360">
            <a:solidFill>
              <a:srgbClr val="ff00ff"/>
            </a:solidFill>
            <a:miter/>
          </a:ln>
        </p:spPr>
      </p:pic>
      <p:pic>
        <p:nvPicPr>
          <p:cNvPr id="186" name="" descr=""/>
          <p:cNvPicPr/>
          <p:nvPr/>
        </p:nvPicPr>
        <p:blipFill>
          <a:blip r:embed="rId3"/>
          <a:stretch/>
        </p:blipFill>
        <p:spPr>
          <a:xfrm>
            <a:off x="6948360" y="3933720"/>
            <a:ext cx="1621080" cy="201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78920" y="836280"/>
            <a:ext cx="5410440" cy="5289480"/>
          </a:xfrm>
          <a:prstGeom prst="rect">
            <a:avLst/>
          </a:prstGeom>
          <a:noFill/>
          <a:ln w="0">
            <a:noFill/>
          </a:ln>
        </p:spPr>
        <p:txBody>
          <a:bodyPr lIns="90000" rIns="90000" tIns="46800" bIns="46800" anchor="t">
            <a:normAutofit fontScale="95000"/>
          </a:bodyPr>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Felix Titling"/>
              </a:rPr>
              <a:t>Великую богиню Геру, после того как ее и ее братьев и сестер изверг из своих уст побежденный Зевсом Кров, мать ее Рея отнесла на край земли к седому Океану; там воспитала Геру Фетида. Гера долго жила вдали от Олимпа, в тиши и покое. </a:t>
            </a:r>
            <a:endParaRPr b="0" lang="en-US" sz="32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 descr=""/>
          <p:cNvPicPr/>
          <p:nvPr/>
        </p:nvPicPr>
        <p:blipFill>
          <a:blip r:embed="rId2"/>
          <a:stretch/>
        </p:blipFill>
        <p:spPr>
          <a:xfrm>
            <a:off x="5867280" y="1197000"/>
            <a:ext cx="3116520" cy="46814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067280" y="404280"/>
            <a:ext cx="4619520" cy="619308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еликий громовержец Зевс увидал ее, полюбил и похитил у Фетиды. Боги пышно справили свадьбу Зевса и Геры. Ирида и хариты облекли Геру в роскошные одежды, и она сияла своей юной, величественной красотой среди сонма богов Олимпа, сидя на золотом троне рядом с великим царем богов и людей Зевсом. </a:t>
            </a:r>
            <a:endParaRPr b="0" lang="en-US" sz="2800" spc="-1" strike="noStrike">
              <a:solidFill>
                <a:srgbClr val="000000"/>
              </a:solidFill>
              <a:latin typeface="Arial"/>
            </a:endParaRPr>
          </a:p>
        </p:txBody>
      </p:sp>
      <p:pic>
        <p:nvPicPr>
          <p:cNvPr id="190" name="" descr=""/>
          <p:cNvPicPr/>
          <p:nvPr/>
        </p:nvPicPr>
        <p:blipFill>
          <a:blip r:embed="rId2"/>
          <a:stretch/>
        </p:blipFill>
        <p:spPr>
          <a:xfrm>
            <a:off x="539640" y="1557360"/>
            <a:ext cx="3519720" cy="431964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708000" y="620640"/>
            <a:ext cx="4907160" cy="45259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Все боги подносили дары повелительнице Гере, а богиня Земля-Гея вырастила из недр своих в дар Гере дивную яблоню с золотыми плодами. Все в природе славило царицу Геру и царя Зевса.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   </a:t>
            </a:r>
            <a:r>
              <a:rPr b="1" lang="ru-RU" sz="2400" spc="-1" strike="noStrike">
                <a:solidFill>
                  <a:srgbClr val="ffff00"/>
                </a:solidFill>
                <a:latin typeface="Felix Titling"/>
              </a:rPr>
              <a:t>Гера царит на высоком Олимпе. Повелевает она, как и муж ее Зевс, громами и молниями, по слову ее покрывают темные дождевые тучи небо, мановением руки подымает она грозные бури.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 descr=""/>
          <p:cNvPicPr/>
          <p:nvPr/>
        </p:nvPicPr>
        <p:blipFill>
          <a:blip r:embed="rId2"/>
          <a:stretch/>
        </p:blipFill>
        <p:spPr>
          <a:xfrm>
            <a:off x="395280" y="692280"/>
            <a:ext cx="3022560" cy="514332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79280" y="260280"/>
            <a:ext cx="4897440" cy="6337440"/>
          </a:xfrm>
          <a:prstGeom prst="rect">
            <a:avLst/>
          </a:prstGeom>
          <a:noFill/>
          <a:ln w="0">
            <a:noFill/>
          </a:ln>
        </p:spPr>
        <p:txBody>
          <a:bodyPr lIns="90000" rIns="90000" tIns="46800" bIns="46800" anchor="t">
            <a:normAutofit fontScale="91000"/>
          </a:bodyPr>
          <a:p>
            <a:pPr marL="312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Прекрасна великая Гера, волоокая, лилейнорукая, из-под венца ее ниспадают волной дивные кудри, властью и спокойным величием горят ее очи. Боги чтут Геру, чтит ее и муж, тучегонитель Зевс, и часто советуется с ней. Но нередки и ссоры между Зевсом и Герой. Часто возражает Гера Зевсу и спорит с ним на советах богов. Тогда гневается громовержец и грозит своей жене наказаниями. Умолкает тогда Гера и сдерживает гнев. Она помнит, как подверг ее Зевс бичеванию, как сковал золотыми цепями и повесил между землей и небом, привязав к ее ногам две тяжелый наковальни.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4" name="" descr=""/>
          <p:cNvPicPr/>
          <p:nvPr/>
        </p:nvPicPr>
        <p:blipFill>
          <a:blip r:embed="rId2"/>
          <a:stretch/>
        </p:blipFill>
        <p:spPr>
          <a:xfrm>
            <a:off x="5435640" y="1125360"/>
            <a:ext cx="3247920" cy="5143680"/>
          </a:xfrm>
          <a:prstGeom prst="rect">
            <a:avLst/>
          </a:prstGeom>
          <a:ln w="9360">
            <a:solidFill>
              <a:srgbClr val="ff00f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140000" y="549000"/>
            <a:ext cx="4546440" cy="5832360"/>
          </a:xfrm>
          <a:prstGeom prst="rect">
            <a:avLst/>
          </a:prstGeom>
          <a:noFill/>
          <a:ln w="0">
            <a:noFill/>
          </a:ln>
        </p:spPr>
        <p:txBody>
          <a:bodyPr lIns="90000" rIns="90000" tIns="46800" bIns="46800" anchor="t">
            <a:normAutofit fontScale="91000"/>
          </a:bodyPr>
          <a:p>
            <a:pPr marL="3121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Felix Titling"/>
              </a:rPr>
              <a:t>Могущественна Гера, нет богини, равной ей по власти. Величественная, в длинной роскошной одежде, сотканной самой Афиной, в колеснице, запряженной двумя бессмертными конями, съезжает она с Олимпа. Вся из серебра колесница, из чистого золота колеса, а спицы их сверкают медью. Благоухание разливается по земле там, где проезжает Гера. Все живое склоняется пред ней, великой царицей Олимпа.</a:t>
            </a:r>
            <a:endParaRPr b="0" lang="en-US" sz="2600" spc="-1" strike="noStrike">
              <a:solidFill>
                <a:srgbClr val="000000"/>
              </a:solidFill>
              <a:latin typeface="Arial"/>
            </a:endParaRPr>
          </a:p>
        </p:txBody>
      </p:sp>
      <p:pic>
        <p:nvPicPr>
          <p:cNvPr id="196" name="" descr=""/>
          <p:cNvPicPr/>
          <p:nvPr/>
        </p:nvPicPr>
        <p:blipFill>
          <a:blip r:embed="rId2"/>
          <a:stretch/>
        </p:blipFill>
        <p:spPr>
          <a:xfrm>
            <a:off x="755640" y="1052640"/>
            <a:ext cx="3011400" cy="5038560"/>
          </a:xfrm>
          <a:prstGeom prst="rect">
            <a:avLst/>
          </a:prstGeom>
          <a:ln w="9360">
            <a:solidFill>
              <a:srgbClr val="ff00ff"/>
            </a:solidFill>
            <a:miter/>
          </a:ln>
        </p:spPr>
      </p:pic>
      <p:sp>
        <p:nvSpPr>
          <p:cNvPr id="19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2602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Georgia"/>
              </a:rPr>
              <a:t>АФРОДИТА</a:t>
            </a:r>
            <a:endParaRPr b="0" lang="en-US" sz="4400" spc="-1" strike="noStrike">
              <a:solidFill>
                <a:srgbClr val="000000"/>
              </a:solidFill>
              <a:latin typeface="Arial"/>
            </a:endParaRPr>
          </a:p>
        </p:txBody>
      </p:sp>
      <p:sp>
        <p:nvSpPr>
          <p:cNvPr id="199" name="PlaceHolder 2"/>
          <p:cNvSpPr>
            <a:spLocks noGrp="1"/>
          </p:cNvSpPr>
          <p:nvPr>
            <p:ph/>
          </p:nvPr>
        </p:nvSpPr>
        <p:spPr>
          <a:xfrm>
            <a:off x="3203280" y="1196640"/>
            <a:ext cx="5545080" cy="51116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Афродита -- первоначально была богиней неба, посылающей дождь, а также, по-видимому, и богиней моря. На мифе об Афродите и ее культе сильно сказалось восточное влияние, главным образом культа финикийской богини Астарты. Постепенно Афродита становится богиней любви. Бог любви Эрот (Амур) -- ее сын. </a:t>
            </a:r>
            <a:endParaRPr b="0" lang="en-US" sz="2400" spc="-1" strike="noStrike">
              <a:solidFill>
                <a:srgbClr val="000000"/>
              </a:solidFill>
              <a:latin typeface="Arial"/>
            </a:endParaRPr>
          </a:p>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Felix Titling"/>
              </a:rPr>
              <a:t>   </a:t>
            </a:r>
            <a:r>
              <a:rPr b="1" lang="en-US" sz="2400" spc="-1" strike="noStrike">
                <a:solidFill>
                  <a:srgbClr val="ff66ff"/>
                </a:solidFill>
                <a:latin typeface="Felix Titling"/>
              </a:rPr>
              <a:t>Не изнеженной, ветреной богине Афродите вмешиваться в кровавые битвы. Она будит в сердцах богов и смертных любовь. Благодаря этой власти она царит над всем миром. </a:t>
            </a:r>
            <a:endParaRPr b="0" lang="en-US" sz="2400" spc="-1" strike="noStrike">
              <a:solidFill>
                <a:srgbClr val="000000"/>
              </a:solidFill>
              <a:latin typeface="Arial"/>
            </a:endParaRPr>
          </a:p>
        </p:txBody>
      </p:sp>
      <p:pic>
        <p:nvPicPr>
          <p:cNvPr id="200" name="" descr=""/>
          <p:cNvPicPr/>
          <p:nvPr/>
        </p:nvPicPr>
        <p:blipFill>
          <a:blip r:embed="rId2"/>
          <a:stretch/>
        </p:blipFill>
        <p:spPr>
          <a:xfrm>
            <a:off x="611280" y="1197000"/>
            <a:ext cx="2501640" cy="51055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Никто не может избежать ее власти, даже боги. Только воительница Афина, Гестия и Артемида не подчинены ее могуществу. Высокая, стройная, с нежными чертами лица, с мягкой волной золотых волос, как венец лежащих на ее прекрасной голове, Афродита олицетворение божественной красоты и неувядаемой юности. Когда она идет, в блеске своей красоты, в благоухающих одеждах, тогда ярче светит солнце, пышнее цветут цветы.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539640" y="2060640"/>
            <a:ext cx="822960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Дикие лесные звери бегут к ней из чащи леса; к ней стаями слетаются птицы, когда она идет по лесу. Львы, пантеры, барсы и медведи кротко ласкаются к ней. Спокойно идет среди диких зверей Афродита, гордая своей лучезарной красотой. Ее спутницы Оры и Хариты, богини красоты к грации, прислуживают ей. Они одевают богиню в роскошные одежды, причесывают ее златые волосы, венчают ее голову сверкающей диадемой.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3" name="" descr=""/>
          <p:cNvPicPr/>
          <p:nvPr/>
        </p:nvPicPr>
        <p:blipFill>
          <a:blip r:embed="rId2"/>
          <a:stretch/>
        </p:blipFill>
        <p:spPr>
          <a:xfrm>
            <a:off x="179280" y="115920"/>
            <a:ext cx="1857600" cy="184788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3789000"/>
            <a:ext cx="8229600" cy="2768760"/>
          </a:xfrm>
          <a:prstGeom prst="rect">
            <a:avLst/>
          </a:prstGeom>
          <a:noFill/>
          <a:ln w="0">
            <a:noFill/>
          </a:ln>
        </p:spPr>
        <p:txBody>
          <a:bodyPr lIns="90000" rIns="90000" tIns="46800" bIns="46800" anchor="t">
            <a:normAutofit fontScale="95000"/>
          </a:bodyPr>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66ff"/>
                </a:solidFill>
                <a:latin typeface="Felix Titling"/>
              </a:rPr>
              <a:t>Около острова Киферы родилась Афродита, дочь Урана, из белоснежной пены морских волн. Легкий, ласкающий ветерок принес ее на остров Кипр. Там окружили юные Оры вышедшую из морских волн богиню любви. Они облекли ее в златотканую одежду и увенчали венком из благоухающих цветов.. </a:t>
            </a:r>
            <a:endParaRPr b="0" lang="en-US" sz="28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 descr=""/>
          <p:cNvPicPr/>
          <p:nvPr/>
        </p:nvPicPr>
        <p:blipFill>
          <a:blip r:embed="rId2"/>
          <a:stretch/>
        </p:blipFill>
        <p:spPr>
          <a:xfrm>
            <a:off x="2050920" y="333360"/>
            <a:ext cx="5164200" cy="323856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subTitle"/>
          </p:nvPr>
        </p:nvSpPr>
        <p:spPr>
          <a:xfrm>
            <a:off x="539280" y="1844280"/>
            <a:ext cx="8099640" cy="4753080"/>
          </a:xfrm>
          <a:prstGeom prst="rect">
            <a:avLst/>
          </a:prstGeom>
          <a:noFill/>
          <a:ln w="0">
            <a:noFill/>
          </a:ln>
        </p:spPr>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ffff"/>
                </a:solidFill>
                <a:latin typeface="Georgia"/>
              </a:rPr>
              <a:t>Религиозные представления древних греков о мире богов</a:t>
            </a:r>
            <a:endParaRPr b="0" lang="en-US" sz="28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Религиозные представления и религиозный быт древних греков находились в тесной связи со всей их исторической жизнью. Боги проживали на горе Олимп. Между ними существовала иерархия, как между людьми: были главные Боги, второстепенные, полубоги</a:t>
            </a:r>
            <a:r>
              <a:rPr b="1" lang="en-US" sz="2400" spc="-1" strike="noStrike">
                <a:solidFill>
                  <a:srgbClr val="ffff00"/>
                </a:solidFill>
                <a:latin typeface="Felix Titling"/>
              </a:rPr>
              <a:t> </a:t>
            </a:r>
            <a:r>
              <a:rPr b="1" lang="ru-RU" sz="2400" spc="-1" strike="noStrike">
                <a:solidFill>
                  <a:srgbClr val="ffff00"/>
                </a:solidFill>
                <a:latin typeface="Felix Titling"/>
              </a:rPr>
              <a:t>(герои в греческой мифологии, например Геракл). Боги присутствовали в жизни греков так же естественно, как и вся греческая природа. Они часто вмешивались в жизнь людей, соперничали друг с другом за влияние на человека. </a:t>
            </a:r>
            <a:endParaRPr b="0" lang="en-US" sz="2400" spc="-1" strike="noStrike">
              <a:solidFill>
                <a:srgbClr val="000000"/>
              </a:solidFill>
              <a:latin typeface="Arial"/>
            </a:endParaRPr>
          </a:p>
        </p:txBody>
      </p:sp>
      <p:pic>
        <p:nvPicPr>
          <p:cNvPr id="144" name="" descr=""/>
          <p:cNvPicPr/>
          <p:nvPr/>
        </p:nvPicPr>
        <p:blipFill>
          <a:blip r:embed="rId2"/>
          <a:stretch/>
        </p:blipFill>
        <p:spPr>
          <a:xfrm>
            <a:off x="1684440" y="260280"/>
            <a:ext cx="5626080" cy="14702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2000"/>
          </a:bodyPr>
          <a:p>
            <a:pPr marL="315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66ff"/>
                </a:solidFill>
                <a:latin typeface="Felix Titling"/>
              </a:rPr>
              <a:t>Где только не ступала Афродита, там пышно разрастались цветы. Весь воздух полон был благоуханием. Эрот и Гимерот повели дивную богиню на Олимп. Громко приветствовали ее боги. С тех пор всегда живет среди богов Олимпа златая Афродита, вечно юная, прекраснейшая из богинь</a:t>
            </a:r>
            <a:r>
              <a:rPr b="1" lang="en-US" sz="3200" spc="-1" strike="noStrike">
                <a:solidFill>
                  <a:srgbClr val="ff66ff"/>
                </a:solidFill>
                <a:latin typeface="Felix Titling"/>
              </a:rPr>
              <a:t>.</a:t>
            </a:r>
            <a:endParaRPr b="0" lang="en-US" sz="3200" spc="-1" strike="noStrike">
              <a:solidFill>
                <a:srgbClr val="000000"/>
              </a:solidFill>
              <a:latin typeface="Arial"/>
            </a:endParaRPr>
          </a:p>
        </p:txBody>
      </p:sp>
      <p:pic>
        <p:nvPicPr>
          <p:cNvPr id="207" name="" descr=""/>
          <p:cNvPicPr/>
          <p:nvPr/>
        </p:nvPicPr>
        <p:blipFill>
          <a:blip r:embed="rId2"/>
          <a:stretch/>
        </p:blipFill>
        <p:spPr>
          <a:xfrm>
            <a:off x="2627280" y="476280"/>
            <a:ext cx="3970440" cy="2158920"/>
          </a:xfrm>
          <a:prstGeom prst="rect">
            <a:avLst/>
          </a:prstGeom>
          <a:ln w="9360">
            <a:solidFill>
              <a:srgbClr val="ffff00"/>
            </a:solidFill>
            <a:miter/>
          </a:ln>
        </p:spPr>
      </p:pic>
      <p:sp>
        <p:nvSpPr>
          <p:cNvPr id="20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920" y="259920"/>
            <a:ext cx="829152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Georgia"/>
              </a:rPr>
              <a:t>АПОЛЛОН</a:t>
            </a:r>
            <a:endParaRPr b="0" lang="en-US" sz="4400" spc="-1" strike="noStrike">
              <a:solidFill>
                <a:srgbClr val="000000"/>
              </a:solidFill>
              <a:latin typeface="Arial"/>
            </a:endParaRPr>
          </a:p>
        </p:txBody>
      </p:sp>
      <p:sp>
        <p:nvSpPr>
          <p:cNvPr id="210" name="PlaceHolder 2"/>
          <p:cNvSpPr>
            <a:spLocks noGrp="1"/>
          </p:cNvSpPr>
          <p:nvPr>
            <p:ph/>
          </p:nvPr>
        </p:nvSpPr>
        <p:spPr>
          <a:xfrm>
            <a:off x="3851280" y="1197000"/>
            <a:ext cx="4835520" cy="5400720"/>
          </a:xfrm>
          <a:prstGeom prst="rect">
            <a:avLst/>
          </a:prstGeom>
          <a:noFill/>
          <a:ln w="0">
            <a:noFill/>
          </a:ln>
        </p:spPr>
        <p:txBody>
          <a:bodyPr lIns="90000" rIns="90000" tIns="46800" bIns="46800" anchor="t">
            <a:normAutofit fontScale="89000"/>
          </a:bodyPr>
          <a:p>
            <a:pPr marL="3052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Бог света, златокудрый Аполлон, родился на острове Делос. Мать его Латона, гонимая гневом богини Геры, нигде не могла найти себе приюта. Преследуемая посланным Герой драконом Пифоном, она скиталась по всему свету и наконец укрылась на Делосе, носившемся в те времена по волнах бурного моря. Лишь только вступила Латона на Делос, как из морской пучины поднялись громадные столбы и остановили этот пустынный остров. </a:t>
            </a:r>
            <a:endParaRPr b="0" lang="en-US" sz="2400" spc="-1" strike="noStrike">
              <a:solidFill>
                <a:srgbClr val="000000"/>
              </a:solidFill>
              <a:latin typeface="Arial"/>
            </a:endParaRPr>
          </a:p>
        </p:txBody>
      </p:sp>
      <p:pic>
        <p:nvPicPr>
          <p:cNvPr id="211" name="" descr=""/>
          <p:cNvPicPr/>
          <p:nvPr/>
        </p:nvPicPr>
        <p:blipFill>
          <a:blip r:embed="rId2"/>
          <a:stretch/>
        </p:blipFill>
        <p:spPr>
          <a:xfrm>
            <a:off x="324000" y="1916280"/>
            <a:ext cx="3590640" cy="359856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250560" y="189000"/>
            <a:ext cx="6419880" cy="324000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Он стал незыблемо на том месте, где стоит и до сих пор. Кругом Делоса шумело море. Уныло подымались скалы Делоса, обнаженные без малейшей растительности. Лишь чайки морские находили приют на этих скалах и оглашали их своим печальным криком.</a:t>
            </a:r>
            <a:endParaRPr b="0" lang="en-US" sz="2800" spc="-1" strike="noStrike">
              <a:solidFill>
                <a:srgbClr val="000000"/>
              </a:solidFill>
              <a:latin typeface="Arial"/>
            </a:endParaRPr>
          </a:p>
        </p:txBody>
      </p:sp>
      <p:pic>
        <p:nvPicPr>
          <p:cNvPr id="213" name="" descr=""/>
          <p:cNvPicPr/>
          <p:nvPr/>
        </p:nvPicPr>
        <p:blipFill>
          <a:blip r:embed="rId2"/>
          <a:stretch/>
        </p:blipFill>
        <p:spPr>
          <a:xfrm>
            <a:off x="468360" y="3789360"/>
            <a:ext cx="4149720" cy="2878200"/>
          </a:xfrm>
          <a:prstGeom prst="rect">
            <a:avLst/>
          </a:prstGeom>
          <a:ln w="9360">
            <a:solidFill>
              <a:srgbClr val="00ff00"/>
            </a:solidFill>
            <a:miter/>
          </a:ln>
        </p:spPr>
      </p:pic>
      <p:pic>
        <p:nvPicPr>
          <p:cNvPr id="214" name="" descr=""/>
          <p:cNvPicPr/>
          <p:nvPr/>
        </p:nvPicPr>
        <p:blipFill>
          <a:blip r:embed="rId3"/>
          <a:stretch/>
        </p:blipFill>
        <p:spPr>
          <a:xfrm>
            <a:off x="6443640" y="3357720"/>
            <a:ext cx="1857240" cy="142848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178920" y="3429000"/>
            <a:ext cx="8713800" cy="320184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Но вот родился бог света Аполлон, и всюду разлились потоки яркого света. Как золотом, залили они скалы Делоса. Все кругом зацвело, засверкало: и прибрежные скалы, и гора Кинт, и долина, и море. Громко славили родившегося бога собравшиеся на Делос богини, поднося ему амврозию и нектар. Вся природа вокруг ликовала вместе с богинями.</a:t>
            </a:r>
            <a:r>
              <a:rPr b="1" lang="ru-RU" sz="2400" spc="-1" strike="noStrike">
                <a:solidFill>
                  <a:srgbClr val="ffff00"/>
                </a:solidFill>
                <a:latin typeface="Felix Titling"/>
              </a:rPr>
              <a:t> </a:t>
            </a:r>
            <a:endParaRPr b="0" lang="en-US" sz="2400" spc="-1" strike="noStrike">
              <a:solidFill>
                <a:srgbClr val="000000"/>
              </a:solidFill>
              <a:latin typeface="Arial"/>
            </a:endParaRPr>
          </a:p>
        </p:txBody>
      </p:sp>
      <p:pic>
        <p:nvPicPr>
          <p:cNvPr id="216" name="" descr=""/>
          <p:cNvPicPr/>
          <p:nvPr/>
        </p:nvPicPr>
        <p:blipFill>
          <a:blip r:embed="rId2"/>
          <a:stretch/>
        </p:blipFill>
        <p:spPr>
          <a:xfrm>
            <a:off x="2124000" y="333360"/>
            <a:ext cx="5175360" cy="2879640"/>
          </a:xfrm>
          <a:prstGeom prst="rect">
            <a:avLst/>
          </a:prstGeom>
          <a:ln w="9360">
            <a:solidFill>
              <a:srgbClr val="00ff00"/>
            </a:solidFill>
            <a:miter/>
          </a:ln>
        </p:spPr>
      </p:pic>
      <p:sp>
        <p:nvSpPr>
          <p:cNvPr id="217"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eorgia"/>
              </a:rPr>
              <a:t>БОРЬБА АПОЛЛОНА С ПИФОНОМ И ОСНОВАНИЕ ДЕЛЬФИЙСКОГО ОРАКУЛА</a:t>
            </a:r>
            <a:endParaRPr b="0" lang="en-US" sz="2800" spc="-1" strike="noStrike">
              <a:solidFill>
                <a:srgbClr val="000000"/>
              </a:solidFill>
              <a:latin typeface="Arial"/>
            </a:endParaRPr>
          </a:p>
        </p:txBody>
      </p:sp>
      <p:sp>
        <p:nvSpPr>
          <p:cNvPr id="219" name="PlaceHolder 2"/>
          <p:cNvSpPr>
            <a:spLocks noGrp="1"/>
          </p:cNvSpPr>
          <p:nvPr>
            <p:ph/>
          </p:nvPr>
        </p:nvSpPr>
        <p:spPr>
          <a:xfrm>
            <a:off x="457200" y="2205000"/>
            <a:ext cx="8229600" cy="43927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Юный, светозарный Аполлон понесся по лазурному небу с кифарой  в руках, с серебряным луком за плечами; золотые стрелы громко звенели в его колчане. Гордый, ликующий, несся Аполлон высоко над землей, грозя всему злому, всему порожденному мраком. Он стремился туда, где жил грозный Пифон, преследовавший его мать Латону; он хотел отомстить ему за все зло, которое тот ей причинил.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Быстро достиг Аполлон мрачного ущелья, жилища Пифона. Кругом высились скалы, уходя высоко в небо. Мрак царил в ущелье. По дну его стремительно несся, седой от пены, горный поток, а над потоком клубились туманы. Выполз из своего логовища ужасный Пифон. Громадное тело его, покрытое чешуей, извивалось меж скал бесчисленными кольцами. Скалы и горы дрожали от тяжести его тела и сдвигались с мест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Яростный Пифон все предавал опустошению, смерть распространял он кругом. В ужасе бежали нимфы и все живое. Поднялся Пифон, могучий, яростный, раскрыл свою ужасную пасть и уже готов был поглотить златокудрого Аполлона. Тогда раздался звон тетивы серебряного лука, как искра сверкнула в воздухе не знающая промаха золотая стрела, за ней другая, третья; стрелы дождем посыпались на Пифона, и он бездыханный упал на землю. </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484000" y="1197000"/>
            <a:ext cx="620244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Громко зазвучала торжествующая победная песнь (пэан) златокудрого Аполлона, победителя Пифона, и вторили ей золотые струны кифары бога. Аполлон зарыл в землю тело Пифона там, где стоят священные Дельфы, и основал в Дельфах святилище и оракул, чтобы прорицать в нем людям волю отца своего Зевса.</a:t>
            </a:r>
            <a:endParaRPr b="0" lang="en-US" sz="2800" spc="-1" strike="noStrike">
              <a:solidFill>
                <a:srgbClr val="000000"/>
              </a:solidFill>
              <a:latin typeface="Arial"/>
            </a:endParaRPr>
          </a:p>
        </p:txBody>
      </p:sp>
      <p:pic>
        <p:nvPicPr>
          <p:cNvPr id="223" name="" descr=""/>
          <p:cNvPicPr/>
          <p:nvPr/>
        </p:nvPicPr>
        <p:blipFill>
          <a:blip r:embed="rId2"/>
          <a:stretch/>
        </p:blipFill>
        <p:spPr>
          <a:xfrm>
            <a:off x="395280" y="333360"/>
            <a:ext cx="1828800" cy="3162240"/>
          </a:xfrm>
          <a:prstGeom prst="rect">
            <a:avLst/>
          </a:prstGeom>
          <a:ln w="9360">
            <a:solidFill>
              <a:srgbClr val="00ff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419640" y="620640"/>
            <a:ext cx="4978080" cy="540072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 высокого берега далеко в море Аполлон увидел корабль критских моряков. Под видом дельфина бросился он в синее море, настиг корабль и лучезарной звездой взлетел из морских волн на корму его. Аполлон привел корабль к пристани города Крисы и через плодородную долину повел критских моряков, играя на золотой кифаре, в Дельфы. Он сделал их первыми жрецами своего святилища. </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5" name="" descr=""/>
          <p:cNvPicPr/>
          <p:nvPr/>
        </p:nvPicPr>
        <p:blipFill>
          <a:blip r:embed="rId2"/>
          <a:stretch/>
        </p:blipFill>
        <p:spPr>
          <a:xfrm>
            <a:off x="324000" y="620640"/>
            <a:ext cx="2425680" cy="5402160"/>
          </a:xfrm>
          <a:prstGeom prst="rect">
            <a:avLst/>
          </a:prstGeom>
          <a:ln w="9360">
            <a:solidFill>
              <a:srgbClr val="00ff00"/>
            </a:solidFill>
            <a:miter/>
          </a:ln>
        </p:spPr>
      </p:pic>
      <p:sp>
        <p:nvSpPr>
          <p:cNvPr id="22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519444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Georgia"/>
              </a:rPr>
              <a:t>АРЕС</a:t>
            </a:r>
            <a:endParaRPr b="0" lang="en-US" sz="4400" spc="-1" strike="noStrike">
              <a:solidFill>
                <a:srgbClr val="000000"/>
              </a:solidFill>
              <a:latin typeface="Arial"/>
            </a:endParaRPr>
          </a:p>
        </p:txBody>
      </p:sp>
      <p:sp>
        <p:nvSpPr>
          <p:cNvPr id="228" name="PlaceHolder 2"/>
          <p:cNvSpPr>
            <a:spLocks noGrp="1"/>
          </p:cNvSpPr>
          <p:nvPr>
            <p:ph/>
          </p:nvPr>
        </p:nvSpPr>
        <p:spPr>
          <a:xfrm>
            <a:off x="2987280" y="981000"/>
            <a:ext cx="5977080" cy="568800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	</a:t>
            </a:r>
            <a:r>
              <a:rPr b="1" lang="ru-RU" sz="2400" spc="-1" strike="noStrike">
                <a:solidFill>
                  <a:srgbClr val="00ff00"/>
                </a:solidFill>
                <a:latin typeface="Felix Titling"/>
              </a:rPr>
              <a:t>Бог войны, неистовый Арес, -- сын громовержца Зевса и Геры. Не любит его Зевс. Часто говорит он своему сыну, что он самый ненавистный ему среди богов Олимпа. Зевс не любит сына за его кровожадность. Не будь Арес его сыном, он давно низверг бы его в мрачный Тартар, туда, где томятся титаны. Сердце свирепого Ареса радуют только жестокие битвы. Неистовый, носится он средь грохота оружия, криков и стонов битвы между сражающимися, в сверкающем вооружении, с громадным щитом. Следом за ним несутся его сыновья, Деймос и Фобос -- ужас и страх, а рядом с ними богиня раздора Эрида и сеющая убийства богиня Энюо. </a:t>
            </a:r>
            <a:endParaRPr b="0" lang="en-US" sz="2400" spc="-1" strike="noStrike">
              <a:solidFill>
                <a:srgbClr val="000000"/>
              </a:solidFill>
              <a:latin typeface="Arial"/>
            </a:endParaRPr>
          </a:p>
        </p:txBody>
      </p:sp>
      <p:pic>
        <p:nvPicPr>
          <p:cNvPr id="229" name="" descr=""/>
          <p:cNvPicPr/>
          <p:nvPr/>
        </p:nvPicPr>
        <p:blipFill>
          <a:blip r:embed="rId2"/>
          <a:stretch/>
        </p:blipFill>
        <p:spPr>
          <a:xfrm>
            <a:off x="539640" y="1268280"/>
            <a:ext cx="2210040" cy="44974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79280" y="333000"/>
            <a:ext cx="3672000" cy="633564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Пример – легендарная Троянская война, причиной которой была ссора между Афиной и её родственницами Герой и Афродитой. По греческой мифологии все Боги были родственниками, а их родоначальниками были </a:t>
            </a:r>
            <a:r>
              <a:rPr b="1" lang="en-US" sz="2800" spc="-1" strike="noStrike">
                <a:solidFill>
                  <a:srgbClr val="ff00ff"/>
                </a:solidFill>
                <a:latin typeface="Felix Titling"/>
              </a:rPr>
              <a:t>Зевс и Гера</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46" name="" descr=""/>
          <p:cNvPicPr/>
          <p:nvPr/>
        </p:nvPicPr>
        <p:blipFill>
          <a:blip r:embed="rId2"/>
          <a:stretch/>
        </p:blipFill>
        <p:spPr>
          <a:xfrm>
            <a:off x="4356000" y="404640"/>
            <a:ext cx="4559400" cy="3600720"/>
          </a:xfrm>
          <a:prstGeom prst="rect">
            <a:avLst/>
          </a:prstGeom>
          <a:ln w="9360">
            <a:solidFill>
              <a:srgbClr val="00ffff"/>
            </a:solidFill>
            <a:miter/>
          </a:ln>
        </p:spPr>
      </p:pic>
      <p:pic>
        <p:nvPicPr>
          <p:cNvPr id="147" name="" descr=""/>
          <p:cNvPicPr/>
          <p:nvPr/>
        </p:nvPicPr>
        <p:blipFill>
          <a:blip r:embed="rId3"/>
          <a:stretch/>
        </p:blipFill>
        <p:spPr>
          <a:xfrm>
            <a:off x="3924360" y="4365720"/>
            <a:ext cx="4008240" cy="1798560"/>
          </a:xfrm>
          <a:prstGeom prst="rect">
            <a:avLst/>
          </a:prstGeom>
          <a:ln w="9360">
            <a:solidFill>
              <a:srgbClr val="00ffff"/>
            </a:solidFill>
            <a:miter/>
          </a:ln>
        </p:spPr>
      </p:pic>
      <p:sp>
        <p:nvSpPr>
          <p:cNvPr id="14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211280" y="404280"/>
            <a:ext cx="4475160" cy="5721480"/>
          </a:xfrm>
          <a:prstGeom prst="rect">
            <a:avLst/>
          </a:prstGeom>
          <a:noFill/>
          <a:ln w="0">
            <a:noFill/>
          </a:ln>
        </p:spPr>
        <p:txBody>
          <a:bodyPr lIns="90000" rIns="90000" tIns="46800" bIns="46800" anchor="t">
            <a:normAutofit fontScale="95000"/>
          </a:bodyPr>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Felix Titling"/>
              </a:rPr>
              <a:t>Кипит, грохочет битва; ликует Арес; со стоном падают воины. Торжествует Арес, когда сразит своим ужасным мечом воина и хлынет на землю горячая кровь. Без разбора разит он и направо и налево; груда тел вокруг жестокого бога. Свиреп, неистов, грозен Арес, но победа не всегда сопутствует ему. Часто приходится Аресу уступать на поле битвы воинственной дочери Зевса, Афине-Палладе. Побеждает она Ареса мудростью и спокойным сознанием силы. </a:t>
            </a:r>
            <a:endParaRPr b="0" lang="en-US" sz="2400" spc="-1" strike="noStrike">
              <a:solidFill>
                <a:srgbClr val="000000"/>
              </a:solidFill>
              <a:latin typeface="Arial"/>
            </a:endParaRPr>
          </a:p>
        </p:txBody>
      </p:sp>
      <p:pic>
        <p:nvPicPr>
          <p:cNvPr id="231" name="" descr=""/>
          <p:cNvPicPr/>
          <p:nvPr/>
        </p:nvPicPr>
        <p:blipFill>
          <a:blip r:embed="rId2"/>
          <a:stretch/>
        </p:blipFill>
        <p:spPr>
          <a:xfrm>
            <a:off x="1116000" y="1341360"/>
            <a:ext cx="2706840" cy="3598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179280" y="2781360"/>
            <a:ext cx="8785440" cy="3960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00"/>
                </a:solidFill>
                <a:latin typeface="Felix Titling"/>
              </a:rPr>
              <a:t>Нередко и смертные герои одерживают верх над Аресом, особенно, если им помогает светлоокая Афина-Паллада. Так поразил Ареса медным копьем герой Диомед под стенами Трои. Сама Афина направила удар. Далеко разнесся по войску троянцев и греков ужасный крик раненого бога. Словно десять тысяч воинов вскрикнули сразу, вступая в яростную битву, так закричал от боли покрытый медными доспехами Арес. Вздрогнули в ужасе греки и троянцы, а неистовый Арес понесся, окутанный мрачным облаком, покрытый кровью, с жалобами на Афину к отцу своему Зевсу. Но отец Зевс не стал слушать его жалоб. Он не любит своего сына, которому приятны лишь распри, битвы да убийства. </a:t>
            </a:r>
            <a:endParaRPr b="0" lang="en-US" sz="2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3" name="" descr=""/>
          <p:cNvPicPr/>
          <p:nvPr/>
        </p:nvPicPr>
        <p:blipFill>
          <a:blip r:embed="rId2"/>
          <a:stretch/>
        </p:blipFill>
        <p:spPr>
          <a:xfrm>
            <a:off x="2124000" y="115920"/>
            <a:ext cx="5133960" cy="2590920"/>
          </a:xfrm>
          <a:prstGeom prst="rect">
            <a:avLst/>
          </a:prstGeom>
          <a:ln w="9360">
            <a:solidFill>
              <a:srgbClr val="00ffff"/>
            </a:solidFill>
            <a:miter/>
          </a:ln>
        </p:spPr>
      </p:pic>
      <p:sp>
        <p:nvSpPr>
          <p:cNvPr id="234"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8000" y="274680"/>
            <a:ext cx="8856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Georgia"/>
              </a:rPr>
              <a:t>ПОСЕЙДОН И БОЖЕСТВА МОРЯ</a:t>
            </a:r>
            <a:endParaRPr b="1" lang="en-US" sz="3600" spc="-1" strike="noStrike">
              <a:solidFill>
                <a:srgbClr val="e5e5ff"/>
              </a:solidFill>
              <a:latin typeface="Garamond"/>
            </a:endParaRPr>
          </a:p>
        </p:txBody>
      </p:sp>
      <p:sp>
        <p:nvSpPr>
          <p:cNvPr id="236" name="PlaceHolder 2"/>
          <p:cNvSpPr>
            <a:spLocks noGrp="1"/>
          </p:cNvSpPr>
          <p:nvPr>
            <p:ph/>
          </p:nvPr>
        </p:nvSpPr>
        <p:spPr>
          <a:xfrm>
            <a:off x="2987280" y="1125000"/>
            <a:ext cx="5977080" cy="5543640"/>
          </a:xfrm>
          <a:prstGeom prst="rect">
            <a:avLst/>
          </a:prstGeom>
          <a:noFill/>
          <a:ln w="0">
            <a:noFill/>
          </a:ln>
        </p:spPr>
        <p:txBody>
          <a:bodyPr lIns="90000" rIns="90000" tIns="46800" bIns="46800" anchor="t">
            <a:normAutofit fontScale="94000"/>
          </a:bodyPr>
          <a:p>
            <a:pPr marL="3222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Garamond"/>
              </a:rPr>
              <a:t>   </a:t>
            </a:r>
            <a:r>
              <a:rPr b="1" lang="ru-RU" sz="2500" spc="-1" strike="noStrike">
                <a:solidFill>
                  <a:srgbClr val="ffff00"/>
                </a:solidFill>
                <a:latin typeface="Felix Titling"/>
              </a:rPr>
              <a:t>Глубоко в пучине моря стоит чудесный дворец великого брата громовержца Зевса, колебателя земли Посейдона. Властвует над морями Посейдон, и волны моря послушны малейшему движению его руки, вооруженной грозным трезубцем. Там, в глубине моря, живет с Посейдоном и его прекрасная супруга Амфитрита, дочь морского вещего старца Нерея, которую похитил великий властитель морской глубины Посейдон у ее отца. Он увидал однажды, как водила она хоровод со своими сестрами-нереидами на берегу острова Наксоса. </a:t>
            </a:r>
            <a:endParaRPr b="0" lang="en-US" sz="2500" spc="-1" strike="noStrike">
              <a:solidFill>
                <a:srgbClr val="ffffff"/>
              </a:solidFill>
              <a:latin typeface="Garamond"/>
            </a:endParaRPr>
          </a:p>
        </p:txBody>
      </p:sp>
      <p:pic>
        <p:nvPicPr>
          <p:cNvPr id="237" name="" descr=""/>
          <p:cNvPicPr/>
          <p:nvPr/>
        </p:nvPicPr>
        <p:blipFill>
          <a:blip r:embed="rId2"/>
          <a:stretch/>
        </p:blipFill>
        <p:spPr>
          <a:xfrm>
            <a:off x="395280" y="1197000"/>
            <a:ext cx="2359080" cy="452592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08000" y="404640"/>
            <a:ext cx="5183280" cy="6121440"/>
          </a:xfrm>
          <a:prstGeom prst="rect">
            <a:avLst/>
          </a:prstGeom>
          <a:noFill/>
          <a:ln w="0">
            <a:noFill/>
          </a:ln>
        </p:spPr>
        <p:txBody>
          <a:bodyPr lIns="90000" rIns="90000" tIns="46800" bIns="46800" anchor="t">
            <a:normAutofit fontScale="90000"/>
          </a:bodyPr>
          <a:p>
            <a:pPr marL="30852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00"/>
                </a:solidFill>
                <a:latin typeface="Felix Titling"/>
              </a:rPr>
              <a:t>Пленился бог моря прекрасной Амфитритой и хотел увезти ее на своей колеснице. Но Амфитрита укрылась у титана Атласа, который держит на своих могучих плечах небесный свод. Долго не мог Посейдон найти прекрасную дочь Нерея. Наконец открыл ему ее убежище дельфин; за эту услугу Посейдон поместил дельфина в число небесных созвездий. Посейдон похитил у Атласа прекрасную дочь Нерея и женился на ней.</a:t>
            </a:r>
            <a:endParaRPr b="0" lang="en-US" sz="2700" spc="-1" strike="noStrike">
              <a:solidFill>
                <a:srgbClr val="ffffff"/>
              </a:solidFill>
              <a:latin typeface="Garamond"/>
            </a:endParaRPr>
          </a:p>
        </p:txBody>
      </p:sp>
      <p:pic>
        <p:nvPicPr>
          <p:cNvPr id="239" name="" descr=""/>
          <p:cNvPicPr/>
          <p:nvPr/>
        </p:nvPicPr>
        <p:blipFill>
          <a:blip r:embed="rId2"/>
          <a:stretch/>
        </p:blipFill>
        <p:spPr>
          <a:xfrm>
            <a:off x="5364000" y="2133720"/>
            <a:ext cx="3552840" cy="2581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3563640" y="189000"/>
            <a:ext cx="5473800" cy="6480000"/>
          </a:xfrm>
          <a:prstGeom prst="rect">
            <a:avLst/>
          </a:prstGeom>
          <a:noFill/>
          <a:ln w="0">
            <a:noFill/>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00"/>
                </a:solidFill>
                <a:latin typeface="Felix Titling"/>
              </a:rPr>
              <a:t>С тех пор живет Амфитрита с мужем своим Посейдоном в подводном дворце. Высоко над дворцом шумят морские волны. Сотни морских божеств окружает Посейдона, послушный его воле. Среди них сын Посейдона Тритон, громовым звуком своей трубы из раковины вызывающий грозные бури. Среди божеств -- и прекрасные сестры Амфитриты, нереиды. Посейдон властвует над морем. Когда он на своей колеснице, запряженной дивными конями, мчится по морю, тогда расступаются вечно шумящие волны и дают дорогу повелителю Посейдону. </a:t>
            </a:r>
            <a:endParaRPr b="0" lang="en-US" sz="2400" spc="-1" strike="noStrike">
              <a:solidFill>
                <a:srgbClr val="ffffff"/>
              </a:solidFill>
              <a:latin typeface="Garamond"/>
            </a:endParaRPr>
          </a:p>
        </p:txBody>
      </p:sp>
      <p:pic>
        <p:nvPicPr>
          <p:cNvPr id="241" name="" descr=""/>
          <p:cNvPicPr/>
          <p:nvPr/>
        </p:nvPicPr>
        <p:blipFill>
          <a:blip r:embed="rId2"/>
          <a:stretch/>
        </p:blipFill>
        <p:spPr>
          <a:xfrm>
            <a:off x="324000" y="620640"/>
            <a:ext cx="3468600" cy="28782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178920" y="2708280"/>
            <a:ext cx="8713800" cy="396072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ru-RU" sz="2400" spc="-1" strike="noStrike">
                <a:solidFill>
                  <a:srgbClr val="ffff00"/>
                </a:solidFill>
                <a:latin typeface="Felix Titling"/>
              </a:rPr>
              <a:t>Равный красотой самому Зевсу, быстро несется он по безбрежному морю, а вокруг него играют дельфины, рыбы выплывают из морской глубины и теснятся вокруг его колесницы. Когда же взмахнет Посейдон своим грозным трезубцем, тогда, словно горы, вздымаются морские волны, покрытые белыми гребнями пены, и бушует на море свирепая буря. Бьются тогда с шумом морские валы о прибрежные скалы и колеблют землю. Но простирает Посейдон свой трезубец над волнами, и они успокаиваются. Стихает буря, снова спокойно море, ровно, как зеркало, и чуть слышно плещется у берега -- синее, беспредельное. </a:t>
            </a:r>
            <a:endParaRPr b="0" lang="en-US" sz="2400" spc="-1" strike="noStrike">
              <a:solidFill>
                <a:srgbClr val="ffffff"/>
              </a:solidFill>
              <a:latin typeface="Garamond"/>
            </a:endParaRPr>
          </a:p>
        </p:txBody>
      </p:sp>
      <p:pic>
        <p:nvPicPr>
          <p:cNvPr id="243" name="" descr=""/>
          <p:cNvPicPr/>
          <p:nvPr/>
        </p:nvPicPr>
        <p:blipFill>
          <a:blip r:embed="rId2"/>
          <a:stretch/>
        </p:blipFill>
        <p:spPr>
          <a:xfrm>
            <a:off x="2987640" y="260280"/>
            <a:ext cx="3809880" cy="240984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0" y="333360"/>
            <a:ext cx="4968720" cy="6192720"/>
          </a:xfrm>
          <a:prstGeom prst="rect">
            <a:avLst/>
          </a:prstGeom>
          <a:noFill/>
          <a:ln w="0">
            <a:noFill/>
          </a:ln>
        </p:spPr>
        <p:txBody>
          <a:bodyPr lIns="90000" rIns="90000" tIns="46800" bIns="46800" anchor="t">
            <a:normAutofit fontScale="95000"/>
          </a:bodyPr>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ru-RU" sz="2000" spc="-1" strike="noStrike">
                <a:solidFill>
                  <a:srgbClr val="ffff00"/>
                </a:solidFill>
                <a:latin typeface="Felix Titling"/>
              </a:rPr>
              <a:t>Много божеств окружает великого брата Зевса, Посейдона; среди них вещий морской старец, Нерей, ведающий все сокровенные тайны будущего. Нерею чужды ложь и обман; только правду открывает он богам и смертным. Мудры советы, которые дает вещий старец. Пятьдесят прекрасных дочерей у Нерея. Весело плещутся юные нереиды в волнах моря, сверкая среди них своей божественной красотой. Взявшись за руки, вереницей выплывают они из морской пучины и водят хоровод на берегу под ласковый плеск тихо набегающих на берег волн спокойного моря. Эхо прибрежных скал повторяет тогда звуки их нежного пения, подобного тихому рокоту моря. Нереиды покровительствуют мореходу и дают ему счастливое плавание. </a:t>
            </a:r>
            <a:endParaRPr b="0" lang="en-US" sz="2000" spc="-1" strike="noStrike">
              <a:solidFill>
                <a:srgbClr val="ffffff"/>
              </a:solidFill>
              <a:latin typeface="Garamond"/>
            </a:endParaRPr>
          </a:p>
          <a:p>
            <a:pPr marL="32580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Felix Titling"/>
              </a:rPr>
              <a:t>  </a:t>
            </a:r>
            <a:endParaRPr b="0" lang="en-US" sz="2000" spc="-1" strike="noStrike">
              <a:solidFill>
                <a:srgbClr val="ffffff"/>
              </a:solidFill>
              <a:latin typeface="Garamond"/>
            </a:endParaRPr>
          </a:p>
        </p:txBody>
      </p:sp>
      <p:pic>
        <p:nvPicPr>
          <p:cNvPr id="245" name="" descr=""/>
          <p:cNvPicPr/>
          <p:nvPr/>
        </p:nvPicPr>
        <p:blipFill>
          <a:blip r:embed="rId2"/>
          <a:stretch/>
        </p:blipFill>
        <p:spPr>
          <a:xfrm>
            <a:off x="4932360" y="1628640"/>
            <a:ext cx="4030560" cy="323856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3850920" y="259920"/>
            <a:ext cx="5041800" cy="6335640"/>
          </a:xfrm>
          <a:prstGeom prst="rect">
            <a:avLst/>
          </a:prstGeom>
          <a:noFill/>
          <a:ln w="0">
            <a:noFill/>
          </a:ln>
        </p:spPr>
        <p:txBody>
          <a:bodyPr lIns="90000" rIns="90000" tIns="46800" bIns="46800" anchor="t">
            <a:normAutofit fontScale="90000"/>
          </a:bodyPr>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Среди божеств моря -- и старец Протей, меняющий, подобно морю, свой образ и превращающийся, по желанию, в различных животных и чудовищ. Он тоже вещий бог, нужно только уметь застигнуть его неожиданно, овладеть им и заставить его открыть тайну будущего. Среди спутников колебателя земли Посейдона и бог Главк, покровитель моряков и рыбаков, и он обладает даром прорицания. Часто, всплывая из глубины моря, открывал он будущее и давал мудрые советы смертным. Могучи боги моря, велика их власть, но властвует над всеми ними великий брат Зевса Посейдон.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Garamond"/>
              </a:rPr>
              <a:t>  </a:t>
            </a:r>
            <a:endParaRPr b="0" lang="en-US" sz="2400" spc="-1" strike="noStrike">
              <a:solidFill>
                <a:srgbClr val="ffffff"/>
              </a:solidFill>
              <a:latin typeface="Garamond"/>
            </a:endParaRPr>
          </a:p>
        </p:txBody>
      </p:sp>
      <p:pic>
        <p:nvPicPr>
          <p:cNvPr id="247" name="" descr=""/>
          <p:cNvPicPr/>
          <p:nvPr/>
        </p:nvPicPr>
        <p:blipFill>
          <a:blip r:embed="rId2"/>
          <a:stretch/>
        </p:blipFill>
        <p:spPr>
          <a:xfrm>
            <a:off x="1403280" y="2276640"/>
            <a:ext cx="2095560" cy="22096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250560" y="692280"/>
            <a:ext cx="5616360" cy="5473440"/>
          </a:xfrm>
          <a:prstGeom prst="rect">
            <a:avLst/>
          </a:prstGeom>
          <a:noFill/>
          <a:ln w="0">
            <a:noFill/>
          </a:ln>
        </p:spPr>
        <p:txBody>
          <a:bodyPr lIns="90000" rIns="90000" tIns="46800" bIns="46800" anchor="t">
            <a:normAutofit fontScale="88000"/>
          </a:bodyPr>
          <a:p>
            <a:pPr marL="30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00"/>
                </a:solidFill>
                <a:latin typeface="Felix Titling"/>
              </a:rPr>
              <a:t>Все моря и все земли обтекает седой Океан  -- бог-титан, равный самому Зевсу по почету и славе. Он живет далеко на границах мира, и не тревожат его сердце дела земли. Три тысячи сыновей -- речных богов и три тысячи дочерей -- океанид, богинь ручьев и источников, у Океана. Сыновья и дочери великого бога Океана дают благоденствие и радость смертным своей вечнокатящейся живящей водой, они поят ею всю землю и все живое. </a:t>
            </a:r>
            <a:r>
              <a:rPr b="0" lang="en-US" sz="2600" spc="-1" strike="noStrike">
                <a:solidFill>
                  <a:srgbClr val="ffffff"/>
                </a:solidFill>
                <a:latin typeface="Garamond"/>
              </a:rPr>
              <a:t>                                                         </a:t>
            </a:r>
            <a:endParaRPr b="0" lang="en-US" sz="2600" spc="-1" strike="noStrike">
              <a:solidFill>
                <a:srgbClr val="ffffff"/>
              </a:solidFill>
              <a:latin typeface="Garamond"/>
            </a:endParaRPr>
          </a:p>
        </p:txBody>
      </p:sp>
      <p:pic>
        <p:nvPicPr>
          <p:cNvPr id="249" name="" descr=""/>
          <p:cNvPicPr/>
          <p:nvPr/>
        </p:nvPicPr>
        <p:blipFill>
          <a:blip r:embed="rId2"/>
          <a:stretch/>
        </p:blipFill>
        <p:spPr>
          <a:xfrm>
            <a:off x="5867280" y="2060640"/>
            <a:ext cx="3027600" cy="3047760"/>
          </a:xfrm>
          <a:prstGeom prst="rect">
            <a:avLst/>
          </a:prstGeom>
          <a:ln w="9360">
            <a:solidFill>
              <a:srgbClr val="00ffff"/>
            </a:solidFill>
            <a:miter/>
          </a:ln>
        </p:spPr>
      </p:pic>
      <p:sp>
        <p:nvSpPr>
          <p:cNvPr id="250"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eorgia"/>
              </a:rPr>
              <a:t>ЦАРСТВО МРАЧНОГО АИДА (ПЛУТОНА)</a:t>
            </a:r>
            <a:endParaRPr b="0" lang="en-US" sz="3600" spc="-1" strike="noStrike">
              <a:solidFill>
                <a:srgbClr val="000000"/>
              </a:solidFill>
              <a:latin typeface="Arial"/>
            </a:endParaRPr>
          </a:p>
        </p:txBody>
      </p:sp>
      <p:sp>
        <p:nvSpPr>
          <p:cNvPr id="252" name="PlaceHolder 2"/>
          <p:cNvSpPr>
            <a:spLocks noGrp="1"/>
          </p:cNvSpPr>
          <p:nvPr>
            <p:ph/>
          </p:nvPr>
        </p:nvSpPr>
        <p:spPr>
          <a:xfrm>
            <a:off x="250920" y="1600200"/>
            <a:ext cx="4752720" cy="4997520"/>
          </a:xfrm>
          <a:prstGeom prst="rect">
            <a:avLst/>
          </a:prstGeom>
          <a:noFill/>
          <a:ln w="0">
            <a:noFill/>
          </a:ln>
        </p:spPr>
        <p:txBody>
          <a:bodyPr lIns="90000" rIns="90000" tIns="46800" bIns="46800" anchor="t">
            <a:normAutofit fontScale="90000"/>
          </a:bodyPr>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ccff"/>
                </a:solidFill>
                <a:latin typeface="Felix Titling"/>
              </a:rPr>
              <a:t>Глубоко под землей царит неумолимый, мрачный брат Зевса, Аид. Полно мрака и ужасов его царство. Никогда не проникают туда радостные лучи яркого солнца. Бездонные пропасти ведут с поверхности земли в печальное царство Аида. Мрачные реки текут в нем. Там протекает все леденящая священная река Стикс, водами которой клянутся сами боги. </a:t>
            </a:r>
            <a:endParaRPr b="0" lang="en-US" sz="2600" spc="-1" strike="noStrike">
              <a:solidFill>
                <a:srgbClr val="000000"/>
              </a:solidFill>
              <a:latin typeface="Arial"/>
            </a:endParaRPr>
          </a:p>
          <a:p>
            <a:pPr marL="30852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53" name="" descr=""/>
          <p:cNvPicPr/>
          <p:nvPr/>
        </p:nvPicPr>
        <p:blipFill>
          <a:blip r:embed="rId2"/>
          <a:stretch/>
        </p:blipFill>
        <p:spPr>
          <a:xfrm>
            <a:off x="5580000" y="1557360"/>
            <a:ext cx="25480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Arial"/>
              </a:rPr>
              <a:t>РОЖДЕНИЕ ЗЕВСА</a:t>
            </a:r>
            <a:endParaRPr b="0" lang="en-US" sz="4400" spc="-1" strike="noStrike">
              <a:solidFill>
                <a:srgbClr val="000000"/>
              </a:solidFill>
              <a:latin typeface="Arial"/>
            </a:endParaRPr>
          </a:p>
        </p:txBody>
      </p:sp>
      <p:sp>
        <p:nvSpPr>
          <p:cNvPr id="150" name="PlaceHolder 2"/>
          <p:cNvSpPr>
            <a:spLocks noGrp="1"/>
          </p:cNvSpPr>
          <p:nvPr>
            <p:ph/>
          </p:nvPr>
        </p:nvSpPr>
        <p:spPr>
          <a:xfrm>
            <a:off x="107640" y="1341360"/>
            <a:ext cx="5040360" cy="5183280"/>
          </a:xfrm>
          <a:prstGeom prst="rect">
            <a:avLst/>
          </a:prstGeom>
          <a:noFill/>
          <a:ln w="0">
            <a:noFill/>
          </a:ln>
        </p:spPr>
        <p:txBody>
          <a:bodyPr lIns="90000" rIns="90000" tIns="46800" bIns="46800" anchor="t">
            <a:normAutofit fontScale="95000"/>
          </a:bodyPr>
          <a:p>
            <a:pPr marL="32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Felix Titling"/>
              </a:rPr>
              <a:t>Крон не был уверен, что власть навсегда останется в его руках. Он боялся, что и против него восстанут дети и обретут его на ту же участь, на какую обрек он своего отца Урана. Он боялся своих детей. И повелел Крон жене своей Рее приносить ему рождавшихся детей и безжалостно проглатывал их. В ужас приходила Рея, видя судьбу детей своих. Уже пятерых проглотил Крон: Гестию , Деметру , Геру, Аида (Гадеса) и Посейдона . </a:t>
            </a:r>
            <a:endParaRPr b="0" lang="en-US" sz="2400" spc="-1" strike="noStrike">
              <a:solidFill>
                <a:srgbClr val="000000"/>
              </a:solidFill>
              <a:latin typeface="Arial"/>
            </a:endParaRPr>
          </a:p>
        </p:txBody>
      </p:sp>
      <p:pic>
        <p:nvPicPr>
          <p:cNvPr id="151" name="" descr=""/>
          <p:cNvPicPr/>
          <p:nvPr/>
        </p:nvPicPr>
        <p:blipFill>
          <a:blip r:embed="rId2"/>
          <a:stretch/>
        </p:blipFill>
        <p:spPr>
          <a:xfrm>
            <a:off x="5219640" y="2276640"/>
            <a:ext cx="3638520" cy="288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4211280" y="0"/>
            <a:ext cx="4824360" cy="685800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Катят там свои волны Коцит и Ахеронт; души умерших оглашают своим стенанием, полным печали, их мрачные берега. В подземном царстве струятся и дающие забвение всего земного воды источника Леты . По мрачным полям царства Аида, заросшим бледными цветами асфодела, носятся бесплотные легкие тени умерших. Они сетуют на свою безрадостную жизнь без света и без желаний. Тихо раздаются их стоны, едва уловимые, подобные шелесту увядших листьев, гонимых осенним ветром. Нет никому возврата из этого царства печали. Трехглавый адский пес Кербер , на шее которого движутся с грозным шипением змеи, сторожит выход. Суровый, старый Харон, перевозчик душ умерших, не повезет через мрачные воды Ахеронта ни одну душу обратно, туда, где светит ярко солнце жизни. На вечное безрадостное существование обречены души умерших в мрачном царстве Аида. </a:t>
            </a:r>
            <a:endParaRPr b="0" lang="en-US" sz="2000" spc="-1" strike="noStrike">
              <a:solidFill>
                <a:srgbClr val="000000"/>
              </a:solidFill>
              <a:latin typeface="Arial"/>
            </a:endParaRPr>
          </a:p>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5" name="" descr=""/>
          <p:cNvPicPr/>
          <p:nvPr/>
        </p:nvPicPr>
        <p:blipFill>
          <a:blip r:embed="rId2"/>
          <a:stretch/>
        </p:blipFill>
        <p:spPr>
          <a:xfrm>
            <a:off x="179280" y="2565360"/>
            <a:ext cx="4286520" cy="3409920"/>
          </a:xfrm>
          <a:prstGeom prst="rect">
            <a:avLst/>
          </a:prstGeom>
          <a:ln w="9360">
            <a:solidFill>
              <a:srgbClr val="ffff00"/>
            </a:solidFill>
            <a:miter/>
          </a:ln>
        </p:spPr>
      </p:pic>
      <p:pic>
        <p:nvPicPr>
          <p:cNvPr id="256" name="" descr=""/>
          <p:cNvPicPr/>
          <p:nvPr/>
        </p:nvPicPr>
        <p:blipFill>
          <a:blip r:embed="rId3"/>
          <a:stretch/>
        </p:blipFill>
        <p:spPr>
          <a:xfrm>
            <a:off x="1332000" y="620640"/>
            <a:ext cx="2000160" cy="14288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107640" y="189000"/>
            <a:ext cx="4978440" cy="4525920"/>
          </a:xfrm>
          <a:prstGeom prst="rect">
            <a:avLst/>
          </a:prstGeom>
          <a:noFill/>
          <a:ln w="0">
            <a:noFill/>
          </a:ln>
        </p:spPr>
        <p:txBody>
          <a:bodyPr lIns="90000" rIns="90000" tIns="46800" bIns="46800" anchor="t">
            <a:normAutofit fontScale="93000"/>
          </a:bodyPr>
          <a:p>
            <a:pPr marL="318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ccff"/>
                </a:solidFill>
                <a:latin typeface="Felix Titling"/>
              </a:rPr>
              <a:t>В этом-то царстве, до которого не доходят ни свет, ни радость, ни печали земной жизни, правит брат Зевса, Аид. Он сидит на золотом троне со своей женой Персефоной. Ему служат неумолимые богини мщения Эринии. Грозные, с бичами и змеями преследуют они преступника; не дают ему ни минуты покоя и терзают его угрызениями совести; нигде нельзя скрыться от них, всюду находят они свою жертву. У трона Аида сидят судьи царства умерших -- Минос и Радамант. Здесь же, у трона, бог смерти Танат с мечом в руках, в черном плаще, с громадными черными крыльями.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8" name="" descr=""/>
          <p:cNvPicPr/>
          <p:nvPr/>
        </p:nvPicPr>
        <p:blipFill>
          <a:blip r:embed="rId2"/>
          <a:stretch/>
        </p:blipFill>
        <p:spPr>
          <a:xfrm>
            <a:off x="1403280" y="4869000"/>
            <a:ext cx="2762280" cy="1428480"/>
          </a:xfrm>
          <a:prstGeom prst="rect">
            <a:avLst/>
          </a:prstGeom>
          <a:ln w="9360">
            <a:solidFill>
              <a:srgbClr val="ffff00"/>
            </a:solidFill>
            <a:miter/>
          </a:ln>
        </p:spPr>
      </p:pic>
      <p:pic>
        <p:nvPicPr>
          <p:cNvPr id="259" name="" descr=""/>
          <p:cNvPicPr/>
          <p:nvPr/>
        </p:nvPicPr>
        <p:blipFill>
          <a:blip r:embed="rId3"/>
          <a:stretch/>
        </p:blipFill>
        <p:spPr>
          <a:xfrm>
            <a:off x="5651640" y="1844640"/>
            <a:ext cx="2894040" cy="28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211640" y="476280"/>
            <a:ext cx="4681440" cy="5865840"/>
          </a:xfrm>
          <a:prstGeom prst="rect">
            <a:avLst/>
          </a:prstGeom>
          <a:noFill/>
          <a:ln w="0">
            <a:noFill/>
          </a:ln>
        </p:spPr>
        <p:txBody>
          <a:bodyPr lIns="90000" rIns="90000" tIns="46800" bIns="46800"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Могильным холодом веют эти крылья, когда прилетает Танат к ложу умирающего, чтобы срезать своим мечом прядь волос с его головы и исторгнуть душу. Рядом с Танатом и мрачные Керы. На крыльях своих носятся они, неистовые, по полю битвы. Керы ликуют, видя, как один за другим падают сраженные герои; своими кроваво-красными губами припадают они к ранам, жадно пьют горячую кровь сраженных и вырывают из тела их души.</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1" name="" descr=""/>
          <p:cNvPicPr/>
          <p:nvPr/>
        </p:nvPicPr>
        <p:blipFill>
          <a:blip r:embed="rId2"/>
          <a:stretch/>
        </p:blipFill>
        <p:spPr>
          <a:xfrm>
            <a:off x="250920" y="1125360"/>
            <a:ext cx="3919320" cy="503892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179280" y="260280"/>
            <a:ext cx="540072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ccff"/>
                </a:solidFill>
                <a:latin typeface="Felix Titling"/>
              </a:rPr>
              <a:t>Здесь же, у трона Аида, и прекрасный, юный бог сна Гипнос. Он неслышно носится на своих крыльях над землей с головками мака в руках и льет из рога снотворный напиток. Нежно касается он своим чудесным жезлом глаз людей, тихо смыкает веки и погружает смертных в сладкий сон. Могуч бог Гипнос, не могут противиться ему ни смертные, ни боги, ни даже сам громовержец Зевс: и ему Гипнос смыкает грозные очи и погружает его в глубокий сон</a:t>
            </a:r>
            <a:r>
              <a:rPr b="1" lang="en-US" sz="2400" spc="-1" strike="noStrike">
                <a:solidFill>
                  <a:srgbClr val="66ccff"/>
                </a:solidFill>
                <a:latin typeface="Felix Titling"/>
              </a:rPr>
              <a:t>. </a:t>
            </a:r>
            <a:endParaRPr b="0" lang="en-US" sz="2400" spc="-1" strike="noStrike">
              <a:solidFill>
                <a:srgbClr val="000000"/>
              </a:solidFill>
              <a:latin typeface="Arial"/>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 descr=""/>
          <p:cNvPicPr/>
          <p:nvPr/>
        </p:nvPicPr>
        <p:blipFill>
          <a:blip r:embed="rId2"/>
          <a:stretch/>
        </p:blipFill>
        <p:spPr>
          <a:xfrm>
            <a:off x="5867280" y="1052640"/>
            <a:ext cx="3084480" cy="468144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066920" y="260280"/>
            <a:ext cx="4825800" cy="6408720"/>
          </a:xfrm>
          <a:prstGeom prst="rect">
            <a:avLst/>
          </a:prstGeom>
          <a:noFill/>
          <a:ln w="0">
            <a:noFill/>
          </a:ln>
        </p:spPr>
        <p:txBody>
          <a:bodyPr lIns="90000" rIns="90000" tIns="46800" bIns="46800"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Носятся в мрачном царстве Аида и боги сновидений. Есть среди них боги, дающие вещие и радостные сновидения, но есть боги и страшных, гнетущих сновидений, пугающих и мучащих людей. Есть боги и лживых снов, они вводят человека в заблуждение и часто ведут его к гибели.   Царство неумолимого Аида полно мрака и ужасов. Там бродит во тьме ужасное привидение Эмпуса с ослиными ногами; оно, заманив в ночной тьме хитростью людей в уединенное место, выпивает всю кровь и пожирает их еще трепещущие тела. </a:t>
            </a:r>
            <a:endParaRPr b="0" lang="en-US" sz="2400" spc="-1" strike="noStrike">
              <a:solidFill>
                <a:srgbClr val="000000"/>
              </a:solidFill>
              <a:latin typeface="Arial"/>
            </a:endParaRPr>
          </a:p>
        </p:txBody>
      </p:sp>
      <p:pic>
        <p:nvPicPr>
          <p:cNvPr id="265" name="" descr=""/>
          <p:cNvPicPr/>
          <p:nvPr/>
        </p:nvPicPr>
        <p:blipFill>
          <a:blip r:embed="rId2"/>
          <a:stretch/>
        </p:blipFill>
        <p:spPr>
          <a:xfrm>
            <a:off x="324000" y="1844640"/>
            <a:ext cx="3925800" cy="3240000"/>
          </a:xfrm>
          <a:prstGeom prst="rect">
            <a:avLst/>
          </a:prstGeom>
          <a:ln w="9360">
            <a:solidFill>
              <a:srgbClr val="ffff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179280" y="333360"/>
            <a:ext cx="5832720" cy="6408720"/>
          </a:xfrm>
          <a:prstGeom prst="rect">
            <a:avLst/>
          </a:prstGeom>
          <a:noFill/>
          <a:ln w="0">
            <a:noFill/>
          </a:ln>
        </p:spPr>
        <p:txBody>
          <a:bodyPr lIns="90000" rIns="90000" tIns="46800" bIns="46800"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Там бродит и чудовищная Ламия; она ночью пробирается в спальню счастливых матерей и крадет у них детей, чтобы напиться их крови. Над всеми привидениями и чудовищами властвует великая богиня Геката. Три тела и три головы у нее. Безлунной ночью блуждает она в глубокой тьме по дорогам и у могил со всей своей ужасной свитой, окруженная стигийскими собаками. Она посылает ужасы и тяжкие сны на землю и губит людей. Гекату призывают как помощницу в колдовстве, но она же и единственная помощница против колдовства для тех, которые чтут ее и приносят ей на распутьях, где расходятся три дороги, в жертву собак. </a:t>
            </a:r>
            <a:endParaRPr b="0" lang="en-US" sz="2400" spc="-1" strike="noStrike">
              <a:solidFill>
                <a:srgbClr val="000000"/>
              </a:solidFill>
              <a:latin typeface="Arial"/>
            </a:endParaRPr>
          </a:p>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ccff"/>
                </a:solidFill>
                <a:latin typeface="Felix Titling"/>
              </a:rPr>
              <a:t>   </a:t>
            </a:r>
            <a:r>
              <a:rPr b="1" lang="ru-RU" sz="2400" spc="-1" strike="noStrike">
                <a:solidFill>
                  <a:srgbClr val="ffff00"/>
                </a:solidFill>
                <a:latin typeface="Felix Titling"/>
              </a:rPr>
              <a:t>Ужасно царство Аида, и ненавистно оно людям .</a:t>
            </a:r>
            <a:endParaRPr b="0" lang="en-US" sz="2400" spc="-1" strike="noStrike">
              <a:solidFill>
                <a:srgbClr val="000000"/>
              </a:solidFill>
              <a:latin typeface="Arial"/>
            </a:endParaRPr>
          </a:p>
        </p:txBody>
      </p:sp>
      <p:pic>
        <p:nvPicPr>
          <p:cNvPr id="267" name="" descr=""/>
          <p:cNvPicPr/>
          <p:nvPr/>
        </p:nvPicPr>
        <p:blipFill>
          <a:blip r:embed="rId2"/>
          <a:stretch/>
        </p:blipFill>
        <p:spPr>
          <a:xfrm>
            <a:off x="6300720" y="907920"/>
            <a:ext cx="2613240" cy="4321440"/>
          </a:xfrm>
          <a:prstGeom prst="rect">
            <a:avLst/>
          </a:prstGeom>
          <a:ln w="9360">
            <a:solidFill>
              <a:srgbClr val="ffff00"/>
            </a:solidFill>
            <a:miter/>
          </a:ln>
        </p:spPr>
      </p:pic>
      <p:sp>
        <p:nvSpPr>
          <p:cNvPr id="268"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2565360"/>
            <a:ext cx="8229600" cy="3959280"/>
          </a:xfrm>
          <a:prstGeom prst="rect">
            <a:avLst/>
          </a:prstGeom>
          <a:noFill/>
          <a:ln w="0">
            <a:noFill/>
          </a:ln>
        </p:spPr>
        <p:txBody>
          <a:bodyPr lIns="90000" rIns="90000" tIns="46800" bIns="46800"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Рея не хотела потерять и последнего своего ребенка. По совету своих родителей, Урана-Неба и Геи-Земли, удалилась она на остров Крит, а там, в глубокой пещере, родился у нее младший сын Зевс. В этой пещере Рея скрыла своего сына от жестокого отца, а ему дала проглотить вместо сына длинный камень, завернутый в пеленки. Крон не подозревал, что он был обманут своей женой. </a:t>
            </a:r>
            <a:endParaRPr b="0" lang="en-US" sz="2800" spc="-1" strike="noStrike">
              <a:solidFill>
                <a:srgbClr val="000000"/>
              </a:solidFill>
              <a:latin typeface="Arial"/>
            </a:endParaRPr>
          </a:p>
        </p:txBody>
      </p:sp>
      <p:pic>
        <p:nvPicPr>
          <p:cNvPr id="153" name="" descr=""/>
          <p:cNvPicPr/>
          <p:nvPr/>
        </p:nvPicPr>
        <p:blipFill>
          <a:blip r:embed="rId2"/>
          <a:stretch/>
        </p:blipFill>
        <p:spPr>
          <a:xfrm>
            <a:off x="0" y="0"/>
            <a:ext cx="1428840" cy="2143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24000" y="620640"/>
            <a:ext cx="6984720" cy="4525920"/>
          </a:xfrm>
          <a:prstGeom prst="rect">
            <a:avLst/>
          </a:prstGeom>
          <a:noFill/>
          <a:ln w="0">
            <a:noFill/>
          </a:ln>
        </p:spPr>
        <p:txBody>
          <a:bodyPr lIns="90000" rIns="90000" tIns="46800" bIns="46800"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Felix Titling"/>
              </a:rPr>
              <a:t>Зевс тем временем рос на Крите. Нимфы Адрастея и Идея лелеяли маленького Зевса, они вскормили его молоком божественной козы Амалфеи. Пчелы носили мед маленькому Зевсу со склонов высокой горы Дикты. У входа же в пещеру юные куреты</a:t>
            </a:r>
            <a:r>
              <a:rPr b="1" lang="en-US" sz="2800" spc="-1" strike="noStrike">
                <a:solidFill>
                  <a:srgbClr val="ffff00"/>
                </a:solidFill>
                <a:latin typeface="Felix Titling"/>
              </a:rPr>
              <a:t> </a:t>
            </a:r>
            <a:r>
              <a:rPr b="1" lang="ru-RU" sz="2800" spc="-1" strike="noStrike">
                <a:solidFill>
                  <a:srgbClr val="ffff00"/>
                </a:solidFill>
                <a:latin typeface="Felix Titling"/>
              </a:rPr>
              <a:t>ударяли в щиты мечами всякий раз, когда маленький Зевс плакал, чтобы не услыхал его плача Крон, и не постигла бы Зевса участь его братьев и сестер. </a:t>
            </a:r>
            <a:endParaRPr b="0" lang="en-US" sz="2800" spc="-1" strike="noStrike">
              <a:solidFill>
                <a:srgbClr val="000000"/>
              </a:solidFill>
              <a:latin typeface="Arial"/>
            </a:endParaRPr>
          </a:p>
        </p:txBody>
      </p:sp>
      <p:pic>
        <p:nvPicPr>
          <p:cNvPr id="155" name="" descr=""/>
          <p:cNvPicPr/>
          <p:nvPr/>
        </p:nvPicPr>
        <p:blipFill>
          <a:blip r:embed="rId2"/>
          <a:stretch/>
        </p:blipFill>
        <p:spPr>
          <a:xfrm>
            <a:off x="7238880" y="3429000"/>
            <a:ext cx="1905120" cy="2852640"/>
          </a:xfrm>
          <a:prstGeom prst="rect">
            <a:avLst/>
          </a:prstGeom>
          <a:ln w="0">
            <a:noFill/>
          </a:ln>
        </p:spPr>
      </p:pic>
      <p:sp>
        <p:nvSpPr>
          <p:cNvPr id="156" name=""/>
          <p:cNvSpPr/>
          <p:nvPr/>
        </p:nvSpPr>
        <p:spPr>
          <a:xfrm>
            <a:off x="8567640" y="6640560"/>
            <a:ext cx="576360" cy="217440"/>
          </a:xfrm>
          <a:custGeom>
            <a:avLst/>
            <a:gdLst>
              <a:gd name="textAreaLeft" fmla="*/ 14040 w 576360"/>
              <a:gd name="textAreaRight" fmla="*/ 562320 w 576360"/>
              <a:gd name="textAreaTop" fmla="*/ 14040 h 217440"/>
              <a:gd name="textAreaBottom" fmla="*/ 203400 h 217440"/>
            </a:gdLst>
            <a:ahLst/>
            <a:rect l="textAreaLeft" t="textAreaTop" r="textAreaRight" b="textAreaBottom"/>
            <a:pathLst>
              <a:path w="57195" h="21600">
                <a:moveTo>
                  <a:pt x="0" y="0"/>
                </a:moveTo>
                <a:lnTo>
                  <a:pt x="57195" y="0"/>
                </a:lnTo>
                <a:lnTo>
                  <a:pt x="57195" y="21600"/>
                </a:lnTo>
                <a:lnTo>
                  <a:pt x="0" y="21600"/>
                </a:lnTo>
                <a:close/>
              </a:path>
              <a:path fill="lightenLess" w="57195" h="21600">
                <a:moveTo>
                  <a:pt x="0" y="0"/>
                </a:moveTo>
                <a:lnTo>
                  <a:pt x="57195" y="0"/>
                </a:lnTo>
                <a:lnTo>
                  <a:pt x="55795" y="1400"/>
                </a:lnTo>
                <a:lnTo>
                  <a:pt x="1400" y="1400"/>
                </a:lnTo>
                <a:close/>
              </a:path>
              <a:path fill="darken" w="57195" h="21600">
                <a:moveTo>
                  <a:pt x="57195" y="0"/>
                </a:moveTo>
                <a:lnTo>
                  <a:pt x="57195" y="21600"/>
                </a:lnTo>
                <a:lnTo>
                  <a:pt x="55795" y="20200"/>
                </a:lnTo>
                <a:lnTo>
                  <a:pt x="55795" y="1400"/>
                </a:lnTo>
                <a:close/>
              </a:path>
              <a:path fill="darkenLess" w="57195" h="21600">
                <a:moveTo>
                  <a:pt x="57195" y="21600"/>
                </a:moveTo>
                <a:lnTo>
                  <a:pt x="0" y="21600"/>
                </a:lnTo>
                <a:lnTo>
                  <a:pt x="1400" y="20200"/>
                </a:lnTo>
                <a:lnTo>
                  <a:pt x="55795" y="20200"/>
                </a:lnTo>
                <a:close/>
              </a:path>
              <a:path fill="lighten" w="57195" h="21600">
                <a:moveTo>
                  <a:pt x="0" y="21600"/>
                </a:moveTo>
                <a:lnTo>
                  <a:pt x="0" y="0"/>
                </a:lnTo>
                <a:lnTo>
                  <a:pt x="1400" y="1400"/>
                </a:lnTo>
                <a:lnTo>
                  <a:pt x="1400" y="20200"/>
                </a:lnTo>
                <a:close/>
              </a:path>
              <a:path fill="darken" w="57195" h="21600">
                <a:moveTo>
                  <a:pt x="25099" y="10800"/>
                </a:moveTo>
                <a:lnTo>
                  <a:pt x="35604" y="3794"/>
                </a:lnTo>
                <a:lnTo>
                  <a:pt x="35604" y="17806"/>
                </a:lnTo>
                <a:close/>
              </a:path>
              <a:path fill="darken" w="57195" h="21600">
                <a:moveTo>
                  <a:pt x="21591" y="3794"/>
                </a:moveTo>
                <a:lnTo>
                  <a:pt x="23254" y="3794"/>
                </a:lnTo>
                <a:lnTo>
                  <a:pt x="23254" y="17806"/>
                </a:lnTo>
                <a:lnTo>
                  <a:pt x="21591" y="17806"/>
                </a:lnTo>
                <a:close/>
              </a:path>
            </a:pathLst>
          </a:custGeom>
          <a:solidFill>
            <a:srgbClr val="ffff00"/>
          </a:solidFill>
          <a:ln w="93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Georgia"/>
              </a:rPr>
              <a:t>ЗЕВС СВЕРГАЕТ КРОНА. БОРЬБА БОГОВ-ОЛИМПИЙЦЕВ С ТИТАНАМИ</a:t>
            </a:r>
            <a:endParaRPr b="0" lang="en-US" sz="2800" spc="-1" strike="noStrike">
              <a:solidFill>
                <a:srgbClr val="000000"/>
              </a:solidFill>
              <a:latin typeface="Arial"/>
            </a:endParaRPr>
          </a:p>
        </p:txBody>
      </p:sp>
      <p:sp>
        <p:nvSpPr>
          <p:cNvPr id="158" name="PlaceHolder 2"/>
          <p:cNvSpPr>
            <a:spLocks noGrp="1"/>
          </p:cNvSpPr>
          <p:nvPr>
            <p:ph/>
          </p:nvPr>
        </p:nvSpPr>
        <p:spPr>
          <a:xfrm>
            <a:off x="0" y="1600200"/>
            <a:ext cx="5292720" cy="4997520"/>
          </a:xfrm>
          <a:prstGeom prst="rect">
            <a:avLst/>
          </a:prstGeom>
          <a:noFill/>
          <a:ln w="0">
            <a:noFill/>
          </a:ln>
        </p:spPr>
        <p:txBody>
          <a:bodyPr lIns="90000" rIns="90000" tIns="46800" bIns="46800" anchor="t">
            <a:normAutofit fontScale="93000"/>
          </a:bodyPr>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Вырос и возмужал прекрасный и могучий бог Зевс. Он восстал против своего отца и заставил его вернуть опять на свет поглощенных им детей. Одного за другим изверг из уст Крон своих детей-богов, прекрасных и светлых. Они начали борьбу с Кроном и титанами за власть над миром. </a:t>
            </a:r>
            <a:endParaRPr b="0" lang="en-US" sz="2800" spc="-1" strike="noStrike">
              <a:solidFill>
                <a:srgbClr val="000000"/>
              </a:solidFill>
              <a:latin typeface="Arial"/>
            </a:endParaRPr>
          </a:p>
        </p:txBody>
      </p:sp>
      <p:pic>
        <p:nvPicPr>
          <p:cNvPr id="159" name="" descr=""/>
          <p:cNvPicPr/>
          <p:nvPr/>
        </p:nvPicPr>
        <p:blipFill>
          <a:blip r:embed="rId2"/>
          <a:stretch/>
        </p:blipFill>
        <p:spPr>
          <a:xfrm>
            <a:off x="5219640" y="1557360"/>
            <a:ext cx="3649680" cy="432108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140000" y="1197000"/>
            <a:ext cx="4762440" cy="452592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Felix Titling"/>
              </a:rPr>
              <a:t>Ужасна и упорна была эта борьба. Дети Крона утвердились на высоком Олимпе. На их сторону стали и некоторые из титанов, а первыми -- титан Океан и дочь его Стикс и детьми Рвением, Мощью и Победой. Опасна была эта борьба для богов-олимпийцев. </a:t>
            </a:r>
            <a:endParaRPr b="0" lang="en-US" sz="2800" spc="-1" strike="noStrike">
              <a:solidFill>
                <a:srgbClr val="000000"/>
              </a:solidFill>
              <a:latin typeface="Arial"/>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2"/>
          <a:stretch/>
        </p:blipFill>
        <p:spPr>
          <a:xfrm>
            <a:off x="395280" y="1700280"/>
            <a:ext cx="3816360" cy="3443400"/>
          </a:xfrm>
          <a:prstGeom prst="rect">
            <a:avLst/>
          </a:prstGeom>
          <a:ln w="9360">
            <a:solidFill>
              <a:srgbClr val="00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7T10:16:35Z</dcterms:created>
  <dc:creator>User</dc:creator>
  <dc:description/>
  <dc:language>en-US</dc:language>
  <cp:lastModifiedBy>User</cp:lastModifiedBy>
  <dcterms:modified xsi:type="dcterms:W3CDTF">2008-05-13T07:20:40Z</dcterms:modified>
  <cp:revision>39</cp:revision>
  <dc:subject/>
  <dc:title>Мифы Древней  Греции</dc:title>
</cp:coreProperties>
</file>