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gif" ContentType="image/gif"/>
  <Override PartName="/ppt/media/image9.gif" ContentType="image/gif"/>
  <Override PartName="/ppt/media/image8.jpeg" ContentType="image/jpeg"/>
  <Override PartName="/ppt/media/image18.jpeg" ContentType="image/jpeg"/>
  <Override PartName="/ppt/media/image17.jpeg" ContentType="image/jpeg"/>
  <Override PartName="/ppt/media/image15.gif" ContentType="image/gif"/>
  <Override PartName="/ppt/media/image14.gif" ContentType="image/gif"/>
  <Override PartName="/ppt/media/image2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11.gif" ContentType="image/gif"/>
  <Override PartName="/ppt/media/image6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9BEF-89E4-48D5-AE43-9562B3CB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8193-14CE-46EC-B45D-B5D38970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358E-FEFA-4BCA-AAB0-7FE55333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8305-8344-4E4E-A8C8-42354B87D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B02C-E72A-48B2-9B05-618E1EC1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9684-F68F-44AE-8915-E8C6B011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DC64-ED3F-4069-8B49-FFC57FD6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E182-747F-4D44-9C78-ABA8DD9F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FE6C-7CC9-4B00-907B-61931DFB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2518-BC32-4B2A-9439-72586C7A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B231-3012-48D2-95F8-7AEF3378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AA2B-2235-4B24-8A63-4EA91610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FB73-E859-4DD8-98E7-66A3D36EA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12.gif"/><Relationship Id="rId21" Type="http://schemas.openxmlformats.org/officeDocument/2006/relationships/image" Target="../media/image12.gif"/><Relationship Id="rId22" Type="http://schemas.openxmlformats.org/officeDocument/2006/relationships/image" Target="../media/image12.gif"/><Relationship Id="rId23" Type="http://schemas.openxmlformats.org/officeDocument/2006/relationships/image" Target="../media/image12.gif"/><Relationship Id="rId24" Type="http://schemas.openxmlformats.org/officeDocument/2006/relationships/image" Target="../media/image12.gif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image" Target="../media/image2.jpeg"/><Relationship Id="rId34" Type="http://schemas.openxmlformats.org/officeDocument/2006/relationships/image" Target="../media/image13.gif"/><Relationship Id="rId35" Type="http://schemas.openxmlformats.org/officeDocument/2006/relationships/image" Target="../media/image13.gif"/><Relationship Id="rId36" Type="http://schemas.openxmlformats.org/officeDocument/2006/relationships/image" Target="../media/image13.gif"/><Relationship Id="rId37" Type="http://schemas.openxmlformats.org/officeDocument/2006/relationships/image" Target="../media/image13.gif"/><Relationship Id="rId38" Type="http://schemas.openxmlformats.org/officeDocument/2006/relationships/image" Target="../media/image14.gif"/><Relationship Id="rId39" Type="http://schemas.openxmlformats.org/officeDocument/2006/relationships/image" Target="../media/image14.gif"/><Relationship Id="rId40" Type="http://schemas.openxmlformats.org/officeDocument/2006/relationships/image" Target="../media/image14.gif"/><Relationship Id="rId41" Type="http://schemas.openxmlformats.org/officeDocument/2006/relationships/image" Target="../media/image14.gif"/><Relationship Id="rId42" Type="http://schemas.openxmlformats.org/officeDocument/2006/relationships/image" Target="../media/image14.gif"/><Relationship Id="rId43" Type="http://schemas.openxmlformats.org/officeDocument/2006/relationships/image" Target="../media/image14.gif"/><Relationship Id="rId44" Type="http://schemas.openxmlformats.org/officeDocument/2006/relationships/image" Target="../media/image15.gif"/><Relationship Id="rId45" Type="http://schemas.openxmlformats.org/officeDocument/2006/relationships/image" Target="../media/image3.jpeg"/><Relationship Id="rId4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Здравствуйте, юные земляне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560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Я - житель  Аглакитак, в нашей звездной системе девять солнц. Меня зовут Ютеес, мне 99 днызь, это соответствует 9 земным годам, я учусь в межгалактической школе. Я приглашаю  вас в  космическое путешествие на новую планету Ятев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1" descr="C:\Documents and Settings\Best\Рабочий стол\_copy.jpg"/>
          <p:cNvPicPr/>
          <p:nvPr/>
        </p:nvPicPr>
        <p:blipFill>
          <a:blip r:embed="rId1"/>
          <a:stretch/>
        </p:blipFill>
        <p:spPr>
          <a:xfrm>
            <a:off x="539640" y="1916280"/>
            <a:ext cx="2324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97000" cy="2185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2286000" cy="1971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24000" y="3357720"/>
            <a:ext cx="2301840" cy="261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524720" y="4221000"/>
            <a:ext cx="1182600" cy="2186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843280" y="1341360"/>
            <a:ext cx="3257640" cy="2216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08000" y="2637000"/>
            <a:ext cx="2305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олётная подготовк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4000" y="6165720"/>
            <a:ext cx="2800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олётные испытани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59280" y="3716280"/>
            <a:ext cx="2744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крытие новой планет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236000" y="6453360"/>
            <a:ext cx="1798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земление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2924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79640" y="4076280"/>
            <a:ext cx="302400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300720" y="2852280"/>
            <a:ext cx="719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93080" y="2997360"/>
            <a:ext cx="1008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050920" y="404640"/>
            <a:ext cx="4362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рта путешеств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443640" y="2349360"/>
            <a:ext cx="2581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 скоростью свет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Млечному Пут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4716360" y="4581360"/>
            <a:ext cx="1719360" cy="1717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427640" y="4724280"/>
            <a:ext cx="66492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52600" cy="336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636840" cy="636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763640" y="220500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268360" y="620640"/>
            <a:ext cx="657360" cy="595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55640" y="189000"/>
            <a:ext cx="552600" cy="336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332000" y="33336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611280" y="54936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1187280" y="765000"/>
            <a:ext cx="552600" cy="336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108000" y="83664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684360" y="105264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1258920" y="119700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2"/>
          <a:stretch/>
        </p:blipFill>
        <p:spPr>
          <a:xfrm>
            <a:off x="2916360" y="765000"/>
            <a:ext cx="657000" cy="595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3"/>
          <a:stretch/>
        </p:blipFill>
        <p:spPr>
          <a:xfrm>
            <a:off x="3635280" y="692280"/>
            <a:ext cx="657360" cy="595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1908000" y="1197000"/>
            <a:ext cx="657360" cy="595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5"/>
          <a:stretch/>
        </p:blipFill>
        <p:spPr>
          <a:xfrm>
            <a:off x="2556000" y="1268280"/>
            <a:ext cx="657000" cy="595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6"/>
          <a:stretch/>
        </p:blipFill>
        <p:spPr>
          <a:xfrm>
            <a:off x="3203640" y="1268280"/>
            <a:ext cx="657000" cy="595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7"/>
          <a:stretch/>
        </p:blipFill>
        <p:spPr>
          <a:xfrm>
            <a:off x="3851280" y="1197000"/>
            <a:ext cx="657360" cy="595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700360" y="0"/>
            <a:ext cx="46083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олётные испытания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8"/>
          <a:stretch/>
        </p:blipFill>
        <p:spPr>
          <a:xfrm>
            <a:off x="539640" y="1773360"/>
            <a:ext cx="636840" cy="636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9"/>
          <a:stretch/>
        </p:blipFill>
        <p:spPr>
          <a:xfrm>
            <a:off x="971640" y="1628640"/>
            <a:ext cx="636480" cy="636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0"/>
          <a:stretch/>
        </p:blipFill>
        <p:spPr>
          <a:xfrm>
            <a:off x="2627280" y="2060640"/>
            <a:ext cx="557280" cy="525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1"/>
          <a:stretch/>
        </p:blipFill>
        <p:spPr>
          <a:xfrm>
            <a:off x="3203640" y="2133720"/>
            <a:ext cx="557280" cy="525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2"/>
          <a:stretch/>
        </p:blipFill>
        <p:spPr>
          <a:xfrm>
            <a:off x="3851280" y="1916280"/>
            <a:ext cx="557280" cy="52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3"/>
          <a:stretch/>
        </p:blipFill>
        <p:spPr>
          <a:xfrm>
            <a:off x="2771640" y="2565360"/>
            <a:ext cx="557280" cy="525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4"/>
          <a:stretch/>
        </p:blipFill>
        <p:spPr>
          <a:xfrm>
            <a:off x="3708360" y="2492280"/>
            <a:ext cx="557280" cy="525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5"/>
          <a:stretch/>
        </p:blipFill>
        <p:spPr>
          <a:xfrm>
            <a:off x="324000" y="2924280"/>
            <a:ext cx="560160" cy="463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6"/>
          <a:stretch/>
        </p:blipFill>
        <p:spPr>
          <a:xfrm>
            <a:off x="971640" y="2924280"/>
            <a:ext cx="560160" cy="463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7"/>
          <a:stretch/>
        </p:blipFill>
        <p:spPr>
          <a:xfrm>
            <a:off x="179280" y="3500280"/>
            <a:ext cx="560520" cy="463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8"/>
          <a:stretch/>
        </p:blipFill>
        <p:spPr>
          <a:xfrm>
            <a:off x="755640" y="3500280"/>
            <a:ext cx="560520" cy="463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9"/>
          <a:stretch/>
        </p:blipFill>
        <p:spPr>
          <a:xfrm>
            <a:off x="1403280" y="3357720"/>
            <a:ext cx="560520" cy="463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0"/>
          <a:stretch/>
        </p:blipFill>
        <p:spPr>
          <a:xfrm>
            <a:off x="108000" y="4149720"/>
            <a:ext cx="560160" cy="463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1"/>
          <a:stretch/>
        </p:blipFill>
        <p:spPr>
          <a:xfrm>
            <a:off x="684360" y="4076640"/>
            <a:ext cx="560160" cy="463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2"/>
          <a:stretch/>
        </p:blipFill>
        <p:spPr>
          <a:xfrm>
            <a:off x="1258920" y="4005360"/>
            <a:ext cx="560520" cy="463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3"/>
          <a:stretch/>
        </p:blipFill>
        <p:spPr>
          <a:xfrm>
            <a:off x="1908000" y="3789360"/>
            <a:ext cx="560520" cy="463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4"/>
          <a:stretch/>
        </p:blipFill>
        <p:spPr>
          <a:xfrm>
            <a:off x="2340000" y="4724280"/>
            <a:ext cx="595440" cy="524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5"/>
          <a:stretch/>
        </p:blipFill>
        <p:spPr>
          <a:xfrm>
            <a:off x="3419640" y="4724280"/>
            <a:ext cx="595080" cy="524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6"/>
          <a:stretch/>
        </p:blipFill>
        <p:spPr>
          <a:xfrm>
            <a:off x="2843280" y="5445000"/>
            <a:ext cx="595080" cy="524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7"/>
          <a:stretch/>
        </p:blipFill>
        <p:spPr>
          <a:xfrm>
            <a:off x="3924360" y="5445000"/>
            <a:ext cx="595080" cy="524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8"/>
          <a:stretch/>
        </p:blipFill>
        <p:spPr>
          <a:xfrm>
            <a:off x="2987640" y="314172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9"/>
          <a:stretch/>
        </p:blipFill>
        <p:spPr>
          <a:xfrm>
            <a:off x="3564000" y="314172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0"/>
          <a:stretch/>
        </p:blipFill>
        <p:spPr>
          <a:xfrm>
            <a:off x="4211640" y="306864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1"/>
          <a:stretch/>
        </p:blipFill>
        <p:spPr>
          <a:xfrm>
            <a:off x="2700360" y="386064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2"/>
          <a:stretch/>
        </p:blipFill>
        <p:spPr>
          <a:xfrm>
            <a:off x="3276720" y="378936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3"/>
          <a:stretch/>
        </p:blipFill>
        <p:spPr>
          <a:xfrm>
            <a:off x="3851280" y="371628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4"/>
          <a:stretch/>
        </p:blipFill>
        <p:spPr>
          <a:xfrm>
            <a:off x="971640" y="4797360"/>
            <a:ext cx="920520" cy="1184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5"/>
          <a:stretch/>
        </p:blipFill>
        <p:spPr>
          <a:xfrm>
            <a:off x="7974000" y="0"/>
            <a:ext cx="1170000" cy="1025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8472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141300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1200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36000" y="141300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2472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1200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10108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8360" y="112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836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8472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8472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8472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472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8472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472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2360" y="206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5964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4836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6000" y="206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72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5964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0108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836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8360" y="177336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8360" y="2421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836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10108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1200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2472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236000" y="270828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5964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270828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8360" y="3068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836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10108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1200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2472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36000" y="335772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4836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65964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72360" y="335772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88360" y="3716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836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0108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1200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2472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36000" y="400536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4836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964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72360" y="400536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88360" y="436572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8836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10108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81200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2472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236000" y="465300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4836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5964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72360" y="465300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8360" y="5013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836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10108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1200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2472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236000" y="530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4836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964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72360" y="530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88360" y="5661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836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10108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8360" y="6308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836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81200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2472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595008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4836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5964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72360" y="595008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10108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1200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2472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36000" y="65912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4836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5964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72360" y="65912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8459640" y="1052640"/>
            <a:ext cx="11448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8459640" y="170028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459640" y="2349360"/>
            <a:ext cx="15264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459640" y="299736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459640" y="364500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459640" y="429264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459640" y="4941720"/>
            <a:ext cx="15264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459640" y="5589720"/>
            <a:ext cx="13356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459640" y="6237360"/>
            <a:ext cx="10476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/>
          <p:nvPr/>
        </p:nvSpPr>
        <p:spPr>
          <a:xfrm>
            <a:off x="838836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10108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812000" y="4005360"/>
            <a:ext cx="19548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2472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3600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2349360"/>
            <a:ext cx="172872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87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1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301760" cy="1155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987640" y="457920"/>
            <a:ext cx="477360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1" lang="en-US" sz="2600" spc="-1" strike="noStrike">
                <a:solidFill>
                  <a:srgbClr val="8064a2"/>
                </a:solidFill>
                <a:latin typeface="Arial"/>
                <a:ea typeface="Calibri"/>
              </a:rPr>
              <a:t>Лист самоконтроля №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Calibri"/>
              </a:rPr>
              <a:t>Во время выполнения задания используй эту подсказк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979640" y="1989000"/>
          <a:ext cx="6121440" cy="2619360"/>
        </p:xfrm>
        <a:graphic>
          <a:graphicData uri="http://schemas.openxmlformats.org/drawingml/2006/table">
            <a:tbl>
              <a:tblPr/>
              <a:tblGrid>
                <a:gridCol w="4997520"/>
                <a:gridCol w="536400"/>
                <a:gridCol w="587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 выполнил(а) эти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считал(а) предметы каждой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ёл(а) линию к цифре, которая обозначает данное 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рисовал(а) кружочки в соответствие с циф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899360" y="4616640"/>
            <a:ext cx="53442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Если везде ответил(а) </a:t>
            </a:r>
            <a:r>
              <a:rPr b="1" lang="en-US" sz="2400" spc="-1" strike="noStrike">
                <a:solidFill>
                  <a:srgbClr val="943634"/>
                </a:solidFill>
                <a:latin typeface="Arial"/>
                <a:ea typeface="Calibri"/>
              </a:rPr>
              <a:t>да</a:t>
            </a: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то работа выполнена, неси на провер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Если есть недочёты, то додел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Удачи теб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1125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936200" y="1262880"/>
            <a:ext cx="1209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   +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  +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  +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   +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   +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  +  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   +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403280" y="0"/>
            <a:ext cx="504036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крытие новой планет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50920" y="404640"/>
            <a:ext cx="666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8360" y="404640"/>
            <a:ext cx="448632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Разбей на части и составь выражени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-800280" y="100188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143360" y="536040"/>
            <a:ext cx="2571120" cy="1205280"/>
            <a:chOff x="1143360" y="536040"/>
            <a:chExt cx="2571120" cy="1205280"/>
          </a:xfrm>
        </p:grpSpPr>
        <p:sp>
          <p:nvSpPr>
            <p:cNvPr id="224" name="AutoShape 4"/>
            <p:cNvSpPr/>
            <p:nvPr/>
          </p:nvSpPr>
          <p:spPr>
            <a:xfrm flipH="1">
              <a:off x="1143360" y="716400"/>
              <a:ext cx="739440" cy="1024560"/>
            </a:xfrm>
            <a:custGeom>
              <a:avLst/>
              <a:gdLst>
                <a:gd name="textAreaLeft" fmla="*/ 36000 w 739440"/>
                <a:gd name="textAreaRight" fmla="*/ 703440 w 739440"/>
                <a:gd name="textAreaTop" fmla="*/ 36000 h 1024560"/>
                <a:gd name="textAreaBottom" fmla="*/ 988560 h 1024560"/>
              </a:gdLst>
              <a:ahLst/>
              <a:rect l="textAreaLeft" t="textAreaTop" r="textAreaRight" b="textAreaBottom"/>
              <a:pathLst>
                <a:path w="21600" h="29925">
                  <a:moveTo>
                    <a:pt x="3600" y="0"/>
                  </a:moveTo>
                  <a:arcTo wR="3600" hR="3600" stAng="16200000" swAng="-5400000"/>
                  <a:lnTo>
                    <a:pt x="0" y="26325"/>
                  </a:lnTo>
                  <a:arcTo wR="3600" hR="3600" stAng="10800000" swAng="-5400000"/>
                  <a:lnTo>
                    <a:pt x="18000" y="299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19400" y="536040"/>
              <a:ext cx="351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b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65040" y="536040"/>
              <a:ext cx="44604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b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86720" y="536040"/>
              <a:ext cx="77760" cy="1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1213200" y="806040"/>
              <a:ext cx="610200" cy="790200"/>
              <a:chOff x="1213200" y="806040"/>
              <a:chExt cx="610200" cy="790200"/>
            </a:xfrm>
          </p:grpSpPr>
          <p:sp>
            <p:nvSpPr>
              <p:cNvPr id="229" name=""/>
              <p:cNvSpPr/>
              <p:nvPr/>
            </p:nvSpPr>
            <p:spPr>
              <a:xfrm>
                <a:off x="1564920" y="806040"/>
                <a:ext cx="25848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3200" y="806040"/>
                <a:ext cx="25848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48480" y="1106280"/>
                <a:ext cx="210600" cy="17964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564920" y="1106280"/>
                <a:ext cx="211320" cy="17964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8340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564920" y="149652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35480" y="1346760"/>
                <a:ext cx="11700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5944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353960" y="1496520"/>
                <a:ext cx="11772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AutoShape 4"/>
            <p:cNvSpPr/>
            <p:nvPr/>
          </p:nvSpPr>
          <p:spPr>
            <a:xfrm flipH="1">
              <a:off x="2974320" y="716400"/>
              <a:ext cx="739800" cy="1024560"/>
            </a:xfrm>
            <a:custGeom>
              <a:avLst/>
              <a:gdLst>
                <a:gd name="textAreaLeft" fmla="*/ 36000 w 739800"/>
                <a:gd name="textAreaRight" fmla="*/ 703800 w 739800"/>
                <a:gd name="textAreaTop" fmla="*/ 36000 h 1024560"/>
                <a:gd name="textAreaBottom" fmla="*/ 988560 h 1024560"/>
              </a:gdLst>
              <a:ahLst/>
              <a:rect l="textAreaLeft" t="textAreaTop" r="textAreaRight" b="textAreaBottom"/>
              <a:pathLst>
                <a:path w="21600" h="29910">
                  <a:moveTo>
                    <a:pt x="3600" y="0"/>
                  </a:moveTo>
                  <a:arcTo wR="3600" hR="3600" stAng="16200000" swAng="-5400000"/>
                  <a:lnTo>
                    <a:pt x="0" y="26310"/>
                  </a:lnTo>
                  <a:arcTo wR="3600" hR="3600" stAng="10800000" swAng="-5400000"/>
                  <a:lnTo>
                    <a:pt x="18000" y="299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4"/>
            <p:cNvSpPr/>
            <p:nvPr/>
          </p:nvSpPr>
          <p:spPr>
            <a:xfrm flipH="1">
              <a:off x="2058120" y="716400"/>
              <a:ext cx="739800" cy="1024920"/>
            </a:xfrm>
            <a:custGeom>
              <a:avLst/>
              <a:gdLst>
                <a:gd name="textAreaLeft" fmla="*/ 36000 w 739800"/>
                <a:gd name="textAreaRight" fmla="*/ 703800 w 739800"/>
                <a:gd name="textAreaTop" fmla="*/ 36000 h 1024920"/>
                <a:gd name="textAreaBottom" fmla="*/ 988920 h 1024920"/>
              </a:gdLst>
              <a:ahLst/>
              <a:rect l="textAreaLeft" t="textAreaTop" r="textAreaRight" b="textAreaBottom"/>
              <a:pathLst>
                <a:path w="21600" h="29921">
                  <a:moveTo>
                    <a:pt x="3600" y="0"/>
                  </a:moveTo>
                  <a:arcTo wR="3600" hR="3600" stAng="16200000" swAng="-5400000"/>
                  <a:lnTo>
                    <a:pt x="0" y="26321"/>
                  </a:lnTo>
                  <a:arcTo wR="3600" hR="3600" stAng="10800000" swAng="-5400000"/>
                  <a:lnTo>
                    <a:pt x="18000" y="299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129400" y="806040"/>
              <a:ext cx="610920" cy="790200"/>
              <a:chOff x="2129400" y="806040"/>
              <a:chExt cx="610920" cy="790200"/>
            </a:xfrm>
          </p:grpSpPr>
          <p:sp>
            <p:nvSpPr>
              <p:cNvPr id="241" name=""/>
              <p:cNvSpPr/>
              <p:nvPr/>
            </p:nvSpPr>
            <p:spPr>
              <a:xfrm>
                <a:off x="2481480" y="806040"/>
                <a:ext cx="25884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129400" y="806040"/>
                <a:ext cx="25884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164680" y="1106280"/>
                <a:ext cx="210600" cy="17964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481480" y="1106280"/>
                <a:ext cx="211320" cy="17964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19960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481480" y="149652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552040" y="1346760"/>
                <a:ext cx="11700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37600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270160" y="1496520"/>
                <a:ext cx="11772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3045600" y="836640"/>
              <a:ext cx="610920" cy="789480"/>
              <a:chOff x="3045600" y="836640"/>
              <a:chExt cx="610920" cy="789480"/>
            </a:xfrm>
          </p:grpSpPr>
          <p:sp>
            <p:nvSpPr>
              <p:cNvPr id="251" name=""/>
              <p:cNvSpPr/>
              <p:nvPr/>
            </p:nvSpPr>
            <p:spPr>
              <a:xfrm>
                <a:off x="3397680" y="836640"/>
                <a:ext cx="258840" cy="219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045600" y="836640"/>
                <a:ext cx="258840" cy="219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80880" y="1136520"/>
                <a:ext cx="210600" cy="17928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397680" y="1136520"/>
                <a:ext cx="211320" cy="17928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115800" y="137664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397680" y="152640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468240" y="1376640"/>
                <a:ext cx="11700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292200" y="137664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186360" y="1526400"/>
                <a:ext cx="11772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971640" y="16995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по фор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79640" y="174996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по цвет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17643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по размер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900000" y="2060640"/>
            <a:ext cx="890640" cy="139680"/>
            <a:chOff x="900000" y="2060640"/>
            <a:chExt cx="890640" cy="139680"/>
          </a:xfrm>
        </p:grpSpPr>
        <p:sp>
          <p:nvSpPr>
            <p:cNvPr id="264" name=""/>
            <p:cNvSpPr/>
            <p:nvPr/>
          </p:nvSpPr>
          <p:spPr>
            <a:xfrm>
              <a:off x="90000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3912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7860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979640" y="2060640"/>
            <a:ext cx="890640" cy="139680"/>
            <a:chOff x="1979640" y="2060640"/>
            <a:chExt cx="890640" cy="139680"/>
          </a:xfrm>
        </p:grpSpPr>
        <p:sp>
          <p:nvSpPr>
            <p:cNvPr id="268" name=""/>
            <p:cNvSpPr/>
            <p:nvPr/>
          </p:nvSpPr>
          <p:spPr>
            <a:xfrm>
              <a:off x="197964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1876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5824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059280" y="2060640"/>
            <a:ext cx="890280" cy="139680"/>
            <a:chOff x="3059280" y="2060640"/>
            <a:chExt cx="890280" cy="139680"/>
          </a:xfrm>
        </p:grpSpPr>
        <p:sp>
          <p:nvSpPr>
            <p:cNvPr id="272" name=""/>
            <p:cNvSpPr/>
            <p:nvPr/>
          </p:nvSpPr>
          <p:spPr>
            <a:xfrm>
              <a:off x="305928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9840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3752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042920" y="191556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124000" y="1989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03640" y="1989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65800" y="198828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86520" y="198828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05440" y="198828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4000" y="2349360"/>
            <a:ext cx="9504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11280" y="2349360"/>
            <a:ext cx="4790880" cy="2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Выпиши примеры в три столбика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11280" y="2637000"/>
            <a:ext cx="11620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Arial"/>
              </a:rPr>
              <a:t>с ответом 6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Arial"/>
              <a:ea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484360" y="2637000"/>
            <a:ext cx="11620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Arial"/>
              </a:rPr>
              <a:t>с ответом 7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Arial"/>
              <a:ea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211640" y="2637000"/>
            <a:ext cx="11048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Arial"/>
              </a:rPr>
              <a:t>с ответом 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Arial"/>
              <a:ea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55640" y="2924280"/>
            <a:ext cx="890640" cy="139680"/>
            <a:chOff x="755640" y="2924280"/>
            <a:chExt cx="890640" cy="139680"/>
          </a:xfrm>
        </p:grpSpPr>
        <p:sp>
          <p:nvSpPr>
            <p:cNvPr id="287" name=""/>
            <p:cNvSpPr/>
            <p:nvPr/>
          </p:nvSpPr>
          <p:spPr>
            <a:xfrm>
              <a:off x="75564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9476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3424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755640" y="3141720"/>
            <a:ext cx="890640" cy="139680"/>
            <a:chOff x="755640" y="3141720"/>
            <a:chExt cx="890640" cy="139680"/>
          </a:xfrm>
        </p:grpSpPr>
        <p:sp>
          <p:nvSpPr>
            <p:cNvPr id="291" name=""/>
            <p:cNvSpPr/>
            <p:nvPr/>
          </p:nvSpPr>
          <p:spPr>
            <a:xfrm>
              <a:off x="75564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9476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3424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755640" y="3357720"/>
            <a:ext cx="890640" cy="139680"/>
            <a:chOff x="755640" y="3357720"/>
            <a:chExt cx="890640" cy="139680"/>
          </a:xfrm>
        </p:grpSpPr>
        <p:sp>
          <p:nvSpPr>
            <p:cNvPr id="295" name=""/>
            <p:cNvSpPr/>
            <p:nvPr/>
          </p:nvSpPr>
          <p:spPr>
            <a:xfrm>
              <a:off x="75564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9476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3424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627280" y="2924280"/>
            <a:ext cx="890640" cy="139680"/>
            <a:chOff x="2627280" y="2924280"/>
            <a:chExt cx="890640" cy="139680"/>
          </a:xfrm>
        </p:grpSpPr>
        <p:sp>
          <p:nvSpPr>
            <p:cNvPr id="299" name=""/>
            <p:cNvSpPr/>
            <p:nvPr/>
          </p:nvSpPr>
          <p:spPr>
            <a:xfrm>
              <a:off x="262728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6640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0588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627280" y="3141720"/>
            <a:ext cx="890640" cy="139680"/>
            <a:chOff x="2627280" y="3141720"/>
            <a:chExt cx="890640" cy="139680"/>
          </a:xfrm>
        </p:grpSpPr>
        <p:sp>
          <p:nvSpPr>
            <p:cNvPr id="303" name=""/>
            <p:cNvSpPr/>
            <p:nvPr/>
          </p:nvSpPr>
          <p:spPr>
            <a:xfrm>
              <a:off x="262728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6640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0588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627280" y="3357720"/>
            <a:ext cx="890640" cy="139680"/>
            <a:chOff x="2627280" y="3357720"/>
            <a:chExt cx="890640" cy="139680"/>
          </a:xfrm>
        </p:grpSpPr>
        <p:sp>
          <p:nvSpPr>
            <p:cNvPr id="307" name=""/>
            <p:cNvSpPr/>
            <p:nvPr/>
          </p:nvSpPr>
          <p:spPr>
            <a:xfrm>
              <a:off x="262728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6640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0588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356000" y="2997360"/>
            <a:ext cx="890640" cy="139680"/>
            <a:chOff x="4356000" y="2997360"/>
            <a:chExt cx="890640" cy="139680"/>
          </a:xfrm>
        </p:grpSpPr>
        <p:sp>
          <p:nvSpPr>
            <p:cNvPr id="311" name=""/>
            <p:cNvSpPr/>
            <p:nvPr/>
          </p:nvSpPr>
          <p:spPr>
            <a:xfrm>
              <a:off x="4356000" y="299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95120" y="299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34600" y="299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356000" y="3213000"/>
            <a:ext cx="890640" cy="139680"/>
            <a:chOff x="4356000" y="3213000"/>
            <a:chExt cx="890640" cy="139680"/>
          </a:xfrm>
        </p:grpSpPr>
        <p:sp>
          <p:nvSpPr>
            <p:cNvPr id="315" name=""/>
            <p:cNvSpPr/>
            <p:nvPr/>
          </p:nvSpPr>
          <p:spPr>
            <a:xfrm>
              <a:off x="4356000" y="3213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95120" y="3213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034600" y="3213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4356000" y="3429000"/>
            <a:ext cx="890640" cy="139680"/>
            <a:chOff x="4356000" y="3429000"/>
            <a:chExt cx="890640" cy="139680"/>
          </a:xfrm>
        </p:grpSpPr>
        <p:sp>
          <p:nvSpPr>
            <p:cNvPr id="319" name=""/>
            <p:cNvSpPr/>
            <p:nvPr/>
          </p:nvSpPr>
          <p:spPr>
            <a:xfrm>
              <a:off x="4356000" y="3429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95120" y="3429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34600" y="3429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356000" y="3645000"/>
            <a:ext cx="890640" cy="139680"/>
            <a:chOff x="4356000" y="3645000"/>
            <a:chExt cx="890640" cy="139680"/>
          </a:xfrm>
        </p:grpSpPr>
        <p:sp>
          <p:nvSpPr>
            <p:cNvPr id="323" name=""/>
            <p:cNvSpPr/>
            <p:nvPr/>
          </p:nvSpPr>
          <p:spPr>
            <a:xfrm>
              <a:off x="4356000" y="3645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95120" y="3645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34600" y="3645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90252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0252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0252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7416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7416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77416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02880" y="35733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02880" y="3357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2880" y="3141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02880" y="292428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26144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258920" y="328464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26144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3452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13452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3452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61800" y="35733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61800" y="3357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61800" y="3141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861800" y="292428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95280" y="3860640"/>
            <a:ext cx="1047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684360" y="4149720"/>
            <a:ext cx="3363840" cy="190332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2191320" y="4684320"/>
            <a:ext cx="899640" cy="219960"/>
            <a:chOff x="2191320" y="4684320"/>
            <a:chExt cx="899640" cy="219960"/>
          </a:xfrm>
        </p:grpSpPr>
        <p:sp>
          <p:nvSpPr>
            <p:cNvPr id="349" name=""/>
            <p:cNvSpPr/>
            <p:nvPr/>
          </p:nvSpPr>
          <p:spPr>
            <a:xfrm rot="312000">
              <a:off x="2197080" y="46933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312000">
              <a:off x="2534760" y="47239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312000">
              <a:off x="2872800" y="47548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118960" y="4892040"/>
            <a:ext cx="900720" cy="239400"/>
            <a:chOff x="2118960" y="4892040"/>
            <a:chExt cx="900720" cy="239400"/>
          </a:xfrm>
        </p:grpSpPr>
        <p:sp>
          <p:nvSpPr>
            <p:cNvPr id="353" name=""/>
            <p:cNvSpPr/>
            <p:nvPr/>
          </p:nvSpPr>
          <p:spPr>
            <a:xfrm rot="387600">
              <a:off x="2126160" y="4903200"/>
              <a:ext cx="212040" cy="1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387600">
              <a:off x="2463120" y="4941360"/>
              <a:ext cx="212040" cy="1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387600">
              <a:off x="2800440" y="4979520"/>
              <a:ext cx="212040" cy="1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046600" y="5117760"/>
            <a:ext cx="899640" cy="219960"/>
            <a:chOff x="2046600" y="5117760"/>
            <a:chExt cx="899640" cy="219960"/>
          </a:xfrm>
        </p:grpSpPr>
        <p:sp>
          <p:nvSpPr>
            <p:cNvPr id="357" name=""/>
            <p:cNvSpPr/>
            <p:nvPr/>
          </p:nvSpPr>
          <p:spPr>
            <a:xfrm rot="312000">
              <a:off x="2052360" y="51267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312000">
              <a:off x="2390040" y="515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312000">
              <a:off x="2728080" y="51883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045880" y="5323680"/>
            <a:ext cx="900720" cy="239400"/>
            <a:chOff x="2045880" y="5323680"/>
            <a:chExt cx="900720" cy="239400"/>
          </a:xfrm>
        </p:grpSpPr>
        <p:sp>
          <p:nvSpPr>
            <p:cNvPr id="361" name=""/>
            <p:cNvSpPr/>
            <p:nvPr/>
          </p:nvSpPr>
          <p:spPr>
            <a:xfrm rot="389400">
              <a:off x="2053080" y="53352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389400">
              <a:off x="2390040" y="5373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389400">
              <a:off x="2727360" y="54118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342520" y="4653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70880" y="4869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97800" y="5300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197800" y="50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02880" y="4653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629800" y="4869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58160" y="5300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58160" y="50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84360" y="3860640"/>
            <a:ext cx="6114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Выпиши оставшиеся выражения и вычисли их значени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300720" y="4653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940360" y="4869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796000" y="4437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084720" y="4437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516720" y="4365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64000" y="4437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148360" y="472428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659640" y="4653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580000" y="472428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716360" y="4149720"/>
            <a:ext cx="3248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Раскрась цифру новой планеты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00720" y="4149720"/>
            <a:ext cx="9504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0" y="5229360"/>
            <a:ext cx="10476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932360" y="5229360"/>
            <a:ext cx="18716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смотри урок 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6877080" y="4797360"/>
            <a:ext cx="855720" cy="8542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6804000" y="4941720"/>
            <a:ext cx="233280" cy="2098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0" y="5589720"/>
            <a:ext cx="10476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932360" y="5661000"/>
            <a:ext cx="2343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Пропиши новую цифру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684360" y="6093000"/>
            <a:ext cx="4824360" cy="765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755640" y="6308640"/>
            <a:ext cx="216000" cy="2714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1187280" y="6308640"/>
            <a:ext cx="21600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-4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Рисунок 1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636920" cy="11653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211640" y="-472320"/>
            <a:ext cx="3672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64a2"/>
                </a:solidFill>
                <a:latin typeface="Arial"/>
                <a:ea typeface="Calibri"/>
              </a:rPr>
              <a:t>Лист самоконтроля №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  <a:ea typeface="Calibri"/>
              </a:rPr>
              <a:t>Во время выполнен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  <a:ea typeface="Calibri"/>
              </a:rPr>
              <a:t>                </a:t>
            </a:r>
            <a:r>
              <a:rPr b="1" lang="en-US" sz="1800" spc="-1" strike="noStrike">
                <a:solidFill>
                  <a:srgbClr val="c0504d"/>
                </a:solidFill>
                <a:latin typeface="Arial"/>
                <a:ea typeface="Calibri"/>
              </a:rPr>
              <a:t>используй эту подсказ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979640" y="981000"/>
          <a:ext cx="6769080" cy="5715000"/>
        </p:xfrm>
        <a:graphic>
          <a:graphicData uri="http://schemas.openxmlformats.org/drawingml/2006/table">
            <a:tbl>
              <a:tblPr/>
              <a:tblGrid>
                <a:gridCol w="4924440"/>
                <a:gridCol w="779400"/>
                <a:gridCol w="1065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 выполнил(а) эти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збил(а) фигуры по указанному призна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вел(а) карандашом ч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писал(а) выра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числил(а) зна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з столбика справа выписал(а) примеры с ответом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ерил(а), соответствуют ли они составу числа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писал(а) примеры с ответом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ерил(а), соответствуют ли они составу числа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писал(а )примеры с ответом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ерил(а), соответствуют ли они составу числа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писал(а )оставшиеся прим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шёл(а) их зна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скрасила цифру новой план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смотрел(а) урок-презентацию Зелёного человеч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писал(а) девять раз цифру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7020000" y="620640"/>
            <a:ext cx="1638360" cy="13654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3635280" y="1628640"/>
            <a:ext cx="2338560" cy="15480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755640" y="2492280"/>
            <a:ext cx="1582920" cy="18273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187280" y="436572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427640" y="342900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524720" y="242100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042920" y="558972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356000" y="551664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36000" y="558972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39640" y="6165720"/>
            <a:ext cx="18385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всё получилос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419640" y="6165720"/>
            <a:ext cx="21715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не всё получилос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56360" y="6237360"/>
            <a:ext cx="2647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не приступали к выполнению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916360" y="404640"/>
            <a:ext cx="31906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ст самооценки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9:48:16Z</dcterms:created>
  <dc:creator>Sergey</dc:creator>
  <dc:description/>
  <dc:language>en-US</dc:language>
  <cp:lastModifiedBy>Sergey</cp:lastModifiedBy>
  <dcterms:modified xsi:type="dcterms:W3CDTF">2011-12-19T10:07:28Z</dcterms:modified>
  <cp:revision>12</cp:revision>
  <dc:subject/>
  <dc:title>Слайд 1</dc:title>
</cp:coreProperties>
</file>