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F52D-719F-4F25-B66F-FFC51A78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4991-8F2B-4236-9A0C-165A2DF3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87F0F-F3B6-4FA2-B7EC-479F0E09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971FD-7100-42E7-9457-527E1FE2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2259B-97C6-4B57-B68E-F13E812A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83F8D-9638-4E1A-92DA-42FDB854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C8681-1E8D-45C1-A40B-87D10DD8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3ACDE-A234-49F8-89B6-0C276872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F1671-7DD9-4B02-B2A1-98C3B979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6E59C-F02C-4FFE-AE85-BB51E7FF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0C003-332C-4DA0-9675-0A193615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0BF0D-A04C-4C23-9087-8233E2A1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57E4-87A2-49B5-AE1B-1C6E7621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A957B-09AE-427F-8A26-D5375F1C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1F912-9C23-4DE2-83DE-CB71C058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DD96D-4F18-4B6A-BEAE-CC00B7BF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3CA0B-ACBB-4BA1-9D2C-092DB516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89C5B-F11B-41D2-B62E-BA5C8F2A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33092-252F-44B7-94B8-A3E9354E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E13EB-B49D-4373-921B-DF9C3D27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32249-A152-48EA-9F26-7C918F7A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18E5F-0C40-40C1-A306-6365938C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F0A21-492E-4D81-ADD9-B3DC8DE9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A678-0773-44BC-BC0C-D70FD744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38286-AD59-4956-8DD3-B1776EF7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7F2E-A166-43DF-9C77-5A3AC977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C9F8-A4A5-476E-9BD8-9AC5CA61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E276-47EE-48FA-9922-8F76032F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25B1-102F-4315-9CBA-A84F83BC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41FC-E087-48D0-9366-A26C0F85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2C9B-39A5-4B5A-8809-122940BC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17BE-E796-4E32-86EC-B5ABE4A6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58BF-F19C-4AEC-94D9-FFF02C7B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A747-9C37-4D0E-9B4F-D2097165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29CA-570A-4669-AFA4-58142CAB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0886-C574-4CC7-8380-629F04E1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5AF8-C40C-41A1-8C1C-D97B0A32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2619-09CD-42A3-8AB0-FB928338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E8176-2E7A-44EA-8839-9D04727E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263F0-AFC1-465C-A19E-0CECE3EF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87A03-6E86-4536-8236-42226FD5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9F394-B914-4725-AD52-A552D023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ED27B-510A-4FC1-A9CB-150DF3B9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76F4-76BC-4C3A-AF94-8F73D137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9733F-F43D-44D3-9387-A1696887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9F10D-E9CA-485A-B10C-285349C0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E1E72-3D98-4062-9A27-CFA7CE0A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365FF-F707-4910-ABA9-306CBBA8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57273-745E-423B-945C-447CF4D8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3FED2-F5B4-43CC-B6BE-989866F1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4B423-EC2A-4955-8C62-1AFBDA3C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C775E-D555-4F95-9105-3DF9C4DA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0DF75-E21A-4AFA-A1D7-8716DE6B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1FA32-A8A5-4064-A0B1-B9F822FC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DA55-33B1-414A-9ED0-73938702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ADEF1-8096-46C3-A459-EA5F024E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3A933-F462-49E6-B33B-FC91EBC7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89AB2-D0F2-4C96-B329-EEF81A5A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CBD59-2A6B-4C05-8DF1-8B8F76F6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DFEC1-D0ED-4D5C-A776-ACDDB071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E8AB0-A179-4647-8521-5270C349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2D196-E70F-4B9E-96AF-30499B05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D5E14-4974-4903-BB7F-EAFCECB0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2FB56-FFCE-4D48-82D9-41DB7981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2AD41-25A9-405E-AE40-903CFA37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0CA9-FFA9-4BAE-82A9-396D3B1F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EFAA7-BA0C-4D96-A345-2DF37571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A092E-4996-4B54-A0DD-928D4471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CF49A-07D4-4534-9CA8-D7F45525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57324-22B6-4DB4-9980-3930ABD8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F26B6-E076-472C-90CB-39C53937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CB400-0A85-4DB4-AAA9-0D62A79A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CCD77-A84D-4079-BF23-83B24931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52360-9D4E-4C2D-991B-89742052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7487C-8E41-4FD0-A475-E979CD27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DC8DE-CABB-4D25-8ED0-A828ECF5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7832-AE83-4703-9DBE-E6E64B49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5D8AB-CE58-4CE5-A6D3-BB604D3AD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44BD1-3BDE-4019-AF6B-CA74282C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8E5B6-F2DC-4998-8B3F-9DE5B189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F5C94-708D-4158-9249-5C4A0D85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63FB5-5F29-42AF-B3CA-BEAE61E4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9E2BF-56AB-4826-B86C-8706BF3B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9024A-84A0-43BC-9966-B79C9308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32DF5-1308-4AFD-997B-2D807844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82C49-281F-4E14-821A-8F43882C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3F9E2-5605-4E32-8EAF-F9AC3937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383E-EFE4-4ED6-A920-A42F522F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36C9B-FAE8-4A32-AFB5-CE4D03B1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8321B-07A0-4BA4-A7E8-1F9522B4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DEF5D-C4CF-48A8-9970-6DFC54A5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12BB3-5B76-4DFC-9A65-1A99B8FB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DCDA2-7794-421A-88E3-3F98602B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913B7-B809-4C66-AF07-791E02CC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F9804-BF65-46A3-BF4A-C43D7F46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E6966-B95D-447A-94ED-DFD11865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9C3B2-DDD1-437A-BB56-6D88291C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92D60-D61B-4BAF-A7D3-6123FFAF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0DB-A1B0-477F-A17A-A20EF42B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75CAB-F703-4262-AF5F-D8B6A23E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F7923-C3FC-41BA-991E-E89B8315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B3246-F56E-455A-BDCE-4A29A57A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69C9E-97DE-44D2-8B74-E8535C67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AAFBB-4084-44B9-8709-FFD40240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3DAC5-60D5-4594-982B-C2623DB6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0BCBA-8781-4C30-8A67-2E316D1A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B7068-917C-415A-9329-2CD4BB48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4BAE2-4BD0-4CE3-B01E-BC75482E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F1C56-C58A-446C-A1F7-22D181B0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B9A5-21A6-4237-97F0-22C4D871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6D919-E012-4800-8561-53883DCD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9400B-8F5C-4186-8BDC-7FDE8D8D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13BC4-6141-4461-917B-B4045768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725EC-F3FB-42F9-880F-1E2AA59E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5B826-C086-4AA8-ACC5-B6E9EC16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BEE98-068A-45F2-AB9A-1307ACA9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99CB4-7511-4D52-8D35-6B420B70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6A065-2547-4056-AAA9-EFE08ADA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A01C8-2488-4D65-8BF0-82A9D05E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4438B-CC7A-4111-BD9B-4A37B74E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8D0D-ECED-4033-B8D9-1B9EB50EBC22}" type="slidenum">
              <a:rPr b="0" lang="en-US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53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6818-AAFE-4D5A-905F-3470447521DF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5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16A5-D45A-4C26-9BE9-DA2B949A247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E4AB-4958-422C-8D50-893670FF688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5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58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42AC-C6C1-4629-ABF9-8B4AC45527C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5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08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1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5115-E96C-4079-87FA-AA6B231F6FE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5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5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4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16A2-F6F4-4782-ACC3-FFE8F82CA9C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09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313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0A1E-A6A0-4000-871D-DA3396196E98}" type="slidenum">
              <a:rPr b="0" lang="en-US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58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362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94EC-724A-44E7-AE5A-2A93FBA2A511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0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F755-0436-4916-861C-A3B0F87E4967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4"/>
          <p:cNvSpPr/>
          <p:nvPr/>
        </p:nvSpPr>
        <p:spPr>
          <a:xfrm>
            <a:off x="2590920" y="1523880"/>
            <a:ext cx="3581280" cy="3657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rc 16"/>
          <p:cNvSpPr/>
          <p:nvPr/>
        </p:nvSpPr>
        <p:spPr>
          <a:xfrm rot="6136800">
            <a:off x="4576680" y="4133520"/>
            <a:ext cx="1004760" cy="989280"/>
          </a:xfrm>
          <a:prstGeom prst="pie">
            <a:avLst/>
          </a:pr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8"/>
          <p:cNvSpPr/>
          <p:nvPr/>
        </p:nvSpPr>
        <p:spPr>
          <a:xfrm rot="632400">
            <a:off x="4419720" y="1600200"/>
            <a:ext cx="1676160" cy="2209680"/>
          </a:xfrm>
          <a:prstGeom prst="ellipse">
            <a:avLst/>
          </a:prstGeom>
          <a:solidFill>
            <a:srgbClr val="ffffff"/>
          </a:solidFill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9"/>
          <p:cNvSpPr/>
          <p:nvPr/>
        </p:nvSpPr>
        <p:spPr>
          <a:xfrm flipH="1">
            <a:off x="5562360" y="2895480"/>
            <a:ext cx="533160" cy="175284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590920"/>
            <a:ext cx="304920" cy="304560"/>
          </a:xfrm>
          <a:custGeom>
            <a:avLst/>
            <a:gdLst>
              <a:gd name="textAreaLeft" fmla="*/ 69480 w 304920"/>
              <a:gd name="textAreaRight" fmla="*/ 235440 w 304920"/>
              <a:gd name="textAreaTop" fmla="*/ 69480 h 304560"/>
              <a:gd name="textAreaBottom" fmla="*/ 235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08671E-006 C 0.00121 -0.02706 0.00277 -0.05897 -0.00643 -0.0844 C -0.01563 -0.10983 -0.03924 -0.14012 -0.05556 -0.15215 C -0.07188 -0.16417 -0.08941 -0.16186 -0.10469 -0.15631 C -0.11997 -0.15076 -0.13559 -0.13596 -0.14757 -0.11839 C -0.15955 -0.10082 -0.17049 -0.07561 -0.17622 -0.05064 C -0.18195 -0.02567 -0.18455 0.00415 -0.18247 0.0319 C -0.18039 0.05965 -0.17205 0.09664 -0.16354 0.11629 C -0.15504 0.13595 -0.14393 0.14265 -0.13177 0.15028 C -0.11962 0.15791 -0.10417 0.16554 -0.09045 0.16277 C -0.07674 0.15999 -0.06181 0.14728 -0.04914 0.13317 C -0.03646 0.11907 -0.02292 0.10057 -0.01424 0.07837 C -0.00556 0.05618 -0.00122 0.02704 3.33333E-006 -5.08671E-006 Z">
                                      <p:cBhvr>
                                        <p:cTn id="23" dur="5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9.24855E-007 C -0.01945 0.11098 -0.03889 0.22196 -0.05869 0.27907 C -0.07848 0.33618 -0.10296 0.33456 -0.1191 0.34242 C -0.13525 0.35029 -0.1474 0.33572 -0.15556 0.32555 C -0.16372 0.31537 -0.16615 0.28855 -0.16823 0.28115 E">
                                      <p:cBhvr>
                                        <p:cTn id="26" dur="5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4"/>
          <p:cNvSpPr/>
          <p:nvPr/>
        </p:nvSpPr>
        <p:spPr>
          <a:xfrm>
            <a:off x="2590920" y="1523880"/>
            <a:ext cx="3581280" cy="3657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rc 16"/>
          <p:cNvSpPr/>
          <p:nvPr/>
        </p:nvSpPr>
        <p:spPr>
          <a:xfrm rot="6136800">
            <a:off x="4576680" y="4133520"/>
            <a:ext cx="1004760" cy="989280"/>
          </a:xfrm>
          <a:prstGeom prst="pie">
            <a:avLst/>
          </a:pr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8"/>
          <p:cNvSpPr/>
          <p:nvPr/>
        </p:nvSpPr>
        <p:spPr>
          <a:xfrm rot="632400">
            <a:off x="4419720" y="1600200"/>
            <a:ext cx="1676160" cy="2209680"/>
          </a:xfrm>
          <a:prstGeom prst="ellipse">
            <a:avLst/>
          </a:prstGeom>
          <a:solidFill>
            <a:srgbClr val="ffffff"/>
          </a:solidFill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9"/>
          <p:cNvSpPr/>
          <p:nvPr/>
        </p:nvSpPr>
        <p:spPr>
          <a:xfrm flipH="1">
            <a:off x="5562360" y="2895480"/>
            <a:ext cx="533160" cy="175284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943600" y="2590920"/>
            <a:ext cx="304920" cy="304560"/>
          </a:xfrm>
          <a:custGeom>
            <a:avLst/>
            <a:gdLst>
              <a:gd name="textAreaLeft" fmla="*/ 69480 w 304920"/>
              <a:gd name="textAreaRight" fmla="*/ 235440 w 304920"/>
              <a:gd name="textAreaTop" fmla="*/ 69480 h 304560"/>
              <a:gd name="textAreaBottom" fmla="*/ 235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08671E-006 C 0.00121 -0.02706 0.00277 -0.05897 -0.00643 -0.0844 C -0.01563 -0.10983 -0.03924 -0.14012 -0.05556 -0.15215 C -0.07188 -0.16417 -0.08941 -0.16186 -0.10469 -0.15631 C -0.11997 -0.15076 -0.13559 -0.13596 -0.14757 -0.11839 C -0.15955 -0.10082 -0.17049 -0.07561 -0.17622 -0.05064 C -0.18195 -0.02567 -0.18455 0.00415 -0.18247 0.0319 C -0.18039 0.05965 -0.17205 0.09664 -0.16354 0.11629 C -0.15504 0.13595 -0.14393 0.14265 -0.13177 0.15028 C -0.11962 0.15791 -0.10417 0.16554 -0.09045 0.16277 C -0.07674 0.15999 -0.06181 0.14728 -0.04914 0.13317 C -0.03646 0.11907 -0.02292 0.10057 -0.01424 0.07837 C -0.00556 0.05618 -0.00122 0.02704 3.33333E-006 -5.08671E-006 Z">
                                      <p:cBhvr>
                                        <p:cTn id="42" dur="5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9.24855E-007 C -0.01945 0.11098 -0.03889 0.22196 -0.05869 0.27907 C -0.07848 0.33618 -0.10296 0.33456 -0.1191 0.34242 C -0.13525 0.35029 -0.1474 0.33572 -0.15556 0.32555 C -0.16372 0.31537 -0.16615 0.28855 -0.16823 0.28115 E">
                                      <p:cBhvr>
                                        <p:cTn id="45" dur="5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4"/>
          <p:cNvSpPr/>
          <p:nvPr/>
        </p:nvSpPr>
        <p:spPr>
          <a:xfrm>
            <a:off x="2590920" y="1523880"/>
            <a:ext cx="3581280" cy="3657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rc 16"/>
          <p:cNvSpPr/>
          <p:nvPr/>
        </p:nvSpPr>
        <p:spPr>
          <a:xfrm rot="6136800">
            <a:off x="4576680" y="4133520"/>
            <a:ext cx="1004760" cy="989280"/>
          </a:xfrm>
          <a:prstGeom prst="pie">
            <a:avLst/>
          </a:pr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8"/>
          <p:cNvSpPr/>
          <p:nvPr/>
        </p:nvSpPr>
        <p:spPr>
          <a:xfrm rot="632400">
            <a:off x="4419720" y="1600200"/>
            <a:ext cx="1676160" cy="2209680"/>
          </a:xfrm>
          <a:prstGeom prst="ellipse">
            <a:avLst/>
          </a:prstGeom>
          <a:solidFill>
            <a:srgbClr val="ffffff"/>
          </a:solidFill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9"/>
          <p:cNvSpPr/>
          <p:nvPr/>
        </p:nvSpPr>
        <p:spPr>
          <a:xfrm flipH="1">
            <a:off x="5562360" y="2895480"/>
            <a:ext cx="533160" cy="175284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943600" y="2590920"/>
            <a:ext cx="304920" cy="304560"/>
          </a:xfrm>
          <a:custGeom>
            <a:avLst/>
            <a:gdLst>
              <a:gd name="textAreaLeft" fmla="*/ 69480 w 304920"/>
              <a:gd name="textAreaRight" fmla="*/ 235440 w 304920"/>
              <a:gd name="textAreaTop" fmla="*/ 69480 h 304560"/>
              <a:gd name="textAreaBottom" fmla="*/ 235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08671E-006 C 0.00121 -0.02706 0.00277 -0.05897 -0.00643 -0.0844 C -0.01563 -0.10983 -0.03924 -0.14012 -0.05556 -0.15215 C -0.07188 -0.16417 -0.08941 -0.16186 -0.10469 -0.15631 C -0.11997 -0.15076 -0.13559 -0.13596 -0.14757 -0.11839 C -0.15955 -0.10082 -0.17049 -0.07561 -0.17622 -0.05064 C -0.18195 -0.02567 -0.18455 0.00415 -0.18247 0.0319 C -0.18039 0.05965 -0.17205 0.09664 -0.16354 0.11629 C -0.15504 0.13595 -0.14393 0.14265 -0.13177 0.15028 C -0.11962 0.15791 -0.10417 0.16554 -0.09045 0.16277 C -0.07674 0.15999 -0.06181 0.14728 -0.04914 0.13317 C -0.03646 0.11907 -0.02292 0.10057 -0.01424 0.07837 C -0.00556 0.05618 -0.00122 0.02704 3.33333E-006 -5.08671E-006 Z">
                                      <p:cBhvr>
                                        <p:cTn id="61" dur="5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9.24855E-007 C -0.01945 0.11098 -0.03889 0.22196 -0.05869 0.27907 C -0.07848 0.33618 -0.10296 0.33456 -0.1191 0.34242 C -0.13525 0.35029 -0.1474 0.33572 -0.15556 0.32555 C -0.16372 0.31537 -0.16615 0.28855 -0.16823 0.28115 E">
                                      <p:cBhvr>
                                        <p:cTn id="64" dur="5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ey</cp:lastModifiedBy>
  <dcterms:modified xsi:type="dcterms:W3CDTF">2011-12-16T16:31:15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