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C5D81-955E-4A3E-89C7-B67F14DF5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941D-9708-4E02-BAAE-199ABF9F7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EFB2D3-1A10-4508-92BB-6B3DD452C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3FDBA2-97B0-41FD-96FC-31963CFD7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1FEB5B-9738-479F-BBEF-FA97A528A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BA002-5658-41C0-88A0-152455068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620AAF-3142-451D-9080-10E6AEFBD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6C2220-F71F-4A93-9471-D8B175B4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27A8F-15E1-4910-B4E3-59FE66596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4BB49-1BE2-4169-8420-39F74BC76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63849F-7EA8-405A-9DF5-CD08CF8B0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27B192-52D1-4BA8-810E-353316B1C5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B629-74F1-4D56-8D64-A3D9B7DC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B0862-2166-4242-8824-A4CFE1A25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EC14F1-EF02-4789-BD30-11522C49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0A3D6E-224D-411E-A559-A1F80238A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59BDCF-1F5F-4FBB-A892-A5283311D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088635-FECF-4B9E-852A-A9B3C7E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83B6F5-3C77-49C5-9072-42838096F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A86AF9-0520-467A-A8A7-D565FA5BF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9A822D-DA80-4B7D-9B84-8DE0C8C65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2DAE80-BF24-4049-AE97-43ECAEB3E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C4127-7294-45A1-8C06-678D15D3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0000-A239-4BDA-925B-5A986FAAE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143CC-CEFC-489D-AFFB-D2D9D044E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BFC4B-ACCD-4BA2-B945-B48101EF8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FE96-FA08-4A66-8541-6D3E64D20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2696-1395-49CB-BFA2-9199A188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D92F2-1520-4298-9FE4-ADC703EC6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4A71-693F-4E2A-BB5F-FA17DD91F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4D849-D84A-448F-8BB3-207E36961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9D3E4-963C-47AF-970A-EDA7553F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CF05-C22F-4727-9BCC-88815FBD9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7EA3-9720-4055-906D-DC68F5E7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8B54F-7A78-4E16-8057-21DE76408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575A7-2CAB-442A-8060-D1A690E6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60675-115E-4F8D-B5B9-0D865ED0D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9A3A0-7C7C-4F34-9A02-E79B7AA6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358DB5-330A-49F1-A0CA-6FE7855D2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C4FFAB-EB05-498D-B84D-E8EC9489A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CF4E75-C8B8-4CEF-AC12-0872A11FC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F9680C-6E4E-415E-80F2-05B020702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030129-EA3D-49F4-B724-67C101145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3F999-6511-4E47-8506-CE6CC9C04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E3889D-A22F-4C66-AB24-0ADB253C8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2D973-0BC1-4432-A6C1-39D506908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C9A418-05D0-4E42-B443-DF52B273E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FE817-B589-4FC2-87AA-25E2BF52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FC0C6-EA0F-49EC-B620-F94FDFA1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521B5-5670-4328-9669-9240CE929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89E91-7733-4F3D-8950-4CA68A792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279053-F36D-4EE6-ABE3-7BD3C9B28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E75C7-81BD-40A9-A77A-D404F56C2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32C8F6-2E96-41E3-AA16-F634B7D45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87F7-E6CF-4EE1-B48D-6A3E42604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8F07D-51AD-4289-9811-D1B59271A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0A031D-0131-4BC0-BE66-A062CF2B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69AF06-4BB7-4F3A-BED6-64E374843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5C1D70-5457-4CB0-A3A4-079C25392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558938-7CA3-41D0-AE2C-97770CC82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3E255-A003-4E52-BA41-0FDAC3FC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425227-887D-48A9-9FE9-193BEA7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AB22B9-A3B3-4D02-AFEE-1B7DB43AF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00D6BD-A1E6-4A41-B552-EAF883D89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8C823-3276-4E43-9854-287794B1D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F8C3-8982-406D-B86E-B001EF624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A50B-C69C-453B-A5A7-5A0313054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8C6692-4FB6-4935-97CB-B49B044D3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B5E5-E216-4553-80D6-82852DF2F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BCB34-159F-4256-B5A1-0D332473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32A22-D1C0-4232-A701-DC6A212A7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104DB2-E4ED-4301-AF4D-5763A87C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D07231-BBDC-41C9-8C0E-3467D796F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B93D23-754F-4C6A-9625-EB4D6FD88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DA906D-AF0F-4637-84B8-BD0FA030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A05DF6-D176-4093-9BDA-BBAC01A5A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DCEA-DD75-4BFF-BD75-B0C003273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1F9D77-50AB-4A37-8B64-3CF03CE57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AF215A-670E-456B-B72D-34AE126CF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8C95B-11DE-4341-A75D-296478B5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4980C-3448-489C-95A0-316DF6773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E5929-E2A3-4D42-A4BF-9933BFE2C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04F1C-48CF-4234-809F-B935EA17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12743E-3D5C-4558-BE53-E67418E82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8B93AF-2746-417B-814B-627D78187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601EAA-0B06-4E21-AF99-3460CC4C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4F19D3-0640-43EB-9A35-4D693E4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0506-B280-4692-9418-E7890BF3D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0FA0D-B726-4296-9600-B0731C8CD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888B10-1B0C-49A7-BA2F-A49901B4F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09342-2126-4E26-B093-3E5386809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51728-4998-46AB-AB32-C193D785D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EB0E2F-6490-4109-90EE-45F9231ED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F4A6A0-25B4-49D6-833C-2C34A54AD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D75F6C-D3AD-446C-84F0-DCEA6751E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9D51F1-E0E5-42BB-8695-5D94A1FD0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C6B7FC-5A41-4D1E-9B5E-D5641CA61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3B761-FF7B-4947-AA14-0F2C3535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4D08-D1B8-468D-BDD3-EEBAA0D77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243AD-3AEF-4F9E-BD51-B4239CF56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63AE6F-E961-4BAC-B492-A3B0FE1BA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A2C82-93B8-42D0-A005-2659E7C73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242C15-2792-4757-9594-9F0CA04F8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3C8F3B-6A80-4E4E-AA5D-602265FF4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CF63-598C-419C-A961-84502460D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50252A-380B-4831-8A71-30C9290DE9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B0405A-7E21-453F-B01F-31ADCFCC6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8E7342-9F1D-41B2-89BD-94BAA5521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EC971-A239-4E27-9B44-9322B6529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3B43-96EE-4329-9B16-65B2C774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5A547-A976-4ABD-8BF3-0D83ED599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12E96A-A758-4A0B-9469-35B662ED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51DE5D-D846-4DF7-8CF5-9B0A18461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544630-D8A3-4310-B391-538C995BC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C00D10-F593-4135-A53D-E37383E5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3A7C85-233F-4783-A80D-C5A7E684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EE45B3-2D85-4328-94D4-3FFAC5B38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D85F77-0339-4FC9-9C64-38C7A7F92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1282E8-B896-4B7F-903B-726C13F63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99C29-10DB-4646-87D1-76A4CD075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DBC39-F1EA-4E23-A97D-83266B76D6D4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53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prstGeom prst="pie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2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2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D04E5-AAE8-41F5-B4E5-D2371F26911E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6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5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5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687EF-F94F-4F41-AE89-BC65480E0D92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0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E74EF-D40E-4519-BFF6-FD4A18630B5E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8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49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52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55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58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B5833-1D6E-4427-B187-F472842BE07B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2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05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7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08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211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E6512-A2BE-48C1-A056-C008A448D3B6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25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26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64" name="Прямая соединительная линия 12" descr=""/>
            <p:cNvPicPr/>
            <p:nvPr/>
          </p:nvPicPr>
          <p:blipFill>
            <a:blip r:embed="rId6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B83C3-1A56-46D6-9DD7-E19F25E3DC90}" type="slidenum">
              <a:rPr b="0" lang="en-US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313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E50FD-C3B5-4AFC-8278-B99813DC8339}" type="slidenum">
              <a:rPr b="0" lang="en-US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358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362" name="Скругленный прямоугольник 10" descr=""/>
            <p:cNvPicPr/>
            <p:nvPr/>
          </p:nvPicPr>
          <p:blipFill>
            <a:blip r:embed="rId4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2C24B-D1A7-4952-AF3B-C16789CC45E6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6" name="Скругленный прямоугольник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407" name="Скругленный прямоугольник 8" descr=""/>
            <p:cNvPicPr/>
            <p:nvPr/>
          </p:nvPicPr>
          <p:blipFill>
            <a:blip r:embed="rId3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e49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e49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e863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5194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5194ff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ff3326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bcb3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616B-1A7B-457F-9D54-AC0DD8190754}" type="slidenum">
              <a:rPr b="0" lang="ru-RU" sz="1000" spc="-1" strike="noStrike">
                <a:solidFill>
                  <a:srgbClr val="bcb37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path" presetID="0" repeatCount="1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23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0"/>
                            </p:stCondLst>
                            <p:childTnLst>
                              <p:par>
                                <p:cTn id="2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26" dur="5000" fill="hold"/>
                                        <p:tgtEl>
                                          <p:spTgt spid="5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42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45" dur="5000" fill="hold"/>
                                        <p:tgtEl>
                                          <p:spTgt spid="50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Rectangle 4"/>
          <p:cNvSpPr/>
          <p:nvPr/>
        </p:nvSpPr>
        <p:spPr>
          <a:xfrm>
            <a:off x="2590920" y="1523880"/>
            <a:ext cx="3581280" cy="365760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Arc 16"/>
          <p:cNvSpPr/>
          <p:nvPr/>
        </p:nvSpPr>
        <p:spPr>
          <a:xfrm rot="6136800">
            <a:off x="4576680" y="4133520"/>
            <a:ext cx="1004760" cy="989280"/>
          </a:xfrm>
          <a:prstGeom prst="pie">
            <a:avLst/>
          </a:prstGeom>
          <a:noFill/>
          <a:ln w="1144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Oval 18"/>
          <p:cNvSpPr/>
          <p:nvPr/>
        </p:nvSpPr>
        <p:spPr>
          <a:xfrm rot="632400">
            <a:off x="4419720" y="1600200"/>
            <a:ext cx="1676160" cy="2209680"/>
          </a:xfrm>
          <a:prstGeom prst="ellipse">
            <a:avLst/>
          </a:prstGeom>
          <a:solidFill>
            <a:srgbClr val="ffffff"/>
          </a:solidFill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Line 19"/>
          <p:cNvSpPr/>
          <p:nvPr/>
        </p:nvSpPr>
        <p:spPr>
          <a:xfrm flipH="1">
            <a:off x="5562360" y="2895480"/>
            <a:ext cx="533160" cy="1752840"/>
          </a:xfrm>
          <a:prstGeom prst="line">
            <a:avLst/>
          </a:prstGeom>
          <a:ln w="114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5943600" y="2590920"/>
            <a:ext cx="304920" cy="304560"/>
          </a:xfrm>
          <a:custGeom>
            <a:avLst/>
            <a:gdLst>
              <a:gd name="textAreaLeft" fmla="*/ 69480 w 304920"/>
              <a:gd name="textAreaRight" fmla="*/ 235440 w 304920"/>
              <a:gd name="textAreaTop" fmla="*/ 69480 h 304560"/>
              <a:gd name="textAreaBottom" fmla="*/ 2350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5.08671E-006 C 0.00121 -0.02706 0.00277 -0.05897 -0.00643 -0.0844 C -0.01563 -0.10983 -0.03924 -0.14012 -0.05556 -0.15215 C -0.07188 -0.16417 -0.08941 -0.16186 -0.10469 -0.15631 C -0.11997 -0.15076 -0.13559 -0.13596 -0.14757 -0.11839 C -0.15955 -0.10082 -0.17049 -0.07561 -0.17622 -0.05064 C -0.18195 -0.02567 -0.18455 0.00415 -0.18247 0.0319 C -0.18039 0.05965 -0.17205 0.09664 -0.16354 0.11629 C -0.15504 0.13595 -0.14393 0.14265 -0.13177 0.15028 C -0.11962 0.15791 -0.10417 0.16554 -0.09045 0.16277 C -0.07674 0.15999 -0.06181 0.14728 -0.04914 0.13317 C -0.03646 0.11907 -0.02292 0.10057 -0.01424 0.07837 C -0.00556 0.05618 -0.00122 0.02704 3.33333E-006 -5.08671E-006 Z">
                                      <p:cBhvr>
                                        <p:cTn id="61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0"/>
                            </p:stCondLst>
                            <p:childTnLst>
                              <p:par>
                                <p:cTn id="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7.5E-006 9.24855E-007 C -0.01945 0.11098 -0.03889 0.22196 -0.05869 0.27907 C -0.07848 0.33618 -0.10296 0.33456 -0.1191 0.34242 C -0.13525 0.35029 -0.1474 0.33572 -0.15556 0.32555 C -0.16372 0.31537 -0.16615 0.28855 -0.16823 0.28115 E">
                                      <p:cBhvr>
                                        <p:cTn id="64" dur="5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ergey</cp:lastModifiedBy>
  <dcterms:modified xsi:type="dcterms:W3CDTF">2011-12-16T16:31:15Z</dcterms:modified>
  <cp:revision>8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