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DFF-DF08-4B0E-8928-30681EDE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431-0BA9-45DB-A2BA-AC54028B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67B-C92B-4933-9F0E-1AC7BA75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AD1-3854-4859-A9B5-C6CEAEE7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77952-0477-4669-9ECC-EE171C6C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EADC8-1469-4427-8BF6-27C38D8F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A09A5-7870-4EBA-B52A-EBEFECA3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91048-02C1-4673-BE27-120DD423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E95DC-FB1A-41CD-8311-2611963D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F1ACE-DC6D-476D-B2E7-BEECBA85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A882B-A7C5-4B5A-A81B-8D0D7798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4A6-1D8E-49A6-81BC-89C5A7D7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3AF34-D6AC-486E-8521-57BA4EB3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BA4FA-B155-4E8C-8746-3E2FB254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01ACB-2497-49D7-B4E7-9476EDAC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19AE3-B927-460B-8E6A-BC92DEA9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9CDCA-683B-488E-8797-FFFA9A8A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232-1020-4A74-A95D-097641CA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C05-D94C-468B-A1FE-3EABAB76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769-E524-48FF-82A6-199486B8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11D-CBC0-42FE-B16D-A01C88C0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BCE-37AA-41B6-9A84-E2F490D8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AAC-F537-44D9-9A3F-AAF054B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7A3-59B0-4E78-8B36-B895B317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C464-BC34-4C1D-BA3F-FB27A1577A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7EF2-CB3F-429D-9639-17D3B9CC70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1356840"/>
            <a:ext cx="8643960" cy="4000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00000"/>
                </a:solidFill>
                <a:latin typeface="Arial Black"/>
              </a:rPr>
              <a:t>Водные ресурсы и человек</a:t>
            </a:r>
            <a:br>
              <a:rPr sz="6600"/>
            </a:br>
            <a:r>
              <a:rPr b="0" i="1" lang="ru-RU" sz="6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2c"/>
                </a:solidFill>
                <a:latin typeface="Tahoma"/>
              </a:rPr>
              <a:t>Вода – бесценная жидкость, дающая жизнь всему живом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ahoma"/>
              </a:rPr>
              <a:t>Водные ресурсы – это та часть поверхностных и подземных вод, которая может быть использована для снабжения водой населения и для  различных видов человеческой деятельност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-main-pic" descr="Картинка 35 из 535"/>
          <p:cNvPicPr/>
          <p:nvPr/>
        </p:nvPicPr>
        <p:blipFill>
          <a:blip r:embed="rId1"/>
          <a:stretch/>
        </p:blipFill>
        <p:spPr>
          <a:xfrm>
            <a:off x="1403280" y="2058840"/>
            <a:ext cx="62643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ahoma"/>
              </a:rPr>
              <a:t>ВОДНЫЕ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5500800" y="428760"/>
            <a:ext cx="335736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85840" y="5000760"/>
            <a:ext cx="371484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5072040" y="5072040"/>
            <a:ext cx="36432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0" name="Прямая со стрелкой 15"/>
          <p:cNvCxnSpPr/>
          <p:nvPr/>
        </p:nvCxnSpPr>
        <p:spPr>
          <a:xfrm flipH="1" flipV="1">
            <a:off x="1785600" y="1642320"/>
            <a:ext cx="1929600" cy="1143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1" name="Прямая со стрелкой 17"/>
          <p:cNvCxnSpPr/>
          <p:nvPr/>
        </p:nvCxnSpPr>
        <p:spPr>
          <a:xfrm flipV="1">
            <a:off x="5143320" y="1571040"/>
            <a:ext cx="192924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2" name="Прямая со стрелкой 19"/>
          <p:cNvCxnSpPr/>
          <p:nvPr/>
        </p:nvCxnSpPr>
        <p:spPr>
          <a:xfrm flipH="1">
            <a:off x="1785600" y="3570840"/>
            <a:ext cx="192960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3" name="Прямая со стрелкой 21"/>
          <p:cNvCxnSpPr/>
          <p:nvPr/>
        </p:nvCxnSpPr>
        <p:spPr>
          <a:xfrm>
            <a:off x="5072040" y="3642840"/>
            <a:ext cx="22154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Прямоугольник 3"/>
          <p:cNvSpPr/>
          <p:nvPr/>
        </p:nvSpPr>
        <p:spPr>
          <a:xfrm>
            <a:off x="214200" y="500040"/>
            <a:ext cx="335772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ahoma"/>
              </a:rPr>
              <a:t>ВОДНЫЕ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500800" y="428760"/>
            <a:ext cx="335736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Водные пу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85840" y="5000760"/>
            <a:ext cx="371484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Энергия рек, приливов (ГЭС, ПЭС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072040" y="5072040"/>
            <a:ext cx="36432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Промышленность и сельское хозяйств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9" name="Прямая со стрелкой 15"/>
          <p:cNvCxnSpPr/>
          <p:nvPr/>
        </p:nvCxnSpPr>
        <p:spPr>
          <a:xfrm flipH="1" flipV="1">
            <a:off x="1785600" y="1642320"/>
            <a:ext cx="1929600" cy="1143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0" name="Прямая со стрелкой 17"/>
          <p:cNvCxnSpPr/>
          <p:nvPr/>
        </p:nvCxnSpPr>
        <p:spPr>
          <a:xfrm flipV="1">
            <a:off x="5143320" y="1571040"/>
            <a:ext cx="192924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1" name="Прямая со стрелкой 19"/>
          <p:cNvCxnSpPr/>
          <p:nvPr/>
        </p:nvCxnSpPr>
        <p:spPr>
          <a:xfrm flipH="1">
            <a:off x="1785600" y="3570840"/>
            <a:ext cx="192960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2" name="Прямая со стрелкой 21"/>
          <p:cNvCxnSpPr/>
          <p:nvPr/>
        </p:nvCxnSpPr>
        <p:spPr>
          <a:xfrm>
            <a:off x="5072040" y="3642840"/>
            <a:ext cx="22154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03" name="Прямоугольник 3"/>
          <p:cNvSpPr/>
          <p:nvPr/>
        </p:nvSpPr>
        <p:spPr>
          <a:xfrm>
            <a:off x="214200" y="500040"/>
            <a:ext cx="335772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Питье и бытовые продукт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c"/>
                </a:solidFill>
                <a:latin typeface="Tahoma"/>
              </a:rPr>
              <a:t>Использовани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833400"/>
          <a:ext cx="9144000" cy="27464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льзова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требле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1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  <p:sp>
        <p:nvSpPr>
          <p:cNvPr id="106" name="Прямоугольник 4"/>
          <p:cNvSpPr/>
          <p:nvPr/>
        </p:nvSpPr>
        <p:spPr>
          <a:xfrm>
            <a:off x="0" y="38577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2c"/>
                </a:solidFill>
                <a:latin typeface="Tahoma"/>
              </a:rPr>
              <a:t>Рыбное хозяйство, промышленность, сельское хозяйство, коммунальное хозяйство (вода в квартире), гидроэнергетика (ГЭС), полив улиц, купание в реке, рыбалка на берегу с удочкой, речной транспорт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c"/>
                </a:solidFill>
                <a:latin typeface="Tahoma"/>
              </a:rPr>
              <a:t>Использовани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000160"/>
          <a:ext cx="9144000" cy="3657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льзова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требле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ыбное хозяйств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Гидроэнергетика (ГЭС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ечной транспор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Купание в рек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ыбалка на берегу с удочко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Промышленност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ельское хозяйств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Коммунальное хозяйство (вода в квартире), полив улиц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оды -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000080"/>
          <a:ext cx="9144000" cy="4108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71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ды для челове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водные ресурсы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овек для во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лагоприят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благоприят-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ложитель-ное влияние, охрана в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рицательное влияние, источники загрязнения и истощен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оды -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000080"/>
          <a:ext cx="9144000" cy="57722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ды для челове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водные ресурсы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овек для во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лагоприят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благоприят-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ложитель-ное влияние, охрана в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рицательное влияние, источники загрязнения и истощен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Питье, водные пути, энергия рек, отдых, использование для промышленных и с/х нуж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Неравномерное размещение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тихийные бедствия: наводнения, паводки, цунами, ветровые волн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троительство очистных сооружений, оборотная система водоснабжения, экономия вод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Забор воды из рек и озер для нужд промышленности и с/х. Сплав древесины, загрязнение вод, создание водохранилищ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4:25:57Z</dcterms:created>
  <dc:creator>PC176</dc:creator>
  <dc:description/>
  <dc:language>en-US</dc:language>
  <cp:lastModifiedBy>Карпова МЮ</cp:lastModifiedBy>
  <dcterms:modified xsi:type="dcterms:W3CDTF">2011-12-20T06:46:53Z</dcterms:modified>
  <cp:revision>18</cp:revision>
  <dc:subject/>
  <dc:title>Поверхностные   воды РБ</dc:title>
</cp:coreProperties>
</file>