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759-468C-45F6-A03B-899D3CAE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FE7-0C5A-474A-A462-DB790C53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D46-930E-4D51-B53A-F1F29C8A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FFD-C06A-4725-9935-0D276856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E924F-D6A5-429F-AE9C-62E9316A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5446D-AA62-4FA0-9B69-4D99FBCF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E4D6B-DA18-4D02-A4C1-E9D74717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5BF5C-7299-4C9B-976D-DAD941D0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4D586-F504-4D7D-AE43-15E34776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28DD6-E3F2-41E9-971E-53215944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821BF-3B26-4D4E-8B76-530C8524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EF1-7AE5-499D-B2F8-A025DC46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9B299-3D1C-4BD7-A09F-031997D4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E7F40-FC9B-4E70-9DCE-C2777B0B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39F73-3299-4AAA-9859-DE87F302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B633D-2771-4A2C-97B6-2479C9F9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B20F7-621E-4650-86FB-6342A5EB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B1B-4F1F-4DC8-AE2F-3AD8D365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C50-F31D-4904-B176-4D9D85C4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357-3EDA-4E7C-AEAE-7C0FEAF2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BCC-1542-4578-A2C4-5F592EBC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5B7-C395-4CEC-BB52-ABB54436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FED-A217-45E9-AE99-9476347A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C9F-B8EC-4535-9D79-F440B657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E891-DDCD-4BFA-831F-265D2B313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1CC0-15BE-4CE5-8D26-A3C6762779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1356840"/>
            <a:ext cx="8643960" cy="4000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00000"/>
                </a:solidFill>
                <a:latin typeface="Arial Black"/>
              </a:rPr>
              <a:t>Водные ресурсы и человек</a:t>
            </a:r>
            <a:br>
              <a:rPr sz="6600"/>
            </a:br>
            <a:r>
              <a:rPr b="0" i="1" lang="ru-RU" sz="6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2c"/>
                </a:solidFill>
                <a:latin typeface="Tahoma"/>
              </a:rPr>
              <a:t>Вода – бесценная жидкость, дающая жизнь всему живом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ahoma"/>
              </a:rPr>
              <a:t>Водные ресурсы – это та часть поверхностных и подземных вод, которая может быть использована для снабжения водой населения и для  различных видов человеческой деятельност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-main-pic" descr="Картинка 35 из 535"/>
          <p:cNvPicPr/>
          <p:nvPr/>
        </p:nvPicPr>
        <p:blipFill>
          <a:blip r:embed="rId1"/>
          <a:stretch/>
        </p:blipFill>
        <p:spPr>
          <a:xfrm>
            <a:off x="1403280" y="2058840"/>
            <a:ext cx="62643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0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1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2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3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Водные пу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Энергия рек, приливов (ГЭС, ПЭ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ромышленность и сельское хозяйств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9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0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2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3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итье и бытовые продукт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833400"/>
          <a:ext cx="9144000" cy="27464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1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  <p:sp>
        <p:nvSpPr>
          <p:cNvPr id="106" name="Прямоугольник 4"/>
          <p:cNvSpPr/>
          <p:nvPr/>
        </p:nvSpPr>
        <p:spPr>
          <a:xfrm>
            <a:off x="0" y="38577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2c"/>
                </a:solidFill>
                <a:latin typeface="Tahoma"/>
              </a:rPr>
              <a:t>Рыбное хозяйство, промышленность, сельское хозяйство, коммунальное хозяйство (вода в квартире), гидроэнергетика (ГЭС), полив улиц, купание в реке, рыбалка на берегу с удочкой, речной транспорт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000160"/>
          <a:ext cx="9144000" cy="3657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н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Гидроэнергетика (ГЭС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ечной транспор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упание в рек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алка на берегу с удочко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ромышленност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ельск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оммунальное хозяйство (вода в квартире), полив улиц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000080"/>
          <a:ext cx="9144000" cy="4108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71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000080"/>
          <a:ext cx="9144000" cy="57722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итье, водные пути, энергия рек, отдых, использование для промышленных и с/х нуж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Неравномерное размещение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ихийные бедствия: наводнения, паводки, цунами, ветровые волн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роительство очистных сооружений, оборотная система водоснабжения, экономия вод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Забор воды из рек и озер для нужд промышленности и с/х. Сплав древесины, загрязнение вод, создание водохранилищ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4:25:57Z</dcterms:created>
  <dc:creator>PC176</dc:creator>
  <dc:description/>
  <dc:language>en-US</dc:language>
  <cp:lastModifiedBy>Карпова МЮ</cp:lastModifiedBy>
  <dcterms:modified xsi:type="dcterms:W3CDTF">2011-12-20T06:46:53Z</dcterms:modified>
  <cp:revision>18</cp:revision>
  <dc:subject/>
  <dc:title>Поверхностные   воды РБ</dc:title>
</cp:coreProperties>
</file>