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C8A-4748-427F-9C60-A58D5466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E55-D6E0-43C9-8A3D-3545E18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97F-31B4-4649-BD75-C6731E39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5A4-3FEB-448D-8BF6-FE29992E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FEA1B-DA9F-48F2-8914-488F7A40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8B326-5354-4143-B4E6-59DFB009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F6F41-0569-47C1-86EA-F87F90DA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E6AD2-6894-43C6-8C3A-784D88D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F0EDA-0A5C-4BF0-8A2F-D0E305BD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62EA-7C84-49E6-B95C-1F0D211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A157A-D716-4427-97CB-28B4A22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6CB-2E5C-48C2-8FF6-84FAC859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4E24F-0C7C-48F2-8A7B-E013EDC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D9516-98FE-4A14-B532-34848D3A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F573E-9676-4E82-9BD1-32BEE922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C7C22-3D3F-4AE6-9B26-177DD105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EAF9C-1311-47BF-B655-77499C7F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901-7D2B-4AEA-B420-95416EA2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14C-11D6-4DE6-AD66-5EB38B1D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CDF-6E11-43D6-A369-BE00D5C3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C00-BE96-4A91-8C2C-3D82F9F6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0AC-44D8-431D-8CAD-1978116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42D-75F0-4B0C-AB73-9403730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BF5-3BF2-403A-A6E7-26B8B0F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4DD3-0B29-41CE-AA5E-FD9A11415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C31-7332-44EE-A8C9-2B3040FD35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135684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Водные ресурсы и человек</a:t>
            </a:r>
            <a:br>
              <a:rPr sz="6600"/>
            </a:b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2c"/>
                </a:solidFill>
                <a:latin typeface="Tahoma"/>
              </a:rPr>
              <a:t>Вода – бесценная жидкость, дающая жизнь всему живо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ahoma"/>
              </a:rPr>
              <a:t>Водные ресурсы – это та часть поверхностных и подземных вод, которая может быть использована для снабжения водой населения и для  различных видов человеческой 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35 из 535"/>
          <p:cNvPicPr/>
          <p:nvPr/>
        </p:nvPicPr>
        <p:blipFill>
          <a:blip r:embed="rId1"/>
          <a:stretch/>
        </p:blipFill>
        <p:spPr>
          <a:xfrm>
            <a:off x="1403280" y="2058840"/>
            <a:ext cx="6264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Водные пу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Энергия рек, приливов (ГЭС, ПЭ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ромышленность и сельское хозяй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итье и бытовые продук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33400"/>
          <a:ext cx="9144000" cy="2746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1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106" name="Прямоугольник 4"/>
          <p:cNvSpPr/>
          <p:nvPr/>
        </p:nvSpPr>
        <p:spPr>
          <a:xfrm>
            <a:off x="0" y="38577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2c"/>
                </a:solidFill>
                <a:latin typeface="Tahoma"/>
              </a:rPr>
              <a:t>Рыбное хозяйство, промышленность, сельское хозяйство, коммунальное хозяйство (вода в квартире), гидроэнергетика (ГЭС), полив улиц, купание в реке, рыбалка на берегу с удочкой, речной транспорт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000160"/>
          <a:ext cx="9144000" cy="3657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н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Гидроэнергетика (ГЭС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ечной транспор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упание в рек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алка на берегу с удочк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ромышленнос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ельск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оммунальное хозяйство (вода в квартире), полив ули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000080"/>
          <a:ext cx="9144000" cy="410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7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00080"/>
          <a:ext cx="9144000" cy="5772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итье, водные пути, энергия рек, отдых, использование для промышленных и с/х нуж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Неравномерное размеще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ихийные бедствия: наводнения, паводки, цунами, ветровые волн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роительство очистных сооружений, оборотная система водоснабжения, экономия вод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Забор воды из рек и озер для нужд промышленности и с/х. Сплав древесины, загрязнение вод, создание водохранилищ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57Z</dcterms:created>
  <dc:creator>PC176</dc:creator>
  <dc:description/>
  <dc:language>en-US</dc:language>
  <cp:lastModifiedBy>Карпова МЮ</cp:lastModifiedBy>
  <dcterms:modified xsi:type="dcterms:W3CDTF">2011-12-20T06:46:53Z</dcterms:modified>
  <cp:revision>18</cp:revision>
  <dc:subject/>
  <dc:title>Поверхностные   воды РБ</dc:title>
</cp:coreProperties>
</file>