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BE7-4460-4D05-88F1-B204D0BD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E9F-A2A0-4981-A197-34CF48CC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518-FB06-493E-B9CE-A983FEBE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899-7231-4ABE-88D5-5CFD5249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443D-0D78-47B9-B149-29124F22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A17E-607A-41AB-B17C-996A965E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0BFE-0F7E-4D78-8D12-A44BD2C0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1F73-CB4A-4BAC-AB08-1BED5D02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5A8-3B96-49E0-AA8A-6BDA5429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B739-2FF5-483B-B560-7B6EA3F6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35C-1D2A-4035-84BD-8BBD1092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DC5-493E-44F4-9385-98B8C0FD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B858-ECC4-47E5-8913-02149F9D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2152-32E1-4B02-9F9F-A322A859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BB7B-EBB5-4243-853C-32847DE5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A433-2A7F-4D35-ACB2-778DF250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FD5B-131B-4191-8DA9-A73BD8D1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D50ED-C66E-4722-89D8-E69A1D34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C5760-67A2-4C6F-B9E5-BED533F2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9E19D-F0E0-45E7-A25D-E454B5F2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E2FD1-FD95-4151-85A3-A2130C15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68961-4402-439F-8CF1-4BAF3AE6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695-B5D2-4407-AA46-9026D8EB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677B4-37D8-4698-A19E-294F3749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732D7-EB7A-4BFE-9A3A-4B0E3FD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756D3-0DC2-41E9-A408-217B0942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A8A56-4D19-436A-879B-60254261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1C44B-6BCB-4A89-9C51-450D0BB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D495F-916D-48A8-93C8-3CD907AE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709BB-1BA4-4E6E-8340-02940A3B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FAA-4B3A-4D35-AA8A-60D89A9D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4A6-A202-4F03-836D-087DAC21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71C-A300-4DB8-BF5F-03E9AAF3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DB1-5592-4F88-9F13-308E3449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3C5-7369-4CC4-B308-950FFE7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D6B-71F8-43DF-BAD2-9EDD0B68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0CC8-ADC1-4737-8C12-A70D6272E0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394B-CB01-4D71-B758-4E40B6AF4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8FEC-EE02-4AB2-863B-87B8BC1D93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ffff"/>
                </a:solidFill>
                <a:uFillTx/>
                <a:latin typeface="Times New Roman"/>
              </a:rPr>
              <a:t>Образование почв и их разнообрази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типы поч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7" name="Picture 8" descr="основные типы почв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ие задание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26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рабочей тетради задания 2,3 на стр. 39 (6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3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рабочей тетради: выполнить задание 1 (стр.38 или 6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4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ветить на вопросы: (в тетра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акую роль сыграл В.В.Докучаев в создание науки почвовед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т чего зависит главное свойство почвы – плодородие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5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ализ почвенной карты: (ответы записать в тетрад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преобладают в Ро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наиболее плодородны и где они расположе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чем различаются наборы почв в европейской и азиатской частях страны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В. Ломоносов в  своем трак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 слоях земных» ставит вопрос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есть почва?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ва – это особое природное тело, образующееся на поверхности Земли и обладающее уникальным свойством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лодороди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.е. способностью обеспечивать рост растений, давать им питани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Почв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– </a:t>
            </a: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это рыхлый плодородный поверхностный слой с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ообразующие фактор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2484360" y="3429000"/>
            <a:ext cx="4319640" cy="504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916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2916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6372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6372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1"/>
          <p:cNvSpPr/>
          <p:nvPr/>
        </p:nvSpPr>
        <p:spPr>
          <a:xfrm>
            <a:off x="219564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2"/>
          <p:cNvSpPr/>
          <p:nvPr/>
        </p:nvSpPr>
        <p:spPr>
          <a:xfrm>
            <a:off x="558000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565164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2124000" y="4365720"/>
            <a:ext cx="1584360" cy="115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кучаев Василий Васильевич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394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427280" y="1125000"/>
            <a:ext cx="43275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атель науки «Почв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вые доказал, что почва – это не горная порода, а особое естественно-историческо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л зональность поч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ановил роль почвообразующи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. В. Докучаев писал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Богатство чернозема гораздо более богатств Урала, Сибири, Кавказа. Дороже золота и самоцветов русский чернозем…Он был есть и будет кормильцем Росси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ое свойство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одороди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о способность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еспечивать растения необходимым набором и количеством питательных веществ, водой, воздухом.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одородие почвы зависи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наличия гумус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регно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механического состава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счаная или глинист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структуры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ные (диаметр частиц до 10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труктурные (диаметр частиц до 0,5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5:41:27Z</dcterms:modified>
  <cp:revision>24</cp:revision>
  <dc:subject/>
  <dc:title>PowerPoint Presentation</dc:title>
</cp:coreProperties>
</file>