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DC7-8E18-4CDA-9F29-F9D686BD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8F4-B7EE-4070-8A6F-770FADA1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66E-396F-4A7A-AEF7-A285874B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E05-75B1-44C2-9432-C8CE5FF4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FDDF-2A6F-4605-8730-316A5149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A9F2-3AF0-4D01-9532-29479C75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043C-FF38-4BCA-B79C-8A2B06BD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4A78-F36F-4B2F-A0A8-BD96B776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A446-1FBA-448E-A52A-92C4235A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BACC-1D7A-422D-BBFC-2881E419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4692-9237-48F9-8C60-237AFA58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F44-2879-47EB-8560-64BC0DC3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4939-BC81-4B78-B810-DFB25294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494C-DB67-4C07-82CA-1882EFF1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9AA4-9DA3-4257-8047-EC1137FE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4032-E9C7-4784-B99C-EDA173D1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05AD-3B3A-415E-8A4E-55E24E50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A5742-FEB7-47DA-9D16-7E611FAE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03B11-5EB4-4752-ADF6-0A4A1622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689FE-C738-4438-962C-F5EF40E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AB030-DE9D-46A6-8668-4280327E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BBBAF-198C-4C21-8752-6028A1A4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9E9-192E-400D-9562-D459C32F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C42AB-A8C1-4546-817A-1C7D78F6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EECBA-7570-4748-83BF-9FFB3BB2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C1E68-8072-4B65-B7DA-5609A650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3AF9D-D2AF-4469-A3E6-F795D93F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BFC89-81AC-4FAD-B1EB-25D9AF76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A5A03-0620-408D-98B4-A89CF29A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DB37D-1B95-4BE8-94A8-25933B93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59C-C0B1-4E9A-A7E5-350790F9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0AB-6C83-487C-864C-B9AC3A84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9A1-DFC2-407D-8981-04D4B50F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1EF-0164-4586-9A6C-336A7CE5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103-C33C-4158-B1E0-EB117DA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A42-0597-4A5D-8724-785390FB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2907-4453-4E8E-A10F-C76E16968D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4B04-92CC-42A8-8979-2DFD97C925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1DCF-D836-4BC7-A81C-952CAA6DCE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00ffff"/>
                </a:solidFill>
                <a:uFillTx/>
                <a:latin typeface="Times New Roman"/>
              </a:rPr>
              <a:t>Образование почв и их разнообрази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типы почв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7" name="Picture 8" descr="основные типы почв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4360" y="112536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ие задание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26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 рабочей тетради задания 2,3 на стр. 39 (6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3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рабочей тетради: выполнить задание 1 (стр.38 или 6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4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ветить на вопросы: (в тетрад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акую роль сыграл В.В.Докучаев в создание науки почвовед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От чего зависит главное свойство почвы – плодородие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5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ализ почвенной карты: (ответы записать в тетрад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преобладают в Ро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наиболее плодородны и где они расположен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чем различаются наборы почв в европейской и азиатской частях страны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9640" y="907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В. Ломоносов в  своем тракт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 слоях земных» ставит вопрос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есть почва?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ва – это особое природное тело, образующееся на поверхности Земли и обладающее уникальным свойством –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лодородие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.е. способностью обеспечивать рост растений, давать им питани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24000" y="476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Почв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– </a:t>
            </a: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это рыхлый плодородный поверхностный слой суш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вообразующие фактор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2484360" y="3429000"/>
            <a:ext cx="4319640" cy="504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916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"/>
          <p:cNvSpPr/>
          <p:nvPr/>
        </p:nvSpPr>
        <p:spPr>
          <a:xfrm>
            <a:off x="2916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6372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5"/>
          <p:cNvSpPr/>
          <p:nvPr/>
        </p:nvSpPr>
        <p:spPr>
          <a:xfrm flipV="1">
            <a:off x="6372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1"/>
          <p:cNvSpPr/>
          <p:nvPr/>
        </p:nvSpPr>
        <p:spPr>
          <a:xfrm>
            <a:off x="219564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2"/>
          <p:cNvSpPr/>
          <p:nvPr/>
        </p:nvSpPr>
        <p:spPr>
          <a:xfrm>
            <a:off x="558000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4"/>
          <p:cNvSpPr/>
          <p:nvPr/>
        </p:nvSpPr>
        <p:spPr>
          <a:xfrm>
            <a:off x="5651640" y="443700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2124000" y="4365720"/>
            <a:ext cx="1584360" cy="1152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н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кучаев Василий Васильевич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4394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427280" y="1125000"/>
            <a:ext cx="43275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атель науки «Почвоведение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вые доказал, что почва – это не горная порода, а особое естественно-историческое т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азал зональность поч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ановил роль почвообразующих фа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. В. Докучаев писал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Богатство чернозема гораздо более богатств Урала, Сибири, Кавказа. Дороже золота и самоцветов русский чернозем…Он был есть и будет кормильцем Росси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ое свойство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одородие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о способность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еспечивать растения необходимым набором и количеством питательных веществ, водой, воздухом.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одородие почвы зависит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наличия гумус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регно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механического состава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счаная или глинист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структуры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уктурные (диаметр частиц до 10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сструктурные (диаметр частиц до 0,5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5:41:27Z</dcterms:modified>
  <cp:revision>24</cp:revision>
  <dc:subject/>
  <dc:title>PowerPoint Presentation</dc:title>
</cp:coreProperties>
</file>