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3A2D-9FEF-414F-9AE5-831DCC2A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4AC2-0C96-45BC-B984-D7B05F68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C7C-BB3B-450A-8953-45A9FEED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0776-4CD3-4F06-8435-C601F8EF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1CF3-970E-4028-AB47-A9A77E8E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0DCD-FD4A-455A-8883-0B0C65E9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8931-3735-43FC-8E0B-99F024F9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3041-C4CB-4BFD-9F61-31FE96D0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B60B-297E-4535-A374-8A98B2F1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8A68-C305-4D37-986F-D44840F6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758D-89EF-4AC5-AA6C-EB9B7A10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078-3631-4612-B466-4245973F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A721-574F-4001-9A57-A7BB73A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3B88-6524-4B62-B3B4-ABC97B27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CDFE-B5A0-4A15-BA34-A77CE61C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C472-85FA-4D4C-82A5-536EAB001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1206-E570-477D-994F-DF75D7E0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A87A0-AB75-4B0C-ABC7-ED844269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E4C8C-0018-472D-8B28-CE628CB7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682B2-3DD4-4B70-8B4D-B6BD6291A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462F1-4E47-4728-BB9B-2DAC9381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B1287-08AE-4DC2-94DC-8253D2E4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759E-405A-4C61-9578-B587C075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57065-BCC6-48EA-914D-23C4B991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EC487-8DD6-445C-9514-855BB231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9ACA3-CD75-4205-A850-90BB8723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90D73B-C551-4F2C-B2E4-147CFD6F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053C0-5AD1-47D2-A882-BBF4FAEF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AE20B2-B2B2-4E62-80B0-66832A0D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91141-AC80-45ED-9CDE-3E7CEF46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DD6F-AAC1-4146-8A37-2C1B0E78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4343-3353-49C2-8A55-B45771A6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A43-1A28-47D9-B40B-D09A032B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BCF-F252-41BD-9867-947FA63F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59B-9A9D-4C13-A4CC-FD952A98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EFB-01B5-4257-B8F9-41325BAE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6700E-2302-41DB-AB13-EE020155B0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A35-2FAF-44F1-BB28-144DCE7F8C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DB85-9FA6-4253-B57F-1332C1C5F2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 u="sng">
                <a:solidFill>
                  <a:srgbClr val="00ffff"/>
                </a:solidFill>
                <a:uFillTx/>
                <a:latin typeface="Times New Roman"/>
              </a:rPr>
              <a:t>Образование почв и их разнообрази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ные типы почв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87" name="Picture 8" descr="основные типы почв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84360" y="1125360"/>
            <a:ext cx="755964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ие задание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26,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 рабочей тетради задания 2,3 на стр. 39 (61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3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рабочей тетради: выполнить задание 1 (стр.38 или 61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4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тветить на вопросы: (в тетрад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Какую роль сыграл В.В.Докучаев в создание науки почвоведе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От чего зависит главное свойство почвы – плодородие?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Задание на «5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нализ почвенной карты: (ответы записать в тетрадь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преобладают в Ро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акие почвы наиболее плодородны и где они расположен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чем различаются наборы почв в европейской и азиатской частях страны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539640" y="907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.В. Ломоносов в  своем тракта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О слоях земных» ставит вопрос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Что есть почва?»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чва – это особое природное тело, образующееся на поверхности Земли и обладающее уникальным свойством –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плодородие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т.е. способностью обеспечивать рост растений, давать им питани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324000" y="476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Почва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– </a:t>
            </a:r>
            <a:r>
              <a:rPr b="1" lang="ru-RU" sz="5400" spc="-1" strike="noStrike">
                <a:solidFill>
                  <a:srgbClr val="6699ff"/>
                </a:solidFill>
                <a:latin typeface="Arial Black"/>
              </a:rPr>
              <a:t>это рыхлый плодородный поверхностный слой суш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чвообразующие факторы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2484360" y="3429000"/>
            <a:ext cx="4319640" cy="504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0"/>
          <p:cNvSpPr/>
          <p:nvPr/>
        </p:nvSpPr>
        <p:spPr>
          <a:xfrm flipV="1">
            <a:off x="2916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1"/>
          <p:cNvSpPr/>
          <p:nvPr/>
        </p:nvSpPr>
        <p:spPr>
          <a:xfrm>
            <a:off x="2916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3"/>
          <p:cNvSpPr/>
          <p:nvPr/>
        </p:nvSpPr>
        <p:spPr>
          <a:xfrm>
            <a:off x="6372360" y="2924280"/>
            <a:ext cx="0" cy="50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5"/>
          <p:cNvSpPr/>
          <p:nvPr/>
        </p:nvSpPr>
        <p:spPr>
          <a:xfrm flipV="1">
            <a:off x="6372360" y="3933360"/>
            <a:ext cx="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41"/>
          <p:cNvSpPr/>
          <p:nvPr/>
        </p:nvSpPr>
        <p:spPr>
          <a:xfrm>
            <a:off x="219564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тения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от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Oval 42"/>
          <p:cNvSpPr/>
          <p:nvPr/>
        </p:nvSpPr>
        <p:spPr>
          <a:xfrm>
            <a:off x="5580000" y="184464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лим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Oval 44"/>
          <p:cNvSpPr/>
          <p:nvPr/>
        </p:nvSpPr>
        <p:spPr>
          <a:xfrm>
            <a:off x="5651640" y="4437000"/>
            <a:ext cx="1584360" cy="108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Oval 45"/>
          <p:cNvSpPr/>
          <p:nvPr/>
        </p:nvSpPr>
        <p:spPr>
          <a:xfrm>
            <a:off x="2124000" y="4365720"/>
            <a:ext cx="1584360" cy="1152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терин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р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окучаев Василий Васильевич</a:t>
            </a:r>
            <a:endParaRPr b="0" lang="en-US" sz="4000" spc="-1" strike="noStrike">
              <a:solidFill>
                <a:srgbClr val="b3edff"/>
              </a:solidFill>
              <a:latin typeface="Arial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456000" cy="4394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4427280" y="1125000"/>
            <a:ext cx="43275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атель науки «Почвоведение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вые доказал, что почва – это не горная порода, а особое естественно-историческое тел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казал зональность поч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тановил роль почвообразующих фактор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В. В. Докучаев писал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«Богатство чернозема гораздо более богатств Урала, Сибири, Кавказа. Дороже золота и самоцветов русский чернозем…Он был есть и будет кормильцем Росси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Основное свойство почв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Плодородие –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это способность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обеспечивать растения необходимым набором и количеством питательных веществ, водой, воздухом.</a:t>
            </a: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лодородие почвы зависит: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56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наличия гумус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регно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механического состава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(песчаная или глиниста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т структуры почвы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уктурные (диаметр частиц до 10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сструктурные (диаметр частиц до 0,5 м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12-22T05:41:27Z</dcterms:modified>
  <cp:revision>24</cp:revision>
  <dc:subject/>
  <dc:title>PowerPoint Presentation</dc:title>
</cp:coreProperties>
</file>