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432-0ED2-46DF-BE5D-49797DD8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C9C-5FD1-480D-9AC5-FB7C8E6A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B64-C731-4B5F-8E12-3F5A4B20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953-F4C3-43DA-B848-B2509365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A4E3-4353-41E4-A87F-580C78C9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36BC-3705-4951-8717-8328A439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E06F-B41F-4087-BB52-61FA0303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B7F5-BE62-441A-84E2-CF99A0CA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BA2B-4D49-4A1D-9F7C-088AAE40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10DD-E5E3-42A0-948B-E94E89C0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3711-D010-4D5C-B0AE-2A516552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2B8-7864-4AF6-9E69-7A03A8AE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AD0E-12CF-4F76-B314-9D1BF53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C3D8-5363-4ABE-984A-CCCB3B17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0A90-5DE6-4B11-8503-BBF0DABC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BD0B-015D-4B29-B266-5B9D8EFB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7A9F-0893-4A97-A2F6-6251237A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CEE8A-3FFE-4BE6-A66B-93D5AF3E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02764-99AD-4795-A27E-07E68729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D7C86-AF67-4C39-92A4-1B24461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E3059-897A-4968-B2FE-ED07B666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39A23-07E9-41C7-8D75-7B8DFB1A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72F-02C7-45CD-B2CB-BBDF9536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80BBD-ED22-432A-90A1-0EDB9E30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B8BD1-5112-4120-BECC-5AEDD26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FDD75-17E4-4AA8-BB41-C760CDFD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6B20A-8086-47A7-9167-AF96CFF4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EBF6B-9C8A-413D-8EFD-A2D28DE7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5DD0C-4949-48AF-9D33-DDC03C68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46BD1-F508-4B3A-9A7B-55A15911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4B5-BA64-4973-9A3D-895E90C8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4D0-578D-491D-885C-79E911D9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5EC-E068-44E5-9E5A-5904FB30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E32-DB7A-477E-ADC1-886DBD6A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0B8-9B8A-44ED-9DEC-53AFD120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B65-76BA-493E-9A65-5443D8D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1936-D377-4C46-BD7D-DE78464911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09DD-583E-4239-9017-62EAA4B86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BD20-D4E1-42E5-88BF-7A83513F62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ffff"/>
                </a:solidFill>
                <a:uFillTx/>
                <a:latin typeface="Times New Roman"/>
              </a:rPr>
              <a:t>Образование почв и их разнообрази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типы поч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7" name="Picture 8" descr="основные типы почв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ие задание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26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рабочей тетради задания 2,3 на стр. 39 (6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3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рабочей тетради: выполнить задание 1 (стр.38 или 6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4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ветить на вопросы: (в тетра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акую роль сыграл В.В.Докучаев в создание науки почвовед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т чего зависит главное свойство почвы – плодородие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5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ализ почвенной карты: (ответы записать в тетрад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преобладают в Ро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наиболее плодородны и где они расположе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чем различаются наборы почв в европейской и азиатской частях страны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В. Ломоносов в  своем трак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 слоях земных» ставит вопрос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есть почва?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ва – это особое природное тело, образующееся на поверхности Земли и обладающее уникальным свойством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лодороди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.е. способностью обеспечивать рост растений, давать им питани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Почв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– </a:t>
            </a: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это рыхлый плодородный поверхностный слой с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ообразующие фактор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2484360" y="3429000"/>
            <a:ext cx="4319640" cy="504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916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2916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6372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6372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1"/>
          <p:cNvSpPr/>
          <p:nvPr/>
        </p:nvSpPr>
        <p:spPr>
          <a:xfrm>
            <a:off x="219564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2"/>
          <p:cNvSpPr/>
          <p:nvPr/>
        </p:nvSpPr>
        <p:spPr>
          <a:xfrm>
            <a:off x="558000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565164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2124000" y="4365720"/>
            <a:ext cx="1584360" cy="115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кучаев Василий Васильевич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394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427280" y="1125000"/>
            <a:ext cx="43275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атель науки «Почв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вые доказал, что почва – это не горная порода, а особое естественно-историческо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л зональность поч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ановил роль почвообразующи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. В. Докучаев писал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Богатство чернозема гораздо более богатств Урала, Сибири, Кавказа. Дороже золота и самоцветов русский чернозем…Он был есть и будет кормильцем Росси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ое свойство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одороди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о способность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еспечивать растения необходимым набором и количеством питательных веществ, водой, воздухом.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одородие почвы зависи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наличия гумус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регно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механического состава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счаная или глинист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структуры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ные (диаметр частиц до 10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труктурные (диаметр частиц до 0,5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5:41:27Z</dcterms:modified>
  <cp:revision>24</cp:revision>
  <dc:subject/>
  <dc:title>PowerPoint Presentation</dc:title>
</cp:coreProperties>
</file>