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59D4-9EBB-4485-A27E-300C179ED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5578-5A9E-4E46-8547-66C53C6B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762D-D46F-4CB4-B63E-F672B927E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EC12-B43C-4BB4-AB71-A9D15B5F0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27DA-7E14-455A-8B07-1C6894D9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9942-19F4-4868-A39B-2AB6E127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26BF-FCBE-4308-B220-689D68CA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A52C-FCEA-4C1E-A772-3FBC8C58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561C-21C5-4DD7-BDA3-A9D76FC9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459F-6CF0-4E42-95E9-387D65AC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9D90-1C14-48D9-A46A-90DADF18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D1B0-4747-40B7-A657-75E3CFF7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5F29-73F3-4284-8177-83A2542F8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071800" y="713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Текут, текут - не вытеку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Бегут, бегут – не выбег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2195640" y="3213000"/>
            <a:ext cx="4910040" cy="1997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мульт земной шар"/>
          <p:cNvPicPr/>
          <p:nvPr/>
        </p:nvPicPr>
        <p:blipFill>
          <a:blip r:embed="rId3"/>
          <a:stretch/>
        </p:blipFill>
        <p:spPr>
          <a:xfrm>
            <a:off x="0" y="214200"/>
            <a:ext cx="2124000" cy="19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4945680" y="6143760"/>
            <a:ext cx="36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. И. Левитан.  Вечерний зв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62673"/>
                </a:solidFill>
                <a:latin typeface="Arial"/>
              </a:rPr>
              <a:t>Что такое ре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73"/>
                </a:solidFill>
                <a:latin typeface="Arial"/>
              </a:rPr>
              <a:t>Река – постоянно текущая в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5" descr="Рисунок19.jpg"/>
          <p:cNvPicPr/>
          <p:nvPr/>
        </p:nvPicPr>
        <p:blipFill>
          <a:blip r:embed="rId2"/>
          <a:stretch/>
        </p:blipFill>
        <p:spPr>
          <a:xfrm>
            <a:off x="285840" y="2571840"/>
            <a:ext cx="4635360" cy="35002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" descr="Рисунок18.jpg"/>
          <p:cNvPicPr/>
          <p:nvPr/>
        </p:nvPicPr>
        <p:blipFill>
          <a:blip r:embed="rId3"/>
          <a:stretch/>
        </p:blipFill>
        <p:spPr>
          <a:xfrm>
            <a:off x="5357880" y="1928880"/>
            <a:ext cx="35067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4" descr="Рисунок11.jpg"/>
          <p:cNvPicPr/>
          <p:nvPr/>
        </p:nvPicPr>
        <p:blipFill>
          <a:blip r:embed="rId2"/>
          <a:stretch/>
        </p:blipFill>
        <p:spPr>
          <a:xfrm>
            <a:off x="960480" y="1357200"/>
            <a:ext cx="7223040" cy="5159520"/>
          </a:xfrm>
          <a:prstGeom prst="rect">
            <a:avLst/>
          </a:prstGeom>
          <a:ln w="9360">
            <a:solidFill>
              <a:srgbClr val="262673"/>
            </a:solidFill>
            <a:miter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73"/>
                </a:solidFill>
                <a:latin typeface="Arial"/>
              </a:rPr>
              <a:t>Схема ре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895480" y="1523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 flipH="1">
            <a:off x="2057400" y="1752480"/>
            <a:ext cx="8380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6172200" y="2057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Т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 flipH="1" flipV="1">
            <a:off x="5181480" y="2286000"/>
            <a:ext cx="9907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 flipH="1">
            <a:off x="4190760" y="2438280"/>
            <a:ext cx="198108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 flipV="1">
            <a:off x="3071880" y="4214880"/>
            <a:ext cx="2057400" cy="1218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1857240" y="521496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Т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 repeatCount="200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35" repeatCount="2000">
                                  <p:stCondLst>
                                    <p:cond delay="3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 repeatCount="2000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 repeatCount="200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Содержимое 3" descr="Рисунок10.jpg"/>
          <p:cNvPicPr/>
          <p:nvPr/>
        </p:nvPicPr>
        <p:blipFill>
          <a:blip r:embed="rId2"/>
          <a:stretch/>
        </p:blipFill>
        <p:spPr>
          <a:xfrm>
            <a:off x="1211400" y="1071720"/>
            <a:ext cx="6721200" cy="55371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73"/>
                </a:solidFill>
                <a:latin typeface="Arial"/>
              </a:rPr>
              <a:t>Рек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3460680" y="1677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3278160" y="1916280"/>
            <a:ext cx="10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556000" y="3284640"/>
            <a:ext cx="52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2347920" y="3141720"/>
            <a:ext cx="108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вый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бер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4516200" y="3643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5521320" y="4292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3792600" y="587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4578840" y="3645000"/>
            <a:ext cx="10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ер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5293800" y="443700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3419640" y="5805360"/>
            <a:ext cx="13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ст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5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8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0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2673"/>
                </a:solidFill>
                <a:latin typeface="Arial"/>
              </a:rPr>
              <a:t>Давайте повтор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4" descr="о.jpg"/>
          <p:cNvPicPr/>
          <p:nvPr/>
        </p:nvPicPr>
        <p:blipFill>
          <a:blip r:embed="rId2"/>
          <a:stretch/>
        </p:blipFill>
        <p:spPr>
          <a:xfrm>
            <a:off x="1633680" y="3857760"/>
            <a:ext cx="5876640" cy="21859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5" descr="Рисунок1.jpg"/>
          <p:cNvPicPr/>
          <p:nvPr/>
        </p:nvPicPr>
        <p:blipFill>
          <a:blip r:embed="rId3"/>
          <a:stretch/>
        </p:blipFill>
        <p:spPr>
          <a:xfrm>
            <a:off x="928800" y="1214280"/>
            <a:ext cx="761364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2:14:26Z</dcterms:created>
  <dc:creator>USER</dc:creator>
  <dc:description/>
  <dc:language>en-US</dc:language>
  <cp:lastModifiedBy>Сергей</cp:lastModifiedBy>
  <dcterms:modified xsi:type="dcterms:W3CDTF">2011-12-22T21:22:28Z</dcterms:modified>
  <cp:revision>20</cp:revision>
  <dc:subject/>
  <dc:title>Слайд 1</dc:title>
</cp:coreProperties>
</file>