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81A-891C-4FE0-A46F-BD91E6E1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0D6-E738-4DD1-91EE-0FDAFDE8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B52-748D-4AE1-A7FC-FF7A8F32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5E4-9186-4856-BF1C-07E44B59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CC7-3125-4E16-B53D-290687F0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0A7-7EDF-412F-AA31-B2CA77FA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A0C-3501-474D-9B79-59D23F83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E57-6188-4498-B6B7-A8E29559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B41-EE99-441B-BF0A-1661BEA6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6EB-383E-4815-A591-D343DB24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B53-70E6-4CC5-8C0E-7B5458E9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C63-F2EF-40A0-A527-F5717746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12B9-D578-456D-81D4-BEE0BD9B4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71800" y="713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Текут, текут - не вытек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Бегут, бегут – не выб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2195640" y="3213000"/>
            <a:ext cx="4910040" cy="199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ульт земной шар"/>
          <p:cNvPicPr/>
          <p:nvPr/>
        </p:nvPicPr>
        <p:blipFill>
          <a:blip r:embed="rId3"/>
          <a:stretch/>
        </p:blipFill>
        <p:spPr>
          <a:xfrm>
            <a:off x="0" y="214200"/>
            <a:ext cx="21240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945680" y="614376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. И. Левитан.  Вечерний зв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62673"/>
                </a:solidFill>
                <a:latin typeface="Arial"/>
              </a:rPr>
              <a:t>Что такое ре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Arial"/>
              </a:rPr>
              <a:t>Река – постоянно текущ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Рисунок19.jpg"/>
          <p:cNvPicPr/>
          <p:nvPr/>
        </p:nvPicPr>
        <p:blipFill>
          <a:blip r:embed="rId2"/>
          <a:stretch/>
        </p:blipFill>
        <p:spPr>
          <a:xfrm>
            <a:off x="285840" y="2571840"/>
            <a:ext cx="4635360" cy="3500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Рисунок18.jpg"/>
          <p:cNvPicPr/>
          <p:nvPr/>
        </p:nvPicPr>
        <p:blipFill>
          <a:blip r:embed="rId3"/>
          <a:stretch/>
        </p:blipFill>
        <p:spPr>
          <a:xfrm>
            <a:off x="5357880" y="1928880"/>
            <a:ext cx="3506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4" descr="Рисунок11.jpg"/>
          <p:cNvPicPr/>
          <p:nvPr/>
        </p:nvPicPr>
        <p:blipFill>
          <a:blip r:embed="rId2"/>
          <a:stretch/>
        </p:blipFill>
        <p:spPr>
          <a:xfrm>
            <a:off x="960480" y="1357200"/>
            <a:ext cx="7223040" cy="51595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Схема ре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8954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7400" y="1752480"/>
            <a:ext cx="8380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172200" y="2057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H="1" flipV="1">
            <a:off x="5181480" y="2286000"/>
            <a:ext cx="9907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4190760" y="2438280"/>
            <a:ext cx="1981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3071880" y="4214880"/>
            <a:ext cx="20574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857240" y="5214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 repeatCount="2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5" repeatCount="2000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 repeatCount="200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 repeatCount="200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Рисунок10.jpg"/>
          <p:cNvPicPr/>
          <p:nvPr/>
        </p:nvPicPr>
        <p:blipFill>
          <a:blip r:embed="rId2"/>
          <a:stretch/>
        </p:blipFill>
        <p:spPr>
          <a:xfrm>
            <a:off x="1211400" y="1071720"/>
            <a:ext cx="6721200" cy="5537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73"/>
                </a:solidFill>
                <a:latin typeface="Arial"/>
              </a:rPr>
              <a:t>Ре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460680" y="1677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278160" y="1916280"/>
            <a:ext cx="10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556000" y="3284640"/>
            <a:ext cx="5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347920" y="314172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ы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516200" y="3643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52132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792600" y="587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578840" y="36450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5293800" y="44370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419640" y="580536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Arial"/>
              </a:rPr>
              <a:t>Давайте повто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о.jpg"/>
          <p:cNvPicPr/>
          <p:nvPr/>
        </p:nvPicPr>
        <p:blipFill>
          <a:blip r:embed="rId2"/>
          <a:stretch/>
        </p:blipFill>
        <p:spPr>
          <a:xfrm>
            <a:off x="1633680" y="3857760"/>
            <a:ext cx="587664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Рисунок1.jpg"/>
          <p:cNvPicPr/>
          <p:nvPr/>
        </p:nvPicPr>
        <p:blipFill>
          <a:blip r:embed="rId3"/>
          <a:stretch/>
        </p:blipFill>
        <p:spPr>
          <a:xfrm>
            <a:off x="928800" y="1214280"/>
            <a:ext cx="761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14:26Z</dcterms:created>
  <dc:creator>USER</dc:creator>
  <dc:description/>
  <dc:language>en-US</dc:language>
  <cp:lastModifiedBy>Сергей</cp:lastModifiedBy>
  <dcterms:modified xsi:type="dcterms:W3CDTF">2011-12-22T21:22:28Z</dcterms:modified>
  <cp:revision>20</cp:revision>
  <dc:subject/>
  <dc:title>Слайд 1</dc:title>
</cp:coreProperties>
</file>