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E744-FF83-4784-AD82-245EB213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F50D-823C-46DD-981A-F2C5B3B2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5E69-16CA-4374-A2BA-B585710E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EEFF-530B-46B1-92FB-E0DDC90A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538A-B242-4E4F-ABAB-9CBDDD59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DA7E-CA08-4A70-A166-8B55816C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F664-2608-4C60-ACC4-B66FFF57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0628-CFEC-48A8-967D-C4710C98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2905-D6C9-40D8-9DB1-88593E87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69DE-50A5-4CA0-B7CD-447808F2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F582-3E7E-46B7-ACF2-1558C9E3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DB6C-BFF4-4B6C-86C7-1F636006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5874-1945-475B-90D2-872CF3132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071800" y="713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Текут, текут - не вытеку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Бегут, бегут – не выбег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2195640" y="3213000"/>
            <a:ext cx="4910040" cy="199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мульт земной шар"/>
          <p:cNvPicPr/>
          <p:nvPr/>
        </p:nvPicPr>
        <p:blipFill>
          <a:blip r:embed="rId3"/>
          <a:stretch/>
        </p:blipFill>
        <p:spPr>
          <a:xfrm>
            <a:off x="0" y="214200"/>
            <a:ext cx="2124000" cy="19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4945680" y="6143760"/>
            <a:ext cx="36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. И. Левитан.  Вечерний зв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62673"/>
                </a:solidFill>
                <a:latin typeface="Arial"/>
              </a:rPr>
              <a:t>Что такое ре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Река – постоянно текущая в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" descr="Рисунок19.jpg"/>
          <p:cNvPicPr/>
          <p:nvPr/>
        </p:nvPicPr>
        <p:blipFill>
          <a:blip r:embed="rId2"/>
          <a:stretch/>
        </p:blipFill>
        <p:spPr>
          <a:xfrm>
            <a:off x="285840" y="2571840"/>
            <a:ext cx="4635360" cy="3500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Рисунок18.jpg"/>
          <p:cNvPicPr/>
          <p:nvPr/>
        </p:nvPicPr>
        <p:blipFill>
          <a:blip r:embed="rId3"/>
          <a:stretch/>
        </p:blipFill>
        <p:spPr>
          <a:xfrm>
            <a:off x="5357880" y="1928880"/>
            <a:ext cx="35067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4" descr="Рисунок11.jpg"/>
          <p:cNvPicPr/>
          <p:nvPr/>
        </p:nvPicPr>
        <p:blipFill>
          <a:blip r:embed="rId2"/>
          <a:stretch/>
        </p:blipFill>
        <p:spPr>
          <a:xfrm>
            <a:off x="960480" y="1357200"/>
            <a:ext cx="7223040" cy="515952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73"/>
                </a:solidFill>
                <a:latin typeface="Arial"/>
              </a:rPr>
              <a:t>Схема ре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8954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2057400" y="1752480"/>
            <a:ext cx="8380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6172200" y="2057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Т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H="1" flipV="1">
            <a:off x="5181480" y="2286000"/>
            <a:ext cx="9907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 flipH="1">
            <a:off x="4190760" y="2438280"/>
            <a:ext cx="198108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 flipV="1">
            <a:off x="3071880" y="4214880"/>
            <a:ext cx="205740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1857240" y="521496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Т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 repeatCount="200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35" repeatCount="2000">
                                  <p:stCondLst>
                                    <p:cond delay="3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 repeatCount="2000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 repeatCount="200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3" descr="Рисунок10.jpg"/>
          <p:cNvPicPr/>
          <p:nvPr/>
        </p:nvPicPr>
        <p:blipFill>
          <a:blip r:embed="rId2"/>
          <a:stretch/>
        </p:blipFill>
        <p:spPr>
          <a:xfrm>
            <a:off x="1211400" y="1071720"/>
            <a:ext cx="6721200" cy="55371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73"/>
                </a:solidFill>
                <a:latin typeface="Arial"/>
              </a:rPr>
              <a:t>Ре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3460680" y="1677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3278160" y="191628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556000" y="3284640"/>
            <a:ext cx="5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2347920" y="3141720"/>
            <a:ext cx="10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ый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бер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516200" y="3643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5521320" y="4292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3792600" y="587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4578840" y="364500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р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5293800" y="443700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3419640" y="5805360"/>
            <a:ext cx="13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с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73"/>
                </a:solidFill>
                <a:latin typeface="Arial"/>
              </a:rPr>
              <a:t>Давайте повтор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4" descr="о.jpg"/>
          <p:cNvPicPr/>
          <p:nvPr/>
        </p:nvPicPr>
        <p:blipFill>
          <a:blip r:embed="rId2"/>
          <a:stretch/>
        </p:blipFill>
        <p:spPr>
          <a:xfrm>
            <a:off x="1633680" y="3857760"/>
            <a:ext cx="5876640" cy="21859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Рисунок1.jpg"/>
          <p:cNvPicPr/>
          <p:nvPr/>
        </p:nvPicPr>
        <p:blipFill>
          <a:blip r:embed="rId3"/>
          <a:stretch/>
        </p:blipFill>
        <p:spPr>
          <a:xfrm>
            <a:off x="928800" y="1214280"/>
            <a:ext cx="76136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2:14:26Z</dcterms:created>
  <dc:creator>USER</dc:creator>
  <dc:description/>
  <dc:language>en-US</dc:language>
  <cp:lastModifiedBy>Сергей</cp:lastModifiedBy>
  <dcterms:modified xsi:type="dcterms:W3CDTF">2011-12-22T21:22:28Z</dcterms:modified>
  <cp:revision>20</cp:revision>
  <dc:subject/>
  <dc:title>Слайд 1</dc:title>
</cp:coreProperties>
</file>