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DAB-E37B-4F7A-A180-7666B6EC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628-423C-4765-8770-A718C794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9E19-3809-4839-A005-5F7EE60F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9A0-2727-45F1-989D-0B88AA8D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496-588E-4308-9F2F-5C4483BE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AD63-F604-411A-B85C-B627A193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82E-08F8-4D30-B69A-851A5364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779A-7E65-4476-990E-B0120043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85F-5890-461C-8766-48E31F2C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4FEA-1FC5-413B-8CCC-4F18933E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E82F-010C-4E1A-AF1F-32D4DD1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105C-23E7-4918-A168-B9738287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52CA-586A-4EBB-8E63-246220907E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-360" y="228240"/>
            <a:ext cx="89917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пределить число протонов, электронов и нейтронов в атоме аз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Что называют электрическим то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Что необходимо для создания и существования эл.тока в проводник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Какие превращения энергии происходят внутри источников то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полните таблиц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ЧАСТЬ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77,   № 998,   № 999 (В.И.Лукаши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3124080"/>
          <a:ext cx="8686800" cy="2397240"/>
        </p:xfrm>
        <a:graphic>
          <a:graphicData uri="http://schemas.openxmlformats.org/drawingml/2006/table">
            <a:tbl>
              <a:tblPr/>
              <a:tblGrid>
                <a:gridCol w="609840"/>
                <a:gridCol w="1904760"/>
                <a:gridCol w="1600200"/>
                <a:gridCol w="2743200"/>
                <a:gridCol w="1828800"/>
              </a:tblGrid>
              <a:tr h="86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источников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тройство источника то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 получения электрического т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н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альвани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м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тоэлем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кумуля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y</cp:lastModifiedBy>
  <dcterms:modified xsi:type="dcterms:W3CDTF">2012-01-12T13:06:2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