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AEA1-2DB9-40CD-83BB-3F94A7417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C7BB-FE78-4B1E-B8EB-F10FDCEB6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0E3D-9EA3-4EA5-8F37-F51A60644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3880-CE59-4084-BEA9-8A742CA50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268F-1C83-4395-A35E-AF4508459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4603-CF5F-43F5-8279-2C7273619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8894-C6F1-4E1A-BE2E-4664314EE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9359-D2A8-416F-95A4-BD76B6C2C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3434-334C-4448-9CD0-6A360AB3E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ED71-A3EE-4071-B1DA-AA4DF00B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DE0D-2702-4020-BD33-EE250987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9730-D55D-4AF7-BD76-A160EB16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E9D69-7AD1-4754-A3CF-A66F85098B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-360" y="228240"/>
            <a:ext cx="899172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ЧАСТЬ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Определить число протонов, электронов и нейтронов в атоме азо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Что называют электрическим токо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Что необходимо для создания и существования эл.тока в проводник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Какие превращения энергии происходят внутри источников то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ЧАСТЬ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полните таблиц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ЧАСТЬ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77,   № 998,   № 999 (В.И.Лукаши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3124080"/>
          <a:ext cx="8686800" cy="2397240"/>
        </p:xfrm>
        <a:graphic>
          <a:graphicData uri="http://schemas.openxmlformats.org/drawingml/2006/table">
            <a:tbl>
              <a:tblPr/>
              <a:tblGrid>
                <a:gridCol w="609840"/>
                <a:gridCol w="1904760"/>
                <a:gridCol w="1600200"/>
                <a:gridCol w="2743200"/>
                <a:gridCol w="1828800"/>
              </a:tblGrid>
              <a:tr h="86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ы источников т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тройство источника то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сс получения электрического т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н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4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альваничес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рмоэлемен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4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тоэлемен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4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кумулято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y</cp:lastModifiedBy>
  <dcterms:modified xsi:type="dcterms:W3CDTF">2012-01-12T13:06:27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