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7E8C-7BE4-4FB7-AFB1-102C03F7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F78D-C9F7-433E-AAAA-EFEA204A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6BEA-5BCD-46FA-9FE5-DBA59D72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EA23-692B-43BE-9CD5-E53F9BE7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B4E4-A4AA-460D-8EB1-D759C587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901A-428A-48F0-A948-CD340881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34C3-2746-417B-93B2-C6F23A42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B50C-9F26-45E0-8321-A8EBE64E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108E-F10E-4C8B-B786-2BF44943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3B3A-D03B-4134-BA49-572886A5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2A00-C68E-4CFC-8AB4-F9474510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D0F8-99DD-4925-893E-3001A631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EAC9-F8EF-439F-A707-BE690B7E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383F-72FC-411E-8FC2-0D912CCF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8A32-BE8D-41C9-ACDA-32A55CC0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D546-DC11-4676-A826-C7B72F04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4E53-FE66-4F26-9684-5A42516B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DECB-BEAC-44F0-B71B-B8D73C37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9C4F-05DF-4AE3-90B8-16907BBF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5C93-7E3E-4A8C-896B-C7287F65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0B7A-4714-40C3-BDDC-AB3EEF92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BD31-5439-4E23-A901-A4A7AB87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1F98-73CB-4690-8C03-4EDCE671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4045-FF91-4D62-8B38-04AB2841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6556-3229-46C2-9523-2A3E62F43BF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19FE-3FE0-40A6-9C2C-7F8AB0C24B9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 развивалась жизнь на Зем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52280"/>
            <a:ext cx="8458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бота с разноуровневыми вопросами.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Когда и где началось развитие жизни на Земле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Какие живые существа обитали в древнем океане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Что представляли собой леса каменноугольного периода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Какие вымершие пресмыкающиеся вам известны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Когда на Земле появились разнообразные цветковые растения, птицы и млекопитающие?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Что такое каменноугольный период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очему этот период называется каменноугольным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Что такое юрский период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Объясните причины вымирания динозавров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но ли утверждать, что батареи в  домах нагреваются за счет энергии Солнца? Ответ обосну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1-13T11:31:3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