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6B5C-5B7E-4F11-84CF-2B86A2D1E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BB04-3A6B-41B2-9F32-DB57BF997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DE35-A577-4532-9F30-7666C20D2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B759-C9CE-43AF-9A0A-08F189644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00B7C-59C6-45DD-A09E-489F682DC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D8475-7D42-438B-9DA0-CFE3BDC34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CCEBF-ADA2-4D29-81EF-18351854D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8B15A-9990-417B-A2FD-B4C125B4C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A009D-7161-45FB-8CA2-EBAAF623A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BF0B9-D64C-4593-9F21-43F6D87DE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B3F26-0B2B-4D75-A6FE-FE9FB45E8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BE97-2CBB-4331-91FB-73592D4CA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221F8-4651-490A-9326-CFD977E93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443A0-E3D7-45D5-BF42-36265C834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831C0-5B37-4F1A-9BB2-12C1C076C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10E31-D5ED-4287-A236-F0B5D3C3F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26E10-4D23-45F7-A5B8-AF2854F8C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176D-B7A7-4407-8BD4-C6B4FB7E5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D1A8-37D6-44D5-97C2-B0C897C06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CA00-3863-4C04-ADB6-67A8529B2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CD25-DC61-4308-930B-9C2631374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5F57-F5A4-4591-9E71-217033D5C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8750-CFC5-4C02-9D83-93956A28C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5505-A256-46AD-AB0C-A55DBCE7B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BA4AE-555C-419A-BF60-3C93470948A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19F23-54CB-4E05-AC44-6E1FCC69B6D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ак развивалась жизнь на Земл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4582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152280"/>
            <a:ext cx="84582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Работа с разноуровневыми вопросами.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А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Когда и где началось развитие жизни на Земле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Какие живые существа обитали в древнем океане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Что представляли собой леса каменноугольного периода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Какие вымершие пресмыкающиеся вам известны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Когда на Земле появились разнообразные цветковые растения, птицы и млекопитающие?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Что такое каменноугольный период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Почему этот период называется каменноугольным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Что такое юрский период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Объясните причины вымирания динозавров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жно ли утверждать, что батареи в  домах нагреваются за счет энергии Солнца? Ответ обосну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1-13T11:31:38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