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AE0-FC39-4BBC-B604-AB236FD3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73B-E9F8-4495-AC6A-FB17387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A28-110A-4FA2-BB43-2C416B4A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9D3-C1D0-43EA-AE99-0A534CD8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2405-44B4-406F-A199-D71DC7A3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CE53-5862-4CD2-B50F-2CD288C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976-6E27-4C79-A018-F5B5C6E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C389-98D7-4065-BB12-8A322CD4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175F-62E4-4788-A0DD-B7A8C94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25C3-E3A7-4B80-BEAF-E8C52A8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EDE-C6FB-4361-9E11-4C5065F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E94-A61E-44BA-9039-BF3BB0D9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C32-2872-49AF-9F26-583EDDD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608-F323-4843-AAB5-00C4E77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827-9111-42A9-A589-CBFB298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791-DD55-4449-AAFC-3447BDF6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1717-F973-4AB8-A370-90D048F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8DD-9F0F-44A7-B9F4-B7B61C6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208-539F-44AB-9741-D26B1C6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8A9-727B-406F-A25F-B0426F6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46B-0D7A-4F32-83D4-B58F4DD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A58-7D64-4424-9573-484EA77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2D8-AC4D-4F5F-82DD-7192490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91F-FBF7-4767-BBAC-96D3DD3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6B2-80D7-4453-AB2E-796F729D93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646-B49D-4EBA-8F2C-5B85C93285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разноуровневыми вопросами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то такое каменноугольны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чему этот период называется каменноугольным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такое юрски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бъясните причины вымирания динозавров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11:31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