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259-7F80-4E7B-AFC8-F77F578A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BD7-324D-4B7F-B426-403C2DF8A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7E99-6D3A-41A2-A419-4EC9DCA29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60E-BDDB-4079-9564-EBCB0788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3135-EAF1-4852-A722-A6DD3275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AC1E-1402-48AC-A327-7AB2D3B1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3376-D19D-482A-9DF3-DE85401C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9844-5D02-486A-AC29-56EC0E446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50DF-9623-476E-8EDB-EAC887F3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1954-5FA7-495A-869C-B5DA3572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F63CF-4BEF-42A6-8AA7-F3A6525D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675-2E11-4091-AD79-C6D450A3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DCAB7-8BFE-4373-ACD3-BBDA663C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99B0-6E88-48B2-99DA-1C1EDE2A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A6F31-E341-434C-A42A-C3E3768B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67F8-9D6D-4F56-9104-1C04B3CE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32A0-F2F0-490D-A69C-3A3E929AF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C35-4890-4863-B8C0-074D9602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81E-336E-411A-8C5D-552F86A56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F851-9D14-4F91-9ADC-A9F1C3F3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6D7C-83B3-48EC-8FE2-D8CC5BE0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44BA-0CEA-49C0-A37E-3DBF2AC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937-CAA4-488B-A734-06D6904C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09A9-E1B7-4279-8109-DFB55125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78E27-72A0-49AA-B505-9374879A95D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445D-603E-4E86-971E-BD68160654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 развивалась жизнь на Земл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84582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br>
              <a:rPr sz="2100"/>
            </a:b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152280"/>
            <a:ext cx="84582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бота с разноуровневыми вопросами.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Когда и где началось развитие жизни на Земл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Какие живые существа обитали в древнем океане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Что представляли собой леса каменноугольного периода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Какие вымершие пресмыкающиеся вам известны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Когда на Земле появились разнообразные цветковые растения, птицы и млекопитающие?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Что такое каменноугольный период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очему этот период называется каменноугольным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Что такое юрский период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Объясните причины вымирания динозавров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С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ожно ли утверждать, что батареи в  домах нагреваются за счет энергии Солнца? Ответ обосн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1-13T11:31:3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