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6BE-2B88-4163-BAFF-2349E63F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F2F-4BFB-49F4-96BC-E50A5796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856-F0F2-402A-B6AC-474F70E1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73E-3160-44BB-AE36-04D4A8D3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8EC-18D9-446C-836C-0E3D49CE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E6E-2F27-4303-9DBB-DADD1F99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CA1-5AE6-4552-A0DE-4254CE99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014-1EA0-41AC-8B16-ED2928B5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14D-4C15-4B66-B626-106F4D97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5DE-C42A-4756-A082-5A07F823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52B-8823-4E12-8571-666C05F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FC5-A628-46F1-8F89-3F7A16E2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C411-D38C-423B-9C75-4D43CBF6A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 лисы Алисы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олотые монеты, а у кота Базилио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олотая монета.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колько всего золотых моне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 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2952720" cy="18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484360" y="3645000"/>
            <a:ext cx="40006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 это известные числа или данные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8880" y="414972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Сколько всего золотых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6160" y="414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88000" y="4292640"/>
            <a:ext cx="2038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 это вопрос задачи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2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4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920" y="4797360"/>
            <a:ext cx="2232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щее число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4520" y="4724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золотых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35640" y="4869000"/>
            <a:ext cx="1143000" cy="14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известно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5300640"/>
            <a:ext cx="5315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 помощью данных чисел можно найти неизвестное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27640" y="5300640"/>
            <a:ext cx="1971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решить задачу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Из чего состоит зада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1187280" y="1844640"/>
            <a:ext cx="119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Услов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2565360"/>
            <a:ext cx="97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Вопрос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58920" y="335772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хема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87280" y="4149720"/>
            <a:ext cx="1505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Выражен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58920" y="4869000"/>
            <a:ext cx="1123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Решен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5589720"/>
            <a:ext cx="8287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Ответ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48000" y="1916280"/>
            <a:ext cx="1333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 лисы Алисы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64" name="Рисунок 0" descr="1783italianstatevenicegoldzecchinoobv400.jpg"/>
          <p:cNvPicPr/>
          <p:nvPr/>
        </p:nvPicPr>
        <p:blipFill>
          <a:blip r:embed="rId1"/>
          <a:stretch/>
        </p:blipFill>
        <p:spPr>
          <a:xfrm>
            <a:off x="4716360" y="1916280"/>
            <a:ext cx="249480" cy="234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0" descr="1783italianstatevenicegoldzecchinoobv400.jpg"/>
          <p:cNvPicPr/>
          <p:nvPr/>
        </p:nvPicPr>
        <p:blipFill>
          <a:blip r:embed="rId2"/>
          <a:stretch/>
        </p:blipFill>
        <p:spPr>
          <a:xfrm>
            <a:off x="5003640" y="1916280"/>
            <a:ext cx="249480" cy="234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0" descr="1783italianstatevenicegoldzecchinoobv400.jpg"/>
          <p:cNvPicPr/>
          <p:nvPr/>
        </p:nvPicPr>
        <p:blipFill>
          <a:blip r:embed="rId3"/>
          <a:stretch/>
        </p:blipFill>
        <p:spPr>
          <a:xfrm>
            <a:off x="5292720" y="1916280"/>
            <a:ext cx="249120" cy="23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651640" y="1916280"/>
            <a:ext cx="178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 а у кота Базилио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68" name="Рисунок 0" descr="1783italianstatevenicegoldzecchinoobv400.jpg"/>
          <p:cNvPicPr/>
          <p:nvPr/>
        </p:nvPicPr>
        <p:blipFill>
          <a:blip r:embed="rId4"/>
          <a:stretch/>
        </p:blipFill>
        <p:spPr>
          <a:xfrm>
            <a:off x="7524720" y="1916280"/>
            <a:ext cx="249120" cy="23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276720" y="2565360"/>
            <a:ext cx="5256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колько всего золотых монет у лисы Алисы и кота Базилио?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56000" y="407664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3 + 1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67280" y="4941720"/>
            <a:ext cx="1190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+ 1 = 4 (м.)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55897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золотые мо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012000" y="3573360"/>
            <a:ext cx="2592360" cy="1809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564000" y="3141720"/>
            <a:ext cx="16635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1:02:28Z</dcterms:created>
  <dc:creator>Sergey</dc:creator>
  <dc:description/>
  <dc:language>en-US</dc:language>
  <cp:lastModifiedBy>Sergey</cp:lastModifiedBy>
  <dcterms:modified xsi:type="dcterms:W3CDTF">2012-01-16T18:08:12Z</dcterms:modified>
  <cp:revision>4</cp:revision>
  <dc:subject/>
  <dc:title>У</dc:title>
</cp:coreProperties>
</file>