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762-EC64-4F59-B46E-CED6D365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BAE-581D-4236-AFF7-5A39FD1F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9F4-0017-4070-903A-1F9180EB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A33-5605-4F5D-9C8B-77BFA2AE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CE9-6A57-48FB-B9E3-6BE3CD26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DFC-3DE6-43C5-AE8A-430704B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B06-59B2-4390-8113-83AB00EF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420-8F59-4974-B279-94E6BE6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2CC-D542-4EAD-B247-F39DC0F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3C4-2A98-498F-8575-25BFBA8B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5FA-BD32-4458-9B9C-7D157F6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FF8-28CB-4382-A69B-FED4DC8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673D-093B-4669-A62A-311B3E1D3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лисы Алисы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ые монеты, а у кота Базилио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ая монета.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колько всего золотых моне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295272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84360" y="3645000"/>
            <a:ext cx="40006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известные числа или данные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41497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Сколько всего 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6160" y="414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88000" y="4292640"/>
            <a:ext cx="2038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вопрос задачи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4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4797360"/>
            <a:ext cx="2232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ее число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4520" y="4724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35640" y="4869000"/>
            <a:ext cx="11430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известно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5300640"/>
            <a:ext cx="5315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помощью данных чисел можно найти неизвестно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27640" y="5300640"/>
            <a:ext cx="1971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решить задач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з чего состоит зада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1187280" y="1844640"/>
            <a:ext cx="119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слов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256536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опрос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8920" y="335772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хема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87280" y="4149720"/>
            <a:ext cx="1505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ыраж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4869000"/>
            <a:ext cx="112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Реш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5589720"/>
            <a:ext cx="828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Ответ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1916280"/>
            <a:ext cx="1333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 лисы Алисы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4" name="Рисунок 0" descr="1783italianstatevenicegoldzecchinoobv400.jpg"/>
          <p:cNvPicPr/>
          <p:nvPr/>
        </p:nvPicPr>
        <p:blipFill>
          <a:blip r:embed="rId1"/>
          <a:stretch/>
        </p:blipFill>
        <p:spPr>
          <a:xfrm>
            <a:off x="471636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0" descr="1783italianstatevenicegoldzecchinoobv400.jpg"/>
          <p:cNvPicPr/>
          <p:nvPr/>
        </p:nvPicPr>
        <p:blipFill>
          <a:blip r:embed="rId2"/>
          <a:stretch/>
        </p:blipFill>
        <p:spPr>
          <a:xfrm>
            <a:off x="500364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0" descr="1783italianstatevenicegoldzecchinoobv400.jpg"/>
          <p:cNvPicPr/>
          <p:nvPr/>
        </p:nvPicPr>
        <p:blipFill>
          <a:blip r:embed="rId3"/>
          <a:stretch/>
        </p:blipFill>
        <p:spPr>
          <a:xfrm>
            <a:off x="5292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651640" y="1916280"/>
            <a:ext cx="178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 а у кота Базили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8" name="Рисунок 0" descr="1783italianstatevenicegoldzecchinoobv400.jpg"/>
          <p:cNvPicPr/>
          <p:nvPr/>
        </p:nvPicPr>
        <p:blipFill>
          <a:blip r:embed="rId4"/>
          <a:stretch/>
        </p:blipFill>
        <p:spPr>
          <a:xfrm>
            <a:off x="7524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2565360"/>
            <a:ext cx="5256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лько всего золотых монет у лисы Алисы и кота Базили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40766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 + 1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67280" y="4941720"/>
            <a:ext cx="1190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1 = 4 (м.)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55897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золотые мо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12000" y="3573360"/>
            <a:ext cx="2592360" cy="1809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64000" y="3141720"/>
            <a:ext cx="16635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1:02:28Z</dcterms:created>
  <dc:creator>Sergey</dc:creator>
  <dc:description/>
  <dc:language>en-US</dc:language>
  <cp:lastModifiedBy>Sergey</cp:lastModifiedBy>
  <dcterms:modified xsi:type="dcterms:W3CDTF">2012-01-16T18:08:12Z</dcterms:modified>
  <cp:revision>4</cp:revision>
  <dc:subject/>
  <dc:title>У</dc:title>
</cp:coreProperties>
</file>