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739-8417-41B3-B033-CD21D1F8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0C8-0418-456D-82B1-AC58205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2F9-066F-437F-B5B1-62552A67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1D6-7182-46F1-BF08-9AD748AA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60D-0A2F-4A52-9005-B268732D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C0E-3AF9-44A5-AC88-561864D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627-AC73-44B9-83EB-1FA9452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40E-EEB9-4B63-98D8-D0D061E7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407-13BE-4556-8836-034A51BB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2C9-5642-4B5B-8C86-537D58B2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A78-621E-4DCB-9B13-27E8EA8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23D-1EC3-464B-A4DF-62142D6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65E5-2A6E-4FDD-BD55-888B9F9E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лисы Алисы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ые монеты, а у кота Базилио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ая монета.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колько всего золотых моне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95272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84360" y="3645000"/>
            <a:ext cx="40006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известные числа или данные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41497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Сколько всего 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6160" y="414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8000" y="4292640"/>
            <a:ext cx="2038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вопрос задачи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4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4797360"/>
            <a:ext cx="2232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ее числ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4724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4869000"/>
            <a:ext cx="11430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известно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5300640"/>
            <a:ext cx="5315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помощью данных чисел можно найти неизвест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27640" y="5300640"/>
            <a:ext cx="1971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решить задач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з чего состоит 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1187280" y="1844640"/>
            <a:ext cx="119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слов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256536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8920" y="335772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хема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87280" y="4149720"/>
            <a:ext cx="1505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ыраж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4869000"/>
            <a:ext cx="112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Реш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5589720"/>
            <a:ext cx="828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Ответ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1916280"/>
            <a:ext cx="1333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 лисы Алисы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4" name="Рисунок 0" descr="1783italianstatevenicegoldzecchinoobv400.jpg"/>
          <p:cNvPicPr/>
          <p:nvPr/>
        </p:nvPicPr>
        <p:blipFill>
          <a:blip r:embed="rId1"/>
          <a:stretch/>
        </p:blipFill>
        <p:spPr>
          <a:xfrm>
            <a:off x="471636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0" descr="1783italianstatevenicegoldzecchinoobv400.jpg"/>
          <p:cNvPicPr/>
          <p:nvPr/>
        </p:nvPicPr>
        <p:blipFill>
          <a:blip r:embed="rId2"/>
          <a:stretch/>
        </p:blipFill>
        <p:spPr>
          <a:xfrm>
            <a:off x="500364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0" descr="1783italianstatevenicegoldzecchinoobv400.jpg"/>
          <p:cNvPicPr/>
          <p:nvPr/>
        </p:nvPicPr>
        <p:blipFill>
          <a:blip r:embed="rId3"/>
          <a:stretch/>
        </p:blipFill>
        <p:spPr>
          <a:xfrm>
            <a:off x="5292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651640" y="1916280"/>
            <a:ext cx="178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 а у кота Базили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8" name="Рисунок 0" descr="1783italianstatevenicegoldzecchinoobv400.jpg"/>
          <p:cNvPicPr/>
          <p:nvPr/>
        </p:nvPicPr>
        <p:blipFill>
          <a:blip r:embed="rId4"/>
          <a:stretch/>
        </p:blipFill>
        <p:spPr>
          <a:xfrm>
            <a:off x="7524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2565360"/>
            <a:ext cx="525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лько всего золотых монет у лисы Алисы и кота Базили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40766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+ 1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7280" y="4941720"/>
            <a:ext cx="1190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1 = 4 (м.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5589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золотые мо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357336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3141720"/>
            <a:ext cx="1663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02:28Z</dcterms:created>
  <dc:creator>Sergey</dc:creator>
  <dc:description/>
  <dc:language>en-US</dc:language>
  <cp:lastModifiedBy>Sergey</cp:lastModifiedBy>
  <dcterms:modified xsi:type="dcterms:W3CDTF">2012-01-16T18:08:12Z</dcterms:modified>
  <cp:revision>4</cp:revision>
  <dc:subject/>
  <dc:title>У</dc:title>
</cp:coreProperties>
</file>