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gif" ContentType="image/gif"/>
  <Override PartName="/ppt/media/image56.gif" ContentType="image/gif"/>
  <Override PartName="/ppt/media/image4.wmf" ContentType="image/x-wmf"/>
  <Override PartName="/ppt/media/image5.wmf" ContentType="image/x-wmf"/>
  <Override PartName="/ppt/media/image9.gif" ContentType="image/gif"/>
  <Override PartName="/ppt/media/image37.gif" ContentType="image/gif"/>
  <Override PartName="/ppt/media/image7.gif" ContentType="image/gif"/>
  <Override PartName="/ppt/media/image2.jpeg" ContentType="image/jpeg"/>
  <Override PartName="/ppt/media/image57.png" ContentType="image/png"/>
  <Override PartName="/ppt/media/image38.gif" ContentType="image/gif"/>
  <Override PartName="/ppt/media/image8.gif" ContentType="image/gif"/>
  <Override PartName="/ppt/media/image14.gif" ContentType="image/gif"/>
  <Override PartName="/ppt/media/image15.gif" ContentType="image/gif"/>
  <Override PartName="/ppt/media/image1.jpeg" ContentType="image/jpeg"/>
  <Override PartName="/ppt/media/image21.png" ContentType="image/png"/>
  <Override PartName="/ppt/media/image3.wmf" ContentType="image/x-wmf"/>
  <Override PartName="/ppt/media/image58.png" ContentType="image/png"/>
  <Override PartName="/ppt/media/image16.gif" ContentType="image/gif"/>
  <Override PartName="/ppt/media/image17.gif" ContentType="image/gif"/>
  <Override PartName="/ppt/media/image23.png" ContentType="image/png"/>
  <Override PartName="/ppt/media/image55.jpeg" ContentType="image/jpeg"/>
  <Override PartName="/ppt/media/image35.gif" ContentType="image/gif"/>
  <Override PartName="/ppt/media/image34.gif" ContentType="image/gif"/>
  <Override PartName="/ppt/media/image27.png" ContentType="image/png"/>
  <Override PartName="/ppt/media/image24.gif" ContentType="image/gif"/>
  <Override PartName="/ppt/media/image28.png" ContentType="image/png"/>
  <Override PartName="/ppt/media/image25.gif" ContentType="image/gif"/>
  <Override PartName="/ppt/media/image61.jpeg" ContentType="image/jpeg"/>
  <Override PartName="/ppt/media/image40.png" ContentType="image/png"/>
  <Override PartName="/ppt/media/image20.wmf" ContentType="image/x-wmf"/>
  <Override PartName="/ppt/media/image60.gif" ContentType="image/gif"/>
  <Override PartName="/ppt/media/image62.gif" ContentType="image/gif"/>
  <Override PartName="/ppt/media/image22.wmf" ContentType="image/x-wmf"/>
  <Override PartName="/ppt/media/image19.jpeg" ContentType="image/jpeg"/>
  <Override PartName="/ppt/media/image29.gif" ContentType="image/gif"/>
  <Override PartName="/ppt/media/image18.gif" ContentType="image/gif"/>
  <Override PartName="/ppt/media/image6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13.gif" ContentType="image/gif"/>
  <Override PartName="/ppt/media/image52.jpeg" ContentType="image/jpeg"/>
  <Override PartName="/ppt/media/image10.gif" ContentType="image/gif"/>
  <Override PartName="/ppt/media/image47.gif" ContentType="image/gif"/>
  <Override PartName="/ppt/media/image31.gif" ContentType="image/gif"/>
  <Override PartName="/ppt/media/image32.png" ContentType="image/png"/>
  <Override PartName="/ppt/media/image30.gif" ContentType="image/gif"/>
  <Override PartName="/ppt/media/image33.png" ContentType="image/png"/>
  <Override PartName="/ppt/media/image36.gif" ContentType="image/gif"/>
  <Override PartName="/ppt/media/image39.png" ContentType="image/png"/>
  <Override PartName="/ppt/media/image46.gif" ContentType="image/gif"/>
  <Override PartName="/ppt/media/image41.png" ContentType="image/png"/>
  <Override PartName="/ppt/media/image43.gif" ContentType="image/gif"/>
  <Override PartName="/ppt/media/image44.gif" ContentType="image/gif"/>
  <Override PartName="/ppt/media/image42.gif" ContentType="image/gif"/>
  <Override PartName="/ppt/media/image45.png" ContentType="image/png"/>
  <Override PartName="/ppt/media/image48.png" ContentType="image/png"/>
  <Override PartName="/ppt/media/image26.gif" ContentType="image/gif"/>
  <Override PartName="/ppt/media/image51.wmf" ContentType="image/x-wmf"/>
  <Override PartName="/ppt/media/image50.gif" ContentType="image/gif"/>
  <Override PartName="/ppt/media/image53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7B58-A3B7-46C1-9F66-7D43042F3A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035F-A54B-4FC8-A44F-265CCDB5ED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9EF-F6C8-4558-8BE6-299C0503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628-51E3-4DC4-A191-E70DAFB2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E72-CB0F-47F8-A942-2D4F3F80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E12-8C9A-47E2-AF96-2B44479C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074-9987-4B0F-9AB8-E815ECCE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099-D578-4FD5-A362-DAEAC7D8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4F1-D93B-46F9-8859-2C1740F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B2F-A08D-47F0-9012-EC36CF97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B32-D17B-447E-AA31-CAEFFE67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ECE-A72C-4E8D-8832-704FB5E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284-4AF2-4F7D-ABEC-C549D9E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BC7-290D-4CED-BAB7-B712D92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A275-FC87-4E81-B7E5-58D19DC60D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B2E-43DF-4F04-83B4-ECBB12A40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image" Target="../media/image6.gif"/><Relationship Id="rId8" Type="http://schemas.openxmlformats.org/officeDocument/2006/relationships/image" Target="../media/image22.wmf"/><Relationship Id="rId9" Type="http://schemas.openxmlformats.org/officeDocument/2006/relationships/image" Target="../media/image20.wmf"/><Relationship Id="rId10" Type="http://schemas.openxmlformats.org/officeDocument/2006/relationships/image" Target="../media/image24.gif"/><Relationship Id="rId11" Type="http://schemas.openxmlformats.org/officeDocument/2006/relationships/image" Target="../media/image16.gif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20.wmf"/><Relationship Id="rId4" Type="http://schemas.openxmlformats.org/officeDocument/2006/relationships/image" Target="../media/image33.pn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9.gif"/><Relationship Id="rId8" Type="http://schemas.openxmlformats.org/officeDocument/2006/relationships/image" Target="../media/image56.gif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22.wmf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4.xml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image" Target="../media/image40.png"/><Relationship Id="rId10" Type="http://schemas.openxmlformats.org/officeDocument/2006/relationships/image" Target="../media/image15.gif"/><Relationship Id="rId11" Type="http://schemas.openxmlformats.org/officeDocument/2006/relationships/image" Target="../media/image59.gif"/><Relationship Id="rId12" Type="http://schemas.openxmlformats.org/officeDocument/2006/relationships/image" Target="../media/image60.gif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7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38.gif"/><Relationship Id="rId12" Type="http://schemas.openxmlformats.org/officeDocument/2006/relationships/slide" Target="slide18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9.gif"/><Relationship Id="rId5" Type="http://schemas.openxmlformats.org/officeDocument/2006/relationships/image" Target="../media/image61.jpeg"/><Relationship Id="rId6" Type="http://schemas.openxmlformats.org/officeDocument/2006/relationships/image" Target="../media/image37.gif"/><Relationship Id="rId7" Type="http://schemas.openxmlformats.org/officeDocument/2006/relationships/image" Target="../media/image51.wmf"/><Relationship Id="rId8" Type="http://schemas.openxmlformats.org/officeDocument/2006/relationships/image" Target="../media/image8.gif"/><Relationship Id="rId9" Type="http://schemas.openxmlformats.org/officeDocument/2006/relationships/image" Target="../media/image35.gif"/><Relationship Id="rId10" Type="http://schemas.openxmlformats.org/officeDocument/2006/relationships/image" Target="../media/image7.gif"/><Relationship Id="rId11" Type="http://schemas.openxmlformats.org/officeDocument/2006/relationships/image" Target="../media/image32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image" Target="../media/image62.gif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2.gif"/><Relationship Id="rId7" Type="http://schemas.openxmlformats.org/officeDocument/2006/relationships/image" Target="../media/image62.gif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-yaz.3dn.ru/load/47-1-0-38" TargetMode="External"/><Relationship Id="rId3" Type="http://schemas.openxmlformats.org/officeDocument/2006/relationships/hyperlink" Target="http://in-yaz.3dn.ru/load/47-1-0-38" TargetMode="External"/><Relationship Id="rId4" Type="http://schemas.openxmlformats.org/officeDocument/2006/relationships/hyperlink" Target="http://in-yaz.3dn.ru/load/47-1-0-38" TargetMode="External"/><Relationship Id="rId5" Type="http://schemas.openxmlformats.org/officeDocument/2006/relationships/hyperlink" Target="http://in-yaz.3dn.ru/load/47-1-0-38" TargetMode="External"/><Relationship Id="rId6" Type="http://schemas.openxmlformats.org/officeDocument/2006/relationships/hyperlink" Target="http://viki.rdf.ru/item/1052/" TargetMode="External"/><Relationship Id="rId7" Type="http://schemas.openxmlformats.org/officeDocument/2006/relationships/hyperlink" Target="http://viki.rdf.ru/item/1052/" TargetMode="External"/><Relationship Id="rId8" Type="http://schemas.openxmlformats.org/officeDocument/2006/relationships/hyperlink" Target="http://www.freeclipartnow.com/d/20309-2/beef-noodle.jpg" TargetMode="External"/><Relationship Id="rId9" Type="http://schemas.openxmlformats.org/officeDocument/2006/relationships/hyperlink" Target="http://www.freeclipartnow.com/d/20309-2/beef-noodle.jpg" TargetMode="External"/><Relationship Id="rId10" Type="http://schemas.openxmlformats.org/officeDocument/2006/relationships/hyperlink" Target="http://www.freeclipartnow.com/d/20309-2/beef-noodle.jpg" TargetMode="External"/><Relationship Id="rId11" Type="http://schemas.openxmlformats.org/officeDocument/2006/relationships/hyperlink" Target="http://www.freeclipartnow.com/d/20309-2/beef-noodle.jpg" TargetMode="External"/><Relationship Id="rId12" Type="http://schemas.openxmlformats.org/officeDocument/2006/relationships/hyperlink" Target="http://www.freeclipartnow.com/d/20309-2/beef-noodle.jpg" TargetMode="External"/><Relationship Id="rId13" Type="http://schemas.openxmlformats.org/officeDocument/2006/relationships/hyperlink" Target="http://www.freeclipartnow.com/d/20054-2/baked-ham-w-cloves.jpg" TargetMode="External"/><Relationship Id="rId14" Type="http://schemas.openxmlformats.org/officeDocument/2006/relationships/hyperlink" Target="http://www.freeclipartnow.com/d/20054-2/baked-ham-w-cloves.jpg" TargetMode="External"/><Relationship Id="rId15" Type="http://schemas.openxmlformats.org/officeDocument/2006/relationships/hyperlink" Target="http://www.freeclipartnow.com/d/20054-2/baked-ham-w-cloves.jpg" TargetMode="External"/><Relationship Id="rId16" Type="http://schemas.openxmlformats.org/officeDocument/2006/relationships/hyperlink" Target="http://www.freeclipartnow.com/d/20054-2/baked-ham-w-cloves.jpg" TargetMode="External"/><Relationship Id="rId17" Type="http://schemas.openxmlformats.org/officeDocument/2006/relationships/hyperlink" Target="http://www.freeclipartnow.com/d/20054-2/baked-ham-w-cloves.jpg" TargetMode="External"/><Relationship Id="rId18" Type="http://schemas.openxmlformats.org/officeDocument/2006/relationships/hyperlink" Target="http://www.freeclipartnow.com/d/18695-3/bread-picture.jpg" TargetMode="External"/><Relationship Id="rId19" Type="http://schemas.openxmlformats.org/officeDocument/2006/relationships/hyperlink" Target="http://www.freeclipartnow.com/d/20870-2/potato-1.jpg" TargetMode="External"/><Relationship Id="rId20" Type="http://schemas.openxmlformats.org/officeDocument/2006/relationships/hyperlink" Target="http://www.freeclipartnow.com/d/20631-2/pickling-cucumbers.jpg" TargetMode="External"/><Relationship Id="rId21" Type="http://schemas.openxmlformats.org/officeDocument/2006/relationships/hyperlink" Target="http://www.freeclipartnow.com/d/19954-2/tomato.jpg" TargetMode="External"/><Relationship Id="rId22" Type="http://schemas.openxmlformats.org/officeDocument/2006/relationships/hyperlink" Target="http://www.freeclipartnow.com/d/19944-2/tomato-4.jpg" TargetMode="External"/><Relationship Id="rId23" Type="http://schemas.openxmlformats.org/officeDocument/2006/relationships/hyperlink" Target="http://www.freeclipartnow.com/d/19958-2/tomatoes-green.jpg" TargetMode="External"/><Relationship Id="rId24" Type="http://schemas.openxmlformats.org/officeDocument/2006/relationships/hyperlink" Target="http://www.freeclipartnow.com/d/19283-2/apple-7.jpg" TargetMode="External"/><Relationship Id="rId25" Type="http://schemas.openxmlformats.org/officeDocument/2006/relationships/image" Target="../media/image62.gif"/><Relationship Id="rId26" Type="http://schemas.openxmlformats.org/officeDocument/2006/relationships/image" Target="../media/image62.gif"/><Relationship Id="rId27" Type="http://schemas.openxmlformats.org/officeDocument/2006/relationships/image" Target="../media/image62.gif"/><Relationship Id="rId28" Type="http://schemas.openxmlformats.org/officeDocument/2006/relationships/image" Target="../media/image62.gif"/><Relationship Id="rId29" Type="http://schemas.openxmlformats.org/officeDocument/2006/relationships/slide" Target="slide1.xml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image" Target="../media/image24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png"/><Relationship Id="rId8" Type="http://schemas.openxmlformats.org/officeDocument/2006/relationships/image" Target="../media/image23.png"/><Relationship Id="rId9" Type="http://schemas.openxmlformats.org/officeDocument/2006/relationships/image" Target="../media/image28.png"/><Relationship Id="rId10" Type="http://schemas.openxmlformats.org/officeDocument/2006/relationships/image" Target="../media/image29.gif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slide" Target="slide5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9.gif"/><Relationship Id="rId12" Type="http://schemas.openxmlformats.org/officeDocument/2006/relationships/slide" Target="slide6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7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38.gif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8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gif"/><Relationship Id="rId5" Type="http://schemas.openxmlformats.org/officeDocument/2006/relationships/image" Target="../media/image45.png"/><Relationship Id="rId6" Type="http://schemas.openxmlformats.org/officeDocument/2006/relationships/image" Target="../media/image46.gif"/><Relationship Id="rId7" Type="http://schemas.openxmlformats.org/officeDocument/2006/relationships/image" Target="../media/image47.gif"/><Relationship Id="rId8" Type="http://schemas.openxmlformats.org/officeDocument/2006/relationships/image" Target="../media/image4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slide" Target="slide9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wmf"/><Relationship Id="rId5" Type="http://schemas.openxmlformats.org/officeDocument/2006/relationships/image" Target="../media/image52.jpeg"/><Relationship Id="rId6" Type="http://schemas.openxmlformats.org/officeDocument/2006/relationships/image" Target="../media/image53.wmf"/><Relationship Id="rId7" Type="http://schemas.openxmlformats.org/officeDocument/2006/relationships/image" Target="../media/image54.png"/><Relationship Id="rId8" Type="http://schemas.openxmlformats.org/officeDocument/2006/relationships/image" Target="../media/image35.gif"/><Relationship Id="rId9" Type="http://schemas.openxmlformats.org/officeDocument/2006/relationships/image" Target="../media/image9.gif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843280" cy="364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7334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268360" y="2347920"/>
            <a:ext cx="2733840" cy="23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45080" y="206064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259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72360" y="4292640"/>
            <a:ext cx="320328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250920" y="50594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7812000" y="-387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4581360"/>
            <a:ext cx="28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l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519280" cy="182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swee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940360" y="260280"/>
            <a:ext cx="2664000" cy="2106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468360" y="404640"/>
            <a:ext cx="2087640" cy="1667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276720" y="404640"/>
            <a:ext cx="1817640" cy="174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24000" y="2421000"/>
            <a:ext cx="1508040" cy="1763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7020000" y="2997360"/>
            <a:ext cx="187164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9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500"/>
                            </p:stCondLst>
                            <p:childTnLst>
                              <p:par>
                                <p:cTn id="9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but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4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4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45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4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14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2" dur="1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sug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2843280" y="4724280"/>
            <a:ext cx="2663640" cy="16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867280" y="4653000"/>
            <a:ext cx="2752920" cy="158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7308720" y="2060640"/>
            <a:ext cx="1579680" cy="231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0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5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28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1" dur="1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AF9B-9724-4BE9-B46F-28C221C19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2340000" y="2852640"/>
            <a:ext cx="453708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h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83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0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9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4700-50C0-49C3-96BC-9FC94A1BE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m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2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51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0AC8-C4B3-42C8-9444-1F7DA69F9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2195640" y="3112920"/>
            <a:ext cx="4752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egg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6443640" y="404640"/>
            <a:ext cx="1724040" cy="159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308720" y="155736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11280" y="2997360"/>
            <a:ext cx="1171440" cy="2016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877080" y="4508640"/>
            <a:ext cx="1851120" cy="131112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5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65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65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6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67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68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3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sandw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1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802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5" dur="1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8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8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1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832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83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4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85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50920" y="2852640"/>
            <a:ext cx="460872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frui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4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4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7" dur="4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6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4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4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94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95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5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5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964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970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976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98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98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pot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164360" y="2349360"/>
            <a:ext cx="13921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684360" y="260280"/>
            <a:ext cx="1749240" cy="2089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276720" y="33336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6443640" y="47628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0"/>
          <a:stretch/>
        </p:blipFill>
        <p:spPr>
          <a:xfrm>
            <a:off x="395280" y="479736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2843280" y="4941720"/>
            <a:ext cx="2520720" cy="15004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9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60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3" dur="1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0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096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0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10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1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050920" y="2852640"/>
            <a:ext cx="4681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47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fill="hold">
                            <p:stCondLst>
                              <p:cond delay="3999"/>
                            </p:stCondLst>
                            <p:childTnLst>
                              <p:par>
                                <p:cTn id="2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27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3" dur="1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5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289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2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6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310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3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317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0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324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7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B98-1C57-4C2F-B9A7-75EAD9BF4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35280" y="260280"/>
            <a:ext cx="22021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2562120" cy="1328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95640" cy="12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547640" y="2602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308720" y="1484280"/>
            <a:ext cx="1441440" cy="18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2016360" cy="13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24000" y="2852640"/>
            <a:ext cx="1412640" cy="208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6659640" y="4365720"/>
            <a:ext cx="2031840" cy="1706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195640" y="3112920"/>
            <a:ext cx="525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saus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11280" y="148428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резентацию составил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азур Роза Сайпутдиновна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учитель английского язы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МОУ СОШ №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п. Сибирце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00"/>
                </a:solidFill>
                <a:latin typeface="Comic Sans MS"/>
              </a:rPr>
              <a:t>Черниговского района Приморского кр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 rot="20306400">
            <a:off x="7740360" y="764640"/>
            <a:ext cx="1579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0306400">
            <a:off x="7884720" y="234936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rot="7699200">
            <a:off x="37800" y="-280800"/>
            <a:ext cx="2419560" cy="249552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0" dur="indefinite" restart="never" nodeType="tmRoot">
          <p:childTnLst>
            <p:seq>
              <p:cTn id="2331" dur="indefinite" nodeType="mainSeq">
                <p:childTnLst>
                  <p:par>
                    <p:cTn id="2332" fill="hold">
                      <p:stCondLst>
                        <p:cond delay="0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840"/>
                            </p:stCondLst>
                            <p:childTnLst>
                              <p:par>
                                <p:cTn id="2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800"/>
                            </p:stCondLst>
                            <p:childTnLst>
                              <p:par>
                                <p:cTn id="2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0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760"/>
                            </p:stCondLst>
                            <p:childTnLst>
                              <p:par>
                                <p:cTn id="2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4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5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6" dur="8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3120"/>
                            </p:stCondLst>
                            <p:childTnLst>
                              <p:par>
                                <p:cTn id="2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0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1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2" dur="8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600"/>
                            </p:stCondLst>
                            <p:childTnLst>
                              <p:par>
                                <p:cTn id="2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6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8" dur="8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549360"/>
            <a:ext cx="792144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и создании игры были использованы следующие Интернет-сай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in-yaz.3dn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loa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47-1-0-38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диск «Коллекция 80000 анимаци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viki.rdf.ru/item/1052/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оформление слай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d/20309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beef-noodl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20320-2/vegetable-beef-barley-soup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freeclipartnow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d/20054-2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aked-ham-w-clove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74-2/brick-of-Chees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849-2/butter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http://www.freeclipartnow.com/d/18695-3/bread-picture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://www.freeclipartnow.com/d/20870-2/potato-1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http://www.freeclipartnow.com/d/20631-2/pickling-cucumbers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http://www.freeclipartnow.com/d/19954-2/tomato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http://www.freeclipartnow.com/d/19944-2/tomato-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http://www.freeclipartnow.com/d/19958-2/tomatoes-green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http://www.freeclipartnow.com/d/19283-2/apple-7.jpg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9265-2/Apples-Pictur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55-2/orange-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www.freeclipartnow.com/d/18547-2/juice.jp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384/j0384334.gi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http://officeimages.microsoft.com/i/0000/MB/j0439/j0439272.gi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5"/>
          <a:stretch/>
        </p:blipFill>
        <p:spPr>
          <a:xfrm flipH="1" rot="682200">
            <a:off x="4500720" y="5444640"/>
            <a:ext cx="2216160" cy="16304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6"/>
          <a:stretch/>
        </p:blipFill>
        <p:spPr>
          <a:xfrm rot="2058600">
            <a:off x="7308360" y="3645000"/>
            <a:ext cx="2419560" cy="2495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7"/>
          <a:stretch/>
        </p:blipFill>
        <p:spPr>
          <a:xfrm rot="20306400">
            <a:off x="7563960" y="333360"/>
            <a:ext cx="1579680" cy="1628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8"/>
          <a:stretch/>
        </p:blipFill>
        <p:spPr>
          <a:xfrm rot="20306400">
            <a:off x="7956360" y="2491920"/>
            <a:ext cx="1579320" cy="162900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29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6" dur="indefinite" restart="never" nodeType="tmRoot">
          <p:childTnLst>
            <p:seq>
              <p:cTn id="2377" dur="indefinite" nodeType="mainSeq">
                <p:childTnLst>
                  <p:par>
                    <p:cTn id="2378" fill="hold">
                      <p:stCondLst>
                        <p:cond delay="0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499"/>
                            </p:stCondLst>
                            <p:childTnLst>
                              <p:par>
                                <p:cTn id="2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998"/>
                            </p:stCondLst>
                            <p:childTnLst>
                              <p:par>
                                <p:cTn id="2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497"/>
                            </p:stCondLst>
                            <p:childTnLst>
                              <p:par>
                                <p:cTn id="2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996"/>
                            </p:stCondLst>
                            <p:childTnLst>
                              <p:par>
                                <p:cTn id="24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495"/>
                            </p:stCondLst>
                            <p:childTnLst>
                              <p:par>
                                <p:cTn id="24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fill="hold">
                            <p:stCondLst>
                              <p:cond delay="2994"/>
                            </p:stCondLst>
                            <p:childTnLst>
                              <p:par>
                                <p:cTn id="24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493"/>
                            </p:stCondLst>
                            <p:childTnLst>
                              <p:par>
                                <p:cTn id="24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3992"/>
                            </p:stCondLst>
                            <p:childTnLst>
                              <p:par>
                                <p:cTn id="2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4491"/>
                            </p:stCondLst>
                            <p:childTnLst>
                              <p:par>
                                <p:cTn id="25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4990"/>
                            </p:stCondLst>
                            <p:childTnLst>
                              <p:par>
                                <p:cTn id="2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fill="hold">
                            <p:stCondLst>
                              <p:cond delay="5489"/>
                            </p:stCondLst>
                            <p:childTnLst>
                              <p:par>
                                <p:cTn id="25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5988"/>
                            </p:stCondLst>
                            <p:childTnLst>
                              <p:par>
                                <p:cTn id="25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6487"/>
                            </p:stCondLst>
                            <p:childTnLst>
                              <p:par>
                                <p:cTn id="2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6986"/>
                            </p:stCondLst>
                            <p:childTnLst>
                              <p:par>
                                <p:cTn id="2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485"/>
                            </p:stCondLst>
                            <p:childTnLst>
                              <p:par>
                                <p:cTn id="26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7984"/>
                            </p:stCondLst>
                            <p:childTnLst>
                              <p:par>
                                <p:cTn id="26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8483"/>
                            </p:stCondLst>
                            <p:childTnLst>
                              <p:par>
                                <p:cTn id="2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8982"/>
                            </p:stCondLst>
                            <p:childTnLst>
                              <p:par>
                                <p:cTn id="26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9481"/>
                            </p:stCondLst>
                            <p:childTnLst>
                              <p:par>
                                <p:cTn id="27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9980"/>
                            </p:stCondLst>
                            <p:childTnLst>
                              <p:par>
                                <p:cTn id="27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10479"/>
                            </p:stCondLst>
                            <p:childTnLst>
                              <p:par>
                                <p:cTn id="27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BB6E-BFA2-4610-B2F6-527078F66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948360" y="2349360"/>
            <a:ext cx="1663920" cy="216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2592360" cy="1687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4360" y="333360"/>
            <a:ext cx="1530360" cy="1471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156360" y="404640"/>
            <a:ext cx="2254320" cy="1957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659640" y="4581360"/>
            <a:ext cx="1820880" cy="1454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4284720" y="501336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2340000" y="4724280"/>
            <a:ext cx="1508040" cy="176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brea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80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9ED-F70B-46F8-BE9A-108E87997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1785960" cy="2735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132000" y="5157720"/>
            <a:ext cx="2562480" cy="1328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2421000" cy="992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514520" cy="2033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88000" y="62064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6372360" y="54936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516720" y="494172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908000" y="476280"/>
            <a:ext cx="2305080" cy="184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7367760" y="2708280"/>
            <a:ext cx="1082520" cy="187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411280" y="2852640"/>
            <a:ext cx="44658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Comic Sans MS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2" name="">
            <a:hlinkClick r:id="rId13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676160" cy="201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04160" y="1844640"/>
            <a:ext cx="207936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549360"/>
            <a:ext cx="1820880" cy="1454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1817640" cy="174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520720" cy="15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484360" y="620640"/>
            <a:ext cx="3959280" cy="170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300720" y="46530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c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95280" y="249228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259000" cy="206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760" y="2060640"/>
            <a:ext cx="1800000" cy="23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70120" cy="1424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580000" y="5175360"/>
            <a:ext cx="301932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9640" y="260280"/>
            <a:ext cx="2376720" cy="1697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516720" y="32130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627280" y="436572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3564000" y="333360"/>
            <a:ext cx="174924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ucumb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1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00"/>
                            </p:stCondLst>
                            <p:childTnLst>
                              <p:par>
                                <p:cTn id="5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1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4581360"/>
            <a:ext cx="2043000" cy="187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1280" y="476280"/>
            <a:ext cx="201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588000" y="472428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724360" y="404640"/>
            <a:ext cx="2874960" cy="157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59280" y="333360"/>
            <a:ext cx="2387520" cy="178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1904760" cy="1761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948360" y="234936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2852640"/>
            <a:ext cx="4896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cabba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22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227480"/>
            <a:ext cx="2663640" cy="210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300720" y="4664160"/>
            <a:ext cx="2084400" cy="1784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964200" y="404640"/>
            <a:ext cx="1462320" cy="208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11280" y="404640"/>
            <a:ext cx="536256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6859440" y="2349360"/>
            <a:ext cx="1557360" cy="191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3203640" y="4600440"/>
            <a:ext cx="2520720" cy="168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Comic Sans MS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86440" y="2276640"/>
            <a:ext cx="159084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6240" y="0"/>
            <a:ext cx="201924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372360" y="189000"/>
            <a:ext cx="2265120" cy="19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372360" y="5092560"/>
            <a:ext cx="2070000" cy="13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59280" y="549360"/>
            <a:ext cx="2160360" cy="14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468360" y="4710240"/>
            <a:ext cx="2303280" cy="175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2987640" y="501336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395280" y="2565360"/>
            <a:ext cx="1473120" cy="194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050920" y="2565360"/>
            <a:ext cx="489600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Comic Sans MS"/>
              </a:rPr>
              <a:t>porrid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7380360" y="6093000"/>
            <a:ext cx="1511280" cy="765000"/>
          </a:xfrm>
          <a:prstGeom prst="rightArrow">
            <a:avLst>
              <a:gd name="adj1" fmla="val 50000"/>
              <a:gd name="adj2" fmla="val 49388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3500000"/>
          </a:gra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500"/>
                            </p:stCondLst>
                            <p:childTnLst>
                              <p:par>
                                <p:cTn id="8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"/>
                            </p:stCondLst>
                            <p:childTnLst>
                              <p:par>
                                <p:cTn id="8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5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8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3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9:26:13Z</dcterms:created>
  <dc:creator>user</dc:creator>
  <dc:description>http://aida.ucoz.ru</dc:description>
  <dc:language>en-US</dc:language>
  <cp:lastModifiedBy>user</cp:lastModifiedBy>
  <dcterms:modified xsi:type="dcterms:W3CDTF">2010-04-05T12:24:17Z</dcterms:modified>
  <cp:revision>43</cp:revision>
  <dc:subject/>
  <dc:title>Слайд 1</dc:title>
</cp:coreProperties>
</file>