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gif" ContentType="image/gif"/>
  <Override PartName="/ppt/media/image56.gif" ContentType="image/gif"/>
  <Override PartName="/ppt/media/image4.wmf" ContentType="image/x-wmf"/>
  <Override PartName="/ppt/media/image5.wmf" ContentType="image/x-wmf"/>
  <Override PartName="/ppt/media/image9.gif" ContentType="image/gif"/>
  <Override PartName="/ppt/media/image37.gif" ContentType="image/gif"/>
  <Override PartName="/ppt/media/image7.gif" ContentType="image/gif"/>
  <Override PartName="/ppt/media/image2.jpeg" ContentType="image/jpeg"/>
  <Override PartName="/ppt/media/image57.png" ContentType="image/png"/>
  <Override PartName="/ppt/media/image38.gif" ContentType="image/gif"/>
  <Override PartName="/ppt/media/image8.gif" ContentType="image/gif"/>
  <Override PartName="/ppt/media/image14.gif" ContentType="image/gif"/>
  <Override PartName="/ppt/media/image15.gif" ContentType="image/gif"/>
  <Override PartName="/ppt/media/image1.jpeg" ContentType="image/jpeg"/>
  <Override PartName="/ppt/media/image21.png" ContentType="image/png"/>
  <Override PartName="/ppt/media/image3.wmf" ContentType="image/x-wmf"/>
  <Override PartName="/ppt/media/image58.png" ContentType="image/png"/>
  <Override PartName="/ppt/media/image16.gif" ContentType="image/gif"/>
  <Override PartName="/ppt/media/image17.gif" ContentType="image/gif"/>
  <Override PartName="/ppt/media/image23.png" ContentType="image/png"/>
  <Override PartName="/ppt/media/image55.jpeg" ContentType="image/jpeg"/>
  <Override PartName="/ppt/media/image35.gif" ContentType="image/gif"/>
  <Override PartName="/ppt/media/image34.gif" ContentType="image/gif"/>
  <Override PartName="/ppt/media/image27.png" ContentType="image/png"/>
  <Override PartName="/ppt/media/image24.gif" ContentType="image/gif"/>
  <Override PartName="/ppt/media/image28.png" ContentType="image/png"/>
  <Override PartName="/ppt/media/image25.gif" ContentType="image/gif"/>
  <Override PartName="/ppt/media/image61.jpeg" ContentType="image/jpeg"/>
  <Override PartName="/ppt/media/image40.png" ContentType="image/png"/>
  <Override PartName="/ppt/media/image20.wmf" ContentType="image/x-wmf"/>
  <Override PartName="/ppt/media/image60.gif" ContentType="image/gif"/>
  <Override PartName="/ppt/media/image62.gif" ContentType="image/gif"/>
  <Override PartName="/ppt/media/image22.wmf" ContentType="image/x-wmf"/>
  <Override PartName="/ppt/media/image19.jpeg" ContentType="image/jpeg"/>
  <Override PartName="/ppt/media/image29.gif" ContentType="image/gif"/>
  <Override PartName="/ppt/media/image18.gif" ContentType="image/gif"/>
  <Override PartName="/ppt/media/image6.gif" ContentType="image/gif"/>
  <Override PartName="/ppt/media/image11.gif" ContentType="image/gif"/>
  <Override PartName="/ppt/media/image12.gif" ContentType="image/gif"/>
  <Override PartName="/ppt/media/image49.gif" ContentType="image/gif"/>
  <Override PartName="/ppt/media/image13.gif" ContentType="image/gif"/>
  <Override PartName="/ppt/media/image52.jpeg" ContentType="image/jpeg"/>
  <Override PartName="/ppt/media/image10.gif" ContentType="image/gif"/>
  <Override PartName="/ppt/media/image47.gif" ContentType="image/gif"/>
  <Override PartName="/ppt/media/image31.gif" ContentType="image/gif"/>
  <Override PartName="/ppt/media/image32.png" ContentType="image/png"/>
  <Override PartName="/ppt/media/image30.gif" ContentType="image/gif"/>
  <Override PartName="/ppt/media/image33.png" ContentType="image/png"/>
  <Override PartName="/ppt/media/image36.gif" ContentType="image/gif"/>
  <Override PartName="/ppt/media/image39.png" ContentType="image/png"/>
  <Override PartName="/ppt/media/image46.gif" ContentType="image/gif"/>
  <Override PartName="/ppt/media/image41.png" ContentType="image/png"/>
  <Override PartName="/ppt/media/image43.gif" ContentType="image/gif"/>
  <Override PartName="/ppt/media/image44.gif" ContentType="image/gif"/>
  <Override PartName="/ppt/media/image42.gif" ContentType="image/gif"/>
  <Override PartName="/ppt/media/image45.png" ContentType="image/png"/>
  <Override PartName="/ppt/media/image48.png" ContentType="image/png"/>
  <Override PartName="/ppt/media/image26.gif" ContentType="image/gif"/>
  <Override PartName="/ppt/media/image51.wmf" ContentType="image/x-wmf"/>
  <Override PartName="/ppt/media/image50.gif" ContentType="image/gif"/>
  <Override PartName="/ppt/media/image53.wmf" ContentType="image/x-wmf"/>
  <Override PartName="/ppt/media/image5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B6DB-52D9-49D7-9E13-FFE6D3E2B7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63E6-7640-4EBF-A1BC-645C2558E1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27C1-BD86-45B3-BC9D-32F98F7B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1B3-0772-463B-929F-5A1D6EA9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A02A-174F-4E99-9F1D-C6F44FB0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9C8F-CD57-47E1-B177-A89BA80C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99B5-99D5-47EB-B41F-4DDB4CD9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3791-8719-4CB1-B36B-29EA7445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F3ED-B335-4809-8A49-36B510AD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0860-1B49-4CDB-9CF6-0CD13B58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856D-9303-4CCB-A209-7E179DB5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53CE-1B14-4562-BAB1-1423FD16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C1C-D283-4946-B399-B7B859D6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8063-050B-4FEC-9554-5B386BB0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1B91-89A1-4BC9-8DBC-B0050DB262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094C-8C5A-4C7A-AD42-4F2423A6B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43.gif"/><Relationship Id="rId6" Type="http://schemas.openxmlformats.org/officeDocument/2006/relationships/image" Target="../media/image44.gif"/><Relationship Id="rId7" Type="http://schemas.openxmlformats.org/officeDocument/2006/relationships/image" Target="../media/image6.gif"/><Relationship Id="rId8" Type="http://schemas.openxmlformats.org/officeDocument/2006/relationships/image" Target="../media/image22.wmf"/><Relationship Id="rId9" Type="http://schemas.openxmlformats.org/officeDocument/2006/relationships/image" Target="../media/image20.wmf"/><Relationship Id="rId10" Type="http://schemas.openxmlformats.org/officeDocument/2006/relationships/image" Target="../media/image24.gif"/><Relationship Id="rId11" Type="http://schemas.openxmlformats.org/officeDocument/2006/relationships/image" Target="../media/image16.gif"/><Relationship Id="rId12" Type="http://schemas.openxmlformats.org/officeDocument/2006/relationships/slide" Target="slide1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22.wmf"/><Relationship Id="rId5" Type="http://schemas.openxmlformats.org/officeDocument/2006/relationships/image" Target="../media/image20.wmf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2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9.gif"/><Relationship Id="rId12" Type="http://schemas.openxmlformats.org/officeDocument/2006/relationships/slide" Target="slide12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20.wmf"/><Relationship Id="rId4" Type="http://schemas.openxmlformats.org/officeDocument/2006/relationships/image" Target="../media/image33.pn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9.gif"/><Relationship Id="rId8" Type="http://schemas.openxmlformats.org/officeDocument/2006/relationships/image" Target="../media/image56.gif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22.wmf"/><Relationship Id="rId12" Type="http://schemas.openxmlformats.org/officeDocument/2006/relationships/slide" Target="slide13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image" Target="../media/image24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14.xml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png"/><Relationship Id="rId8" Type="http://schemas.openxmlformats.org/officeDocument/2006/relationships/image" Target="../media/image23.png"/><Relationship Id="rId9" Type="http://schemas.openxmlformats.org/officeDocument/2006/relationships/image" Target="../media/image28.png"/><Relationship Id="rId10" Type="http://schemas.openxmlformats.org/officeDocument/2006/relationships/image" Target="../media/image29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15.xml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image" Target="../media/image40.png"/><Relationship Id="rId10" Type="http://schemas.openxmlformats.org/officeDocument/2006/relationships/image" Target="../media/image15.gif"/><Relationship Id="rId11" Type="http://schemas.openxmlformats.org/officeDocument/2006/relationships/image" Target="../media/image59.gif"/><Relationship Id="rId12" Type="http://schemas.openxmlformats.org/officeDocument/2006/relationships/image" Target="../media/image60.gif"/><Relationship Id="rId13" Type="http://schemas.openxmlformats.org/officeDocument/2006/relationships/slide" Target="slide16.xml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wmf"/><Relationship Id="rId5" Type="http://schemas.openxmlformats.org/officeDocument/2006/relationships/image" Target="../media/image52.jpeg"/><Relationship Id="rId6" Type="http://schemas.openxmlformats.org/officeDocument/2006/relationships/image" Target="../media/image53.wmf"/><Relationship Id="rId7" Type="http://schemas.openxmlformats.org/officeDocument/2006/relationships/image" Target="../media/image54.png"/><Relationship Id="rId8" Type="http://schemas.openxmlformats.org/officeDocument/2006/relationships/image" Target="../media/image35.gif"/><Relationship Id="rId9" Type="http://schemas.openxmlformats.org/officeDocument/2006/relationships/image" Target="../media/image9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17.xml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38.gif"/><Relationship Id="rId12" Type="http://schemas.openxmlformats.org/officeDocument/2006/relationships/slide" Target="slide18.xml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9.gif"/><Relationship Id="rId5" Type="http://schemas.openxmlformats.org/officeDocument/2006/relationships/image" Target="../media/image61.jpeg"/><Relationship Id="rId6" Type="http://schemas.openxmlformats.org/officeDocument/2006/relationships/image" Target="../media/image37.gif"/><Relationship Id="rId7" Type="http://schemas.openxmlformats.org/officeDocument/2006/relationships/image" Target="../media/image51.wmf"/><Relationship Id="rId8" Type="http://schemas.openxmlformats.org/officeDocument/2006/relationships/image" Target="../media/image8.gif"/><Relationship Id="rId9" Type="http://schemas.openxmlformats.org/officeDocument/2006/relationships/image" Target="../media/image35.gif"/><Relationship Id="rId10" Type="http://schemas.openxmlformats.org/officeDocument/2006/relationships/image" Target="../media/image7.gif"/><Relationship Id="rId11" Type="http://schemas.openxmlformats.org/officeDocument/2006/relationships/image" Target="../media/image32.png"/><Relationship Id="rId12" Type="http://schemas.openxmlformats.org/officeDocument/2006/relationships/slide" Target="slide19.xml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36.gif"/><Relationship Id="rId9" Type="http://schemas.openxmlformats.org/officeDocument/2006/relationships/image" Target="../media/image37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20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image" Target="../media/image18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gif"/><Relationship Id="rId3" Type="http://schemas.openxmlformats.org/officeDocument/2006/relationships/image" Target="../media/image62.gif"/><Relationship Id="rId4" Type="http://schemas.openxmlformats.org/officeDocument/2006/relationships/image" Target="../media/image62.gif"/><Relationship Id="rId5" Type="http://schemas.openxmlformats.org/officeDocument/2006/relationships/image" Target="../media/image62.gif"/><Relationship Id="rId6" Type="http://schemas.openxmlformats.org/officeDocument/2006/relationships/image" Target="../media/image62.gif"/><Relationship Id="rId7" Type="http://schemas.openxmlformats.org/officeDocument/2006/relationships/image" Target="../media/image62.gif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-yaz.3dn.ru/load/47-1-0-38" TargetMode="External"/><Relationship Id="rId3" Type="http://schemas.openxmlformats.org/officeDocument/2006/relationships/hyperlink" Target="http://in-yaz.3dn.ru/load/47-1-0-38" TargetMode="External"/><Relationship Id="rId4" Type="http://schemas.openxmlformats.org/officeDocument/2006/relationships/hyperlink" Target="http://in-yaz.3dn.ru/load/47-1-0-38" TargetMode="External"/><Relationship Id="rId5" Type="http://schemas.openxmlformats.org/officeDocument/2006/relationships/hyperlink" Target="http://in-yaz.3dn.ru/load/47-1-0-38" TargetMode="External"/><Relationship Id="rId6" Type="http://schemas.openxmlformats.org/officeDocument/2006/relationships/hyperlink" Target="http://viki.rdf.ru/item/1052/" TargetMode="External"/><Relationship Id="rId7" Type="http://schemas.openxmlformats.org/officeDocument/2006/relationships/hyperlink" Target="http://viki.rdf.ru/item/1052/" TargetMode="External"/><Relationship Id="rId8" Type="http://schemas.openxmlformats.org/officeDocument/2006/relationships/hyperlink" Target="http://www.freeclipartnow.com/d/20309-2/beef-noodle.jpg" TargetMode="External"/><Relationship Id="rId9" Type="http://schemas.openxmlformats.org/officeDocument/2006/relationships/hyperlink" Target="http://www.freeclipartnow.com/d/20309-2/beef-noodle.jpg" TargetMode="External"/><Relationship Id="rId10" Type="http://schemas.openxmlformats.org/officeDocument/2006/relationships/hyperlink" Target="http://www.freeclipartnow.com/d/20309-2/beef-noodle.jpg" TargetMode="External"/><Relationship Id="rId11" Type="http://schemas.openxmlformats.org/officeDocument/2006/relationships/hyperlink" Target="http://www.freeclipartnow.com/d/20309-2/beef-noodle.jpg" TargetMode="External"/><Relationship Id="rId12" Type="http://schemas.openxmlformats.org/officeDocument/2006/relationships/hyperlink" Target="http://www.freeclipartnow.com/d/20309-2/beef-noodle.jpg" TargetMode="External"/><Relationship Id="rId13" Type="http://schemas.openxmlformats.org/officeDocument/2006/relationships/hyperlink" Target="http://www.freeclipartnow.com/d/20054-2/baked-ham-w-cloves.jpg" TargetMode="External"/><Relationship Id="rId14" Type="http://schemas.openxmlformats.org/officeDocument/2006/relationships/hyperlink" Target="http://www.freeclipartnow.com/d/20054-2/baked-ham-w-cloves.jpg" TargetMode="External"/><Relationship Id="rId15" Type="http://schemas.openxmlformats.org/officeDocument/2006/relationships/hyperlink" Target="http://www.freeclipartnow.com/d/20054-2/baked-ham-w-cloves.jpg" TargetMode="External"/><Relationship Id="rId16" Type="http://schemas.openxmlformats.org/officeDocument/2006/relationships/hyperlink" Target="http://www.freeclipartnow.com/d/20054-2/baked-ham-w-cloves.jpg" TargetMode="External"/><Relationship Id="rId17" Type="http://schemas.openxmlformats.org/officeDocument/2006/relationships/hyperlink" Target="http://www.freeclipartnow.com/d/20054-2/baked-ham-w-cloves.jpg" TargetMode="External"/><Relationship Id="rId18" Type="http://schemas.openxmlformats.org/officeDocument/2006/relationships/hyperlink" Target="http://www.freeclipartnow.com/d/18695-3/bread-picture.jpg" TargetMode="External"/><Relationship Id="rId19" Type="http://schemas.openxmlformats.org/officeDocument/2006/relationships/hyperlink" Target="http://www.freeclipartnow.com/d/20870-2/potato-1.jpg" TargetMode="External"/><Relationship Id="rId20" Type="http://schemas.openxmlformats.org/officeDocument/2006/relationships/hyperlink" Target="http://www.freeclipartnow.com/d/20631-2/pickling-cucumbers.jpg" TargetMode="External"/><Relationship Id="rId21" Type="http://schemas.openxmlformats.org/officeDocument/2006/relationships/hyperlink" Target="http://www.freeclipartnow.com/d/19954-2/tomato.jpg" TargetMode="External"/><Relationship Id="rId22" Type="http://schemas.openxmlformats.org/officeDocument/2006/relationships/hyperlink" Target="http://www.freeclipartnow.com/d/19944-2/tomato-4.jpg" TargetMode="External"/><Relationship Id="rId23" Type="http://schemas.openxmlformats.org/officeDocument/2006/relationships/hyperlink" Target="http://www.freeclipartnow.com/d/19958-2/tomatoes-green.jpg" TargetMode="External"/><Relationship Id="rId24" Type="http://schemas.openxmlformats.org/officeDocument/2006/relationships/hyperlink" Target="http://www.freeclipartnow.com/d/19283-2/apple-7.jpg" TargetMode="External"/><Relationship Id="rId25" Type="http://schemas.openxmlformats.org/officeDocument/2006/relationships/image" Target="../media/image62.gif"/><Relationship Id="rId26" Type="http://schemas.openxmlformats.org/officeDocument/2006/relationships/image" Target="../media/image62.gif"/><Relationship Id="rId27" Type="http://schemas.openxmlformats.org/officeDocument/2006/relationships/image" Target="../media/image62.gif"/><Relationship Id="rId28" Type="http://schemas.openxmlformats.org/officeDocument/2006/relationships/image" Target="../media/image62.gif"/><Relationship Id="rId29" Type="http://schemas.openxmlformats.org/officeDocument/2006/relationships/slide" Target="slide1.xml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image" Target="../media/image24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4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png"/><Relationship Id="rId8" Type="http://schemas.openxmlformats.org/officeDocument/2006/relationships/image" Target="../media/image23.png"/><Relationship Id="rId9" Type="http://schemas.openxmlformats.org/officeDocument/2006/relationships/image" Target="../media/image28.png"/><Relationship Id="rId10" Type="http://schemas.openxmlformats.org/officeDocument/2006/relationships/image" Target="../media/image29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5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22.wmf"/><Relationship Id="rId5" Type="http://schemas.openxmlformats.org/officeDocument/2006/relationships/image" Target="../media/image20.wmf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2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9.gif"/><Relationship Id="rId12" Type="http://schemas.openxmlformats.org/officeDocument/2006/relationships/slide" Target="slide6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36.gif"/><Relationship Id="rId9" Type="http://schemas.openxmlformats.org/officeDocument/2006/relationships/image" Target="../media/image37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7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38.gif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8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image" Target="../media/image44.gif"/><Relationship Id="rId5" Type="http://schemas.openxmlformats.org/officeDocument/2006/relationships/image" Target="../media/image45.png"/><Relationship Id="rId6" Type="http://schemas.openxmlformats.org/officeDocument/2006/relationships/image" Target="../media/image46.gif"/><Relationship Id="rId7" Type="http://schemas.openxmlformats.org/officeDocument/2006/relationships/image" Target="../media/image47.gif"/><Relationship Id="rId8" Type="http://schemas.openxmlformats.org/officeDocument/2006/relationships/image" Target="../media/image4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slide" Target="slide9.xml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wmf"/><Relationship Id="rId5" Type="http://schemas.openxmlformats.org/officeDocument/2006/relationships/image" Target="../media/image52.jpeg"/><Relationship Id="rId6" Type="http://schemas.openxmlformats.org/officeDocument/2006/relationships/image" Target="../media/image53.wmf"/><Relationship Id="rId7" Type="http://schemas.openxmlformats.org/officeDocument/2006/relationships/image" Target="../media/image54.png"/><Relationship Id="rId8" Type="http://schemas.openxmlformats.org/officeDocument/2006/relationships/image" Target="../media/image35.gif"/><Relationship Id="rId9" Type="http://schemas.openxmlformats.org/officeDocument/2006/relationships/image" Target="../media/image9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10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2843280" cy="3649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284720" y="2205000"/>
            <a:ext cx="2733480" cy="23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268360" y="2347920"/>
            <a:ext cx="2733840" cy="237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445080" y="2060640"/>
            <a:ext cx="2297160" cy="273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259000" cy="2066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6372360" y="4292640"/>
            <a:ext cx="3203280" cy="2349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250920" y="50594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7812000" y="-38736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276720" y="4581360"/>
            <a:ext cx="287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la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5280" y="4724280"/>
            <a:ext cx="2519280" cy="1827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mic Sans MS"/>
              </a:rPr>
              <a:t>sweet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940360" y="260280"/>
            <a:ext cx="2664000" cy="2106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6300720" y="4664160"/>
            <a:ext cx="2084400" cy="1784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3276720" y="4581360"/>
            <a:ext cx="2043000" cy="187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468360" y="404640"/>
            <a:ext cx="2087640" cy="1667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3276720" y="404640"/>
            <a:ext cx="1817640" cy="1748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324000" y="2421000"/>
            <a:ext cx="1508040" cy="1763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7020000" y="2997360"/>
            <a:ext cx="1871640" cy="121896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2000"/>
                            </p:stCondLst>
                            <p:childTnLst>
                              <p:par>
                                <p:cTn id="9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500"/>
                            </p:stCondLst>
                            <p:childTnLst>
                              <p:par>
                                <p:cTn id="9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3000"/>
                            </p:stCondLst>
                            <p:childTnLst>
                              <p:par>
                                <p:cTn id="9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3500"/>
                            </p:stCondLst>
                            <p:childTnLst>
                              <p:par>
                                <p:cTn id="9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4000"/>
                            </p:stCondLst>
                            <p:childTnLst>
                              <p:par>
                                <p:cTn id="9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6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2" dur="1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98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4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99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00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01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04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4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004160" y="1844640"/>
            <a:ext cx="2079360" cy="2376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2520720" cy="1500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6300720" y="465300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butt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1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4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4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4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4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4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4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4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4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4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11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2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12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3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3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14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4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14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5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5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15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2" dur="1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Comic Sans MS"/>
              </a:rPr>
              <a:t>sug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2843280" y="4724280"/>
            <a:ext cx="2663640" cy="1623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5867280" y="4653000"/>
            <a:ext cx="2752920" cy="1582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7308720" y="2060640"/>
            <a:ext cx="1579680" cy="2317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0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24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252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25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9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270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27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28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1" dur="1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89D7-0655-4BA0-ADF9-D8BEC457C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1698480" cy="169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6948360" y="2349360"/>
            <a:ext cx="1663920" cy="2160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2843280" y="333360"/>
            <a:ext cx="2592360" cy="1687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684360" y="333360"/>
            <a:ext cx="1530360" cy="1471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156360" y="404640"/>
            <a:ext cx="2254320" cy="1957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6659640" y="4581360"/>
            <a:ext cx="1820880" cy="1454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4284720" y="501336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2340000" y="4724280"/>
            <a:ext cx="1508040" cy="1764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2340000" y="2852640"/>
            <a:ext cx="453708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hone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83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0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500"/>
                            </p:stCondLst>
                            <p:childTnLst>
                              <p:par>
                                <p:cTn id="13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366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9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37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384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90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396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40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0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408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41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2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F100-E782-4CF0-9C1B-03624A232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132000" y="5157720"/>
            <a:ext cx="2562480" cy="1328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971640" y="5373720"/>
            <a:ext cx="2421000" cy="992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514520" cy="2033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4788000" y="62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6372360" y="549360"/>
            <a:ext cx="1904760" cy="1704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516720" y="494172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9"/>
          <a:stretch/>
        </p:blipFill>
        <p:spPr>
          <a:xfrm>
            <a:off x="1908000" y="476280"/>
            <a:ext cx="2305080" cy="1844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0"/>
          <a:stretch/>
        </p:blipFill>
        <p:spPr>
          <a:xfrm>
            <a:off x="7367760" y="2708280"/>
            <a:ext cx="1082520" cy="1873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2411280" y="2852640"/>
            <a:ext cx="4465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me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95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0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49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2" dur="1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51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517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52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52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4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535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541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54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553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DC0A-5506-44C4-9257-D53AF1FFB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635280" y="260280"/>
            <a:ext cx="2202120" cy="2201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2562120" cy="1328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324000" y="5229360"/>
            <a:ext cx="3095640" cy="1268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547640" y="260280"/>
            <a:ext cx="1970280" cy="1970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2195640" y="3112920"/>
            <a:ext cx="475272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Comic Sans MS"/>
              </a:rPr>
              <a:t>egg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6443640" y="404640"/>
            <a:ext cx="1724040" cy="1594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7308720" y="155736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>
            <a:off x="611280" y="2997360"/>
            <a:ext cx="1171440" cy="2016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2"/>
          <a:stretch/>
        </p:blipFill>
        <p:spPr>
          <a:xfrm>
            <a:off x="6877080" y="4508640"/>
            <a:ext cx="1851120" cy="131112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0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632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5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3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644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7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65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4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658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1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66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1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672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5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67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2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68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9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693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6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886440" y="2276640"/>
            <a:ext cx="1590840" cy="2736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46240" y="0"/>
            <a:ext cx="2019240" cy="2362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372360" y="18900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6372360" y="5092560"/>
            <a:ext cx="2070000" cy="13478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3059280" y="549360"/>
            <a:ext cx="2160360" cy="14716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468360" y="4710240"/>
            <a:ext cx="2303280" cy="1751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2987640" y="501336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395280" y="256536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sandwic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21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0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500"/>
                            </p:stCondLst>
                            <p:childTnLst>
                              <p:par>
                                <p:cTn id="17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80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5" dur="1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81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9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820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826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1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83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838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3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844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850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276720" y="4581360"/>
            <a:ext cx="2043000" cy="1870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24000" y="213372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11280" y="47628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6588000" y="472428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3059280" y="333360"/>
            <a:ext cx="2387520" cy="1787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904760" cy="1761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8"/>
          <a:stretch/>
        </p:blipFill>
        <p:spPr>
          <a:xfrm>
            <a:off x="6948360" y="2349360"/>
            <a:ext cx="1724040" cy="1905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2050920" y="2852640"/>
            <a:ext cx="460872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frui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1"/>
          <a:stretch/>
        </p:blipFill>
        <p:spPr>
          <a:xfrm>
            <a:off x="5724360" y="404640"/>
            <a:ext cx="2874960" cy="157032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55" dur="indefinite" restart="never" nodeType="tmRoot">
          <p:childTnLst>
            <p:seq>
              <p:cTn id="1856" dur="indefinite" nodeType="mainSeq">
                <p:childTnLst>
                  <p:par>
                    <p:cTn id="1857" fill="hold">
                      <p:stCondLst>
                        <p:cond delay="0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4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2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500"/>
                            </p:stCondLst>
                            <p:childTnLst>
                              <p:par>
                                <p:cTn id="18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4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1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4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4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9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7" dur="4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8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6" dur="4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7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5" dur="4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6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4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5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4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4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94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3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1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952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5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958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6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3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964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6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1970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7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97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7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1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982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8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7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988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9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omic Sans MS"/>
              </a:rPr>
              <a:t>pota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7164360" y="2349360"/>
            <a:ext cx="139212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684360" y="260280"/>
            <a:ext cx="1749240" cy="2089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3276720" y="33336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6443640" y="476280"/>
            <a:ext cx="1873440" cy="1873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5580000" y="486900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0"/>
          <a:stretch/>
        </p:blipFill>
        <p:spPr>
          <a:xfrm>
            <a:off x="395280" y="479736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1"/>
          <a:stretch/>
        </p:blipFill>
        <p:spPr>
          <a:xfrm>
            <a:off x="2843280" y="4941720"/>
            <a:ext cx="2520720" cy="150048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93" dur="indefinite" restart="never" nodeType="tmRoot">
          <p:childTnLst>
            <p:seq>
              <p:cTn id="1994" dur="indefinite" nodeType="mainSeq">
                <p:childTnLst>
                  <p:par>
                    <p:cTn id="1995" fill="hold">
                      <p:stCondLst>
                        <p:cond delay="0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9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060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3" dur="1000" fill="hold"/>
                                        <p:tgtEl>
                                          <p:spTgt spid="23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1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072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7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078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084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8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9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090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096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10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1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10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1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12000" y="620640"/>
            <a:ext cx="2259000" cy="2067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28760" y="2060640"/>
            <a:ext cx="1800000" cy="2376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1770120" cy="1424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5580000" y="5175360"/>
            <a:ext cx="3019320" cy="1317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539640" y="260280"/>
            <a:ext cx="2376720" cy="16970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6516720" y="321300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2627280" y="4365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3564000" y="333360"/>
            <a:ext cx="1749240" cy="20890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2050920" y="2852640"/>
            <a:ext cx="4681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toma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24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3" dur="indefinite" restart="never" nodeType="tmRoot">
          <p:childTnLst>
            <p:seq>
              <p:cTn id="2114" dur="indefinite" nodeType="mainSeq">
                <p:childTnLst>
                  <p:par>
                    <p:cTn id="2115" fill="hold">
                      <p:stCondLst>
                        <p:cond delay="0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500"/>
                            </p:stCondLst>
                            <p:childTnLst>
                              <p:par>
                                <p:cTn id="2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fill="hold">
                            <p:stCondLst>
                              <p:cond delay="3999"/>
                            </p:stCondLst>
                            <p:childTnLst>
                              <p:par>
                                <p:cTn id="2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270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3" dur="1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1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282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5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6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8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289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2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3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296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30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6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9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310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3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4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6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317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0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3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324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7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8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27B8-3ED2-482C-93D1-B3C81E7A7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635280" y="260280"/>
            <a:ext cx="2202120" cy="220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2562120" cy="1328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24000" y="5229360"/>
            <a:ext cx="3095640" cy="1268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547640" y="260280"/>
            <a:ext cx="1970280" cy="1970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7308720" y="148428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5940360" y="476280"/>
            <a:ext cx="2016360" cy="1312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324000" y="2852640"/>
            <a:ext cx="1412640" cy="208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6659640" y="4365720"/>
            <a:ext cx="2031840" cy="1706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2195640" y="3112920"/>
            <a:ext cx="525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sausa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11280" y="148428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Презентацию составил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Мазур Роза Сайпутдиновна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учитель английского язы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МОУ СОШ № 9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п. Сибирцев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Черниговского района Приморского кр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 flipH="1" rot="682200">
            <a:off x="4067280" y="5273280"/>
            <a:ext cx="2216160" cy="1630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 rot="20306400">
            <a:off x="7740360" y="764640"/>
            <a:ext cx="1579320" cy="1629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6"/>
          <a:stretch/>
        </p:blipFill>
        <p:spPr>
          <a:xfrm rot="20306400">
            <a:off x="7884720" y="234936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7"/>
          <a:stretch/>
        </p:blipFill>
        <p:spPr>
          <a:xfrm rot="7699200">
            <a:off x="37800" y="-280800"/>
            <a:ext cx="2419560" cy="2495520"/>
          </a:xfrm>
          <a:prstGeom prst="rect">
            <a:avLst/>
          </a:prstGeom>
          <a:ln w="0">
            <a:noFill/>
          </a:ln>
        </p:spPr>
      </p:pic>
      <p:sp>
        <p:nvSpPr>
          <p:cNvPr id="255" name="">
            <a:hlinkClick r:id="rId8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30" dur="indefinite" restart="never" nodeType="tmRoot">
          <p:childTnLst>
            <p:seq>
              <p:cTn id="2331" dur="indefinite" nodeType="mainSeq">
                <p:childTnLst>
                  <p:par>
                    <p:cTn id="2332" fill="hold">
                      <p:stCondLst>
                        <p:cond delay="0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6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7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8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840"/>
                            </p:stCondLst>
                            <p:childTnLst>
                              <p:par>
                                <p:cTn id="23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2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3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4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5" fill="hold">
                            <p:stCondLst>
                              <p:cond delay="1800"/>
                            </p:stCondLst>
                            <p:childTnLst>
                              <p:par>
                                <p:cTn id="2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8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9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0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2760"/>
                            </p:stCondLst>
                            <p:childTnLst>
                              <p:par>
                                <p:cTn id="2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4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5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6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7" fill="hold">
                            <p:stCondLst>
                              <p:cond delay="3120"/>
                            </p:stCondLst>
                            <p:childTnLst>
                              <p:par>
                                <p:cTn id="23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0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1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2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3600"/>
                            </p:stCondLst>
                            <p:childTnLst>
                              <p:par>
                                <p:cTn id="23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6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7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8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11280" y="549360"/>
            <a:ext cx="792144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и создании игры были использованы следующие Интернет-сай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://in-yaz.3dn.ru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load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/47-1-0-38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D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диск «Коллекция 80000 анимаци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viki.rdf.ru/item/1052/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оформление слайд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www.freeclipartnow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d/20309-2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beef-noodle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20320-2/vegetable-beef-barley-soup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www.freeclipartnow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/d/20054-2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baked-ham-w-cloves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874-2/brick-of-Chees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849-2/butter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http://www.freeclipartnow.com/d/18695-3/bread-picture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http://www.freeclipartnow.com/d/20870-2/potato-1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http://www.freeclipartnow.com/d/20631-2/pickling-cucumbers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http://www.freeclipartnow.com/d/19954-2/tomato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http://www.freeclipartnow.com/d/19944-2/tomato-4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http://www.freeclipartnow.com/d/19958-2/tomatoes-green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http://www.freeclipartnow.com/d/19283-2/apple-7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9265-2/Apples-Pictur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555-2/orange-juic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547-2/juic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officeimages.microsoft.com/i/0000/MB/j0384/j0384334.gif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officeimages.microsoft.com/i/0000/MB/j0439/j0439272.gif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5"/>
          <a:stretch/>
        </p:blipFill>
        <p:spPr>
          <a:xfrm flipH="1" rot="682200">
            <a:off x="4500720" y="5444640"/>
            <a:ext cx="2216160" cy="16304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6"/>
          <a:stretch/>
        </p:blipFill>
        <p:spPr>
          <a:xfrm rot="2058600">
            <a:off x="7308360" y="3645000"/>
            <a:ext cx="2419560" cy="2495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7"/>
          <a:stretch/>
        </p:blipFill>
        <p:spPr>
          <a:xfrm rot="20306400">
            <a:off x="7563960" y="333360"/>
            <a:ext cx="1579680" cy="1628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8"/>
          <a:stretch/>
        </p:blipFill>
        <p:spPr>
          <a:xfrm rot="20306400">
            <a:off x="7956360" y="2491920"/>
            <a:ext cx="1579320" cy="162900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rId29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76" dur="indefinite" restart="never" nodeType="tmRoot">
          <p:childTnLst>
            <p:seq>
              <p:cTn id="2377" dur="indefinite" nodeType="mainSeq">
                <p:childTnLst>
                  <p:par>
                    <p:cTn id="2378" fill="hold">
                      <p:stCondLst>
                        <p:cond delay="0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499"/>
                            </p:stCondLst>
                            <p:childTnLst>
                              <p:par>
                                <p:cTn id="23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998"/>
                            </p:stCondLst>
                            <p:childTnLst>
                              <p:par>
                                <p:cTn id="24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0" fill="hold">
                            <p:stCondLst>
                              <p:cond delay="1497"/>
                            </p:stCondLst>
                            <p:childTnLst>
                              <p:par>
                                <p:cTn id="24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1996"/>
                            </p:stCondLst>
                            <p:childTnLst>
                              <p:par>
                                <p:cTn id="24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2495"/>
                            </p:stCondLst>
                            <p:childTnLst>
                              <p:par>
                                <p:cTn id="24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1" fill="hold">
                            <p:stCondLst>
                              <p:cond delay="2994"/>
                            </p:stCondLst>
                            <p:childTnLst>
                              <p:par>
                                <p:cTn id="24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8" fill="hold">
                            <p:stCondLst>
                              <p:cond delay="3493"/>
                            </p:stCondLst>
                            <p:childTnLst>
                              <p:par>
                                <p:cTn id="24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5" fill="hold">
                            <p:stCondLst>
                              <p:cond delay="3992"/>
                            </p:stCondLst>
                            <p:childTnLst>
                              <p:par>
                                <p:cTn id="2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fill="hold">
                            <p:stCondLst>
                              <p:cond delay="4491"/>
                            </p:stCondLst>
                            <p:childTnLst>
                              <p:par>
                                <p:cTn id="25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9" fill="hold">
                            <p:stCondLst>
                              <p:cond delay="4990"/>
                            </p:stCondLst>
                            <p:childTnLst>
                              <p:par>
                                <p:cTn id="25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6" fill="hold">
                            <p:stCondLst>
                              <p:cond delay="5489"/>
                            </p:stCondLst>
                            <p:childTnLst>
                              <p:par>
                                <p:cTn id="25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3" fill="hold">
                            <p:stCondLst>
                              <p:cond delay="5988"/>
                            </p:stCondLst>
                            <p:childTnLst>
                              <p:par>
                                <p:cTn id="25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6487"/>
                            </p:stCondLst>
                            <p:childTnLst>
                              <p:par>
                                <p:cTn id="26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7" fill="hold">
                            <p:stCondLst>
                              <p:cond delay="6986"/>
                            </p:stCondLst>
                            <p:childTnLst>
                              <p:par>
                                <p:cTn id="26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7485"/>
                            </p:stCondLst>
                            <p:childTnLst>
                              <p:par>
                                <p:cTn id="26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fill="hold">
                            <p:stCondLst>
                              <p:cond delay="7984"/>
                            </p:stCondLst>
                            <p:childTnLst>
                              <p:par>
                                <p:cTn id="26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8483"/>
                            </p:stCondLst>
                            <p:childTnLst>
                              <p:par>
                                <p:cTn id="26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8982"/>
                            </p:stCondLst>
                            <p:childTnLst>
                              <p:par>
                                <p:cTn id="26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9481"/>
                            </p:stCondLst>
                            <p:childTnLst>
                              <p:par>
                                <p:cTn id="27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9" fill="hold">
                            <p:stCondLst>
                              <p:cond delay="9980"/>
                            </p:stCondLst>
                            <p:childTnLst>
                              <p:par>
                                <p:cTn id="27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6" fill="hold">
                            <p:stCondLst>
                              <p:cond delay="10479"/>
                            </p:stCondLst>
                            <p:childTnLst>
                              <p:par>
                                <p:cTn id="27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BCCA-79AD-4E97-A4B9-861340021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1698480" cy="1698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948360" y="2349360"/>
            <a:ext cx="1663920" cy="216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843280" y="333360"/>
            <a:ext cx="2592360" cy="1687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684360" y="333360"/>
            <a:ext cx="1530360" cy="1471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6156360" y="404640"/>
            <a:ext cx="2254320" cy="1957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6659640" y="4581360"/>
            <a:ext cx="1820880" cy="145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4284720" y="501336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2340000" y="4724280"/>
            <a:ext cx="1508040" cy="1764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brea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80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BD63-1E06-4CBC-BD68-222FB2294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132000" y="5157720"/>
            <a:ext cx="2562480" cy="1328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971640" y="5373720"/>
            <a:ext cx="2421000" cy="992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514520" cy="2033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788000" y="62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6372360" y="549360"/>
            <a:ext cx="1904760" cy="1704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6516720" y="494172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1908000" y="476280"/>
            <a:ext cx="2305080" cy="1844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7367760" y="2708280"/>
            <a:ext cx="1082520" cy="187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411280" y="2852640"/>
            <a:ext cx="4465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fis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92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004160" y="1844640"/>
            <a:ext cx="2079360" cy="237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2520720" cy="1500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300720" y="465300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carro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0"/>
                            </p:stCondLst>
                            <p:childTnLst>
                              <p:par>
                                <p:cTn id="3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6000"/>
                            </p:stCondLst>
                            <p:childTnLst>
                              <p:par>
                                <p:cTn id="3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7000"/>
                            </p:stCondLst>
                            <p:childTnLst>
                              <p:par>
                                <p:cTn id="3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1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12000" y="620640"/>
            <a:ext cx="2259000" cy="2067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28760" y="2060640"/>
            <a:ext cx="1800000" cy="2376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1770120" cy="1424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580000" y="5175360"/>
            <a:ext cx="3019320" cy="1317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39640" y="260280"/>
            <a:ext cx="2376720" cy="1697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6516720" y="321300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2627280" y="4365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3564000" y="333360"/>
            <a:ext cx="1749240" cy="2089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cucumb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12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0"/>
                            </p:stCondLst>
                            <p:childTnLst>
                              <p:par>
                                <p:cTn id="5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000"/>
                            </p:stCondLst>
                            <p:childTnLst>
                              <p:par>
                                <p:cTn id="5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000"/>
                            </p:stCondLst>
                            <p:childTnLst>
                              <p:par>
                                <p:cTn id="5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000"/>
                            </p:stCondLst>
                            <p:childTnLst>
                              <p:par>
                                <p:cTn id="5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4" dur="1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76720" y="4581360"/>
            <a:ext cx="2043000" cy="1870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24000" y="213372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11280" y="47628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588000" y="472428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5724360" y="404640"/>
            <a:ext cx="2874960" cy="1570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3059280" y="333360"/>
            <a:ext cx="2387520" cy="1787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1904760" cy="1761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6948360" y="2349360"/>
            <a:ext cx="1724040" cy="1905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cabba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22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500"/>
                            </p:stCondLst>
                            <p:childTnLst>
                              <p:par>
                                <p:cTn id="6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4500"/>
                            </p:stCondLst>
                            <p:childTnLst>
                              <p:par>
                                <p:cTn id="6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7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1655640" cy="1382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24000" y="4227480"/>
            <a:ext cx="2663640" cy="2106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300720" y="4664160"/>
            <a:ext cx="2084400" cy="1784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964200" y="404640"/>
            <a:ext cx="1462320" cy="2087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611280" y="404640"/>
            <a:ext cx="536256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6859440" y="2349360"/>
            <a:ext cx="1557360" cy="1916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203640" y="4600440"/>
            <a:ext cx="2520720" cy="1689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jui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31" name="">
            <a:hlinkClick r:id="rId11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74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2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0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6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8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6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78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78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2" dur="1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86440" y="2276640"/>
            <a:ext cx="1590840" cy="273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6240" y="0"/>
            <a:ext cx="2019240" cy="2362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372360" y="18900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6372360" y="5092560"/>
            <a:ext cx="2070000" cy="1347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3059280" y="549360"/>
            <a:ext cx="2160360" cy="14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468360" y="4710240"/>
            <a:ext cx="2303280" cy="1751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2987640" y="501336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395280" y="256536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porrid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4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500"/>
                            </p:stCondLst>
                            <p:childTnLst>
                              <p:par>
                                <p:cTn id="8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3000"/>
                            </p:stCondLst>
                            <p:childTnLst>
                              <p:par>
                                <p:cTn id="8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500"/>
                            </p:stCondLst>
                            <p:childTnLst>
                              <p:par>
                                <p:cTn id="8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4000"/>
                            </p:stCondLst>
                            <p:childTnLst>
                              <p:par>
                                <p:cTn id="8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4500"/>
                            </p:stCondLst>
                            <p:childTnLst>
                              <p:par>
                                <p:cTn id="8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87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88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9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3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2000"/>
                            </p:stCondLst>
                            <p:childTnLst>
                              <p:par>
                                <p:cTn id="9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9:26:13Z</dcterms:created>
  <dc:creator>user</dc:creator>
  <dc:description>http://aida.ucoz.ru</dc:description>
  <dc:language>en-US</dc:language>
  <cp:lastModifiedBy>user</cp:lastModifiedBy>
  <dcterms:modified xsi:type="dcterms:W3CDTF">2010-04-05T12:24:17Z</dcterms:modified>
  <cp:revision>43</cp:revision>
  <dc:subject/>
  <dc:title>Слайд 1</dc:title>
</cp:coreProperties>
</file>