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11.gif" ContentType="image/gif"/>
  <Override PartName="/ppt/media/image9.wmf" ContentType="image/x-wmf"/>
  <Override PartName="/ppt/media/image5.jpeg" ContentType="image/jpeg"/>
  <Override PartName="/ppt/media/image13.gif" ContentType="image/gif"/>
  <Override PartName="/ppt/media/image4.jpeg" ContentType="image/jpeg"/>
  <Override PartName="/ppt/media/image2.png" ContentType="image/png"/>
  <Override PartName="/ppt/media/image6.wmf" ContentType="image/x-wmf"/>
  <Override PartName="/ppt/media/image24.gif" ContentType="image/gif"/>
  <Override PartName="/ppt/media/image23.jpeg" ContentType="image/jpeg"/>
  <Override PartName="/ppt/media/image3.gif" ContentType="image/gif"/>
  <Override PartName="/ppt/media/image20.gif" ContentType="image/gif"/>
  <Override PartName="/ppt/media/image18.gif" ContentType="image/gif"/>
  <Override PartName="/ppt/media/image22.png" ContentType="image/png"/>
  <Override PartName="/ppt/media/image17.gif" ContentType="image/gif"/>
  <Override PartName="/ppt/media/image21.png" ContentType="image/png"/>
  <Override PartName="/ppt/media/image16.gif" ContentType="image/gif"/>
  <Override PartName="/ppt/media/image15.gif" ContentType="image/gif"/>
  <Override PartName="/ppt/media/image19.gif" ContentType="image/gif"/>
  <Override PartName="/ppt/media/image1.png" ContentType="image/png"/>
  <Override PartName="/ppt/media/image1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F944-841E-46A6-94A1-80FE494D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5DB8-FAD2-4C3C-8C54-0C61408A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DAA0-EA63-4313-A058-286B6CA6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9B2C-A690-4B22-9F40-1767C42D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08EEE-37CD-4C51-9927-F7BF5EAA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223B0-57EA-4C7E-91B6-693D1D71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377D6-D08B-4843-9A32-8D3904C7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48876-89CA-4FFE-A532-071CE3CB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F81BF-72BA-48B9-B090-8E89F554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E984B-DBF9-486A-AE58-FEC9CDCD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329D4-84C5-4890-B9FB-9645767C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8391-C0AD-400D-9BB1-CE9A8DB0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DCA6A-EE19-4E06-98EA-2E315B5E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6CA2E-8EA1-4500-8293-18941A48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56723-4D63-4BA8-85B1-DE2A7C40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1B3B4-E9E4-43AD-AAC5-D2815CDF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C0FB8-D98F-401B-857C-6BA87436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46AB-A2E1-456C-96FC-565ABCD2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BE77-C6B6-4CEA-98C8-592F03DD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852D-4018-400A-901A-5E7B11BD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B9E7-AF5B-411B-AD16-B1AEBB13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4E9-A7CC-4CF9-8845-729DB19D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F89-E7B4-481F-A042-2681836F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2DF1-0B0D-4C10-8A7C-A92668F0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76E4-A107-49F2-B1BC-69878343B1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08A1-5AD6-4E36-B578-C5D0EC2637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6.gif"/><Relationship Id="rId11" Type="http://schemas.openxmlformats.org/officeDocument/2006/relationships/image" Target="../media/image17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 русского язы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СОСТАВ СЛОВ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568920" cy="83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Досвиданья школьный дом"/>
          <p:cNvPicPr/>
          <p:nvPr/>
        </p:nvPicPr>
        <p:blipFill>
          <a:blip r:embed="rId1"/>
          <a:stretch/>
        </p:blipFill>
        <p:spPr>
          <a:xfrm>
            <a:off x="304920" y="1066680"/>
            <a:ext cx="3767040" cy="5596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Звонок"/>
          <p:cNvPicPr/>
          <p:nvPr/>
        </p:nvPicPr>
        <p:blipFill>
          <a:blip r:embed="rId2"/>
          <a:stretch/>
        </p:blipFill>
        <p:spPr>
          <a:xfrm rot="13857600">
            <a:off x="7629120" y="379440"/>
            <a:ext cx="1293840" cy="1293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Точилка"/>
          <p:cNvPicPr/>
          <p:nvPr/>
        </p:nvPicPr>
        <p:blipFill>
          <a:blip r:embed="rId3"/>
          <a:stretch/>
        </p:blipFill>
        <p:spPr>
          <a:xfrm>
            <a:off x="7010280" y="44956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47960" y="-360"/>
            <a:ext cx="4336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Чтобы хорошо писать , надо хорошо знать свой родной язык.»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М. Горь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8375760" cy="34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Kunstler Script"/>
              </a:rPr>
              <a:t>        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Два</a:t>
            </a:r>
            <a:r>
              <a:rPr b="1" i="1" lang="ru-RU" sz="4400" spc="-1" strike="noStrike">
                <a:solidFill>
                  <a:srgbClr val="ff3300"/>
                </a:solidFill>
                <a:latin typeface="Kunstler Script"/>
              </a:rPr>
              <a:t>д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цать   первое  январ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Кла</a:t>
            </a:r>
            <a:r>
              <a:rPr b="1" i="1" lang="ru-RU" sz="4400" spc="-1" strike="noStrike">
                <a:solidFill>
                  <a:srgbClr val="ff3300"/>
                </a:solidFill>
                <a:latin typeface="Kunstler Script"/>
              </a:rPr>
              <a:t>сс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ная  р</a:t>
            </a:r>
            <a:r>
              <a:rPr b="1" i="1" lang="ru-RU" sz="4400" spc="-1" strike="noStrike">
                <a:solidFill>
                  <a:srgbClr val="ff3300"/>
                </a:solidFill>
                <a:latin typeface="Kunstler Script"/>
              </a:rPr>
              <a:t>а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Дети"/>
          <p:cNvPicPr/>
          <p:nvPr/>
        </p:nvPicPr>
        <p:blipFill>
          <a:blip r:embed="rId1"/>
          <a:stretch/>
        </p:blipFill>
        <p:spPr>
          <a:xfrm>
            <a:off x="3962520" y="4038480"/>
            <a:ext cx="5181480" cy="281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книжка"/>
          <p:cNvPicPr/>
          <p:nvPr/>
        </p:nvPicPr>
        <p:blipFill>
          <a:blip r:embed="rId2"/>
          <a:stretch/>
        </p:blipFill>
        <p:spPr>
          <a:xfrm rot="2277600">
            <a:off x="0" y="0"/>
            <a:ext cx="221292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cc"/>
                </a:solidFill>
                <a:uFillTx/>
                <a:latin typeface="Kunstler Script"/>
              </a:rPr>
              <a:t>Чистопис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754380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Kunstler Script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ф  ф  ф   фл  фа  фо  фи  фт  фр  ф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фл</a:t>
            </a:r>
            <a:r>
              <a:rPr b="1" i="1" lang="ru-RU" sz="4000" spc="-1" strike="noStrike">
                <a:solidFill>
                  <a:srgbClr val="ff3300"/>
                </a:solidFill>
                <a:latin typeface="Kunstler Script"/>
              </a:rPr>
              <a:t>а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кон , фильм , финал , фин</a:t>
            </a:r>
            <a:r>
              <a:rPr b="1" i="1" lang="ru-RU" sz="4000" spc="-1" strike="noStrike">
                <a:solidFill>
                  <a:srgbClr val="ff3300"/>
                </a:solidFill>
                <a:latin typeface="Kunstler Script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Kunstler Script"/>
              </a:rPr>
              <a:t>Составьте предложение из сл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пальма ,Африка , на , растут , финики , 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Перо"/>
          <p:cNvPicPr/>
          <p:nvPr/>
        </p:nvPicPr>
        <p:blipFill>
          <a:blip r:embed="rId1"/>
          <a:stretch/>
        </p:blipFill>
        <p:spPr>
          <a:xfrm>
            <a:off x="7543800" y="5357880"/>
            <a:ext cx="160020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163000" cy="106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Проверьте друг друг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852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В Африке на пальме растут финики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Пальма"/>
          <p:cNvPicPr/>
          <p:nvPr/>
        </p:nvPicPr>
        <p:blipFill>
          <a:blip r:embed="rId1"/>
          <a:stretch/>
        </p:blipFill>
        <p:spPr>
          <a:xfrm>
            <a:off x="3657600" y="27432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2743200" y="1676520"/>
            <a:ext cx="380880" cy="533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6019920" y="1676520"/>
            <a:ext cx="75960" cy="7596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6019920" y="1676520"/>
            <a:ext cx="380880" cy="533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7924680" y="1676520"/>
            <a:ext cx="91440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2438280" y="2438280"/>
            <a:ext cx="3812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0436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Какой раздел в русском языке сейчас изучаем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926720"/>
            <a:ext cx="8985240" cy="1273320"/>
          </a:xfrm>
          <a:prstGeom prst="rect">
            <a:avLst/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ЗБРТКСОСТАВПРЕЬДНПРВРПАЛОРИМКЕОРОЛОИКПЕЬТЮВЁСЛОВАР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1981080" y="251460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6324480" y="304812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7" descr="р"/>
          <p:cNvPicPr/>
          <p:nvPr/>
        </p:nvPicPr>
        <p:blipFill>
          <a:blip r:embed="rId1"/>
          <a:stretch/>
        </p:blipFill>
        <p:spPr>
          <a:xfrm>
            <a:off x="6469200" y="3352680"/>
            <a:ext cx="2674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4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86600" cy="83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Выбери правильный отв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09320" y="1447560"/>
            <a:ext cx="6775560" cy="46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.а) Корень – главная значимая часть сл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) Корень – это главная, но не значимая часть сл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6" descr="Перо"/>
          <p:cNvPicPr/>
          <p:nvPr/>
        </p:nvPicPr>
        <p:blipFill>
          <a:blip r:embed="rId1"/>
          <a:stretch/>
        </p:blipFill>
        <p:spPr>
          <a:xfrm>
            <a:off x="228600" y="0"/>
            <a:ext cx="152388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Приставка"/>
          <p:cNvPicPr/>
          <p:nvPr/>
        </p:nvPicPr>
        <p:blipFill>
          <a:blip r:embed="rId2"/>
          <a:stretch/>
        </p:blipFill>
        <p:spPr>
          <a:xfrm>
            <a:off x="304920" y="4191120"/>
            <a:ext cx="1328760" cy="690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Корень"/>
          <p:cNvPicPr/>
          <p:nvPr/>
        </p:nvPicPr>
        <p:blipFill>
          <a:blip r:embed="rId3"/>
          <a:stretch/>
        </p:blipFill>
        <p:spPr>
          <a:xfrm>
            <a:off x="304920" y="2438280"/>
            <a:ext cx="1574640" cy="6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924680" cy="23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а) Суффикс служит для образования   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      новых слов.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 б) Суффикс служит для связи слов в  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     предложени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924680" cy="2133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) Окончание служит для связи слов 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едложе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) Окончание служит для 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овых с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14400" y="4114800"/>
            <a:ext cx="7848720" cy="2653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    Укажите слово, строение которого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тветствует схеме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) книж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) кот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) пов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Суффикс"/>
          <p:cNvPicPr/>
          <p:nvPr/>
        </p:nvPicPr>
        <p:blipFill>
          <a:blip r:embed="rId1"/>
          <a:stretch/>
        </p:blipFill>
        <p:spPr>
          <a:xfrm>
            <a:off x="304920" y="838080"/>
            <a:ext cx="1015920" cy="5158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457200" y="2590920"/>
            <a:ext cx="609480" cy="761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Корень1"/>
          <p:cNvPicPr/>
          <p:nvPr/>
        </p:nvPicPr>
        <p:blipFill>
          <a:blip r:embed="rId2"/>
          <a:stretch/>
        </p:blipFill>
        <p:spPr>
          <a:xfrm>
            <a:off x="1219320" y="5181480"/>
            <a:ext cx="914400" cy="557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Суфф"/>
          <p:cNvPicPr/>
          <p:nvPr/>
        </p:nvPicPr>
        <p:blipFill>
          <a:blip r:embed="rId3"/>
          <a:stretch/>
        </p:blipFill>
        <p:spPr>
          <a:xfrm>
            <a:off x="2057400" y="5257800"/>
            <a:ext cx="876240" cy="466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2971800" y="5334120"/>
            <a:ext cx="4572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0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1"/>
          <p:cNvSpPr/>
          <p:nvPr/>
        </p:nvSpPr>
        <p:spPr>
          <a:xfrm rot="19871400">
            <a:off x="6084360" y="765000"/>
            <a:ext cx="1795680" cy="1603440"/>
          </a:xfrm>
          <a:custGeom>
            <a:avLst/>
            <a:gdLst>
              <a:gd name="textAreaLeft" fmla="*/ 554760 w 1795680"/>
              <a:gd name="textAreaRight" fmla="*/ 1240920 w 1795680"/>
              <a:gd name="textAreaTop" fmla="*/ 612360 h 1603440"/>
              <a:gd name="textAreaBottom" fmla="*/ 1225080 h 1603440"/>
            </a:gdLst>
            <a:ahLst/>
            <a:rect l="textAreaLeft" t="textAreaTop" r="textAreaRight" b="textAreaBottom"/>
            <a:pathLst>
              <a:path w="1795462" h="1603375">
                <a:moveTo>
                  <a:pt x="2" y="612433"/>
                </a:moveTo>
                <a:lnTo>
                  <a:pt x="685809" y="612437"/>
                </a:lnTo>
                <a:lnTo>
                  <a:pt x="897731" y="0"/>
                </a:lnTo>
                <a:lnTo>
                  <a:pt x="1109653" y="612437"/>
                </a:lnTo>
                <a:lnTo>
                  <a:pt x="1795460" y="612433"/>
                </a:lnTo>
                <a:lnTo>
                  <a:pt x="1240628" y="990935"/>
                </a:lnTo>
                <a:lnTo>
                  <a:pt x="1452560" y="1603370"/>
                </a:lnTo>
                <a:lnTo>
                  <a:pt x="897731" y="1224861"/>
                </a:lnTo>
                <a:lnTo>
                  <a:pt x="342902" y="1603370"/>
                </a:lnTo>
                <a:lnTo>
                  <a:pt x="554834" y="990935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15"/>
          <p:cNvSpPr/>
          <p:nvPr/>
        </p:nvSpPr>
        <p:spPr>
          <a:xfrm>
            <a:off x="1042920" y="4797360"/>
            <a:ext cx="936720" cy="863640"/>
          </a:xfrm>
          <a:custGeom>
            <a:avLst/>
            <a:gdLst>
              <a:gd name="textAreaLeft" fmla="*/ 289440 w 936720"/>
              <a:gd name="textAreaRight" fmla="*/ 647280 w 936720"/>
              <a:gd name="textAreaTop" fmla="*/ 329760 h 863640"/>
              <a:gd name="textAreaBottom" fmla="*/ 659880 h 863640"/>
            </a:gdLst>
            <a:ahLst/>
            <a:rect l="textAreaLeft" t="textAreaTop" r="textAreaRight" b="textAreaBottom"/>
            <a:pathLst>
              <a:path w="936625" h="863600">
                <a:moveTo>
                  <a:pt x="1" y="329865"/>
                </a:moveTo>
                <a:lnTo>
                  <a:pt x="357761" y="329867"/>
                </a:lnTo>
                <a:lnTo>
                  <a:pt x="468313" y="0"/>
                </a:lnTo>
                <a:lnTo>
                  <a:pt x="578864" y="329867"/>
                </a:lnTo>
                <a:lnTo>
                  <a:pt x="936624" y="329865"/>
                </a:lnTo>
                <a:lnTo>
                  <a:pt x="647189" y="533731"/>
                </a:lnTo>
                <a:lnTo>
                  <a:pt x="757746" y="863597"/>
                </a:lnTo>
                <a:lnTo>
                  <a:pt x="468313" y="659727"/>
                </a:lnTo>
                <a:lnTo>
                  <a:pt x="178879" y="863597"/>
                </a:lnTo>
                <a:lnTo>
                  <a:pt x="289436" y="533731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7"/>
          <p:cNvSpPr/>
          <p:nvPr/>
        </p:nvSpPr>
        <p:spPr>
          <a:xfrm>
            <a:off x="3635280" y="549360"/>
            <a:ext cx="1224000" cy="1079280"/>
          </a:xfrm>
          <a:custGeom>
            <a:avLst/>
            <a:gdLst>
              <a:gd name="textAreaLeft" fmla="*/ 378000 w 1224000"/>
              <a:gd name="textAreaRight" fmla="*/ 846000 w 122400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3963" h="1079500">
                <a:moveTo>
                  <a:pt x="1" y="412331"/>
                </a:moveTo>
                <a:lnTo>
                  <a:pt x="467515" y="412334"/>
                </a:lnTo>
                <a:lnTo>
                  <a:pt x="611982" y="0"/>
                </a:lnTo>
                <a:lnTo>
                  <a:pt x="756448" y="412334"/>
                </a:lnTo>
                <a:lnTo>
                  <a:pt x="1223962" y="412331"/>
                </a:lnTo>
                <a:lnTo>
                  <a:pt x="845734" y="667164"/>
                </a:lnTo>
                <a:lnTo>
                  <a:pt x="990207" y="1079496"/>
                </a:lnTo>
                <a:lnTo>
                  <a:pt x="611982" y="824659"/>
                </a:lnTo>
                <a:lnTo>
                  <a:pt x="233756" y="1079496"/>
                </a:lnTo>
                <a:lnTo>
                  <a:pt x="378229" y="667164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8"/>
          <p:cNvSpPr/>
          <p:nvPr/>
        </p:nvSpPr>
        <p:spPr>
          <a:xfrm rot="19975200">
            <a:off x="6283440" y="3414240"/>
            <a:ext cx="1731960" cy="1656000"/>
          </a:xfrm>
          <a:custGeom>
            <a:avLst/>
            <a:gdLst>
              <a:gd name="textAreaLeft" fmla="*/ 535320 w 1731960"/>
              <a:gd name="textAreaRight" fmla="*/ 1196640 w 1731960"/>
              <a:gd name="textAreaTop" fmla="*/ 632520 h 1656000"/>
              <a:gd name="textAreaBottom" fmla="*/ 1265040 h 1656000"/>
            </a:gdLst>
            <a:ahLst/>
            <a:rect l="textAreaLeft" t="textAreaTop" r="textAreaRight" b="textAreaBottom"/>
            <a:pathLst>
              <a:path w="1731963" h="1655762">
                <a:moveTo>
                  <a:pt x="2" y="632443"/>
                </a:moveTo>
                <a:lnTo>
                  <a:pt x="661555" y="632448"/>
                </a:lnTo>
                <a:lnTo>
                  <a:pt x="865982" y="0"/>
                </a:lnTo>
                <a:lnTo>
                  <a:pt x="1070408" y="632448"/>
                </a:lnTo>
                <a:lnTo>
                  <a:pt x="1731961" y="632443"/>
                </a:lnTo>
                <a:lnTo>
                  <a:pt x="1196751" y="1023312"/>
                </a:lnTo>
                <a:lnTo>
                  <a:pt x="1401188" y="1655756"/>
                </a:lnTo>
                <a:lnTo>
                  <a:pt x="865982" y="1264881"/>
                </a:lnTo>
                <a:lnTo>
                  <a:pt x="330775" y="1655756"/>
                </a:lnTo>
                <a:lnTo>
                  <a:pt x="535212" y="1023312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9"/>
          <p:cNvSpPr/>
          <p:nvPr/>
        </p:nvSpPr>
        <p:spPr>
          <a:xfrm rot="19975200">
            <a:off x="779040" y="1011240"/>
            <a:ext cx="1587600" cy="1511280"/>
          </a:xfrm>
          <a:custGeom>
            <a:avLst/>
            <a:gdLst>
              <a:gd name="textAreaLeft" fmla="*/ 490680 w 1587600"/>
              <a:gd name="textAreaRight" fmla="*/ 1096920 w 1587600"/>
              <a:gd name="textAreaTop" fmla="*/ 577080 h 1511280"/>
              <a:gd name="textAreaBottom" fmla="*/ 1154520 h 1511280"/>
            </a:gdLst>
            <a:ahLst/>
            <a:rect l="textAreaLeft" t="textAreaTop" r="textAreaRight" b="textAreaBottom"/>
            <a:pathLst>
              <a:path w="1587500" h="1511300">
                <a:moveTo>
                  <a:pt x="2" y="577264"/>
                </a:moveTo>
                <a:lnTo>
                  <a:pt x="606374" y="577268"/>
                </a:lnTo>
                <a:lnTo>
                  <a:pt x="793750" y="0"/>
                </a:lnTo>
                <a:lnTo>
                  <a:pt x="981126" y="577268"/>
                </a:lnTo>
                <a:lnTo>
                  <a:pt x="1587498" y="577264"/>
                </a:lnTo>
                <a:lnTo>
                  <a:pt x="1096930" y="934030"/>
                </a:lnTo>
                <a:lnTo>
                  <a:pt x="1284315" y="1511295"/>
                </a:lnTo>
                <a:lnTo>
                  <a:pt x="793750" y="1154523"/>
                </a:lnTo>
                <a:lnTo>
                  <a:pt x="303185" y="1511295"/>
                </a:lnTo>
                <a:lnTo>
                  <a:pt x="490570" y="93403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20"/>
          <p:cNvSpPr/>
          <p:nvPr/>
        </p:nvSpPr>
        <p:spPr>
          <a:xfrm rot="19975200">
            <a:off x="3566880" y="4804920"/>
            <a:ext cx="1873080" cy="1736640"/>
          </a:xfrm>
          <a:custGeom>
            <a:avLst/>
            <a:gdLst>
              <a:gd name="textAreaLeft" fmla="*/ 578880 w 1873080"/>
              <a:gd name="textAreaRight" fmla="*/ 1294200 w 1873080"/>
              <a:gd name="textAreaTop" fmla="*/ 663120 h 1736640"/>
              <a:gd name="textAreaBottom" fmla="*/ 1326600 h 1736640"/>
            </a:gdLst>
            <a:ahLst/>
            <a:rect l="textAreaLeft" t="textAreaTop" r="textAreaRight" b="textAreaBottom"/>
            <a:pathLst>
              <a:path w="1873250" h="1736725">
                <a:moveTo>
                  <a:pt x="2" y="663368"/>
                </a:moveTo>
                <a:lnTo>
                  <a:pt x="715522" y="663373"/>
                </a:lnTo>
                <a:lnTo>
                  <a:pt x="936625" y="0"/>
                </a:lnTo>
                <a:lnTo>
                  <a:pt x="1157728" y="663373"/>
                </a:lnTo>
                <a:lnTo>
                  <a:pt x="1873248" y="663368"/>
                </a:lnTo>
                <a:lnTo>
                  <a:pt x="1294378" y="1073350"/>
                </a:lnTo>
                <a:lnTo>
                  <a:pt x="1515492" y="1736719"/>
                </a:lnTo>
                <a:lnTo>
                  <a:pt x="936625" y="1326731"/>
                </a:lnTo>
                <a:lnTo>
                  <a:pt x="357758" y="1736719"/>
                </a:lnTo>
                <a:lnTo>
                  <a:pt x="578872" y="107335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1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4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5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9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0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2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3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4" descr=""/>
          <p:cNvPicPr/>
          <p:nvPr/>
        </p:nvPicPr>
        <p:blipFill>
          <a:blip r:embed="rId17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9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3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1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2500"/>
                            </p:stCondLst>
                            <p:childTnLst>
                              <p:par>
                                <p:cTn id="256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500"/>
                            </p:stCondLst>
                            <p:childTnLst>
                              <p:par>
                                <p:cTn id="261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3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8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9000"/>
                            </p:stCondLst>
                            <p:childTnLst>
                              <p:par>
                                <p:cTn id="2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0"/>
                            </p:stCondLst>
                            <p:childTnLst>
                              <p:par>
                                <p:cTn id="2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1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1500"/>
                            </p:stCondLst>
                            <p:childTnLst>
                              <p:par>
                                <p:cTn id="2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25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3000"/>
                            </p:stCondLst>
                            <p:childTnLst>
                              <p:par>
                                <p:cTn id="2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4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45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55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310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8500"/>
                            </p:stCondLst>
                            <p:childTnLst>
                              <p:par>
                                <p:cTn id="3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319" dur="3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1500"/>
                            </p:stCondLst>
                            <p:childTnLst>
                              <p:par>
                                <p:cTn id="3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8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4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55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340" dur="3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75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85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9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500"/>
                            </p:stCondLst>
                            <p:childTnLst>
                              <p:par>
                                <p:cTn id="35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3500"/>
                            </p:stCondLst>
                            <p:childTnLst>
                              <p:par>
                                <p:cTn id="359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6500"/>
                            </p:stCondLst>
                            <p:childTnLst>
                              <p:par>
                                <p:cTn id="3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364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3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9500"/>
                            </p:stCondLst>
                            <p:childTnLst>
                              <p:par>
                                <p:cTn id="36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9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1500"/>
                            </p:stCondLst>
                            <p:childTnLst>
                              <p:par>
                                <p:cTn id="3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2500"/>
                            </p:stCondLst>
                            <p:childTnLst>
                              <p:par>
                                <p:cTn id="3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3500"/>
                            </p:stCondLst>
                            <p:childTnLst>
                              <p:par>
                                <p:cTn id="3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74000"/>
                            </p:stCondLst>
                            <p:childTnLst>
                              <p:par>
                                <p:cTn id="3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2-01-20T14:44:38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