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11.gif" ContentType="image/gif"/>
  <Override PartName="/ppt/media/image9.wmf" ContentType="image/x-wmf"/>
  <Override PartName="/ppt/media/image5.jpeg" ContentType="image/jpeg"/>
  <Override PartName="/ppt/media/image13.gif" ContentType="image/gif"/>
  <Override PartName="/ppt/media/image4.jpeg" ContentType="image/jpeg"/>
  <Override PartName="/ppt/media/image2.png" ContentType="image/png"/>
  <Override PartName="/ppt/media/image6.wmf" ContentType="image/x-wmf"/>
  <Override PartName="/ppt/media/image24.gif" ContentType="image/gif"/>
  <Override PartName="/ppt/media/image23.jpeg" ContentType="image/jpeg"/>
  <Override PartName="/ppt/media/image3.gif" ContentType="image/gif"/>
  <Override PartName="/ppt/media/image20.gif" ContentType="image/gif"/>
  <Override PartName="/ppt/media/image18.gif" ContentType="image/gif"/>
  <Override PartName="/ppt/media/image22.png" ContentType="image/png"/>
  <Override PartName="/ppt/media/image17.gif" ContentType="image/gif"/>
  <Override PartName="/ppt/media/image21.png" ContentType="image/png"/>
  <Override PartName="/ppt/media/image16.gif" ContentType="image/gif"/>
  <Override PartName="/ppt/media/image15.gif" ContentType="image/gif"/>
  <Override PartName="/ppt/media/image19.gif" ContentType="image/gif"/>
  <Override PartName="/ppt/media/image1.png" ContentType="image/png"/>
  <Override PartName="/ppt/media/image1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6AC7-FA8C-4DB3-8EBF-ED1C07B9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19A-6E35-4BD5-8CCC-0B7A5BB2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C9C-C5E9-40D6-968D-E2BC32C20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645-8754-4461-97B7-F1B9B961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58A4A-E207-4A8F-86A9-84CF5EC7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81554-27BE-4DF3-9C85-0C63DD4B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E348D-8839-462F-919E-79FB41F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6C784-D285-4DA8-AEDD-C20488EE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806EC1-C515-4E43-82D2-426809AE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265C2-FF64-4DCA-8E3D-245D6245E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8E77E-E726-40D2-BA09-D6D5CDCA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50B-90B8-449C-AB60-C1D06350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08CF4F-7D06-4535-B3F0-FCA7C4C9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511D03-7834-4BB8-A54C-A3E28C9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31149-71D1-45FC-BA9C-ED12B49C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74FF6-0024-4A34-A6FB-18C627D4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706DB-2138-47F7-BA2D-86027DF93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913-16D0-4395-9B1C-D3209B57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3098-48FB-431F-B5B5-DBCD4435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5B3-CF47-49CF-82A2-0AEA8A71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F46C-F389-4ADE-A04C-CD6ADE4C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AA3-1F50-4DF4-A4C2-2D39FE69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553C-5D51-4920-AE72-65BDE8C4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C3D-FCFF-454B-BFBC-BCB2950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0876-29F7-4641-8737-F6A239B60B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955800"/>
              <a:gd name="textAreaBottom" fmla="*/ 955800 h 955800"/>
            </a:gdLst>
            <a:ahLst/>
            <a:rect l="textAreaLeft" t="textAreaTop" r="textAreaRight" b="textAreaBottom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>
              <a:gd name="textAreaLeft" fmla="*/ 0 w 1568520"/>
              <a:gd name="textAreaRight" fmla="*/ 1568880 w 1568520"/>
              <a:gd name="textAreaTop" fmla="*/ 0 h 681120"/>
              <a:gd name="textAreaBottom" fmla="*/ 681480 h 681120"/>
            </a:gdLst>
            <a:ahLst/>
            <a:rect l="textAreaLeft" t="textAreaTop" r="textAreaRight" b="textAreaBottom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>
              <a:gd name="textAreaLeft" fmla="*/ 0 w 1522440"/>
              <a:gd name="textAreaRight" fmla="*/ 1522800 w 1522440"/>
              <a:gd name="textAreaTop" fmla="*/ 0 h 6873840"/>
              <a:gd name="textAreaBottom" fmla="*/ 6874200 h 6873840"/>
            </a:gdLst>
            <a:ahLst/>
            <a:rect l="textAreaLeft" t="textAreaTop" r="textAreaRight" b="textAreaBottom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8C3-872A-41DA-B5FE-73EC25B83A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gif"/><Relationship Id="rId8" Type="http://schemas.openxmlformats.org/officeDocument/2006/relationships/image" Target="../media/image14.gif"/><Relationship Id="rId9" Type="http://schemas.openxmlformats.org/officeDocument/2006/relationships/image" Target="../media/image15.gif"/><Relationship Id="rId10" Type="http://schemas.openxmlformats.org/officeDocument/2006/relationships/image" Target="../media/image16.gif"/><Relationship Id="rId11" Type="http://schemas.openxmlformats.org/officeDocument/2006/relationships/image" Target="../media/image17.gif"/><Relationship Id="rId12" Type="http://schemas.openxmlformats.org/officeDocument/2006/relationships/image" Target="../media/image18.gif"/><Relationship Id="rId13" Type="http://schemas.openxmlformats.org/officeDocument/2006/relationships/image" Target="../media/image18.gif"/><Relationship Id="rId14" Type="http://schemas.openxmlformats.org/officeDocument/2006/relationships/image" Target="../media/image18.gif"/><Relationship Id="rId15" Type="http://schemas.openxmlformats.org/officeDocument/2006/relationships/image" Target="../media/image19.gif"/><Relationship Id="rId16" Type="http://schemas.openxmlformats.org/officeDocument/2006/relationships/image" Target="../media/image20.gif"/><Relationship Id="rId17" Type="http://schemas.openxmlformats.org/officeDocument/2006/relationships/image" Target="../media/image21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русского язы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СОСТАВ СЛОВ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56892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Досвиданья школьный дом"/>
          <p:cNvPicPr/>
          <p:nvPr/>
        </p:nvPicPr>
        <p:blipFill>
          <a:blip r:embed="rId1"/>
          <a:stretch/>
        </p:blipFill>
        <p:spPr>
          <a:xfrm>
            <a:off x="304920" y="1066680"/>
            <a:ext cx="3767040" cy="559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Звонок"/>
          <p:cNvPicPr/>
          <p:nvPr/>
        </p:nvPicPr>
        <p:blipFill>
          <a:blip r:embed="rId2"/>
          <a:stretch/>
        </p:blipFill>
        <p:spPr>
          <a:xfrm rot="13857600">
            <a:off x="7629120" y="37944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Точилка"/>
          <p:cNvPicPr/>
          <p:nvPr/>
        </p:nvPicPr>
        <p:blipFill>
          <a:blip r:embed="rId3"/>
          <a:stretch/>
        </p:blipFill>
        <p:spPr>
          <a:xfrm>
            <a:off x="7010280" y="4495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7960" y="-360"/>
            <a:ext cx="4336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Чтобы хорошо писать , надо хорошо знать свой родной язык.»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           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8375760" cy="34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Kunstler Script"/>
              </a:rPr>
              <a:t>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Дв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д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цать   первое  январ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Кла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сс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ная  р</a:t>
            </a:r>
            <a:r>
              <a:rPr b="1" i="1" lang="ru-RU" sz="44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400" spc="-1" strike="noStrike">
                <a:solidFill>
                  <a:srgbClr val="000000"/>
                </a:solidFill>
                <a:latin typeface="Kunstler Script"/>
              </a:rPr>
              <a:t>бо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Дети"/>
          <p:cNvPicPr/>
          <p:nvPr/>
        </p:nvPicPr>
        <p:blipFill>
          <a:blip r:embed="rId1"/>
          <a:stretch/>
        </p:blipFill>
        <p:spPr>
          <a:xfrm>
            <a:off x="3962520" y="4038480"/>
            <a:ext cx="5181480" cy="2819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книжка"/>
          <p:cNvPicPr/>
          <p:nvPr/>
        </p:nvPicPr>
        <p:blipFill>
          <a:blip r:embed="rId2"/>
          <a:stretch/>
        </p:blipFill>
        <p:spPr>
          <a:xfrm rot="2277600">
            <a:off x="0" y="0"/>
            <a:ext cx="22129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cc"/>
                </a:solidFill>
                <a:uFillTx/>
                <a:latin typeface="Kunstler Script"/>
              </a:rPr>
              <a:t>Чистопис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828440"/>
            <a:ext cx="75438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  ф  ф   фл  фа  фо  фи  фт  фр  ф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фл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а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он , фильм , финал , фин</a:t>
            </a:r>
            <a:r>
              <a:rPr b="1" i="1" lang="ru-RU" sz="4000" spc="-1" strike="noStrike">
                <a:solidFill>
                  <a:srgbClr val="ff3300"/>
                </a:solidFill>
                <a:latin typeface="Kunstler Script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Kunstler Script"/>
              </a:rPr>
              <a:t>Составьте предложение из сл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Kunstler Script"/>
              </a:rPr>
              <a:t>пальма ,Африка , на , растут , финики ,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Перо"/>
          <p:cNvPicPr/>
          <p:nvPr/>
        </p:nvPicPr>
        <p:blipFill>
          <a:blip r:embed="rId1"/>
          <a:stretch/>
        </p:blipFill>
        <p:spPr>
          <a:xfrm>
            <a:off x="7543800" y="5357880"/>
            <a:ext cx="1600200" cy="15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163000" cy="106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Arial"/>
              </a:rPr>
              <a:t>Проверьте друг друг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852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В Африке на пальме растут финики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Пальма"/>
          <p:cNvPicPr/>
          <p:nvPr/>
        </p:nvPicPr>
        <p:blipFill>
          <a:blip r:embed="rId1"/>
          <a:stretch/>
        </p:blipFill>
        <p:spPr>
          <a:xfrm>
            <a:off x="3657600" y="27432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274320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6019920" y="1676520"/>
            <a:ext cx="75960" cy="75960"/>
          </a:xfrm>
          <a:prstGeom prst="rect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6019920" y="1676520"/>
            <a:ext cx="380880" cy="533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7924680" y="1676520"/>
            <a:ext cx="914400" cy="609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2438280" y="2438280"/>
            <a:ext cx="381240" cy="609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0436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Какой раздел в русском языке сейчас изучаем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926720"/>
            <a:ext cx="8985240" cy="1273320"/>
          </a:xfrm>
          <a:prstGeom prst="rect">
            <a:avLst/>
          </a:prstGeom>
          <a:solidFill>
            <a:srgbClr val="0000cc"/>
          </a:solidFill>
          <a:ln w="381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ЗБРТКСОСТАВПРЕЬДНПРВРПАЛОРИМКЕОРОЛОИКПЕЬТЮВЁСЛОВАР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1981080" y="2514600"/>
            <a:ext cx="15242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6"/>
          <p:cNvSpPr/>
          <p:nvPr/>
        </p:nvSpPr>
        <p:spPr>
          <a:xfrm>
            <a:off x="6324480" y="3048120"/>
            <a:ext cx="1600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7" descr="р"/>
          <p:cNvPicPr/>
          <p:nvPr/>
        </p:nvPicPr>
        <p:blipFill>
          <a:blip r:embed="rId1"/>
          <a:stretch/>
        </p:blipFill>
        <p:spPr>
          <a:xfrm>
            <a:off x="6469200" y="3352680"/>
            <a:ext cx="2674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86600" cy="836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Выбери правильный отве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447560"/>
            <a:ext cx="677556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1.а) Корень – главная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б) Корень – это главная, но не значимая часть сло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6" descr="Перо"/>
          <p:cNvPicPr/>
          <p:nvPr/>
        </p:nvPicPr>
        <p:blipFill>
          <a:blip r:embed="rId1"/>
          <a:stretch/>
        </p:blipFill>
        <p:spPr>
          <a:xfrm>
            <a:off x="228600" y="0"/>
            <a:ext cx="1523880" cy="142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Приставка"/>
          <p:cNvPicPr/>
          <p:nvPr/>
        </p:nvPicPr>
        <p:blipFill>
          <a:blip r:embed="rId2"/>
          <a:stretch/>
        </p:blipFill>
        <p:spPr>
          <a:xfrm>
            <a:off x="304920" y="4191120"/>
            <a:ext cx="1328760" cy="690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Корень"/>
          <p:cNvPicPr/>
          <p:nvPr/>
        </p:nvPicPr>
        <p:blipFill>
          <a:blip r:embed="rId3"/>
          <a:stretch/>
        </p:blipFill>
        <p:spPr>
          <a:xfrm>
            <a:off x="304920" y="2438280"/>
            <a:ext cx="1574640" cy="6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924680" cy="236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2.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а) Суффикс служит для образования 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 новых слов.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б) Суффикс служит для связи слов в   </a:t>
            </a: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        предложени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2133720"/>
            <a:ext cx="7924680" cy="2133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) Окончание служит для связи слов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едложе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б) Окончание служит для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новых с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914400" y="4114800"/>
            <a:ext cx="7848720" cy="2653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    Укажите слово, строение которого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тветствует схеме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ниж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коти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) пова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Суффикс"/>
          <p:cNvPicPr/>
          <p:nvPr/>
        </p:nvPicPr>
        <p:blipFill>
          <a:blip r:embed="rId1"/>
          <a:stretch/>
        </p:blipFill>
        <p:spPr>
          <a:xfrm>
            <a:off x="304920" y="838080"/>
            <a:ext cx="1015920" cy="5158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57200" y="2590920"/>
            <a:ext cx="609480" cy="7617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Корень1"/>
          <p:cNvPicPr/>
          <p:nvPr/>
        </p:nvPicPr>
        <p:blipFill>
          <a:blip r:embed="rId2"/>
          <a:stretch/>
        </p:blipFill>
        <p:spPr>
          <a:xfrm>
            <a:off x="1219320" y="5181480"/>
            <a:ext cx="914400" cy="557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Суфф"/>
          <p:cNvPicPr/>
          <p:nvPr/>
        </p:nvPicPr>
        <p:blipFill>
          <a:blip r:embed="rId3"/>
          <a:stretch/>
        </p:blipFill>
        <p:spPr>
          <a:xfrm>
            <a:off x="2057400" y="5257800"/>
            <a:ext cx="876240" cy="466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2971800" y="5334120"/>
            <a:ext cx="457200" cy="304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black43"/>
          <p:cNvPicPr/>
          <p:nvPr/>
        </p:nvPicPr>
        <p:blipFill>
          <a:blip r:embed="rId1"/>
          <a:stretch/>
        </p:blipFill>
        <p:spPr>
          <a:xfrm>
            <a:off x="0" y="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black43"/>
          <p:cNvPicPr/>
          <p:nvPr/>
        </p:nvPicPr>
        <p:blipFill>
          <a:blip r:embed="rId2"/>
          <a:stretch/>
        </p:blipFill>
        <p:spPr>
          <a:xfrm>
            <a:off x="4356000" y="0"/>
            <a:ext cx="4788000" cy="3557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black43"/>
          <p:cNvPicPr/>
          <p:nvPr/>
        </p:nvPicPr>
        <p:blipFill>
          <a:blip r:embed="rId3"/>
          <a:stretch/>
        </p:blipFill>
        <p:spPr>
          <a:xfrm>
            <a:off x="0" y="3300480"/>
            <a:ext cx="4572000" cy="3557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black43"/>
          <p:cNvPicPr/>
          <p:nvPr/>
        </p:nvPicPr>
        <p:blipFill>
          <a:blip r:embed="rId4"/>
          <a:stretch/>
        </p:blipFill>
        <p:spPr>
          <a:xfrm>
            <a:off x="4356000" y="3300480"/>
            <a:ext cx="4788000" cy="35575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0"/>
          <p:cNvSpPr/>
          <p:nvPr/>
        </p:nvSpPr>
        <p:spPr>
          <a:xfrm rot="19146000">
            <a:off x="2987280" y="1989000"/>
            <a:ext cx="3384720" cy="3314880"/>
          </a:xfrm>
          <a:custGeom>
            <a:avLst/>
            <a:gdLst>
              <a:gd name="textAreaLeft" fmla="*/ 1417320 w 3384720"/>
              <a:gd name="textAreaRight" fmla="*/ 1967400 w 3384720"/>
              <a:gd name="textAreaTop" fmla="*/ 1388160 h 3314880"/>
              <a:gd name="textAreaBottom" fmla="*/ 1926720 h 3314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3276720" y="2060640"/>
            <a:ext cx="2736720" cy="2954160"/>
          </a:xfrm>
          <a:custGeom>
            <a:avLst/>
            <a:gdLst>
              <a:gd name="textAreaLeft" fmla="*/ 1145880 w 2736720"/>
              <a:gd name="textAreaRight" fmla="*/ 1590840 w 2736720"/>
              <a:gd name="textAreaTop" fmla="*/ 1236960 h 2954160"/>
              <a:gd name="textAreaBottom" fmla="*/ 1717200 h 2954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046" y="9046"/>
                </a:lnTo>
                <a:lnTo>
                  <a:pt x="10800" y="0"/>
                </a:lnTo>
                <a:lnTo>
                  <a:pt x="12554" y="9046"/>
                </a:lnTo>
                <a:lnTo>
                  <a:pt x="21600" y="10800"/>
                </a:lnTo>
                <a:lnTo>
                  <a:pt x="12554" y="12554"/>
                </a:lnTo>
                <a:lnTo>
                  <a:pt x="10800" y="21600"/>
                </a:lnTo>
                <a:lnTo>
                  <a:pt x="9046" y="1255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1"/>
          <p:cNvSpPr/>
          <p:nvPr/>
        </p:nvSpPr>
        <p:spPr>
          <a:xfrm rot="19871400">
            <a:off x="6084360" y="765000"/>
            <a:ext cx="1795680" cy="1603440"/>
          </a:xfrm>
          <a:custGeom>
            <a:avLst/>
            <a:gdLst>
              <a:gd name="textAreaLeft" fmla="*/ 554760 w 1795680"/>
              <a:gd name="textAreaRight" fmla="*/ 1240920 w 1795680"/>
              <a:gd name="textAreaTop" fmla="*/ 612360 h 1603440"/>
              <a:gd name="textAreaBottom" fmla="*/ 1225080 h 1603440"/>
            </a:gdLst>
            <a:ahLst/>
            <a:rect l="textAreaLeft" t="textAreaTop" r="textAreaRight" b="textAreaBottom"/>
            <a:pathLst>
              <a:path w="1795462" h="1603375">
                <a:moveTo>
                  <a:pt x="2" y="612433"/>
                </a:moveTo>
                <a:lnTo>
                  <a:pt x="685809" y="612437"/>
                </a:lnTo>
                <a:lnTo>
                  <a:pt x="897731" y="0"/>
                </a:lnTo>
                <a:lnTo>
                  <a:pt x="1109653" y="612437"/>
                </a:lnTo>
                <a:lnTo>
                  <a:pt x="1795460" y="612433"/>
                </a:lnTo>
                <a:lnTo>
                  <a:pt x="1240628" y="990935"/>
                </a:lnTo>
                <a:lnTo>
                  <a:pt x="1452560" y="1603370"/>
                </a:lnTo>
                <a:lnTo>
                  <a:pt x="897731" y="1224861"/>
                </a:lnTo>
                <a:lnTo>
                  <a:pt x="342902" y="1603370"/>
                </a:lnTo>
                <a:lnTo>
                  <a:pt x="554834" y="990935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05_moon_meteorit_alh-81005"/>
          <p:cNvPicPr/>
          <p:nvPr/>
        </p:nvPicPr>
        <p:blipFill>
          <a:blip r:embed="rId5"/>
          <a:stretch/>
        </p:blipFill>
        <p:spPr>
          <a:xfrm>
            <a:off x="-1620720" y="0"/>
            <a:ext cx="1404720" cy="1038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3" descr="05_moon_meteorit_alh-81005"/>
          <p:cNvPicPr/>
          <p:nvPr/>
        </p:nvPicPr>
        <p:blipFill>
          <a:blip r:embed="rId6"/>
          <a:stretch/>
        </p:blipFill>
        <p:spPr>
          <a:xfrm>
            <a:off x="9325080" y="0"/>
            <a:ext cx="1404720" cy="907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15"/>
          <p:cNvSpPr/>
          <p:nvPr/>
        </p:nvSpPr>
        <p:spPr>
          <a:xfrm>
            <a:off x="1042920" y="4797360"/>
            <a:ext cx="936720" cy="863640"/>
          </a:xfrm>
          <a:custGeom>
            <a:avLst/>
            <a:gdLst>
              <a:gd name="textAreaLeft" fmla="*/ 289440 w 936720"/>
              <a:gd name="textAreaRight" fmla="*/ 647280 w 936720"/>
              <a:gd name="textAreaTop" fmla="*/ 329760 h 863640"/>
              <a:gd name="textAreaBottom" fmla="*/ 659880 h 863640"/>
            </a:gdLst>
            <a:ahLst/>
            <a:rect l="textAreaLeft" t="textAreaTop" r="textAreaRight" b="textAreaBottom"/>
            <a:pathLst>
              <a:path w="936625" h="863600">
                <a:moveTo>
                  <a:pt x="1" y="329865"/>
                </a:moveTo>
                <a:lnTo>
                  <a:pt x="357761" y="329867"/>
                </a:lnTo>
                <a:lnTo>
                  <a:pt x="468313" y="0"/>
                </a:lnTo>
                <a:lnTo>
                  <a:pt x="578864" y="329867"/>
                </a:lnTo>
                <a:lnTo>
                  <a:pt x="936624" y="329865"/>
                </a:lnTo>
                <a:lnTo>
                  <a:pt x="647189" y="533731"/>
                </a:lnTo>
                <a:lnTo>
                  <a:pt x="757746" y="863597"/>
                </a:lnTo>
                <a:lnTo>
                  <a:pt x="468313" y="659727"/>
                </a:lnTo>
                <a:lnTo>
                  <a:pt x="178879" y="863597"/>
                </a:lnTo>
                <a:lnTo>
                  <a:pt x="289436" y="533731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7"/>
          <p:cNvSpPr/>
          <p:nvPr/>
        </p:nvSpPr>
        <p:spPr>
          <a:xfrm>
            <a:off x="3635280" y="549360"/>
            <a:ext cx="1224000" cy="1079280"/>
          </a:xfrm>
          <a:custGeom>
            <a:avLst/>
            <a:gdLst>
              <a:gd name="textAreaLeft" fmla="*/ 378000 w 1224000"/>
              <a:gd name="textAreaRight" fmla="*/ 846000 w 1224000"/>
              <a:gd name="textAreaTop" fmla="*/ 412200 h 1079280"/>
              <a:gd name="textAreaBottom" fmla="*/ 824760 h 1079280"/>
            </a:gdLst>
            <a:ahLst/>
            <a:rect l="textAreaLeft" t="textAreaTop" r="textAreaRight" b="textAreaBottom"/>
            <a:pathLst>
              <a:path w="1223963" h="1079500">
                <a:moveTo>
                  <a:pt x="1" y="412331"/>
                </a:moveTo>
                <a:lnTo>
                  <a:pt x="467515" y="412334"/>
                </a:lnTo>
                <a:lnTo>
                  <a:pt x="611982" y="0"/>
                </a:lnTo>
                <a:lnTo>
                  <a:pt x="756448" y="412334"/>
                </a:lnTo>
                <a:lnTo>
                  <a:pt x="1223962" y="412331"/>
                </a:lnTo>
                <a:lnTo>
                  <a:pt x="845734" y="667164"/>
                </a:lnTo>
                <a:lnTo>
                  <a:pt x="990207" y="1079496"/>
                </a:lnTo>
                <a:lnTo>
                  <a:pt x="611982" y="824659"/>
                </a:lnTo>
                <a:lnTo>
                  <a:pt x="233756" y="1079496"/>
                </a:lnTo>
                <a:lnTo>
                  <a:pt x="378229" y="667164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8"/>
          <p:cNvSpPr/>
          <p:nvPr/>
        </p:nvSpPr>
        <p:spPr>
          <a:xfrm rot="19975200">
            <a:off x="6283440" y="3414240"/>
            <a:ext cx="1731960" cy="1656000"/>
          </a:xfrm>
          <a:custGeom>
            <a:avLst/>
            <a:gdLst>
              <a:gd name="textAreaLeft" fmla="*/ 535320 w 1731960"/>
              <a:gd name="textAreaRight" fmla="*/ 1196640 w 1731960"/>
              <a:gd name="textAreaTop" fmla="*/ 632520 h 1656000"/>
              <a:gd name="textAreaBottom" fmla="*/ 1265040 h 1656000"/>
            </a:gdLst>
            <a:ahLst/>
            <a:rect l="textAreaLeft" t="textAreaTop" r="textAreaRight" b="textAreaBottom"/>
            <a:pathLst>
              <a:path w="1731963" h="1655762">
                <a:moveTo>
                  <a:pt x="2" y="632443"/>
                </a:moveTo>
                <a:lnTo>
                  <a:pt x="661555" y="632448"/>
                </a:lnTo>
                <a:lnTo>
                  <a:pt x="865982" y="0"/>
                </a:lnTo>
                <a:lnTo>
                  <a:pt x="1070408" y="632448"/>
                </a:lnTo>
                <a:lnTo>
                  <a:pt x="1731961" y="632443"/>
                </a:lnTo>
                <a:lnTo>
                  <a:pt x="1196751" y="1023312"/>
                </a:lnTo>
                <a:lnTo>
                  <a:pt x="1401188" y="1655756"/>
                </a:lnTo>
                <a:lnTo>
                  <a:pt x="865982" y="1264881"/>
                </a:lnTo>
                <a:lnTo>
                  <a:pt x="330775" y="1655756"/>
                </a:lnTo>
                <a:lnTo>
                  <a:pt x="535212" y="1023312"/>
                </a:lnTo>
                <a:close/>
              </a:path>
            </a:pathLst>
          </a:custGeom>
          <a:gradFill rotWithShape="0">
            <a:gsLst>
              <a:gs pos="0">
                <a:srgbClr val="ff0066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9"/>
          <p:cNvSpPr/>
          <p:nvPr/>
        </p:nvSpPr>
        <p:spPr>
          <a:xfrm rot="19975200">
            <a:off x="779040" y="1011240"/>
            <a:ext cx="1587600" cy="1511280"/>
          </a:xfrm>
          <a:custGeom>
            <a:avLst/>
            <a:gdLst>
              <a:gd name="textAreaLeft" fmla="*/ 490680 w 1587600"/>
              <a:gd name="textAreaRight" fmla="*/ 1096920 w 1587600"/>
              <a:gd name="textAreaTop" fmla="*/ 577080 h 1511280"/>
              <a:gd name="textAreaBottom" fmla="*/ 1154520 h 1511280"/>
            </a:gdLst>
            <a:ahLst/>
            <a:rect l="textAreaLeft" t="textAreaTop" r="textAreaRight" b="textAreaBottom"/>
            <a:pathLst>
              <a:path w="1587500" h="1511300">
                <a:moveTo>
                  <a:pt x="2" y="577264"/>
                </a:moveTo>
                <a:lnTo>
                  <a:pt x="606374" y="577268"/>
                </a:lnTo>
                <a:lnTo>
                  <a:pt x="793750" y="0"/>
                </a:lnTo>
                <a:lnTo>
                  <a:pt x="981126" y="577268"/>
                </a:lnTo>
                <a:lnTo>
                  <a:pt x="1587498" y="577264"/>
                </a:lnTo>
                <a:lnTo>
                  <a:pt x="1096930" y="934030"/>
                </a:lnTo>
                <a:lnTo>
                  <a:pt x="1284315" y="1511295"/>
                </a:lnTo>
                <a:lnTo>
                  <a:pt x="793750" y="1154523"/>
                </a:lnTo>
                <a:lnTo>
                  <a:pt x="303185" y="1511295"/>
                </a:lnTo>
                <a:lnTo>
                  <a:pt x="490570" y="934030"/>
                </a:lnTo>
                <a:close/>
              </a:path>
            </a:pathLst>
          </a:custGeom>
          <a:gradFill rotWithShape="0">
            <a:gsLst>
              <a:gs pos="0">
                <a:srgbClr val="990099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20"/>
          <p:cNvSpPr/>
          <p:nvPr/>
        </p:nvSpPr>
        <p:spPr>
          <a:xfrm rot="19975200">
            <a:off x="3566880" y="4804920"/>
            <a:ext cx="1873080" cy="1736640"/>
          </a:xfrm>
          <a:custGeom>
            <a:avLst/>
            <a:gdLst>
              <a:gd name="textAreaLeft" fmla="*/ 578880 w 1873080"/>
              <a:gd name="textAreaRight" fmla="*/ 1294200 w 1873080"/>
              <a:gd name="textAreaTop" fmla="*/ 663120 h 1736640"/>
              <a:gd name="textAreaBottom" fmla="*/ 1326600 h 1736640"/>
            </a:gdLst>
            <a:ahLst/>
            <a:rect l="textAreaLeft" t="textAreaTop" r="textAreaRight" b="textAreaBottom"/>
            <a:pathLst>
              <a:path w="1873250" h="1736725">
                <a:moveTo>
                  <a:pt x="2" y="663368"/>
                </a:moveTo>
                <a:lnTo>
                  <a:pt x="715522" y="663373"/>
                </a:lnTo>
                <a:lnTo>
                  <a:pt x="936625" y="0"/>
                </a:lnTo>
                <a:lnTo>
                  <a:pt x="1157728" y="663373"/>
                </a:lnTo>
                <a:lnTo>
                  <a:pt x="1873248" y="663368"/>
                </a:lnTo>
                <a:lnTo>
                  <a:pt x="1294378" y="1073350"/>
                </a:lnTo>
                <a:lnTo>
                  <a:pt x="1515492" y="1736719"/>
                </a:lnTo>
                <a:lnTo>
                  <a:pt x="936625" y="1326731"/>
                </a:lnTo>
                <a:lnTo>
                  <a:pt x="357758" y="1736719"/>
                </a:lnTo>
                <a:lnTo>
                  <a:pt x="578872" y="107335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21" descr="earth"/>
          <p:cNvPicPr/>
          <p:nvPr/>
        </p:nvPicPr>
        <p:blipFill>
          <a:blip r:embed="rId7"/>
          <a:stretch/>
        </p:blipFill>
        <p:spPr>
          <a:xfrm>
            <a:off x="2771640" y="407664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2" descr="42"/>
          <p:cNvPicPr/>
          <p:nvPr/>
        </p:nvPicPr>
        <p:blipFill>
          <a:blip r:embed="rId8"/>
          <a:stretch/>
        </p:blipFill>
        <p:spPr>
          <a:xfrm>
            <a:off x="4788000" y="386064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3" descr="mars"/>
          <p:cNvPicPr/>
          <p:nvPr/>
        </p:nvPicPr>
        <p:blipFill>
          <a:blip r:embed="rId9"/>
          <a:stretch/>
        </p:blipFill>
        <p:spPr>
          <a:xfrm>
            <a:off x="2771640" y="2205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4" descr="112"/>
          <p:cNvPicPr/>
          <p:nvPr/>
        </p:nvPicPr>
        <p:blipFill>
          <a:blip r:embed="rId10"/>
          <a:stretch/>
        </p:blipFill>
        <p:spPr>
          <a:xfrm>
            <a:off x="7236000" y="3213000"/>
            <a:ext cx="10792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5" descr="upiter"/>
          <p:cNvPicPr/>
          <p:nvPr/>
        </p:nvPicPr>
        <p:blipFill>
          <a:blip r:embed="rId11"/>
          <a:stretch/>
        </p:blipFill>
        <p:spPr>
          <a:xfrm>
            <a:off x="2124000" y="708120"/>
            <a:ext cx="935280" cy="4982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r4"/>
          <p:cNvPicPr/>
          <p:nvPr/>
        </p:nvPicPr>
        <p:blipFill>
          <a:blip r:embed="rId12"/>
          <a:stretch/>
        </p:blipFill>
        <p:spPr>
          <a:xfrm rot="16200000">
            <a:off x="-33120" y="5857200"/>
            <a:ext cx="1428840" cy="571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9" descr="r4"/>
          <p:cNvPicPr/>
          <p:nvPr/>
        </p:nvPicPr>
        <p:blipFill>
          <a:blip r:embed="rId13"/>
          <a:stretch/>
        </p:blipFill>
        <p:spPr>
          <a:xfrm>
            <a:off x="395280" y="1890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0" descr="r4"/>
          <p:cNvPicPr/>
          <p:nvPr/>
        </p:nvPicPr>
        <p:blipFill>
          <a:blip r:embed="rId14"/>
          <a:stretch/>
        </p:blipFill>
        <p:spPr>
          <a:xfrm rot="5400000">
            <a:off x="7887960" y="617400"/>
            <a:ext cx="1428840" cy="57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2" descr="r7"/>
          <p:cNvPicPr/>
          <p:nvPr/>
        </p:nvPicPr>
        <p:blipFill>
          <a:blip r:embed="rId15"/>
          <a:stretch/>
        </p:blipFill>
        <p:spPr>
          <a:xfrm rot="19503600">
            <a:off x="4211280" y="1700280"/>
            <a:ext cx="1657440" cy="11048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3" descr="56r2"/>
          <p:cNvPicPr/>
          <p:nvPr/>
        </p:nvPicPr>
        <p:blipFill>
          <a:blip r:embed="rId16"/>
          <a:stretch/>
        </p:blipFill>
        <p:spPr>
          <a:xfrm>
            <a:off x="-1371600" y="0"/>
            <a:ext cx="1371600" cy="495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4" descr=""/>
          <p:cNvPicPr/>
          <p:nvPr/>
        </p:nvPicPr>
        <p:blipFill>
          <a:blip r:embed="rId17"/>
          <a:stretch/>
        </p:blipFill>
        <p:spPr>
          <a:xfrm>
            <a:off x="7596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22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000"/>
                            </p:stCondLst>
                            <p:childTnLst>
                              <p:par>
                                <p:cTn id="2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5" dur="3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239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2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24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3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2500"/>
                            </p:stCondLst>
                            <p:childTnLst>
                              <p:par>
                                <p:cTn id="252" nodeType="after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30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257" nodeType="after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25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30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4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55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0.00035 -0.80532 E">
                                      <p:cBhvr>
                                        <p:cTn id="306" dur="3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8500"/>
                            </p:stCondLst>
                            <p:childTnLst>
                              <p:par>
                                <p:cTn id="30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0.80382 -0.01018 E">
                                      <p:cBhvr>
                                        <p:cTn id="315" dur="3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1500"/>
                            </p:stCondLst>
                            <p:childTnLst>
                              <p:par>
                                <p:cTn id="3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4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4500"/>
                            </p:stCondLst>
                            <p:childTnLst>
                              <p:par>
                                <p:cTn id="3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5500"/>
                            </p:stCondLst>
                            <p:childTnLst>
                              <p:par>
                                <p:cTn id="3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path" presetID="1" repeatCount="4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1991 C 0.02951 0.0875 -0.01042 0.2169 -0.09566 0.26829 C -0.1809 0.32084 -0.28021 0.27384 -0.31649 0.16667 C -0.35295 0.05926 -0.31319 -0.06944 -0.2276 -0.12106 C -0.14236 -0.17245 -0.0434 -0.12731 -0.00677 -0.01991 Z">
                                      <p:cBhvr>
                                        <p:cTn id="336" dur="3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7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85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950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500"/>
                            </p:stCondLst>
                            <p:childTnLst>
                              <p:par>
                                <p:cTn id="3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3500"/>
                            </p:stCondLst>
                            <p:childTnLst>
                              <p:par>
                                <p:cTn id="35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6500"/>
                            </p:stCondLst>
                            <p:childTnLst>
                              <p:par>
                                <p:cTn id="3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4.44444E-006 L -0.13385 0.30463 E">
                                      <p:cBhvr>
                                        <p:cTn id="360" dur="3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2" dur="3000" fill="hold"/>
                                        <p:tgtEl>
                                          <p:spTgt spid="1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500"/>
                            </p:stCondLst>
                            <p:childTnLst>
                              <p:par>
                                <p:cTn id="3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5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71500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72500"/>
                            </p:stCondLst>
                            <p:childTnLst>
                              <p:par>
                                <p:cTn id="37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7350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4000"/>
                            </p:stCondLst>
                            <p:childTnLst>
                              <p:par>
                                <p:cTn id="3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2-01-20T14:44:38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