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gif" ContentType="image/gif"/>
  <Override PartName="/ppt/media/image9.wmf" ContentType="image/x-wmf"/>
  <Override PartName="/ppt/media/image5.jpeg" ContentType="image/jpeg"/>
  <Override PartName="/ppt/media/image13.gif" ContentType="image/gif"/>
  <Override PartName="/ppt/media/image4.jpeg" ContentType="image/jpeg"/>
  <Override PartName="/ppt/media/image2.png" ContentType="image/png"/>
  <Override PartName="/ppt/media/image6.wmf" ContentType="image/x-wmf"/>
  <Override PartName="/ppt/media/image24.gif" ContentType="image/gif"/>
  <Override PartName="/ppt/media/image23.jpeg" ContentType="image/jpeg"/>
  <Override PartName="/ppt/media/image3.gif" ContentType="image/gif"/>
  <Override PartName="/ppt/media/image20.gif" ContentType="image/gif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15.gif" ContentType="image/gif"/>
  <Override PartName="/ppt/media/image19.gif" ContentType="image/gif"/>
  <Override PartName="/ppt/media/image1.png" ContentType="image/png"/>
  <Override PartName="/ppt/media/image1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820-CC2D-424E-8798-08971F5E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B3F-3203-4745-8AF7-69D6C283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4AA-8BA8-4844-9AF1-7D44D8CA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829-9640-42ED-A781-20AE8776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DAA85-D0CA-48FF-9CD7-083238E5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0FF59-EE61-4C07-982B-D235CAE5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B1868-BDDF-4498-9535-0C865CCC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B2EB5-538B-4B94-A8E1-EF8FF9FD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A9BDB-BBF6-4749-9D6C-1B4B0C27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E1362-DB21-40B1-89F3-7E2A8AD5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7B088-F251-4B33-9BE4-3BE8C756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DBD-E0EE-45C0-B053-E92BD0EC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2F2A3-00C4-4A98-A054-9424EE0B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C319F-B882-4775-A3C8-82909EA6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7623C-1C98-4B4E-B397-66734CAC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790F9-45C6-4579-9244-4C7A1B91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EC691-0C50-42CE-9BAF-613374BF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A70-60CB-4115-A95F-7ABC849C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404-6F3A-458C-A3DD-5F59B314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CD0-AFCE-432C-9753-BC062F4D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4C3-5B8E-4A93-84AE-485EC680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BA2-A108-432D-90A6-F0D1C00E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A1F-B9BB-4C75-88E3-6D160DA7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85B-64C2-4C30-8E82-806438C3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8D0E-D0A9-4D99-9DEE-EE7825D192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643C-5F10-432E-8446-1D32FCAFF1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gif"/><Relationship Id="rId11" Type="http://schemas.openxmlformats.org/officeDocument/2006/relationships/image" Target="../media/image17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СОСТАВ СЛОВ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568920" cy="83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Досвиданья школьный дом"/>
          <p:cNvPicPr/>
          <p:nvPr/>
        </p:nvPicPr>
        <p:blipFill>
          <a:blip r:embed="rId1"/>
          <a:stretch/>
        </p:blipFill>
        <p:spPr>
          <a:xfrm>
            <a:off x="304920" y="1066680"/>
            <a:ext cx="3767040" cy="5596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Звонок"/>
          <p:cNvPicPr/>
          <p:nvPr/>
        </p:nvPicPr>
        <p:blipFill>
          <a:blip r:embed="rId2"/>
          <a:stretch/>
        </p:blipFill>
        <p:spPr>
          <a:xfrm rot="13857600">
            <a:off x="7629120" y="379440"/>
            <a:ext cx="1293840" cy="1293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Точилка"/>
          <p:cNvPicPr/>
          <p:nvPr/>
        </p:nvPicPr>
        <p:blipFill>
          <a:blip r:embed="rId3"/>
          <a:stretch/>
        </p:blipFill>
        <p:spPr>
          <a:xfrm>
            <a:off x="7010280" y="4495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47960" y="-360"/>
            <a:ext cx="4336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Чтобы хорошо писать , надо хорошо знать свой родной язык.»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8375760" cy="34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Kunstler Script"/>
              </a:rPr>
              <a:t>        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Два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д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цать   первое  январ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Кла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сс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ная  р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а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Дети"/>
          <p:cNvPicPr/>
          <p:nvPr/>
        </p:nvPicPr>
        <p:blipFill>
          <a:blip r:embed="rId1"/>
          <a:stretch/>
        </p:blipFill>
        <p:spPr>
          <a:xfrm>
            <a:off x="3962520" y="4038480"/>
            <a:ext cx="5181480" cy="281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книжка"/>
          <p:cNvPicPr/>
          <p:nvPr/>
        </p:nvPicPr>
        <p:blipFill>
          <a:blip r:embed="rId2"/>
          <a:stretch/>
        </p:blipFill>
        <p:spPr>
          <a:xfrm rot="2277600">
            <a:off x="0" y="0"/>
            <a:ext cx="221292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Kunstler Script"/>
              </a:rPr>
              <a:t>Чистопис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5438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ф  ф  ф   фл  фа  фо  фи  фт  фр  ф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фл</a:t>
            </a:r>
            <a:r>
              <a:rPr b="1" i="1" lang="ru-RU" sz="4000" spc="-1" strike="noStrike">
                <a:solidFill>
                  <a:srgbClr val="ff3300"/>
                </a:solidFill>
                <a:latin typeface="Kunstler Script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кон , фильм , финал , фин</a:t>
            </a:r>
            <a:r>
              <a:rPr b="1" i="1" lang="ru-RU" sz="4000" spc="-1" strike="noStrike">
                <a:solidFill>
                  <a:srgbClr val="ff3300"/>
                </a:solidFill>
                <a:latin typeface="Kunstler Script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Kunstler Script"/>
              </a:rPr>
              <a:t>Составьте предложение из сл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пальма ,Африка , на , растут , финики ,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Перо"/>
          <p:cNvPicPr/>
          <p:nvPr/>
        </p:nvPicPr>
        <p:blipFill>
          <a:blip r:embed="rId1"/>
          <a:stretch/>
        </p:blipFill>
        <p:spPr>
          <a:xfrm>
            <a:off x="7543800" y="5357880"/>
            <a:ext cx="160020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63000" cy="10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Проверьте друг др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85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В Африке на пальме растут финики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Пальма"/>
          <p:cNvPicPr/>
          <p:nvPr/>
        </p:nvPicPr>
        <p:blipFill>
          <a:blip r:embed="rId1"/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2743200" y="1676520"/>
            <a:ext cx="380880" cy="533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6019920" y="1676520"/>
            <a:ext cx="75960" cy="7596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019920" y="1676520"/>
            <a:ext cx="380880" cy="533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7924680" y="1676520"/>
            <a:ext cx="91440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438280" y="2438280"/>
            <a:ext cx="3812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0436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Какой раздел в русском языке сейчас изучаем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926720"/>
            <a:ext cx="8985240" cy="1273320"/>
          </a:xfrm>
          <a:prstGeom prst="rect">
            <a:avLst/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ЗБРТКСОСТАВПРЕЬДНПРВРПАЛОРИМКЕОРОЛОИКПЕЬТЮВЁСЛОВАР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1981080" y="251460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6324480" y="304812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р"/>
          <p:cNvPicPr/>
          <p:nvPr/>
        </p:nvPicPr>
        <p:blipFill>
          <a:blip r:embed="rId1"/>
          <a:stretch/>
        </p:blipFill>
        <p:spPr>
          <a:xfrm>
            <a:off x="6469200" y="3352680"/>
            <a:ext cx="2674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86600" cy="83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ыбери правильный отв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320" y="1447560"/>
            <a:ext cx="6775560" cy="46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а) Корень – главная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) Корень – это главная, но не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Перо"/>
          <p:cNvPicPr/>
          <p:nvPr/>
        </p:nvPicPr>
        <p:blipFill>
          <a:blip r:embed="rId1"/>
          <a:stretch/>
        </p:blipFill>
        <p:spPr>
          <a:xfrm>
            <a:off x="228600" y="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Приставка"/>
          <p:cNvPicPr/>
          <p:nvPr/>
        </p:nvPicPr>
        <p:blipFill>
          <a:blip r:embed="rId2"/>
          <a:stretch/>
        </p:blipFill>
        <p:spPr>
          <a:xfrm>
            <a:off x="304920" y="4191120"/>
            <a:ext cx="1328760" cy="690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Корень"/>
          <p:cNvPicPr/>
          <p:nvPr/>
        </p:nvPicPr>
        <p:blipFill>
          <a:blip r:embed="rId3"/>
          <a:stretch/>
        </p:blipFill>
        <p:spPr>
          <a:xfrm>
            <a:off x="304920" y="2438280"/>
            <a:ext cx="1574640" cy="6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924680" cy="23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а) Суффикс служит для образования   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     новых слов.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б) Суффикс служит для связи слов в  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    предложени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924680" cy="2133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) Окончание служит для связи слов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лож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) Окончание служит для 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овых с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4114800"/>
            <a:ext cx="7848720" cy="2653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    Укажите слово, строение которого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ветствует схем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книж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кот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) пов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Суффикс"/>
          <p:cNvPicPr/>
          <p:nvPr/>
        </p:nvPicPr>
        <p:blipFill>
          <a:blip r:embed="rId1"/>
          <a:stretch/>
        </p:blipFill>
        <p:spPr>
          <a:xfrm>
            <a:off x="304920" y="838080"/>
            <a:ext cx="1015920" cy="515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457200" y="2590920"/>
            <a:ext cx="609480" cy="76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Корень1"/>
          <p:cNvPicPr/>
          <p:nvPr/>
        </p:nvPicPr>
        <p:blipFill>
          <a:blip r:embed="rId2"/>
          <a:stretch/>
        </p:blipFill>
        <p:spPr>
          <a:xfrm>
            <a:off x="1219320" y="5181480"/>
            <a:ext cx="914400" cy="55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Суфф"/>
          <p:cNvPicPr/>
          <p:nvPr/>
        </p:nvPicPr>
        <p:blipFill>
          <a:blip r:embed="rId3"/>
          <a:stretch/>
        </p:blipFill>
        <p:spPr>
          <a:xfrm>
            <a:off x="2057400" y="5257800"/>
            <a:ext cx="876240" cy="466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971800" y="5334120"/>
            <a:ext cx="4572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1"/>
          <p:cNvSpPr/>
          <p:nvPr/>
        </p:nvSpPr>
        <p:spPr>
          <a:xfrm rot="19871400">
            <a:off x="6084360" y="765000"/>
            <a:ext cx="1795680" cy="1603440"/>
          </a:xfrm>
          <a:custGeom>
            <a:avLst/>
            <a:gdLst>
              <a:gd name="textAreaLeft" fmla="*/ 554760 w 1795680"/>
              <a:gd name="textAreaRight" fmla="*/ 1240920 w 1795680"/>
              <a:gd name="textAreaTop" fmla="*/ 612360 h 1603440"/>
              <a:gd name="textAreaBottom" fmla="*/ 1225080 h 1603440"/>
            </a:gdLst>
            <a:ahLst/>
            <a:rect l="textAreaLeft" t="textAreaTop" r="textAreaRight" b="textAreaBottom"/>
            <a:pathLst>
              <a:path w="1795462" h="1603375">
                <a:moveTo>
                  <a:pt x="2" y="612433"/>
                </a:moveTo>
                <a:lnTo>
                  <a:pt x="685809" y="612437"/>
                </a:lnTo>
                <a:lnTo>
                  <a:pt x="897731" y="0"/>
                </a:lnTo>
                <a:lnTo>
                  <a:pt x="1109653" y="612437"/>
                </a:lnTo>
                <a:lnTo>
                  <a:pt x="1795460" y="612433"/>
                </a:lnTo>
                <a:lnTo>
                  <a:pt x="1240628" y="990935"/>
                </a:lnTo>
                <a:lnTo>
                  <a:pt x="1452560" y="1603370"/>
                </a:lnTo>
                <a:lnTo>
                  <a:pt x="897731" y="1224861"/>
                </a:lnTo>
                <a:lnTo>
                  <a:pt x="342902" y="1603370"/>
                </a:lnTo>
                <a:lnTo>
                  <a:pt x="554834" y="990935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5"/>
          <p:cNvSpPr/>
          <p:nvPr/>
        </p:nvSpPr>
        <p:spPr>
          <a:xfrm>
            <a:off x="1042920" y="4797360"/>
            <a:ext cx="936720" cy="863640"/>
          </a:xfrm>
          <a:custGeom>
            <a:avLst/>
            <a:gdLst>
              <a:gd name="textAreaLeft" fmla="*/ 289440 w 936720"/>
              <a:gd name="textAreaRight" fmla="*/ 647280 w 936720"/>
              <a:gd name="textAreaTop" fmla="*/ 329760 h 863640"/>
              <a:gd name="textAreaBottom" fmla="*/ 659880 h 863640"/>
            </a:gdLst>
            <a:ahLst/>
            <a:rect l="textAreaLeft" t="textAreaTop" r="textAreaRight" b="textAreaBottom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1"/>
                </a:lnTo>
                <a:lnTo>
                  <a:pt x="757746" y="863597"/>
                </a:lnTo>
                <a:lnTo>
                  <a:pt x="468313" y="659727"/>
                </a:lnTo>
                <a:lnTo>
                  <a:pt x="178879" y="863597"/>
                </a:lnTo>
                <a:lnTo>
                  <a:pt x="289436" y="533731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3635280" y="549360"/>
            <a:ext cx="1224000" cy="1079280"/>
          </a:xfrm>
          <a:custGeom>
            <a:avLst/>
            <a:gdLst>
              <a:gd name="textAreaLeft" fmla="*/ 378000 w 1224000"/>
              <a:gd name="textAreaRight" fmla="*/ 846000 w 122400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3963" h="1079500">
                <a:moveTo>
                  <a:pt x="1" y="412331"/>
                </a:moveTo>
                <a:lnTo>
                  <a:pt x="467515" y="412334"/>
                </a:lnTo>
                <a:lnTo>
                  <a:pt x="611982" y="0"/>
                </a:lnTo>
                <a:lnTo>
                  <a:pt x="756448" y="412334"/>
                </a:lnTo>
                <a:lnTo>
                  <a:pt x="1223962" y="412331"/>
                </a:lnTo>
                <a:lnTo>
                  <a:pt x="845734" y="667164"/>
                </a:lnTo>
                <a:lnTo>
                  <a:pt x="990207" y="1079496"/>
                </a:lnTo>
                <a:lnTo>
                  <a:pt x="611982" y="824659"/>
                </a:lnTo>
                <a:lnTo>
                  <a:pt x="233756" y="1079496"/>
                </a:lnTo>
                <a:lnTo>
                  <a:pt x="378229" y="667164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8"/>
          <p:cNvSpPr/>
          <p:nvPr/>
        </p:nvSpPr>
        <p:spPr>
          <a:xfrm rot="19975200">
            <a:off x="6283440" y="3414240"/>
            <a:ext cx="1731960" cy="1656000"/>
          </a:xfrm>
          <a:custGeom>
            <a:avLst/>
            <a:gdLst>
              <a:gd name="textAreaLeft" fmla="*/ 535320 w 1731960"/>
              <a:gd name="textAreaRight" fmla="*/ 1196640 w 1731960"/>
              <a:gd name="textAreaTop" fmla="*/ 632520 h 1656000"/>
              <a:gd name="textAreaBottom" fmla="*/ 1265040 h 1656000"/>
            </a:gdLst>
            <a:ahLst/>
            <a:rect l="textAreaLeft" t="textAreaTop" r="textAreaRight" b="textAreaBottom"/>
            <a:pathLst>
              <a:path w="1731963" h="1655762">
                <a:moveTo>
                  <a:pt x="2" y="632443"/>
                </a:moveTo>
                <a:lnTo>
                  <a:pt x="661555" y="632448"/>
                </a:lnTo>
                <a:lnTo>
                  <a:pt x="865982" y="0"/>
                </a:lnTo>
                <a:lnTo>
                  <a:pt x="1070408" y="632448"/>
                </a:lnTo>
                <a:lnTo>
                  <a:pt x="1731961" y="632443"/>
                </a:lnTo>
                <a:lnTo>
                  <a:pt x="1196751" y="1023312"/>
                </a:lnTo>
                <a:lnTo>
                  <a:pt x="1401188" y="1655756"/>
                </a:lnTo>
                <a:lnTo>
                  <a:pt x="865982" y="1264881"/>
                </a:lnTo>
                <a:lnTo>
                  <a:pt x="330775" y="1655756"/>
                </a:lnTo>
                <a:lnTo>
                  <a:pt x="535212" y="1023312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9"/>
          <p:cNvSpPr/>
          <p:nvPr/>
        </p:nvSpPr>
        <p:spPr>
          <a:xfrm rot="19975200">
            <a:off x="779040" y="1011240"/>
            <a:ext cx="1587600" cy="1511280"/>
          </a:xfrm>
          <a:custGeom>
            <a:avLst/>
            <a:gdLst>
              <a:gd name="textAreaLeft" fmla="*/ 490680 w 1587600"/>
              <a:gd name="textAreaRight" fmla="*/ 1096920 w 1587600"/>
              <a:gd name="textAreaTop" fmla="*/ 577080 h 1511280"/>
              <a:gd name="textAreaBottom" fmla="*/ 1154520 h 1511280"/>
            </a:gdLst>
            <a:ahLst/>
            <a:rect l="textAreaLeft" t="textAreaTop" r="textAreaRight" b="textAreaBottom"/>
            <a:pathLst>
              <a:path w="1587500" h="1511300">
                <a:moveTo>
                  <a:pt x="2" y="577264"/>
                </a:moveTo>
                <a:lnTo>
                  <a:pt x="606374" y="577268"/>
                </a:lnTo>
                <a:lnTo>
                  <a:pt x="793750" y="0"/>
                </a:lnTo>
                <a:lnTo>
                  <a:pt x="981126" y="577268"/>
                </a:lnTo>
                <a:lnTo>
                  <a:pt x="1587498" y="577264"/>
                </a:lnTo>
                <a:lnTo>
                  <a:pt x="1096930" y="934030"/>
                </a:lnTo>
                <a:lnTo>
                  <a:pt x="1284315" y="1511295"/>
                </a:lnTo>
                <a:lnTo>
                  <a:pt x="793750" y="1154523"/>
                </a:lnTo>
                <a:lnTo>
                  <a:pt x="303185" y="1511295"/>
                </a:lnTo>
                <a:lnTo>
                  <a:pt x="490570" y="93403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0"/>
          <p:cNvSpPr/>
          <p:nvPr/>
        </p:nvSpPr>
        <p:spPr>
          <a:xfrm rot="19975200">
            <a:off x="3566880" y="4804920"/>
            <a:ext cx="1873080" cy="1736640"/>
          </a:xfrm>
          <a:custGeom>
            <a:avLst/>
            <a:gdLst>
              <a:gd name="textAreaLeft" fmla="*/ 578880 w 1873080"/>
              <a:gd name="textAreaRight" fmla="*/ 1294200 w 1873080"/>
              <a:gd name="textAreaTop" fmla="*/ 663120 h 1736640"/>
              <a:gd name="textAreaBottom" fmla="*/ 1326600 h 1736640"/>
            </a:gdLst>
            <a:ahLst/>
            <a:rect l="textAreaLeft" t="textAreaTop" r="textAreaRight" b="textAreaBottom"/>
            <a:pathLst>
              <a:path w="1873250" h="1736725">
                <a:moveTo>
                  <a:pt x="2" y="663368"/>
                </a:moveTo>
                <a:lnTo>
                  <a:pt x="715522" y="663373"/>
                </a:lnTo>
                <a:lnTo>
                  <a:pt x="936625" y="0"/>
                </a:lnTo>
                <a:lnTo>
                  <a:pt x="1157728" y="663373"/>
                </a:lnTo>
                <a:lnTo>
                  <a:pt x="1873248" y="663368"/>
                </a:lnTo>
                <a:lnTo>
                  <a:pt x="1294378" y="1073350"/>
                </a:lnTo>
                <a:lnTo>
                  <a:pt x="1515492" y="1736719"/>
                </a:lnTo>
                <a:lnTo>
                  <a:pt x="936625" y="1326731"/>
                </a:lnTo>
                <a:lnTo>
                  <a:pt x="357758" y="1736719"/>
                </a:lnTo>
                <a:lnTo>
                  <a:pt x="578872" y="107335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4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2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0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5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0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3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85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9000"/>
                            </p:stCondLst>
                            <p:childTnLst>
                              <p:par>
                                <p:cTn id="2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1500"/>
                            </p:stCondLst>
                            <p:childTnLst>
                              <p:par>
                                <p:cTn id="2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2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4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45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309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8500"/>
                            </p:stCondLst>
                            <p:childTnLst>
                              <p:par>
                                <p:cTn id="3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318" dur="3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5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339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7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85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95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500"/>
                            </p:stCondLst>
                            <p:childTnLst>
                              <p:par>
                                <p:cTn id="35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3500"/>
                            </p:stCondLst>
                            <p:childTnLst>
                              <p:par>
                                <p:cTn id="358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6500"/>
                            </p:stCondLst>
                            <p:childTnLst>
                              <p:par>
                                <p:cTn id="3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363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3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9500"/>
                            </p:stCondLst>
                            <p:childTnLst>
                              <p:par>
                                <p:cTn id="3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71500"/>
                            </p:stCondLst>
                            <p:childTnLst>
                              <p:par>
                                <p:cTn id="3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2500"/>
                            </p:stCondLst>
                            <p:childTnLst>
                              <p:par>
                                <p:cTn id="3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73500"/>
                            </p:stCondLst>
                            <p:childTnLst>
                              <p:par>
                                <p:cTn id="3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4000"/>
                            </p:stCondLst>
                            <p:childTnLst>
                              <p:par>
                                <p:cTn id="3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2-01-20T14:44:38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