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8.wmf" ContentType="image/x-wmf"/>
  <Override PartName="/ppt/media/image7.wmf" ContentType="image/x-wmf"/>
  <Override PartName="/ppt/media/image12.png" ContentType="image/png"/>
  <Override PartName="/ppt/media/image11.gif" ContentType="image/gif"/>
  <Override PartName="/ppt/media/image9.wmf" ContentType="image/x-wmf"/>
  <Override PartName="/ppt/media/image5.jpeg" ContentType="image/jpeg"/>
  <Override PartName="/ppt/media/image13.gif" ContentType="image/gif"/>
  <Override PartName="/ppt/media/image4.jpeg" ContentType="image/jpeg"/>
  <Override PartName="/ppt/media/image2.png" ContentType="image/png"/>
  <Override PartName="/ppt/media/image6.wmf" ContentType="image/x-wmf"/>
  <Override PartName="/ppt/media/image24.gif" ContentType="image/gif"/>
  <Override PartName="/ppt/media/image23.jpeg" ContentType="image/jpeg"/>
  <Override PartName="/ppt/media/image3.gif" ContentType="image/gif"/>
  <Override PartName="/ppt/media/image20.gif" ContentType="image/gif"/>
  <Override PartName="/ppt/media/image18.gif" ContentType="image/gif"/>
  <Override PartName="/ppt/media/image22.png" ContentType="image/png"/>
  <Override PartName="/ppt/media/image17.gif" ContentType="image/gif"/>
  <Override PartName="/ppt/media/image21.png" ContentType="image/png"/>
  <Override PartName="/ppt/media/image16.gif" ContentType="image/gif"/>
  <Override PartName="/ppt/media/image15.gif" ContentType="image/gif"/>
  <Override PartName="/ppt/media/image19.gif" ContentType="image/gif"/>
  <Override PartName="/ppt/media/image1.png" ContentType="image/png"/>
  <Override PartName="/ppt/media/image1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AB93-8EC5-47AF-8388-2D993858C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9C39-4364-4C11-A87E-90A2D90A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7E0A-02F4-44FB-BEE5-E2C44D075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3F77-6FDE-4889-8DA7-A1F75A212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B91AB-75DB-49CD-A16D-DC0BEE8F9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67AA79-EF9B-4C1D-8E00-08C6AD2B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89D45-B172-4286-925B-0ABCF5A5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987F63-0FDA-4C84-AE4E-F6B35587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F092D-877A-4DE8-A4A7-DE2AE0F1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43617-811E-4AEE-9436-017DA949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42508-0A89-4BA6-BEF7-89224CDE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A7B1-6C95-4653-80DA-DCBC534A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599485-2D3B-41F1-8142-21D17799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18D3B-78AD-453C-9FCC-CF6FF4DA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A8F61-C969-4C95-B18C-C3692CA3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B833B-065B-4A96-ACA5-35466E0CB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CA2E4-FD90-4C33-B746-4A67A6FF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0263-A9D1-4877-93F7-43B3803D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50B9-9A8D-418A-A28E-B386281B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F2A4-A5AC-4366-9D9D-08E0037B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B15D-1634-4F04-A576-16C1F9E4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1668-362A-4467-BA70-07383FD0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E1B9-811F-452D-9B5E-C2C564C7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0A41-4132-4BD5-A229-DF64FA8C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9335-64D3-40EB-B395-A3401002D3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DA73-AA17-4E3C-AFDA-D1FF447017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image" Target="../media/image15.gif"/><Relationship Id="rId10" Type="http://schemas.openxmlformats.org/officeDocument/2006/relationships/image" Target="../media/image16.gif"/><Relationship Id="rId11" Type="http://schemas.openxmlformats.org/officeDocument/2006/relationships/image" Target="../media/image17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9.gif"/><Relationship Id="rId16" Type="http://schemas.openxmlformats.org/officeDocument/2006/relationships/image" Target="../media/image20.gif"/><Relationship Id="rId17" Type="http://schemas.openxmlformats.org/officeDocument/2006/relationships/image" Target="../media/image21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рок русского язы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СОСТАВ СЛОВ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568920" cy="836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5" descr="Досвиданья школьный дом"/>
          <p:cNvPicPr/>
          <p:nvPr/>
        </p:nvPicPr>
        <p:blipFill>
          <a:blip r:embed="rId1"/>
          <a:stretch/>
        </p:blipFill>
        <p:spPr>
          <a:xfrm>
            <a:off x="304920" y="1066680"/>
            <a:ext cx="3767040" cy="5596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Звонок"/>
          <p:cNvPicPr/>
          <p:nvPr/>
        </p:nvPicPr>
        <p:blipFill>
          <a:blip r:embed="rId2"/>
          <a:stretch/>
        </p:blipFill>
        <p:spPr>
          <a:xfrm rot="13857600">
            <a:off x="7629120" y="379440"/>
            <a:ext cx="1293840" cy="1293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Точилка"/>
          <p:cNvPicPr/>
          <p:nvPr/>
        </p:nvPicPr>
        <p:blipFill>
          <a:blip r:embed="rId3"/>
          <a:stretch/>
        </p:blipFill>
        <p:spPr>
          <a:xfrm>
            <a:off x="7010280" y="44956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47960" y="-360"/>
            <a:ext cx="4336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Чтобы хорошо писать , надо хорошо знать свой родной язык.»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М. Горь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2590920"/>
            <a:ext cx="8375760" cy="34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Kunstler Script"/>
              </a:rPr>
              <a:t>        </a:t>
            </a:r>
            <a:r>
              <a:rPr b="1" i="1" lang="ru-RU" sz="4400" spc="-1" strike="noStrike">
                <a:solidFill>
                  <a:srgbClr val="000000"/>
                </a:solidFill>
                <a:latin typeface="Kunstler Script"/>
              </a:rPr>
              <a:t>Два</a:t>
            </a:r>
            <a:r>
              <a:rPr b="1" i="1" lang="ru-RU" sz="4400" spc="-1" strike="noStrike">
                <a:solidFill>
                  <a:srgbClr val="ff3300"/>
                </a:solidFill>
                <a:latin typeface="Kunstler Script"/>
              </a:rPr>
              <a:t>д</a:t>
            </a:r>
            <a:r>
              <a:rPr b="1" i="1" lang="ru-RU" sz="4400" spc="-1" strike="noStrike">
                <a:solidFill>
                  <a:srgbClr val="000000"/>
                </a:solidFill>
                <a:latin typeface="Kunstler Script"/>
              </a:rPr>
              <a:t>цать   первое  январ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Kunstler Script"/>
              </a:rPr>
              <a:t>   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Kunstler Script"/>
              </a:rPr>
              <a:t>Кла</a:t>
            </a:r>
            <a:r>
              <a:rPr b="1" i="1" lang="ru-RU" sz="4400" spc="-1" strike="noStrike">
                <a:solidFill>
                  <a:srgbClr val="ff3300"/>
                </a:solidFill>
                <a:latin typeface="Kunstler Script"/>
              </a:rPr>
              <a:t>сс</a:t>
            </a:r>
            <a:r>
              <a:rPr b="1" i="1" lang="ru-RU" sz="4400" spc="-1" strike="noStrike">
                <a:solidFill>
                  <a:srgbClr val="000000"/>
                </a:solidFill>
                <a:latin typeface="Kunstler Script"/>
              </a:rPr>
              <a:t>ная  р</a:t>
            </a:r>
            <a:r>
              <a:rPr b="1" i="1" lang="ru-RU" sz="4400" spc="-1" strike="noStrike">
                <a:solidFill>
                  <a:srgbClr val="ff3300"/>
                </a:solidFill>
                <a:latin typeface="Kunstler Script"/>
              </a:rPr>
              <a:t>а</a:t>
            </a:r>
            <a:r>
              <a:rPr b="1" i="1" lang="ru-RU" sz="4400" spc="-1" strike="noStrike">
                <a:solidFill>
                  <a:srgbClr val="000000"/>
                </a:solidFill>
                <a:latin typeface="Kunstler Script"/>
              </a:rPr>
              <a:t>б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7" descr="Дети"/>
          <p:cNvPicPr/>
          <p:nvPr/>
        </p:nvPicPr>
        <p:blipFill>
          <a:blip r:embed="rId1"/>
          <a:stretch/>
        </p:blipFill>
        <p:spPr>
          <a:xfrm>
            <a:off x="3962520" y="4038480"/>
            <a:ext cx="5181480" cy="2819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книжка"/>
          <p:cNvPicPr/>
          <p:nvPr/>
        </p:nvPicPr>
        <p:blipFill>
          <a:blip r:embed="rId2"/>
          <a:stretch/>
        </p:blipFill>
        <p:spPr>
          <a:xfrm rot="2277600">
            <a:off x="0" y="0"/>
            <a:ext cx="221292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cc"/>
                </a:solidFill>
                <a:uFillTx/>
                <a:latin typeface="Kunstler Script"/>
              </a:rPr>
              <a:t>Чистопис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240" y="1828440"/>
            <a:ext cx="754380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Kunstler Script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Kunstler Script"/>
              </a:rPr>
              <a:t>ф  ф  ф   фл  фа  фо  фи  фт  фр  ф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Kunstler Script"/>
              </a:rPr>
              <a:t>фл</a:t>
            </a:r>
            <a:r>
              <a:rPr b="1" i="1" lang="ru-RU" sz="4000" spc="-1" strike="noStrike">
                <a:solidFill>
                  <a:srgbClr val="ff3300"/>
                </a:solidFill>
                <a:latin typeface="Kunstler Script"/>
              </a:rPr>
              <a:t>а</a:t>
            </a:r>
            <a:r>
              <a:rPr b="1" i="1" lang="ru-RU" sz="4000" spc="-1" strike="noStrike">
                <a:solidFill>
                  <a:srgbClr val="000000"/>
                </a:solidFill>
                <a:latin typeface="Kunstler Script"/>
              </a:rPr>
              <a:t>кон , фильм , финал , фин</a:t>
            </a:r>
            <a:r>
              <a:rPr b="1" i="1" lang="ru-RU" sz="4000" spc="-1" strike="noStrike">
                <a:solidFill>
                  <a:srgbClr val="ff3300"/>
                </a:solidFill>
                <a:latin typeface="Kunstler Script"/>
              </a:rPr>
              <a:t>и</a:t>
            </a:r>
            <a:r>
              <a:rPr b="1" i="1" lang="ru-RU" sz="4000" spc="-1" strike="noStrike">
                <a:solidFill>
                  <a:srgbClr val="000000"/>
                </a:solidFill>
                <a:latin typeface="Kunstler Script"/>
              </a:rPr>
              <a:t>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Kunstler Script"/>
              </a:rPr>
              <a:t>Составьте предложение из сл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Kunstler Script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Kunstler Script"/>
              </a:rPr>
              <a:t>пальма ,Африка , на , растут , финики , 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Перо"/>
          <p:cNvPicPr/>
          <p:nvPr/>
        </p:nvPicPr>
        <p:blipFill>
          <a:blip r:embed="rId1"/>
          <a:stretch/>
        </p:blipFill>
        <p:spPr>
          <a:xfrm>
            <a:off x="7543800" y="5357880"/>
            <a:ext cx="1600200" cy="15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163000" cy="106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cc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Arial"/>
              </a:rPr>
              <a:t>Проверьте друг друг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8524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В Африке на пальме растут финики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Пальма"/>
          <p:cNvPicPr/>
          <p:nvPr/>
        </p:nvPicPr>
        <p:blipFill>
          <a:blip r:embed="rId1"/>
          <a:stretch/>
        </p:blipFill>
        <p:spPr>
          <a:xfrm>
            <a:off x="3657600" y="274320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2743200" y="1676520"/>
            <a:ext cx="380880" cy="533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6019920" y="1676520"/>
            <a:ext cx="75960" cy="7596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6019920" y="1676520"/>
            <a:ext cx="380880" cy="533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7924680" y="1676520"/>
            <a:ext cx="91440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2438280" y="2438280"/>
            <a:ext cx="38124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0436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Какой раздел в русском языке сейчас изучаем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1926720"/>
            <a:ext cx="8985240" cy="1273320"/>
          </a:xfrm>
          <a:prstGeom prst="rect">
            <a:avLst/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ЗБРТКСОСТАВПРЕЬДНПРВРПАЛОРИМКЕОРОЛОИКПЕЬТЮВЁСЛОВАР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1981080" y="2514600"/>
            <a:ext cx="1524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6324480" y="3048120"/>
            <a:ext cx="1600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7" descr="р"/>
          <p:cNvPicPr/>
          <p:nvPr/>
        </p:nvPicPr>
        <p:blipFill>
          <a:blip r:embed="rId1"/>
          <a:stretch/>
        </p:blipFill>
        <p:spPr>
          <a:xfrm>
            <a:off x="6469200" y="3352680"/>
            <a:ext cx="26748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86600" cy="836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Выбери правильный отве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09320" y="1447560"/>
            <a:ext cx="6775560" cy="46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1.а) Корень – главная значимая часть сло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б) Корень – это главная, но не значимая часть сло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6" descr="Перо"/>
          <p:cNvPicPr/>
          <p:nvPr/>
        </p:nvPicPr>
        <p:blipFill>
          <a:blip r:embed="rId1"/>
          <a:stretch/>
        </p:blipFill>
        <p:spPr>
          <a:xfrm>
            <a:off x="228600" y="0"/>
            <a:ext cx="152388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Приставка"/>
          <p:cNvPicPr/>
          <p:nvPr/>
        </p:nvPicPr>
        <p:blipFill>
          <a:blip r:embed="rId2"/>
          <a:stretch/>
        </p:blipFill>
        <p:spPr>
          <a:xfrm>
            <a:off x="304920" y="4191120"/>
            <a:ext cx="1328760" cy="690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Корень"/>
          <p:cNvPicPr/>
          <p:nvPr/>
        </p:nvPicPr>
        <p:blipFill>
          <a:blip r:embed="rId3"/>
          <a:stretch/>
        </p:blipFill>
        <p:spPr>
          <a:xfrm>
            <a:off x="304920" y="2438280"/>
            <a:ext cx="1574640" cy="62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924680" cy="2362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2.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а) Суффикс служит для образования   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        новых слов.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   б) Суффикс служит для связи слов в  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       предложении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2133720"/>
            <a:ext cx="7924680" cy="2133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а) Окончание служит для связи слов 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едложен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б) Окончание служит для образ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овых сл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914400" y="4114800"/>
            <a:ext cx="7848720" cy="2653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    Укажите слово, строение которого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ответствует схеме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) книж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) кот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) пова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Суффикс"/>
          <p:cNvPicPr/>
          <p:nvPr/>
        </p:nvPicPr>
        <p:blipFill>
          <a:blip r:embed="rId1"/>
          <a:stretch/>
        </p:blipFill>
        <p:spPr>
          <a:xfrm>
            <a:off x="304920" y="838080"/>
            <a:ext cx="1015920" cy="5158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457200" y="2590920"/>
            <a:ext cx="609480" cy="7617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7" descr="Корень1"/>
          <p:cNvPicPr/>
          <p:nvPr/>
        </p:nvPicPr>
        <p:blipFill>
          <a:blip r:embed="rId2"/>
          <a:stretch/>
        </p:blipFill>
        <p:spPr>
          <a:xfrm>
            <a:off x="1219320" y="5181480"/>
            <a:ext cx="914400" cy="557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Суфф"/>
          <p:cNvPicPr/>
          <p:nvPr/>
        </p:nvPicPr>
        <p:blipFill>
          <a:blip r:embed="rId3"/>
          <a:stretch/>
        </p:blipFill>
        <p:spPr>
          <a:xfrm>
            <a:off x="2057400" y="5257800"/>
            <a:ext cx="876240" cy="4665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2971800" y="5334120"/>
            <a:ext cx="4572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black43"/>
          <p:cNvPicPr/>
          <p:nvPr/>
        </p:nvPicPr>
        <p:blipFill>
          <a:blip r:embed="rId1"/>
          <a:stretch/>
        </p:blipFill>
        <p:spPr>
          <a:xfrm>
            <a:off x="0" y="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black43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557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black43"/>
          <p:cNvPicPr/>
          <p:nvPr/>
        </p:nvPicPr>
        <p:blipFill>
          <a:blip r:embed="rId3"/>
          <a:stretch/>
        </p:blipFill>
        <p:spPr>
          <a:xfrm>
            <a:off x="0" y="330048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black43"/>
          <p:cNvPicPr/>
          <p:nvPr/>
        </p:nvPicPr>
        <p:blipFill>
          <a:blip r:embed="rId4"/>
          <a:stretch/>
        </p:blipFill>
        <p:spPr>
          <a:xfrm>
            <a:off x="4356000" y="3300480"/>
            <a:ext cx="4788000" cy="355752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10"/>
          <p:cNvSpPr/>
          <p:nvPr/>
        </p:nvSpPr>
        <p:spPr>
          <a:xfrm rot="19146000">
            <a:off x="2987280" y="1989000"/>
            <a:ext cx="3384720" cy="3314880"/>
          </a:xfrm>
          <a:custGeom>
            <a:avLst/>
            <a:gdLst>
              <a:gd name="textAreaLeft" fmla="*/ 1417320 w 3384720"/>
              <a:gd name="textAreaRight" fmla="*/ 1967400 w 3384720"/>
              <a:gd name="textAreaTop" fmla="*/ 1388160 h 3314880"/>
              <a:gd name="textAreaBottom" fmla="*/ 1926720 h 3314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3276720" y="2060640"/>
            <a:ext cx="2736720" cy="2954160"/>
          </a:xfrm>
          <a:custGeom>
            <a:avLst/>
            <a:gdLst>
              <a:gd name="textAreaLeft" fmla="*/ 1145880 w 2736720"/>
              <a:gd name="textAreaRight" fmla="*/ 1590840 w 2736720"/>
              <a:gd name="textAreaTop" fmla="*/ 1236960 h 2954160"/>
              <a:gd name="textAreaBottom" fmla="*/ 1717200 h 2954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11"/>
          <p:cNvSpPr/>
          <p:nvPr/>
        </p:nvSpPr>
        <p:spPr>
          <a:xfrm rot="19871400">
            <a:off x="6084360" y="765000"/>
            <a:ext cx="1795680" cy="1603440"/>
          </a:xfrm>
          <a:custGeom>
            <a:avLst/>
            <a:gdLst>
              <a:gd name="textAreaLeft" fmla="*/ 554760 w 1795680"/>
              <a:gd name="textAreaRight" fmla="*/ 1240920 w 1795680"/>
              <a:gd name="textAreaTop" fmla="*/ 612360 h 1603440"/>
              <a:gd name="textAreaBottom" fmla="*/ 1225080 h 1603440"/>
            </a:gdLst>
            <a:ahLst/>
            <a:rect l="textAreaLeft" t="textAreaTop" r="textAreaRight" b="textAreaBottom"/>
            <a:pathLst>
              <a:path w="1795462" h="1603375">
                <a:moveTo>
                  <a:pt x="2" y="612433"/>
                </a:moveTo>
                <a:lnTo>
                  <a:pt x="685809" y="612437"/>
                </a:lnTo>
                <a:lnTo>
                  <a:pt x="897731" y="0"/>
                </a:lnTo>
                <a:lnTo>
                  <a:pt x="1109653" y="612437"/>
                </a:lnTo>
                <a:lnTo>
                  <a:pt x="1795460" y="612433"/>
                </a:lnTo>
                <a:lnTo>
                  <a:pt x="1240628" y="990935"/>
                </a:lnTo>
                <a:lnTo>
                  <a:pt x="1452560" y="1603370"/>
                </a:lnTo>
                <a:lnTo>
                  <a:pt x="897731" y="1224861"/>
                </a:lnTo>
                <a:lnTo>
                  <a:pt x="342902" y="1603370"/>
                </a:lnTo>
                <a:lnTo>
                  <a:pt x="554834" y="990935"/>
                </a:ln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3" descr="05_moon_meteorit_alh-81005"/>
          <p:cNvPicPr/>
          <p:nvPr/>
        </p:nvPicPr>
        <p:blipFill>
          <a:blip r:embed="rId5"/>
          <a:stretch/>
        </p:blipFill>
        <p:spPr>
          <a:xfrm>
            <a:off x="-1620720" y="0"/>
            <a:ext cx="1404720" cy="1038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05_moon_meteorit_alh-81005"/>
          <p:cNvPicPr/>
          <p:nvPr/>
        </p:nvPicPr>
        <p:blipFill>
          <a:blip r:embed="rId6"/>
          <a:stretch/>
        </p:blipFill>
        <p:spPr>
          <a:xfrm>
            <a:off x="9325080" y="0"/>
            <a:ext cx="1404720" cy="90792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15"/>
          <p:cNvSpPr/>
          <p:nvPr/>
        </p:nvSpPr>
        <p:spPr>
          <a:xfrm>
            <a:off x="1042920" y="4797360"/>
            <a:ext cx="936720" cy="863640"/>
          </a:xfrm>
          <a:custGeom>
            <a:avLst/>
            <a:gdLst>
              <a:gd name="textAreaLeft" fmla="*/ 289440 w 936720"/>
              <a:gd name="textAreaRight" fmla="*/ 647280 w 936720"/>
              <a:gd name="textAreaTop" fmla="*/ 329760 h 863640"/>
              <a:gd name="textAreaBottom" fmla="*/ 659880 h 863640"/>
            </a:gdLst>
            <a:ahLst/>
            <a:rect l="textAreaLeft" t="textAreaTop" r="textAreaRight" b="textAreaBottom"/>
            <a:pathLst>
              <a:path w="936625" h="863600">
                <a:moveTo>
                  <a:pt x="1" y="329865"/>
                </a:moveTo>
                <a:lnTo>
                  <a:pt x="357761" y="329867"/>
                </a:lnTo>
                <a:lnTo>
                  <a:pt x="468313" y="0"/>
                </a:lnTo>
                <a:lnTo>
                  <a:pt x="578864" y="329867"/>
                </a:lnTo>
                <a:lnTo>
                  <a:pt x="936624" y="329865"/>
                </a:lnTo>
                <a:lnTo>
                  <a:pt x="647189" y="533731"/>
                </a:lnTo>
                <a:lnTo>
                  <a:pt x="757746" y="863597"/>
                </a:lnTo>
                <a:lnTo>
                  <a:pt x="468313" y="659727"/>
                </a:lnTo>
                <a:lnTo>
                  <a:pt x="178879" y="863597"/>
                </a:lnTo>
                <a:lnTo>
                  <a:pt x="289436" y="533731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7"/>
          <p:cNvSpPr/>
          <p:nvPr/>
        </p:nvSpPr>
        <p:spPr>
          <a:xfrm>
            <a:off x="3635280" y="549360"/>
            <a:ext cx="1224000" cy="1079280"/>
          </a:xfrm>
          <a:custGeom>
            <a:avLst/>
            <a:gdLst>
              <a:gd name="textAreaLeft" fmla="*/ 378000 w 1224000"/>
              <a:gd name="textAreaRight" fmla="*/ 846000 w 1224000"/>
              <a:gd name="textAreaTop" fmla="*/ 412200 h 1079280"/>
              <a:gd name="textAreaBottom" fmla="*/ 824760 h 1079280"/>
            </a:gdLst>
            <a:ahLst/>
            <a:rect l="textAreaLeft" t="textAreaTop" r="textAreaRight" b="textAreaBottom"/>
            <a:pathLst>
              <a:path w="1223963" h="1079500">
                <a:moveTo>
                  <a:pt x="1" y="412331"/>
                </a:moveTo>
                <a:lnTo>
                  <a:pt x="467515" y="412334"/>
                </a:lnTo>
                <a:lnTo>
                  <a:pt x="611982" y="0"/>
                </a:lnTo>
                <a:lnTo>
                  <a:pt x="756448" y="412334"/>
                </a:lnTo>
                <a:lnTo>
                  <a:pt x="1223962" y="412331"/>
                </a:lnTo>
                <a:lnTo>
                  <a:pt x="845734" y="667164"/>
                </a:lnTo>
                <a:lnTo>
                  <a:pt x="990207" y="1079496"/>
                </a:lnTo>
                <a:lnTo>
                  <a:pt x="611982" y="824659"/>
                </a:lnTo>
                <a:lnTo>
                  <a:pt x="233756" y="1079496"/>
                </a:lnTo>
                <a:lnTo>
                  <a:pt x="378229" y="667164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8"/>
          <p:cNvSpPr/>
          <p:nvPr/>
        </p:nvSpPr>
        <p:spPr>
          <a:xfrm rot="19975200">
            <a:off x="6283440" y="3414240"/>
            <a:ext cx="1731960" cy="1656000"/>
          </a:xfrm>
          <a:custGeom>
            <a:avLst/>
            <a:gdLst>
              <a:gd name="textAreaLeft" fmla="*/ 535320 w 1731960"/>
              <a:gd name="textAreaRight" fmla="*/ 1196640 w 1731960"/>
              <a:gd name="textAreaTop" fmla="*/ 632520 h 1656000"/>
              <a:gd name="textAreaBottom" fmla="*/ 1265040 h 1656000"/>
            </a:gdLst>
            <a:ahLst/>
            <a:rect l="textAreaLeft" t="textAreaTop" r="textAreaRight" b="textAreaBottom"/>
            <a:pathLst>
              <a:path w="1731963" h="1655762">
                <a:moveTo>
                  <a:pt x="2" y="632443"/>
                </a:moveTo>
                <a:lnTo>
                  <a:pt x="661555" y="632448"/>
                </a:lnTo>
                <a:lnTo>
                  <a:pt x="865982" y="0"/>
                </a:lnTo>
                <a:lnTo>
                  <a:pt x="1070408" y="632448"/>
                </a:lnTo>
                <a:lnTo>
                  <a:pt x="1731961" y="632443"/>
                </a:lnTo>
                <a:lnTo>
                  <a:pt x="1196751" y="1023312"/>
                </a:lnTo>
                <a:lnTo>
                  <a:pt x="1401188" y="1655756"/>
                </a:lnTo>
                <a:lnTo>
                  <a:pt x="865982" y="1264881"/>
                </a:lnTo>
                <a:lnTo>
                  <a:pt x="330775" y="1655756"/>
                </a:lnTo>
                <a:lnTo>
                  <a:pt x="535212" y="1023312"/>
                </a:lnTo>
                <a:close/>
              </a:path>
            </a:pathLst>
          </a:custGeom>
          <a:gradFill rotWithShape="0">
            <a:gsLst>
              <a:gs pos="0">
                <a:srgbClr val="ff0066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19"/>
          <p:cNvSpPr/>
          <p:nvPr/>
        </p:nvSpPr>
        <p:spPr>
          <a:xfrm rot="19975200">
            <a:off x="779040" y="1011240"/>
            <a:ext cx="1587600" cy="1511280"/>
          </a:xfrm>
          <a:custGeom>
            <a:avLst/>
            <a:gdLst>
              <a:gd name="textAreaLeft" fmla="*/ 490680 w 1587600"/>
              <a:gd name="textAreaRight" fmla="*/ 1096920 w 1587600"/>
              <a:gd name="textAreaTop" fmla="*/ 577080 h 1511280"/>
              <a:gd name="textAreaBottom" fmla="*/ 1154520 h 1511280"/>
            </a:gdLst>
            <a:ahLst/>
            <a:rect l="textAreaLeft" t="textAreaTop" r="textAreaRight" b="textAreaBottom"/>
            <a:pathLst>
              <a:path w="1587500" h="1511300">
                <a:moveTo>
                  <a:pt x="2" y="577264"/>
                </a:moveTo>
                <a:lnTo>
                  <a:pt x="606374" y="577268"/>
                </a:lnTo>
                <a:lnTo>
                  <a:pt x="793750" y="0"/>
                </a:lnTo>
                <a:lnTo>
                  <a:pt x="981126" y="577268"/>
                </a:lnTo>
                <a:lnTo>
                  <a:pt x="1587498" y="577264"/>
                </a:lnTo>
                <a:lnTo>
                  <a:pt x="1096930" y="934030"/>
                </a:lnTo>
                <a:lnTo>
                  <a:pt x="1284315" y="1511295"/>
                </a:lnTo>
                <a:lnTo>
                  <a:pt x="793750" y="1154523"/>
                </a:lnTo>
                <a:lnTo>
                  <a:pt x="303185" y="1511295"/>
                </a:lnTo>
                <a:lnTo>
                  <a:pt x="490570" y="93403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20"/>
          <p:cNvSpPr/>
          <p:nvPr/>
        </p:nvSpPr>
        <p:spPr>
          <a:xfrm rot="19975200">
            <a:off x="3566880" y="4804920"/>
            <a:ext cx="1873080" cy="1736640"/>
          </a:xfrm>
          <a:custGeom>
            <a:avLst/>
            <a:gdLst>
              <a:gd name="textAreaLeft" fmla="*/ 578880 w 1873080"/>
              <a:gd name="textAreaRight" fmla="*/ 1294200 w 1873080"/>
              <a:gd name="textAreaTop" fmla="*/ 663120 h 1736640"/>
              <a:gd name="textAreaBottom" fmla="*/ 1326600 h 1736640"/>
            </a:gdLst>
            <a:ahLst/>
            <a:rect l="textAreaLeft" t="textAreaTop" r="textAreaRight" b="textAreaBottom"/>
            <a:pathLst>
              <a:path w="1873250" h="1736725">
                <a:moveTo>
                  <a:pt x="2" y="663368"/>
                </a:moveTo>
                <a:lnTo>
                  <a:pt x="715522" y="663373"/>
                </a:lnTo>
                <a:lnTo>
                  <a:pt x="936625" y="0"/>
                </a:lnTo>
                <a:lnTo>
                  <a:pt x="1157728" y="663373"/>
                </a:lnTo>
                <a:lnTo>
                  <a:pt x="1873248" y="663368"/>
                </a:lnTo>
                <a:lnTo>
                  <a:pt x="1294378" y="1073350"/>
                </a:lnTo>
                <a:lnTo>
                  <a:pt x="1515492" y="1736719"/>
                </a:lnTo>
                <a:lnTo>
                  <a:pt x="936625" y="1326731"/>
                </a:lnTo>
                <a:lnTo>
                  <a:pt x="357758" y="1736719"/>
                </a:lnTo>
                <a:lnTo>
                  <a:pt x="578872" y="107335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21" descr="earth"/>
          <p:cNvPicPr/>
          <p:nvPr/>
        </p:nvPicPr>
        <p:blipFill>
          <a:blip r:embed="rId7"/>
          <a:stretch/>
        </p:blipFill>
        <p:spPr>
          <a:xfrm>
            <a:off x="2771640" y="4076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2" descr="42"/>
          <p:cNvPicPr/>
          <p:nvPr/>
        </p:nvPicPr>
        <p:blipFill>
          <a:blip r:embed="rId8"/>
          <a:stretch/>
        </p:blipFill>
        <p:spPr>
          <a:xfrm>
            <a:off x="4788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3" descr="mars"/>
          <p:cNvPicPr/>
          <p:nvPr/>
        </p:nvPicPr>
        <p:blipFill>
          <a:blip r:embed="rId9"/>
          <a:stretch/>
        </p:blipFill>
        <p:spPr>
          <a:xfrm>
            <a:off x="2771640" y="2205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4" descr="112"/>
          <p:cNvPicPr/>
          <p:nvPr/>
        </p:nvPicPr>
        <p:blipFill>
          <a:blip r:embed="rId10"/>
          <a:stretch/>
        </p:blipFill>
        <p:spPr>
          <a:xfrm>
            <a:off x="7236000" y="321300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5" descr="upiter"/>
          <p:cNvPicPr/>
          <p:nvPr/>
        </p:nvPicPr>
        <p:blipFill>
          <a:blip r:embed="rId11"/>
          <a:stretch/>
        </p:blipFill>
        <p:spPr>
          <a:xfrm>
            <a:off x="2124000" y="708120"/>
            <a:ext cx="935280" cy="4982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6" descr="r4"/>
          <p:cNvPicPr/>
          <p:nvPr/>
        </p:nvPicPr>
        <p:blipFill>
          <a:blip r:embed="rId12"/>
          <a:stretch/>
        </p:blipFill>
        <p:spPr>
          <a:xfrm rot="16200000">
            <a:off x="-33120" y="5857200"/>
            <a:ext cx="1428840" cy="571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9" descr="r4"/>
          <p:cNvPicPr/>
          <p:nvPr/>
        </p:nvPicPr>
        <p:blipFill>
          <a:blip r:embed="rId13"/>
          <a:stretch/>
        </p:blipFill>
        <p:spPr>
          <a:xfrm>
            <a:off x="395280" y="1890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0" descr="r4"/>
          <p:cNvPicPr/>
          <p:nvPr/>
        </p:nvPicPr>
        <p:blipFill>
          <a:blip r:embed="rId14"/>
          <a:stretch/>
        </p:blipFill>
        <p:spPr>
          <a:xfrm rot="5400000">
            <a:off x="7887960" y="6174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2" descr="r7"/>
          <p:cNvPicPr/>
          <p:nvPr/>
        </p:nvPicPr>
        <p:blipFill>
          <a:blip r:embed="rId15"/>
          <a:stretch/>
        </p:blipFill>
        <p:spPr>
          <a:xfrm rot="19503600">
            <a:off x="4211280" y="1700280"/>
            <a:ext cx="1657440" cy="1104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3" descr="56r2"/>
          <p:cNvPicPr/>
          <p:nvPr/>
        </p:nvPicPr>
        <p:blipFill>
          <a:blip r:embed="rId16"/>
          <a:stretch/>
        </p:blipFill>
        <p:spPr>
          <a:xfrm>
            <a:off x="-1371600" y="0"/>
            <a:ext cx="1371600" cy="495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4" descr=""/>
          <p:cNvPicPr/>
          <p:nvPr/>
        </p:nvPicPr>
        <p:blipFill>
          <a:blip r:embed="rId17"/>
          <a:stretch/>
        </p:blipFill>
        <p:spPr>
          <a:xfrm>
            <a:off x="7596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22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9000"/>
                            </p:stCondLst>
                            <p:childTnLst>
                              <p:par>
                                <p:cTn id="22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5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2500"/>
                            </p:stCondLst>
                            <p:childTnLst>
                              <p:par>
                                <p:cTn id="23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4500"/>
                            </p:stCondLst>
                            <p:childTnLst>
                              <p:par>
                                <p:cTn id="239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8500"/>
                            </p:stCondLst>
                            <p:childTnLst>
                              <p:par>
                                <p:cTn id="2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9500"/>
                            </p:stCondLst>
                            <p:childTnLst>
                              <p:par>
                                <p:cTn id="247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3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3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2500"/>
                            </p:stCondLst>
                            <p:childTnLst>
                              <p:par>
                                <p:cTn id="252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3" dur="3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3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500"/>
                            </p:stCondLst>
                            <p:childTnLst>
                              <p:par>
                                <p:cTn id="257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8" dur="3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3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85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9000"/>
                            </p:stCondLst>
                            <p:childTnLst>
                              <p:par>
                                <p:cTn id="2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95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0"/>
                            </p:stCondLst>
                            <p:childTnLst>
                              <p:par>
                                <p:cTn id="2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1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1500"/>
                            </p:stCondLst>
                            <p:childTnLst>
                              <p:par>
                                <p:cTn id="2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25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3000"/>
                            </p:stCondLst>
                            <p:childTnLst>
                              <p:par>
                                <p:cTn id="2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4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4500"/>
                            </p:stCondLst>
                            <p:childTnLst>
                              <p:par>
                                <p:cTn id="2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55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3333E-006 L 0.00035 -0.80532 E">
                                      <p:cBhvr>
                                        <p:cTn id="306" dur="3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8500"/>
                            </p:stCondLst>
                            <p:childTnLst>
                              <p:par>
                                <p:cTn id="30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0.80382 -0.01018 E">
                                      <p:cBhvr>
                                        <p:cTn id="315" dur="3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1500"/>
                            </p:stCondLst>
                            <p:childTnLst>
                              <p:par>
                                <p:cTn id="3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4" dur="3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3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45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455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-0.01991 C 0.02951 0.0875 -0.01042 0.2169 -0.09566 0.26829 C -0.1809 0.32084 -0.28021 0.27384 -0.31649 0.16667 C -0.35295 0.05926 -0.31319 -0.06944 -0.2276 -0.12106 C -0.14236 -0.17245 -0.0434 -0.12731 -0.00677 -0.01991 Z">
                                      <p:cBhvr>
                                        <p:cTn id="336" dur="3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75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85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95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60500"/>
                            </p:stCondLst>
                            <p:childTnLst>
                              <p:par>
                                <p:cTn id="35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63500"/>
                            </p:stCondLst>
                            <p:childTnLst>
                              <p:par>
                                <p:cTn id="355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66500"/>
                            </p:stCondLst>
                            <p:childTnLst>
                              <p:par>
                                <p:cTn id="35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4444E-006 L -0.13385 0.30463 E">
                                      <p:cBhvr>
                                        <p:cTn id="360" dur="3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2" dur="3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69500"/>
                            </p:stCondLst>
                            <p:childTnLst>
                              <p:par>
                                <p:cTn id="3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5" dur="2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1500"/>
                            </p:stCondLst>
                            <p:childTnLst>
                              <p:par>
                                <p:cTn id="3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72500"/>
                            </p:stCondLst>
                            <p:childTnLst>
                              <p:par>
                                <p:cTn id="3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73500"/>
                            </p:stCondLst>
                            <p:childTnLst>
                              <p:par>
                                <p:cTn id="3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74000"/>
                            </p:stCondLst>
                            <p:childTnLst>
                              <p:par>
                                <p:cTn id="3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</cp:lastModifiedBy>
  <dcterms:modified xsi:type="dcterms:W3CDTF">2012-01-20T14:44:38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