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EA6-5152-4CC1-AFE0-E170B40A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96A1-2529-4D3B-A464-6428EE94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C4A5-5926-4A24-9CE2-28FBEB51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18E8-A98D-419E-8258-967BD6E3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AE5B-C519-4D18-82AB-8AFA9F9D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CFB-AF2B-4E4B-A25C-AA567C08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7A23-1C3F-4735-926D-9E2DF063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B58C-313B-4F48-9264-C3E32416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176-EE3A-49FB-A1A5-AA5A431E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CC90-CCC4-4FEB-9D53-4EB13162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E78-7D20-42BC-B243-43616488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BB6-B13C-4800-AFAC-B1E0D7DF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7234-3971-41D7-8580-D756987F6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480360" cy="273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03640" y="1341360"/>
            <a:ext cx="2570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284720" y="3860640"/>
            <a:ext cx="2188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796000" y="2637000"/>
            <a:ext cx="190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12000" y="2637000"/>
            <a:ext cx="21564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0" y="3860640"/>
            <a:ext cx="2160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64000" y="1341360"/>
            <a:ext cx="2160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1:42:54Z</dcterms:created>
  <dc:creator>Sergey</dc:creator>
  <dc:description/>
  <dc:language>en-US</dc:language>
  <cp:lastModifiedBy>Sergey</cp:lastModifiedBy>
  <dcterms:modified xsi:type="dcterms:W3CDTF">2012-02-05T12:51:34Z</dcterms:modified>
  <cp:revision>2</cp:revision>
  <dc:subject/>
  <dc:title>Слайд 1</dc:title>
</cp:coreProperties>
</file>