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6A23-6396-4CBA-BF1F-94AD9AE1A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3814-E729-4E14-A13E-A17093D67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84AE-203D-4AE6-AA98-9AC75EA14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3B66-F52A-4F28-A759-6249309F3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AC77-3783-44D9-9F34-140CFE1EC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27AD-7949-4B64-9B20-E30607F7D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B442-4800-4A06-BD5B-C7D88C4CE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E62A-E7B7-455B-91FF-A55F2C6F0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0A7B-E7C8-4ECA-93C3-91A4D9B90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CA8F-751C-40AE-9D7A-891D61C9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58F1-B8B0-407A-A338-1B7DE26A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39AD-EAF0-431B-BB26-5E62729BC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656CE-01A8-4021-9D00-111D12E00B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6480360" cy="2737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203640" y="1341360"/>
            <a:ext cx="25704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М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284720" y="3860640"/>
            <a:ext cx="21888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Б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796000" y="2637000"/>
            <a:ext cx="19044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Р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012000" y="2637000"/>
            <a:ext cx="215640" cy="34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0" y="3860640"/>
            <a:ext cx="216000" cy="3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564000" y="1341360"/>
            <a:ext cx="216000" cy="3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2000" fill="hold"/>
                                        <p:tgtEl>
                                          <p:spTgt spid="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2000" fill="hold"/>
                                        <p:tgtEl>
                                          <p:spTgt spid="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" dur="2000" fill="hold"/>
                                        <p:tgtEl>
                                          <p:spTgt spid="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6" dur="2000" fill="hold"/>
                                        <p:tgtEl>
                                          <p:spTgt spid="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5T11:42:54Z</dcterms:created>
  <dc:creator>Sergey</dc:creator>
  <dc:description/>
  <dc:language>en-US</dc:language>
  <cp:lastModifiedBy>Sergey</cp:lastModifiedBy>
  <dcterms:modified xsi:type="dcterms:W3CDTF">2012-02-05T12:51:34Z</dcterms:modified>
  <cp:revision>2</cp:revision>
  <dc:subject/>
  <dc:title>Слайд 1</dc:title>
</cp:coreProperties>
</file>