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9F0-7B97-47A2-AD55-C3B13008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AF6-2559-4C7C-BADF-D56E4050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CDD-B28E-472E-85B4-41DCBC1E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D41-B938-403B-9EC3-6A718A39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9D0-1CA7-47E9-B757-C135F1B6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5EB2-76E5-4E4E-87D6-E7DCD812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BD4-1A14-4836-BE6B-B8BE9957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40C-8F54-4A79-A7AC-1FE09A2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FE49-2C16-40E7-A12C-9CA39D1E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82F7-3CD2-4B39-A635-6A8844C8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E46F-DA22-4A73-8E12-7B29015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1A9-E65A-407B-9F56-B7DFC5D9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7BEC-1FC2-4106-9800-BDC0663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7F30-3869-49A3-A478-67BC42C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90D1-0854-424D-98DB-E9E1B08E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D8F-EDD0-4C86-856B-83AA6985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CC33-6A5A-4E24-9653-EE527C62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747-91D0-4B74-9319-9F7248E0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195-75F8-48E0-8600-58083D4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D99-7699-4EF8-81DF-61221D01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26C-F2FE-4D62-B7FF-C184FB06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AE7-1D33-4CE6-95AF-8160B6C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185-5B35-4D1D-AA21-43998656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BA9-2923-4DBA-A388-2FA40A09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0F3-18C9-4535-AC05-1241C0BE81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615E-ADCC-40A7-A896-0C457BEC6A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637000"/>
            <a:ext cx="6400800" cy="1147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581000"/>
            <a:ext cx="6032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рок математики 3 клас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Учитель: Матвеева С.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79640" y="2781360"/>
            <a:ext cx="5114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шение составных уравнений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Алгоритм</a:t>
            </a:r>
            <a:br>
              <a:rPr sz="3200"/>
            </a:b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решения составных уравнен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img1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1:53:39Z</dcterms:created>
  <dc:creator>Admin</dc:creator>
  <dc:description/>
  <dc:language>en-US</dc:language>
  <cp:lastModifiedBy>Admin</cp:lastModifiedBy>
  <dcterms:modified xsi:type="dcterms:W3CDTF">2012-02-05T11:58:04Z</dcterms:modified>
  <cp:revision>3</cp:revision>
  <dc:subject/>
  <dc:title>Слайд 1</dc:title>
</cp:coreProperties>
</file>