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95C-6BAE-474A-8819-0CC54445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50E-82DF-4666-AC25-D7D0DC5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272-BE1C-448B-BE76-19D4EBE7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E13-D89F-4883-8C5E-C7A6451D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661E-BEF4-4FE4-92E5-F469EB79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B89D-0ADD-4789-A3B7-D4672531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E321-DFC0-40FD-A2CE-B77DCB67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1667-D27F-4230-914A-390A31C2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F61E-6A99-4A47-9886-0B139A6F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CEC4-5C48-4894-A773-E24B1953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BE31-5D6C-4AA7-B4EC-56659BEA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EC5-279C-4BE4-B762-901155C1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3EAF-BD30-4E18-9F49-32081371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6008-2391-430A-A564-AEB07EE8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753C-5C60-4090-A170-FBDA3797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EBCB-CFEC-4FB9-A6D4-83F2C841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7A5-E4F7-414F-972C-D3BD1F85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752-44D3-4F2C-870E-82284ACF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A0D-F48A-4E25-860F-24574579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F14-8351-4F14-8B99-E4232486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9E2-CF8F-43E2-9B34-6ADFF7C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116-8E2E-4A09-8D09-513FB32D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D55-757F-4DB9-8E6B-0B64754D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0FA-F929-43E9-A87D-254F6BE5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12DD-C330-47A0-ABA2-AB013F73A8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F3A5-249D-4D3C-A5B6-10C97DEA01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637000"/>
            <a:ext cx="6400800" cy="1147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рок математики 3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читель: Матвеева С.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2781360"/>
            <a:ext cx="5114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составных уравнений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Алгоритм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решения составных уравн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img1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84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53:39Z</dcterms:created>
  <dc:creator>Admin</dc:creator>
  <dc:description/>
  <dc:language>en-US</dc:language>
  <cp:lastModifiedBy>Admin</cp:lastModifiedBy>
  <dcterms:modified xsi:type="dcterms:W3CDTF">2012-02-05T11:58:04Z</dcterms:modified>
  <cp:revision>3</cp:revision>
  <dc:subject/>
  <dc:title>Слайд 1</dc:title>
</cp:coreProperties>
</file>