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57E-272A-45FA-BB51-BF3D145F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81F-EAEF-4ECC-B2A5-D05D1F84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CB110-2438-411F-9F14-F0DE1E06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3E7B5-4023-4EA5-A27F-E016E81C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EA88A-EB20-4F11-AA44-54D97745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A13F3-8A05-4938-96C6-03EAA3CD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8B969-5983-4C4C-8837-9DB49E3E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59DD2-FA47-4E2E-8F1F-FC00C66D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8E392-A4F5-451A-A4A6-01C7BBF1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9CDF0-855A-472B-BA0A-38D126E5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878C7-712F-4BCE-BA7A-6CCF2F22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6CF-0EE3-4BCD-B472-9075348F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3C30-0E16-4A7C-AFD3-ECC52483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C680-51F8-4FF2-B329-82C0ED4C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A94C-8D61-44A9-A1CF-E095DDE8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D052-C2BF-4285-99FB-7D77633B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8EE6-7D6E-47E4-8CAD-AC8237F8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2739-0EEC-4057-A10C-C491FEA2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3B9B-E7BC-46CE-813A-07F4272B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0F17-6974-4C7E-8AE2-358A433D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D0F-0647-45B3-8008-8DDEFA42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0119-16A9-4E45-8F4E-47008A52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7130-198F-4E5B-9963-D264B878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9088-C90E-4A44-B556-1EDC48F8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4C42-09B3-4F80-93D6-7F052CE7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3CEE-71D7-410F-A605-8A1455BD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915FB-CD26-45D2-9E6C-69BD2562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F437D-1F98-4281-973D-BD6CA20F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25D6F-0571-4DE4-B4FC-CCFD1934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BFCDC-A40C-432B-B063-1782E959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3866F-67B5-4FFA-9CD0-67CEA192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70E-4ACB-456F-A8D3-3FC90B9E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871B3-886C-4139-AA3E-50600EC2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F862B-033F-4DA0-A4F5-25A5A0E3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09204-9FE4-4938-825B-9A889EAA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97C55-158E-49C2-9003-3E94D07E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3EF78-394C-4ECE-976A-1D12AC71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47FDE-5089-4789-B279-03CCC9F7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CD96B-03BB-40F4-9EF4-03D16F1D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838CD-FD77-4B51-8C63-DDF749F4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96672-66C8-4DF6-9E4F-088BDC55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1926B-7915-4109-8C6B-31B0CA5D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F94-037F-414C-8235-FD0A1AA8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DE3F2-3AA0-462D-B541-4C4098F7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5A46D-64B4-4741-8DFA-F5219C93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FBDD7-599A-41BF-962D-29AEBE98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D8299-F392-485A-AD55-957E7A9B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4896D-8FA0-4BA0-BD74-8606DE9A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6FBDC-D375-4A08-9BF7-90EB6FA7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79A69-CF6B-40A9-9A3C-CF0C02A2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A82DA-DEDC-439E-92A4-77CB105C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583E4-41D2-4130-81BC-8DD1F7E7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7A4BC-0D97-4219-8830-ECB41DC6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00E-ECF9-4C8F-9177-73479982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F63E4-D033-4026-B922-108759D3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CBBBA-9855-458B-8D7E-0EC1CE62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4F813-060C-4B3B-8A64-5D508FCE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B9CCA-6D9D-4FD6-B196-E1401AA0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56825-ADC7-4EF2-B43A-CDF3F831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82BB7-3831-482D-B495-B7BF3799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03678-2CFD-4610-A0DE-1437CDB2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EF702-15E7-47B1-B498-15AE2147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2752F-E941-46E7-9BA2-8DA66679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6EA9D-C559-4EB8-832A-C3447ECF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00B-14CF-4523-AF65-A6889D59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5804A-B2CC-4570-8A0C-7518584A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3468B-8D0A-4310-AF71-EECC7AB8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A3BB4-4BC7-4BE3-876A-DFA809B6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6AF81-2EF0-4AC2-8C29-AFDDDBC4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BEE0F-A99A-4F9C-9F9B-278A78B1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7E731-8E4F-43FE-964F-01B702FA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965EE-6031-415A-8B19-3C87A581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7B5A9-80C6-4F90-A6CD-FA9F1529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CCB51-BB63-4A1B-B3AA-4C191E8F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2E140-C742-4D0D-A48A-D7C86D82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637D-43B9-4683-952B-C7068FAC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7E2E5-1340-4C44-8353-C9288E4A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9103E-0742-4266-9412-0F204BEB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84522-E224-42F4-B573-30D8E90F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ADB72-7C86-4376-8C81-7A6AEAF7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2CF9F-B187-4A65-963F-815E71D3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85533-109B-481D-B499-FA823AE2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D186B-2936-4A96-8FC3-99EFC9B6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9EB84-F08D-4D23-A96C-3111BAC9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B224D-C611-4765-8FBF-6C8AA7BA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BE99C-2C65-40BE-B7F6-E8C26437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EB3-8F61-4FBC-AAFC-162E8CAB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D5220-FD0D-4C79-AA6D-4DE169CF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B258D-E715-4AD9-A9CA-CF59CF98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81A62-E0D9-4AAC-89BF-37A5DCB7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B71AE-0EC1-4DA4-AF7D-CE1CF2B1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8FC8A-CCD6-4FEF-A458-375D3157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CA809-4181-4F87-89E3-E4B73894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47240-FA34-4C1A-91AB-BD482CD4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05C9B-E6DA-4524-9C87-906DE7B5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C6683-1974-43ED-A1E5-7A7635C2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5ED7A-DC24-4564-A0D7-6A067B39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9E2-BECC-4A77-8A8C-AF0CB38A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064C5-E66A-42A5-AF40-8C456EEB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BEC01-A705-4B01-9627-E103BDA3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3871D-1688-4A43-A7E5-5B337C67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F5173-DAFE-4D49-95B5-DB298BFD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EAFCC-A58F-4FA9-AA51-E3487C93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ED714-E634-4C15-B18F-C9B9C003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25351-0BC4-4A57-B2B6-EB55C6BA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F3C3F-96CC-4933-9918-E816E2E0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A920A-6C13-459F-BF30-A528719E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0CFCB-60FA-453F-860F-12D80E71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8BEA-2373-41D0-9C8E-B0C32ABC0F0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CC60-319B-4A1B-B424-D686FF4B8E2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C35B-9040-4BF6-9539-0429D55883D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5027-B842-463E-99F9-83331D17839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741D-EA39-4C39-AA7D-D5B4A25158F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10AC-A4B2-4B1D-ABB3-5330F278FDF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301C-3D38-4E75-B0EB-6BBC77E0C15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0EF2-C681-4443-99DD-085F5617BA9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B2BD-FEAA-4332-8AA5-7D17ADB8F01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237960" y="615960"/>
            <a:ext cx="8552160" cy="29322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714400" y="4571640"/>
            <a:ext cx="505764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льских Надежда Аркадьевна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Рябининская СОШ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дынского район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C:\Documents and Settings\Admin\Рабочий стол\Pelica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642960"/>
          <a:ext cx="9144000" cy="5357880"/>
        </p:xfrm>
        <a:graphic>
          <a:graphicData uri="http://schemas.openxmlformats.org/drawingml/2006/table">
            <a:tbl>
              <a:tblPr/>
              <a:tblGrid>
                <a:gridCol w="958680"/>
                <a:gridCol w="479520"/>
                <a:gridCol w="480960"/>
                <a:gridCol w="479520"/>
                <a:gridCol w="479520"/>
                <a:gridCol w="523800"/>
                <a:gridCol w="480960"/>
                <a:gridCol w="479520"/>
                <a:gridCol w="479520"/>
                <a:gridCol w="479160"/>
                <a:gridCol w="479520"/>
                <a:gridCol w="465120"/>
                <a:gridCol w="479520"/>
                <a:gridCol w="479520"/>
                <a:gridCol w="480960"/>
                <a:gridCol w="479520"/>
                <a:gridCol w="958680"/>
              </a:tblGrid>
              <a:tr h="377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0" y="714240"/>
          <a:ext cx="9144000" cy="5286600"/>
        </p:xfrm>
        <a:graphic>
          <a:graphicData uri="http://schemas.openxmlformats.org/drawingml/2006/table">
            <a:tbl>
              <a:tblPr/>
              <a:tblGrid>
                <a:gridCol w="958680"/>
                <a:gridCol w="479520"/>
                <a:gridCol w="480960"/>
                <a:gridCol w="479520"/>
                <a:gridCol w="479520"/>
                <a:gridCol w="523800"/>
                <a:gridCol w="480960"/>
                <a:gridCol w="479520"/>
                <a:gridCol w="479520"/>
                <a:gridCol w="479160"/>
                <a:gridCol w="479520"/>
                <a:gridCol w="465120"/>
                <a:gridCol w="479520"/>
                <a:gridCol w="479520"/>
                <a:gridCol w="480960"/>
                <a:gridCol w="479520"/>
                <a:gridCol w="958680"/>
              </a:tblGrid>
              <a:tr h="37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285880" y="213840"/>
            <a:ext cx="37148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ликан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ина – 1,8 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змах крыльев – до 3 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ес – до 14 к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мешная птица пеликан!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 грузный, неуклюжий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ромадный клюв как ятаган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 зоб - тугой как барабан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битый впрок на ужин..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.Асад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2" descr="C:\Documents and Settings\Admin\Рабочий стол\паустовский\рис1.bmp"/>
          <p:cNvPicPr/>
          <p:nvPr/>
        </p:nvPicPr>
        <p:blipFill>
          <a:blip r:embed="rId2"/>
          <a:stretch/>
        </p:blipFill>
        <p:spPr>
          <a:xfrm>
            <a:off x="0" y="0"/>
            <a:ext cx="519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714560" y="0"/>
            <a:ext cx="442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Я не знаю ничего более близкого мне, чем наши простые русские люди, и ничего более прекрасного, чем наша земля»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.Паустовск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C:\Documents and Settings\Admin\Рабочий стол\паустовский\портрет Пауст.jpg"/>
          <p:cNvPicPr/>
          <p:nvPr/>
        </p:nvPicPr>
        <p:blipFill>
          <a:blip r:embed="rId2"/>
          <a:stretch/>
        </p:blipFill>
        <p:spPr>
          <a:xfrm>
            <a:off x="-10152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**</cp:lastModifiedBy>
  <dcterms:modified xsi:type="dcterms:W3CDTF">2012-01-27T05:06:24Z</dcterms:modified>
  <cp:revision>16</cp:revision>
  <dc:subject/>
  <dc:title>Слайд 1</dc:title>
</cp:coreProperties>
</file>