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8CE-545C-44D5-AA8A-8FB42383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04EE-7C1E-483F-85DA-48F1C0B7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4F12F-D48D-4468-B2B1-B8A0FC6B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17740-F55E-4CA8-9D21-E9D62DAF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A59FE-4048-4DF6-8F96-E616D64A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49EA7-3DB4-4402-B9A7-5E1B6B4B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81760-CE9C-4D7B-BE6B-FAE25817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34D55-F793-41EA-8473-AE4B7B78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CCB78-16F4-442D-A7F3-6EE0D521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1AD5A-CAE2-4BA9-BF56-D2E41939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F500A-920D-4A54-8AE2-33CD2116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BCC-5880-447F-B420-A9E32716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43C-3F28-4FB6-AA90-71C533BF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73BE-A5B7-499D-9C68-3F012EFD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9D72-239B-4BE3-BC2B-3DC067E4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8D64-54B9-4723-9DE3-5C2F75F0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602E-D505-46E6-830C-69E3721F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BC6B-068C-471F-9528-E9C8A84D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4928-E259-4D0A-9E9F-C8920A5E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8DBF-6526-414F-8176-32644B53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982-1F88-44DC-A85E-D1B80504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56AC-7860-430E-945C-4B5300F5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7614-3012-4356-B90A-705CAD78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5A0C-C275-446A-8774-063904C8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6AD6-5C15-4401-AC78-2AB13B5B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79C5-4DCA-40D8-934F-03598D42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2D9BB-2FC5-4EB3-8F80-E0087823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ADB9B-93B6-48BD-97B1-BCBE018B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B3E4E-3D7B-44C3-82A7-8B3A7B6B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2AEDC-8324-42C2-9979-C2DC101C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32F04-BC1A-4FF7-B8A8-53A118B3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E3B6-1639-4C08-8218-D5AF8D49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B0F24-54F7-4BFC-A811-DA47DE92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76431-C58B-4577-BF31-79F4A56B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71C4F-B1FF-4AC3-9AF8-5AA907BB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F916F-BAA9-427E-8B88-E615937E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D2E23-5B0E-4240-AF08-FA99C27C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BB6AC-13B1-4F1F-BF04-F42D15BF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8594C-42CD-48FB-A2E0-66579928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FEDE8-F0F4-4141-B50F-0684D6F1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CCC38-B45E-4AB2-8042-6C4FE1A5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9A42A-6925-4DB8-8FDF-C887CAF4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1DF0-B48C-48F2-A8F5-B0B12FCD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D64C0-5D33-4452-886F-FEDDDBDF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BD91C-96CD-4B28-9D07-23CD86B6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14897-7478-4680-97D2-26CBF895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7BB4A-C000-4955-8107-29CEBC67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A809C-0692-4517-A680-C41C4A5B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E53DF-8E92-4CDE-8C63-A216A46D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B2CB2-0498-4B39-AC08-6EBB6D1E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95BB0-E4E7-40B6-9309-CB83DEBB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2FF75-F6AD-4D8B-A7B0-4027E928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89814-029D-43A2-BE3E-8CB25FA6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0EA-29C7-40D3-BB26-32A783E0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17E7B-63FB-4AE0-91C2-1066A019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65F73-959E-4D2A-BBCA-8CA7124D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1B03E-FB63-4126-BED5-BD3B6151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29ABC-D06D-4501-BE4F-8B7B4880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C5A0B-D924-43FA-8C72-70EA4441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60F58-C249-439C-8AB0-456D53BB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1D129-ECB3-4C50-BCFA-A883841E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2BFF1-4A81-42D6-B76D-F48DC7FB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1E538-6208-4C5B-812C-39549951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CDB80-0D4A-401C-8825-2008CEDD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AE5D-97DA-4D44-8249-F0CBC2A9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91452-5695-4F61-87CD-E620F425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34F90-25FC-471D-ADB7-18EDE198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59FAE-C44D-4CFD-8E0C-93622BBE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01158-0277-4B39-9256-08AA89EE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E6BF7-299A-41E7-B464-5A68FCC6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DB905-5584-4E0C-8EBF-D5F6FADB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222FA-7F5A-48D3-91E1-D74B6CC1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895B8-920B-47A2-85D3-B72C96D1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9F33B-5F9E-42A5-B76E-4E2E5E50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24D8E-12C1-4F80-A743-F2D552C5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F29B-28A4-4AFD-AC05-0D64DD38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C56E1-3B6F-425E-A9D3-E550C4D4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A57AA-02D4-4FE2-A83F-99B33B4F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6C3CB-BE34-4094-8930-31513D1B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D5357-CE0C-405C-AA46-8B657254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27367-55E2-4962-990C-5E2B14DC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B8DA2-87B7-4363-86C2-9F5FD636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317BE-6C83-4C2E-BC53-770DBCB8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84641-ACE4-4F50-BEEF-A5BAB8FB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4C741-9CB1-481C-9C13-7D05872C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0DF52-733D-453A-8DB6-F363450F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D22-2B39-4C20-9DAB-96479AA6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91406-5699-4D0C-BEE6-E2F7DA76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A1C09-C744-4FC6-B738-33943F76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7D0F4-020A-493C-955F-1D2C80F7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6E123-6548-42BA-9045-C4312EEB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8A2E2-EE17-47A1-9AD0-7AB2A5D8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74570-ED7E-481D-992E-D47157DB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C3C1E-537B-4E01-97B5-562DC593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196AD-29BC-434E-81C8-09C14194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91DB6-1C31-42EF-81A1-11E13B47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8F724-7612-4E9C-8605-847ED5A4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828B-5012-4A27-815D-607C6CA3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CB70D-E20B-4CE1-8EA2-D44FCADB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AB836-FF05-4679-9D3F-F57CFAB8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65D10-B19A-48C2-A7BF-4EA21AB5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68C7A-03B6-4229-91C0-36624CDD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C20B0-AD56-4A2D-835D-1D503E6A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237A5-8674-4141-9C4C-04178AE2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5B7F8-E7EA-4ED6-84B5-7F8313EF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82435-3B24-4C7C-8D9C-114B4F90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2958E-2E4D-4B83-9F38-07A1AFEE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1EFAE-908E-4C4E-A939-74A3778A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5792-CFD4-41C5-8175-3B69776D122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840C-F0D9-4256-BCEB-1F1EAE2EE09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C32A-28D9-47AE-8751-F28B9563152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8091-D5FC-41B4-98E3-480A8366D93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2279-BA80-490E-A302-411182E4B5C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A030-109E-4455-B041-4C21A56306A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6E6B-B110-4466-B7AE-FD90DC828CB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60A3-07A5-4C2F-AC65-2BB1913CB80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E02F-5AD6-4EA7-9CB0-6D487933B42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237960" y="615960"/>
            <a:ext cx="8552160" cy="29322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714400" y="4571640"/>
            <a:ext cx="505764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льских Надежда Аркадьевна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Рябининская СОШ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дынского район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C:\Documents and Settings\Admin\Рабочий стол\Pelica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642960"/>
          <a:ext cx="9144000" cy="5357880"/>
        </p:xfrm>
        <a:graphic>
          <a:graphicData uri="http://schemas.openxmlformats.org/drawingml/2006/table">
            <a:tbl>
              <a:tblPr/>
              <a:tblGrid>
                <a:gridCol w="958680"/>
                <a:gridCol w="479520"/>
                <a:gridCol w="480960"/>
                <a:gridCol w="479520"/>
                <a:gridCol w="479520"/>
                <a:gridCol w="523800"/>
                <a:gridCol w="480960"/>
                <a:gridCol w="479520"/>
                <a:gridCol w="479520"/>
                <a:gridCol w="479160"/>
                <a:gridCol w="479520"/>
                <a:gridCol w="465120"/>
                <a:gridCol w="479520"/>
                <a:gridCol w="479520"/>
                <a:gridCol w="480960"/>
                <a:gridCol w="479520"/>
                <a:gridCol w="958680"/>
              </a:tblGrid>
              <a:tr h="377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0" y="714240"/>
          <a:ext cx="9144000" cy="5286600"/>
        </p:xfrm>
        <a:graphic>
          <a:graphicData uri="http://schemas.openxmlformats.org/drawingml/2006/table">
            <a:tbl>
              <a:tblPr/>
              <a:tblGrid>
                <a:gridCol w="958680"/>
                <a:gridCol w="479520"/>
                <a:gridCol w="480960"/>
                <a:gridCol w="479520"/>
                <a:gridCol w="479520"/>
                <a:gridCol w="523800"/>
                <a:gridCol w="480960"/>
                <a:gridCol w="479520"/>
                <a:gridCol w="479520"/>
                <a:gridCol w="479160"/>
                <a:gridCol w="479520"/>
                <a:gridCol w="465120"/>
                <a:gridCol w="479520"/>
                <a:gridCol w="479520"/>
                <a:gridCol w="480960"/>
                <a:gridCol w="479520"/>
                <a:gridCol w="958680"/>
              </a:tblGrid>
              <a:tr h="37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285880" y="213840"/>
            <a:ext cx="37148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ликан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ина – 1,8 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змах крыльев – до 3 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ес – до 14 к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мешная птица пеликан!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 грузный, неуклюжий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ромадный клюв как ятаган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 зоб - тугой как барабан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битый впрок на ужин..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.Асад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Picture 2" descr="C:\Documents and Settings\Admin\Рабочий стол\паустовский\рис1.bmp"/>
          <p:cNvPicPr/>
          <p:nvPr/>
        </p:nvPicPr>
        <p:blipFill>
          <a:blip r:embed="rId2"/>
          <a:stretch/>
        </p:blipFill>
        <p:spPr>
          <a:xfrm>
            <a:off x="0" y="0"/>
            <a:ext cx="519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714560" y="0"/>
            <a:ext cx="442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Я не знаю ничего более близкого мне, чем наши простые русские люди, и ничего более прекрасного, чем наша земля»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.Паустовск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C:\Documents and Settings\Admin\Рабочий стол\паустовский\портрет Пауст.jpg"/>
          <p:cNvPicPr/>
          <p:nvPr/>
        </p:nvPicPr>
        <p:blipFill>
          <a:blip r:embed="rId2"/>
          <a:stretch/>
        </p:blipFill>
        <p:spPr>
          <a:xfrm>
            <a:off x="-10152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***</cp:lastModifiedBy>
  <dcterms:modified xsi:type="dcterms:W3CDTF">2012-01-27T05:06:24Z</dcterms:modified>
  <cp:revision>16</cp:revision>
  <dc:subject/>
  <dc:title>Слайд 1</dc:title>
</cp:coreProperties>
</file>