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E2B-E060-425D-9FBF-42AEA326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10A-3459-4355-B500-06C6F6E3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D09BD-7185-4D88-B180-B659A6CE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79485-1AE2-4113-B20C-C5A71153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EED6F-4632-4D9F-B74B-1BA00342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4C1AA-05B2-41BB-8B20-D0C9F49A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5DFC9-A0FE-4E2B-8DCA-F396DDD5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E5398-92CB-4AEB-93D0-F954B986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A75D0-8D4E-4D4C-8096-A3563F07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822BD-604E-4B99-93FE-1AADA639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F02AA-5855-4F0D-AEED-17B6B84B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26C-2183-44BC-8E89-272786D2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49A-0CE2-49B6-AC11-1F29F785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376E-CB04-4211-A5CB-3A917F9D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DA0D-9337-409C-AFFE-12A2479F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8A8D-1F41-459F-9D55-2929DDC7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A95E-0600-4ED6-8500-A3294073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D8BA-B4B2-42E4-9E5C-B4B89D4B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4F4E-8425-44BF-B8BF-E97F6F88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1145-AC64-4537-9560-21033D27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E86-D34C-4770-BA15-513C9507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FC2A-FA66-4EB9-8218-6114C317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FC0E-24C4-4DFE-BDF9-A3EC0DD7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E304-C03B-45C1-A68A-A82BA539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0B45-E4B3-4EDD-831E-3C883EAB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B0FA-5471-4163-A236-25DC454F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B1DA-5249-4504-A52C-86424D6E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851E-9A83-4B36-A0EB-0B3698C5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BB259-F590-45DE-AD72-AB969BE4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1122-C475-4F2D-9D08-37AAC689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E77A-9F4F-4554-BF8D-1CDC173B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B92-B6AC-447B-8962-ED615433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5550-DF0F-4D4D-AD89-18345C8A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4C8F-C73B-4738-9BBD-FECB78F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787D-D15B-4452-BBF6-C2792A74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D1FE-00E7-48FB-977A-4020069A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76F8-EF08-450C-8738-A923B18E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FA486-8B42-44BA-B420-160500D0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F678-D9D2-4483-ADAB-C6349159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51CB8-2222-4BB6-A11D-78435532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10948-2364-469B-BFA2-0B9EE3FD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ABC5F-4CB3-465F-9820-4F128559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067-382E-451E-90CC-6F0A1F2B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6374F-76BD-439F-A464-173184AC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E82D-BEB2-45F3-9EC9-3C36E0AD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D6739-7AEF-45DC-BDED-137543B0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39EC3-1D8C-4B67-94DD-D2BE2F46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EDC65-9ABE-4EE8-9362-87E9060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E847-A82D-48E9-B6C0-DAAD5EE7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27E72-9CA3-422A-B9A2-F9E7223A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95850-69FA-4A2A-A83B-C8CD05C5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3FDBB-3798-4797-AEA1-FE3207E0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34944-654C-4DE3-A314-8098BEB4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CF2-FADF-44D3-9CFD-02F4CC2A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31DA2-D7C7-48A1-8BD9-4F7504D0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D795B-5D89-4679-8394-A9413C92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7BBAB-D4EC-4BF6-B1A5-01FF05DD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362FB-2175-403C-B39F-9500CFC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56009-7F2A-4684-8823-DA9B1A02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7F5FC-A4ED-4F64-9220-411C1C92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DC920-54DF-4376-A9DF-5D3E118B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CA513-B760-41EE-9AE9-2C4A6780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5F483-F0C6-41CB-9151-0C225E98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5F7B8-6659-4C66-A9AD-511065C0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D3A-FD85-435F-A636-E5E21680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87074-8653-4C1B-B69E-18B807D0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AC0F2-76A3-431D-9BAD-3D007C1B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F52E0-C4D3-4A08-8CA5-7AF42848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069A0-589E-40EE-91CE-2269E6C7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48826-C867-449A-9BA8-23D9D969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0FBC0-B61E-43CE-980D-3D582AC4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17DF7-D083-45EB-8A68-ABA4D57B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D29EB-4754-4305-9BFE-B40CB36F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B3341-98C6-4A5B-83FF-D4B6DBF5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D5BF6-5903-43CC-AA29-1F08418A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EB4-A920-465F-AF21-59BA71E9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8B043-AF45-4A2D-AC33-795E459E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F5CF2-D255-490A-9338-A3B04D18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49704-E13E-4FD8-87F7-02D188D5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0962D-C94D-4A4D-B7D4-C2AE43E4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EEB8D-CE4E-4AE5-9E16-F721C2A3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32D6C-953A-476D-A6BF-75FE81ED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8474E-BC94-420E-BB9A-AFE85DF6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1781B-5400-412A-8C34-CCCD0E18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F250-CF81-407F-912A-9C6AB6E2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D87E0-4911-4722-A86A-3F623EF4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3B1-A84D-4EDD-9A35-58EDFE0B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7791-8B7C-437B-9149-A36F39CE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47776-DC5A-4547-80C1-BE280C26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FFC17-A497-4C66-8EEA-E5D60CC8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E4634-DE1D-4739-8634-26D218E4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97C42-422A-44CD-BDCF-5E28EED0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3B631-E001-4B0D-96BE-B34FCA70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660C0-51DD-47AA-B12E-DF189527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E0D71-C593-4D83-9157-78CA85F7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625E1-12CB-405B-97E9-0DC4607C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D0A6C-9B0E-4EC7-9D76-F728C988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FDF-DD27-4F52-ADC3-DA58C0D5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CB3E2-2F1B-437D-8870-60F923F1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6C2DB-6E32-4BBA-9D79-04760C04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8EAAB-E2E6-440A-879D-6B219F32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A8F71-2D24-4042-945A-D0E875D0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8C22-0E48-4917-B612-524238C9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31933-FD53-48CD-A6B7-8A297878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56138-4215-4314-BD44-AA648BD4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5E0F9-67EC-44DE-ACA0-F1CE67C5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D5BE3-68B2-4222-A6AC-6FFA9B5E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EFA97-01E6-410F-B6A5-E4EA3E0B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FBFE-0145-4C5D-9ECC-4F2E6FC31C1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3B80-CEAF-49A6-BC2B-A28288129E5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8DDD-AC95-485E-AA46-485647C4AD1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7174-0309-41B4-B43A-B981AF7850E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D80-EA11-4248-885F-8E80A7C90B4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3DB5-B540-4544-A5FF-660921D7267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DF6B-829B-42CE-9499-4DDE6FE3EAF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2B13-39F5-40DA-BA03-9B9CD5A4DAB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7775-27E1-441B-BCDB-2A8D835368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237960" y="615960"/>
            <a:ext cx="8552160" cy="29322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714400" y="4571640"/>
            <a:ext cx="505764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льских Надежда Аркадьевн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Рябининская СОШ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дынского район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C:\Documents and Settings\Admin\Рабочий стол\Pelic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642960"/>
          <a:ext cx="9144000" cy="5357880"/>
        </p:xfrm>
        <a:graphic>
          <a:graphicData uri="http://schemas.openxmlformats.org/drawingml/2006/table">
            <a:tbl>
              <a:tblPr/>
              <a:tblGrid>
                <a:gridCol w="958680"/>
                <a:gridCol w="479520"/>
                <a:gridCol w="480960"/>
                <a:gridCol w="479520"/>
                <a:gridCol w="479520"/>
                <a:gridCol w="523800"/>
                <a:gridCol w="480960"/>
                <a:gridCol w="479520"/>
                <a:gridCol w="479520"/>
                <a:gridCol w="479160"/>
                <a:gridCol w="479520"/>
                <a:gridCol w="465120"/>
                <a:gridCol w="479520"/>
                <a:gridCol w="479520"/>
                <a:gridCol w="480960"/>
                <a:gridCol w="479520"/>
                <a:gridCol w="958680"/>
              </a:tblGrid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0" y="714240"/>
          <a:ext cx="9144000" cy="5286600"/>
        </p:xfrm>
        <a:graphic>
          <a:graphicData uri="http://schemas.openxmlformats.org/drawingml/2006/table">
            <a:tbl>
              <a:tblPr/>
              <a:tblGrid>
                <a:gridCol w="958680"/>
                <a:gridCol w="479520"/>
                <a:gridCol w="480960"/>
                <a:gridCol w="479520"/>
                <a:gridCol w="479520"/>
                <a:gridCol w="523800"/>
                <a:gridCol w="480960"/>
                <a:gridCol w="479520"/>
                <a:gridCol w="479520"/>
                <a:gridCol w="479160"/>
                <a:gridCol w="479520"/>
                <a:gridCol w="465120"/>
                <a:gridCol w="479520"/>
                <a:gridCol w="479520"/>
                <a:gridCol w="480960"/>
                <a:gridCol w="479520"/>
                <a:gridCol w="958680"/>
              </a:tblGrid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 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285880" y="213840"/>
            <a:ext cx="37148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еликан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ина – 1,8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азмах крыльев – до 3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с – до 14 к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мешная птица пеликан!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 грузный, неуклюжий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омадный клюв как ятаган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 зоб - тугой как барабан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битый впрок на ужин..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.Асад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2" descr="C:\Documents and Settings\Admin\Рабочий стол\паустовский\рис1.bmp"/>
          <p:cNvPicPr/>
          <p:nvPr/>
        </p:nvPicPr>
        <p:blipFill>
          <a:blip r:embed="rId2"/>
          <a:stretch/>
        </p:blipFill>
        <p:spPr>
          <a:xfrm>
            <a:off x="0" y="0"/>
            <a:ext cx="519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714560" y="0"/>
            <a:ext cx="442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Я не знаю ничего более близкого мне, чем наши простые русские люди, и ничего более прекрасного, чем наша земля»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.Паустовск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Documents and Settings\Admin\Рабочий стол\паустовский\портрет Пауст.jpg"/>
          <p:cNvPicPr/>
          <p:nvPr/>
        </p:nvPicPr>
        <p:blipFill>
          <a:blip r:embed="rId2"/>
          <a:stretch/>
        </p:blipFill>
        <p:spPr>
          <a:xfrm>
            <a:off x="-10152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**</cp:lastModifiedBy>
  <dcterms:modified xsi:type="dcterms:W3CDTF">2012-01-27T05:06:24Z</dcterms:modified>
  <cp:revision>16</cp:revision>
  <dc:subject/>
  <dc:title>Слайд 1</dc:title>
</cp:coreProperties>
</file>