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A44-1689-4661-A9D6-2096514C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775-31F6-46E1-9A11-78800B4F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7A1-164D-4D58-9F31-1B3B0298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1D1-B4B7-4725-B49E-482D24C7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5AA2-EB8D-43B5-8F8A-C0DAEDA1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21EC-2C0A-4876-A2A2-64F20A83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0CC5-7550-4DBB-B7D5-420FFEA7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8295-4958-4558-801C-58990E54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08B3-9E63-4874-9CED-05431268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260E-CE90-47CF-A9BB-DE05E279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C532-1EE6-48B4-BC17-85245798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424-204E-4FAC-AF64-1926D157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20D7-FE5B-48D7-A9F0-81B28133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DAC4-433A-46FF-9FAB-4B655273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3C61-7546-4145-8EC3-48BFC58B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623B-2FCD-4EA5-8A32-78A0829F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0492-A53B-4EC3-A748-0B6B1C71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164-BA41-485D-AF95-64EBF51D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F5B-7EF5-4A66-A579-635C0599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F320-96A0-474F-8ED9-5A6309E8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E4A-75CE-48A4-8E20-15A38129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7E1-50EB-4B47-925D-D2934BBD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CF92-C47C-46CE-B5CF-674A71A3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5A0-A5CC-4F2B-A873-68D55743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0C36-6D6F-4D3D-8812-FCD7678DAB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45F9-09A2-4847-AF36-00D25FECB7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074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пределение арифметической прогрессии. Формула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-го чле-на арифметической прогресси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843280" y="4724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Урок №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074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пределение арифметической прогрессии. Формула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-го чле-на арифметической прогресси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4724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Урок №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15600" y="5661000"/>
            <a:ext cx="57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Прогрессия – движение впер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учиться применять изученный материал, включающий определение, свойства, формулу n-го члена арифметической прогрессии,  на практи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айте определение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03280" y="5157720"/>
          <a:ext cx="2016360" cy="10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5157720"/>
                    <a:ext cx="201636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971640" y="2637000"/>
            <a:ext cx="77724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ие из последовательностей являются арифметическими прогрессиями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, 12, 18, 24, 30,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, 6, 9, 12,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-7, -14, -28, -35, -49,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то называют разностью арифметической прогрессии? Как обозначаю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йти разность арифметической прогресси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; 5; 9…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5; 100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13; -15; -17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; ? ; 19,…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0614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ое  из  равенств является формулой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ого члена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979640" y="3357720"/>
          <a:ext cx="38163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357720"/>
                    <a:ext cx="38163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908000" y="4149720"/>
          <a:ext cx="417672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149720"/>
                    <a:ext cx="417672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908000" y="4797360"/>
          <a:ext cx="4185000" cy="8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4797360"/>
                    <a:ext cx="41850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908000" y="5516640"/>
          <a:ext cx="4227840" cy="82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5516640"/>
                    <a:ext cx="42278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пишите формул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 члена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ый член арифметической прогрессии равен 5, а разность 3, найдите е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4005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ятнадцатый 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4005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о первый 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40766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иннадцатый чл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=a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+ d(n-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3419640" y="3645000"/>
            <a:ext cx="2592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+ d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1332000" y="4869000"/>
            <a:ext cx="143964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a</a:t>
            </a:r>
            <a:r>
              <a:rPr b="0" lang="en-US" sz="2800" spc="-1" strike="noStrike" u="sng" baseline="-25000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3851280" y="5877000"/>
            <a:ext cx="144000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6443640" y="4653000"/>
            <a:ext cx="1440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5867280" y="2349360"/>
            <a:ext cx="1440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3" action="ppaction://hlinksldjump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2124000" y="2349360"/>
            <a:ext cx="1440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 flipH="1">
            <a:off x="2484360" y="4365720"/>
            <a:ext cx="1008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4643280" y="4724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5940360" y="4365720"/>
            <a:ext cx="647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 flipV="1">
            <a:off x="5435640" y="306828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 flipH="1" flipV="1">
            <a:off x="3131640" y="306828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074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пределение арифметической прогрессии. Формула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-го чле-на арифметической прогресси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4724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Урок №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04320" y="5533920"/>
            <a:ext cx="57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Прогрессия – движение впер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льнейшее освоение теоретических знаний по теме «Определение арифметической прогрессии. Формул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го члена арифметической прогрессии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нять полученные знания для решения задач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6000" y="2017440"/>
            <a:ext cx="76327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ая последовательность называется арифметической прогресси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4508640"/>
            <a:ext cx="7632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Является ли последовательность чисел, кратных 6 арифметической прогрессией? Чему равен ее первый член и раз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3068640"/>
            <a:ext cx="763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 проверить, является ли последовательность арифметической прогрессие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учить определение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учиться определять является ли числовая последовательность арифметической прогрессией или н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учить формул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го члена 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учиться применять формул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го члена  арифметической прогрессии при решении задач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0614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ется ли арифметической прогрессией последовательность (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заданная формул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627280" y="3429000"/>
          <a:ext cx="276228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429000"/>
                    <a:ext cx="27622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700360" y="4149720"/>
          <a:ext cx="251316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149720"/>
                    <a:ext cx="251316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700360" y="4869000"/>
          <a:ext cx="2987640" cy="82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4869000"/>
                    <a:ext cx="29876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76360" y="5591160"/>
            <a:ext cx="70610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числить первые три члена последова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13448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ность арифметической прогрессии равна 4. Какой формулой может быть задана эта арифметическая прогресс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03640" y="3645000"/>
          <a:ext cx="2089080" cy="60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645000"/>
                    <a:ext cx="208908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3203640" y="4292640"/>
          <a:ext cx="208764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292640"/>
                    <a:ext cx="20876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203640" y="4869000"/>
          <a:ext cx="215892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69000"/>
                    <a:ext cx="2158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547640" y="55897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ему равен первый член этой арифметической прогрес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рок сегодня завершён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о каждый должен знать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знание, упорство, труд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 прогрессу в жизни приведу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такое ПРОГРЕССИЯ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0560" y="2017800"/>
            <a:ext cx="665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Термин «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прогрессия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»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меет латинское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оисхождение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(progression), что означает «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движение вперед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»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 был введен римским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втором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Боэцием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(VI в.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588000" y="2133720"/>
            <a:ext cx="22860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такое ПРОГРЕСС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Этим термином в математике прежде именовали всякую последовательность чисел, построенную по такому закону, который позволяет неограниченно продолжать эту последовательность в одном направлении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В настоящее время термин «прогрессия» в первоначально широком смысле не употребляетс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в английских учебниках появились обозначения арифметической и геометрической прогрессий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33"/>
          <p:cNvGrpSpPr/>
          <p:nvPr/>
        </p:nvGrpSpPr>
        <p:grpSpPr>
          <a:xfrm>
            <a:off x="3344760" y="4076640"/>
            <a:ext cx="5474880" cy="581400"/>
            <a:chOff x="3344760" y="4076640"/>
            <a:chExt cx="5474880" cy="581400"/>
          </a:xfrm>
        </p:grpSpPr>
        <p:sp>
          <p:nvSpPr>
            <p:cNvPr id="111" name="Rectangle 6"/>
            <p:cNvSpPr/>
            <p:nvPr/>
          </p:nvSpPr>
          <p:spPr>
            <a:xfrm>
              <a:off x="7524720" y="4105080"/>
              <a:ext cx="107964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32"/>
            <p:cNvGrpSpPr/>
            <p:nvPr/>
          </p:nvGrpSpPr>
          <p:grpSpPr>
            <a:xfrm>
              <a:off x="3344760" y="4076640"/>
              <a:ext cx="5474880" cy="581400"/>
              <a:chOff x="3344760" y="4076640"/>
              <a:chExt cx="5474880" cy="581400"/>
            </a:xfrm>
          </p:grpSpPr>
          <p:sp>
            <p:nvSpPr>
              <p:cNvPr id="113" name="Rectangle 4"/>
              <p:cNvSpPr/>
              <p:nvPr/>
            </p:nvSpPr>
            <p:spPr>
              <a:xfrm>
                <a:off x="3344760" y="4076640"/>
                <a:ext cx="4208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Constantia"/>
                  </a:rPr>
                  <a:t>Арифметическая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Constantia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7"/>
              <p:cNvGrpSpPr/>
              <p:nvPr/>
            </p:nvGrpSpPr>
            <p:grpSpPr>
              <a:xfrm>
                <a:off x="7885080" y="4105080"/>
                <a:ext cx="934560" cy="519120"/>
                <a:chOff x="7885080" y="4105080"/>
                <a:chExt cx="934560" cy="519120"/>
              </a:xfrm>
            </p:grpSpPr>
            <p:sp>
              <p:nvSpPr>
                <p:cNvPr id="115" name="Text Box 8"/>
                <p:cNvSpPr/>
                <p:nvPr/>
              </p:nvSpPr>
              <p:spPr>
                <a:xfrm>
                  <a:off x="8316720" y="4105080"/>
                  <a:ext cx="5029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Group 9"/>
                <p:cNvGrpSpPr/>
                <p:nvPr/>
              </p:nvGrpSpPr>
              <p:grpSpPr>
                <a:xfrm>
                  <a:off x="7885080" y="4249440"/>
                  <a:ext cx="360000" cy="290520"/>
                  <a:chOff x="7885080" y="4249440"/>
                  <a:chExt cx="360000" cy="290520"/>
                </a:xfrm>
              </p:grpSpPr>
              <p:grpSp>
                <p:nvGrpSpPr>
                  <p:cNvPr id="117" name="Group 10"/>
                  <p:cNvGrpSpPr/>
                  <p:nvPr/>
                </p:nvGrpSpPr>
                <p:grpSpPr>
                  <a:xfrm>
                    <a:off x="7885080" y="4249440"/>
                    <a:ext cx="360000" cy="144360"/>
                    <a:chOff x="7885080" y="4249440"/>
                    <a:chExt cx="360000" cy="144360"/>
                  </a:xfrm>
                </p:grpSpPr>
                <p:sp>
                  <p:nvSpPr>
                    <p:cNvPr id="118" name="Line 11"/>
                    <p:cNvSpPr/>
                    <p:nvPr/>
                  </p:nvSpPr>
                  <p:spPr>
                    <a:xfrm>
                      <a:off x="7885080" y="4393800"/>
                      <a:ext cx="3600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Oval 12"/>
                    <p:cNvSpPr/>
                    <p:nvPr/>
                  </p:nvSpPr>
                  <p:spPr>
                    <a:xfrm>
                      <a:off x="8029080" y="4249440"/>
                      <a:ext cx="70920" cy="73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Oval 13"/>
                  <p:cNvSpPr/>
                  <p:nvPr/>
                </p:nvSpPr>
                <p:spPr>
                  <a:xfrm>
                    <a:off x="8029080" y="4466880"/>
                    <a:ext cx="709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1" name="Group 35"/>
          <p:cNvGrpSpPr/>
          <p:nvPr/>
        </p:nvGrpSpPr>
        <p:grpSpPr>
          <a:xfrm>
            <a:off x="3369240" y="4941720"/>
            <a:ext cx="4930200" cy="625680"/>
            <a:chOff x="3369240" y="4941720"/>
            <a:chExt cx="4930200" cy="625680"/>
          </a:xfrm>
        </p:grpSpPr>
        <p:sp>
          <p:nvSpPr>
            <p:cNvPr id="122" name="Rectangle 14"/>
            <p:cNvSpPr/>
            <p:nvPr/>
          </p:nvSpPr>
          <p:spPr>
            <a:xfrm>
              <a:off x="3369240" y="4941720"/>
              <a:ext cx="389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Constantia"/>
                </a:rPr>
                <a:t>Геометрическ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34"/>
            <p:cNvGrpSpPr/>
            <p:nvPr/>
          </p:nvGrpSpPr>
          <p:grpSpPr>
            <a:xfrm>
              <a:off x="7291440" y="5062680"/>
              <a:ext cx="1008000" cy="504720"/>
              <a:chOff x="7291440" y="5062680"/>
              <a:chExt cx="1008000" cy="504720"/>
            </a:xfrm>
          </p:grpSpPr>
          <p:sp>
            <p:nvSpPr>
              <p:cNvPr id="124" name="Rectangle 18"/>
              <p:cNvSpPr/>
              <p:nvPr/>
            </p:nvSpPr>
            <p:spPr>
              <a:xfrm>
                <a:off x="7291440" y="5062680"/>
                <a:ext cx="1008000" cy="50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19"/>
              <p:cNvGrpSpPr/>
              <p:nvPr/>
            </p:nvGrpSpPr>
            <p:grpSpPr>
              <a:xfrm>
                <a:off x="7362720" y="5164200"/>
                <a:ext cx="576360" cy="340920"/>
                <a:chOff x="7362720" y="5164200"/>
                <a:chExt cx="576360" cy="340920"/>
              </a:xfrm>
            </p:grpSpPr>
            <p:sp>
              <p:nvSpPr>
                <p:cNvPr id="126" name="Oval 20"/>
                <p:cNvSpPr/>
                <p:nvPr/>
              </p:nvSpPr>
              <p:spPr>
                <a:xfrm>
                  <a:off x="7723080" y="5419440"/>
                  <a:ext cx="71640" cy="85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" name="Group 21"/>
                <p:cNvGrpSpPr/>
                <p:nvPr/>
              </p:nvGrpSpPr>
              <p:grpSpPr>
                <a:xfrm>
                  <a:off x="7362720" y="5164200"/>
                  <a:ext cx="576360" cy="340560"/>
                  <a:chOff x="7362720" y="5164200"/>
                  <a:chExt cx="576360" cy="340560"/>
                </a:xfrm>
              </p:grpSpPr>
              <p:grpSp>
                <p:nvGrpSpPr>
                  <p:cNvPr id="128" name="Group 22"/>
                  <p:cNvGrpSpPr/>
                  <p:nvPr/>
                </p:nvGrpSpPr>
                <p:grpSpPr>
                  <a:xfrm>
                    <a:off x="7362720" y="5164200"/>
                    <a:ext cx="576360" cy="168480"/>
                    <a:chOff x="7362720" y="5164200"/>
                    <a:chExt cx="576360" cy="168480"/>
                  </a:xfrm>
                </p:grpSpPr>
                <p:sp>
                  <p:nvSpPr>
                    <p:cNvPr id="129" name="Oval 23"/>
                    <p:cNvSpPr/>
                    <p:nvPr/>
                  </p:nvSpPr>
                  <p:spPr>
                    <a:xfrm>
                      <a:off x="7723080" y="5164200"/>
                      <a:ext cx="71640" cy="85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0" name="Group 24"/>
                    <p:cNvGrpSpPr/>
                    <p:nvPr/>
                  </p:nvGrpSpPr>
                  <p:grpSpPr>
                    <a:xfrm>
                      <a:off x="7362720" y="5164200"/>
                      <a:ext cx="576360" cy="168480"/>
                      <a:chOff x="7362720" y="5164200"/>
                      <a:chExt cx="576360" cy="168480"/>
                    </a:xfrm>
                  </p:grpSpPr>
                  <p:sp>
                    <p:nvSpPr>
                      <p:cNvPr id="131" name="Line 25"/>
                      <p:cNvSpPr/>
                      <p:nvPr/>
                    </p:nvSpPr>
                    <p:spPr>
                      <a:xfrm>
                        <a:off x="7362720" y="5332680"/>
                        <a:ext cx="576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Oval 26"/>
                      <p:cNvSpPr/>
                      <p:nvPr/>
                    </p:nvSpPr>
                    <p:spPr>
                      <a:xfrm>
                        <a:off x="7505640" y="5164200"/>
                        <a:ext cx="71640" cy="853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3" name="Oval 27"/>
                  <p:cNvSpPr/>
                  <p:nvPr/>
                </p:nvSpPr>
                <p:spPr>
                  <a:xfrm>
                    <a:off x="7505640" y="5419080"/>
                    <a:ext cx="71640" cy="85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176508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акончился двадцатый век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уда стремится человек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учен космос и мор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роенье звезд и вся земл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о математиков зов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вестный лозунг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Прогрессия – движение вперёд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же в литературе мы встречаем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атематическими понятиями! Так, вспомним строки из"Евгения Онегина"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...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Не мог он ямба от хоре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Как мы не бились, отличить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грессия в литератур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ме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 u="sng">
                <a:solidFill>
                  <a:srgbClr val="800080"/>
                </a:solidFill>
                <a:uFillTx/>
                <a:latin typeface="Tahoma"/>
              </a:rPr>
              <a:t>Ямб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755640" y="2565360"/>
            <a:ext cx="7555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«Мой дЯдя сАмых чЕстных прАвил...»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755640" y="3202200"/>
            <a:ext cx="82090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Ямб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стихотворный размер с удар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четных слогах 2; 4; 6; 8..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мера ударных слогов образ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ифметическую прогрессию с первым членом 2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ностью прогрессии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995760" y="5876280"/>
            <a:ext cx="40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nstantia"/>
              </a:rPr>
              <a:t>Прогрессия: 2; 4; 6; 8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7"/>
          <p:cNvSpPr/>
          <p:nvPr/>
        </p:nvSpPr>
        <p:spPr>
          <a:xfrm>
            <a:off x="324000" y="1989000"/>
            <a:ext cx="28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800080"/>
                </a:solidFill>
                <a:uFillTx/>
                <a:latin typeface="Constantia"/>
              </a:rPr>
              <a:t>Хор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1464120" y="2349360"/>
            <a:ext cx="6064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«Я пропАл, как звЕрь в загОн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5219640" y="3141720"/>
            <a:ext cx="32418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Б. Л. Пастер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226440" y="5396760"/>
            <a:ext cx="41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nstantia"/>
              </a:rPr>
              <a:t>Прогрессия: 1; 3 ;5; 7..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933720"/>
            <a:ext cx="8569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Хорей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стихотворный размер с ударением на нечетных слогах стиха. Номера ударных слогов образую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ифметическую прогрессию 1; 3; 5; 7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189000"/>
            <a:ext cx="779292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7:39:23Z</dcterms:created>
  <dc:creator>Мелкомуковы</dc:creator>
  <dc:description/>
  <dc:language>en-US</dc:language>
  <cp:lastModifiedBy>Мелкомуковы</cp:lastModifiedBy>
  <dcterms:modified xsi:type="dcterms:W3CDTF">2012-01-22T12:34:14Z</dcterms:modified>
  <cp:revision>5</cp:revision>
  <dc:subject/>
  <dc:title>Арифметическая прогрессия</dc:title>
</cp:coreProperties>
</file>