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667-55E3-4E9F-8A98-B776F465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530-3EAB-475F-B234-A464C1EC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49E-23EF-4447-83C9-46C40FE1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9F7-45FA-499F-9AC8-8158054B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3367-7FE1-4131-9BE1-A5CC3932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9594-AD53-4948-909D-11BC9D17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7BB7-B719-4AD4-91F1-79F2B28B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5CF8-D86F-424D-9C53-70F6C74D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5C87-0B51-4629-8DC2-6039610B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A1DC-4A0A-4340-8A81-62F1C19F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95E7-AE88-491C-8EEA-F63751D6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9EB-932C-4391-811E-C42E9FA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AC90-DFAE-4A0C-A493-DEDB3F42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EE15-D097-4403-B252-48F17DA1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976C-28B4-4F9C-81D5-F14EEFBF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83F0-D3E7-4017-8E99-4F668495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68FB-A294-4451-AD0B-DC82517F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63F-770A-4B49-9D5D-01859CC7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FC6-8BC0-48D4-B08A-6A0B2300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188-BA26-4823-9944-4A8720F6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0D0-1E6B-47FF-87BB-10A97809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D47-505F-4D31-B155-BE5C9549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DAF-81FD-40D6-B092-9233A785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437-9DA8-495D-A328-DBD99D78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0AF4-7A67-46FF-BB9B-D45431EC7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7F7-89A1-4617-B1E8-64CAE08FFA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5600" y="566100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иться применять изученный материал, включающий определение, свойства, формулу n-го члена арифметической прогрессии,  на практи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йте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5157720"/>
          <a:ext cx="201636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157720"/>
                    <a:ext cx="2016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71640" y="263700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ие из последовательностей являются арифметическими прогрессиям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, 12, 18, 24, 30,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, 6, 9, 12,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-7, -14, -28, -35, -49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 называют разностью арифметической прогрессии? Как обозначаю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йти разность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; 5; 9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5; 100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3; -15; -17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; ? ; 19,…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 из  равенств является формулой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о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79640" y="3357720"/>
          <a:ext cx="38163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38163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908000" y="4149720"/>
          <a:ext cx="4176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149720"/>
                    <a:ext cx="41767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4797360"/>
          <a:ext cx="418500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97360"/>
                    <a:ext cx="4185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908000" y="5516640"/>
          <a:ext cx="422784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5516640"/>
                    <a:ext cx="4227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шите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й член арифметической прогрессии равен 5, а разность 3, найдите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ятнадцат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 перв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076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надцатый 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419640" y="3645000"/>
            <a:ext cx="2592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1332000" y="4869000"/>
            <a:ext cx="1439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a</a:t>
            </a:r>
            <a:r>
              <a:rPr b="0" lang="en-US" sz="2800" spc="-1" strike="noStrike" u="sng" baseline="-25000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1280" y="5877000"/>
            <a:ext cx="144000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6443640" y="465300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86728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12400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2484360" y="436572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5940360" y="4365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V="1">
            <a:off x="5435640" y="3068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3131640" y="306828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04320" y="553392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ьнейшее освоение теоретических знаний по теме «Определение арифметической прогрессии. Формул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го члена арифметической прогрессии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ять полученные знания для решения задач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017440"/>
            <a:ext cx="7632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ая последовательность называется арифметической прогресс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508640"/>
            <a:ext cx="76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вляется ли последовательность чисел, кратных 6 арифметической прогрессией? Чему равен ее первый член и раз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068640"/>
            <a:ext cx="76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проверить, является ли последовательность арифметической прогресси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определять является ли числовая последовательность арифметической прогрессией или 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применя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 при решении зада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арифметической прогрессией последовательность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заданная формул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27280" y="3429000"/>
          <a:ext cx="27622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429000"/>
                    <a:ext cx="27622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700360" y="4149720"/>
          <a:ext cx="251316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149720"/>
                    <a:ext cx="2513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00360" y="4869000"/>
          <a:ext cx="2987640" cy="82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869000"/>
                    <a:ext cx="2987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76360" y="5591160"/>
            <a:ext cx="7061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числить первые три члена последова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34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ность арифметической прогрессии равна 4. Какой формулой может быть задана эта арифметическая прогресс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03640" y="3645000"/>
          <a:ext cx="208908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645000"/>
                    <a:ext cx="20890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203640" y="4292640"/>
          <a:ext cx="20876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2087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03640" y="4869000"/>
          <a:ext cx="21589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69000"/>
                    <a:ext cx="2158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47640" y="5589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ему равен первый член этой арифметической прогре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сегодня завершён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 каждый должен знать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нание, упорство, труд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прогрессу в жизни привед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560" y="2017800"/>
            <a:ext cx="66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ермин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прогрессия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меет латинско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исхождени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progression), что означает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вижение вперед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был введен римск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втором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Боэцие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(VI в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286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Этим термином в математике прежде именовали всякую последовательность чисел, построенную по такому закону, который позволяет неограниченно продолжать эту последовательность в одном направлени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 настоящее время термин «прогрессия» в первоначально широком смысле не употребляетс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в английских учебниках появились обозначения арифметической и геометрической прогрессий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3"/>
          <p:cNvGrpSpPr/>
          <p:nvPr/>
        </p:nvGrpSpPr>
        <p:grpSpPr>
          <a:xfrm>
            <a:off x="3344760" y="4076640"/>
            <a:ext cx="5474880" cy="581400"/>
            <a:chOff x="3344760" y="4076640"/>
            <a:chExt cx="5474880" cy="581400"/>
          </a:xfrm>
        </p:grpSpPr>
        <p:sp>
          <p:nvSpPr>
            <p:cNvPr id="111" name="Rectangle 6"/>
            <p:cNvSpPr/>
            <p:nvPr/>
          </p:nvSpPr>
          <p:spPr>
            <a:xfrm>
              <a:off x="7524720" y="4105080"/>
              <a:ext cx="107964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2"/>
            <p:cNvGrpSpPr/>
            <p:nvPr/>
          </p:nvGrpSpPr>
          <p:grpSpPr>
            <a:xfrm>
              <a:off x="3344760" y="4076640"/>
              <a:ext cx="5474880" cy="581400"/>
              <a:chOff x="3344760" y="4076640"/>
              <a:chExt cx="5474880" cy="581400"/>
            </a:xfrm>
          </p:grpSpPr>
          <p:sp>
            <p:nvSpPr>
              <p:cNvPr id="113" name="Rectangle 4"/>
              <p:cNvSpPr/>
              <p:nvPr/>
            </p:nvSpPr>
            <p:spPr>
              <a:xfrm>
                <a:off x="3344760" y="4076640"/>
                <a:ext cx="420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Constantia"/>
                  </a:rPr>
                  <a:t>Арифметическая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nstanti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"/>
              <p:cNvGrpSpPr/>
              <p:nvPr/>
            </p:nvGrpSpPr>
            <p:grpSpPr>
              <a:xfrm>
                <a:off x="7885080" y="4105080"/>
                <a:ext cx="934560" cy="519120"/>
                <a:chOff x="7885080" y="4105080"/>
                <a:chExt cx="934560" cy="519120"/>
              </a:xfrm>
            </p:grpSpPr>
            <p:sp>
              <p:nvSpPr>
                <p:cNvPr id="115" name="Text Box 8"/>
                <p:cNvSpPr/>
                <p:nvPr/>
              </p:nvSpPr>
              <p:spPr>
                <a:xfrm>
                  <a:off x="8316720" y="4105080"/>
                  <a:ext cx="5029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9"/>
                <p:cNvGrpSpPr/>
                <p:nvPr/>
              </p:nvGrpSpPr>
              <p:grpSpPr>
                <a:xfrm>
                  <a:off x="7885080" y="4249440"/>
                  <a:ext cx="360000" cy="290520"/>
                  <a:chOff x="7885080" y="4249440"/>
                  <a:chExt cx="360000" cy="290520"/>
                </a:xfrm>
              </p:grpSpPr>
              <p:grpSp>
                <p:nvGrpSpPr>
                  <p:cNvPr id="117" name="Group 10"/>
                  <p:cNvGrpSpPr/>
                  <p:nvPr/>
                </p:nvGrpSpPr>
                <p:grpSpPr>
                  <a:xfrm>
                    <a:off x="7885080" y="4249440"/>
                    <a:ext cx="360000" cy="144360"/>
                    <a:chOff x="7885080" y="4249440"/>
                    <a:chExt cx="360000" cy="144360"/>
                  </a:xfrm>
                </p:grpSpPr>
                <p:sp>
                  <p:nvSpPr>
                    <p:cNvPr id="118" name="Line 11"/>
                    <p:cNvSpPr/>
                    <p:nvPr/>
                  </p:nvSpPr>
                  <p:spPr>
                    <a:xfrm>
                      <a:off x="7885080" y="4393800"/>
                      <a:ext cx="360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Oval 12"/>
                    <p:cNvSpPr/>
                    <p:nvPr/>
                  </p:nvSpPr>
                  <p:spPr>
                    <a:xfrm>
                      <a:off x="8029080" y="4249440"/>
                      <a:ext cx="70920" cy="73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Oval 13"/>
                  <p:cNvSpPr/>
                  <p:nvPr/>
                </p:nvSpPr>
                <p:spPr>
                  <a:xfrm>
                    <a:off x="8029080" y="4466880"/>
                    <a:ext cx="709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1" name="Group 35"/>
          <p:cNvGrpSpPr/>
          <p:nvPr/>
        </p:nvGrpSpPr>
        <p:grpSpPr>
          <a:xfrm>
            <a:off x="3369240" y="4941720"/>
            <a:ext cx="4930200" cy="625680"/>
            <a:chOff x="3369240" y="4941720"/>
            <a:chExt cx="4930200" cy="625680"/>
          </a:xfrm>
        </p:grpSpPr>
        <p:sp>
          <p:nvSpPr>
            <p:cNvPr id="122" name="Rectangle 14"/>
            <p:cNvSpPr/>
            <p:nvPr/>
          </p:nvSpPr>
          <p:spPr>
            <a:xfrm>
              <a:off x="3369240" y="4941720"/>
              <a:ext cx="389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Constantia"/>
                </a:rPr>
                <a:t>Геометрическ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4"/>
            <p:cNvGrpSpPr/>
            <p:nvPr/>
          </p:nvGrpSpPr>
          <p:grpSpPr>
            <a:xfrm>
              <a:off x="7291440" y="5062680"/>
              <a:ext cx="1008000" cy="504720"/>
              <a:chOff x="7291440" y="5062680"/>
              <a:chExt cx="1008000" cy="504720"/>
            </a:xfrm>
          </p:grpSpPr>
          <p:sp>
            <p:nvSpPr>
              <p:cNvPr id="124" name="Rectangle 18"/>
              <p:cNvSpPr/>
              <p:nvPr/>
            </p:nvSpPr>
            <p:spPr>
              <a:xfrm>
                <a:off x="7291440" y="5062680"/>
                <a:ext cx="1008000" cy="50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19"/>
              <p:cNvGrpSpPr/>
              <p:nvPr/>
            </p:nvGrpSpPr>
            <p:grpSpPr>
              <a:xfrm>
                <a:off x="7362720" y="5164200"/>
                <a:ext cx="576360" cy="340920"/>
                <a:chOff x="7362720" y="5164200"/>
                <a:chExt cx="576360" cy="340920"/>
              </a:xfrm>
            </p:grpSpPr>
            <p:sp>
              <p:nvSpPr>
                <p:cNvPr id="126" name="Oval 20"/>
                <p:cNvSpPr/>
                <p:nvPr/>
              </p:nvSpPr>
              <p:spPr>
                <a:xfrm>
                  <a:off x="7723080" y="5419440"/>
                  <a:ext cx="71640" cy="85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1"/>
                <p:cNvGrpSpPr/>
                <p:nvPr/>
              </p:nvGrpSpPr>
              <p:grpSpPr>
                <a:xfrm>
                  <a:off x="7362720" y="5164200"/>
                  <a:ext cx="576360" cy="340560"/>
                  <a:chOff x="7362720" y="5164200"/>
                  <a:chExt cx="576360" cy="340560"/>
                </a:xfrm>
              </p:grpSpPr>
              <p:grpSp>
                <p:nvGrpSpPr>
                  <p:cNvPr id="128" name="Group 22"/>
                  <p:cNvGrpSpPr/>
                  <p:nvPr/>
                </p:nvGrpSpPr>
                <p:grpSpPr>
                  <a:xfrm>
                    <a:off x="7362720" y="5164200"/>
                    <a:ext cx="576360" cy="168480"/>
                    <a:chOff x="7362720" y="5164200"/>
                    <a:chExt cx="576360" cy="168480"/>
                  </a:xfrm>
                </p:grpSpPr>
                <p:sp>
                  <p:nvSpPr>
                    <p:cNvPr id="129" name="Oval 23"/>
                    <p:cNvSpPr/>
                    <p:nvPr/>
                  </p:nvSpPr>
                  <p:spPr>
                    <a:xfrm>
                      <a:off x="7723080" y="5164200"/>
                      <a:ext cx="71640" cy="85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" name="Group 24"/>
                    <p:cNvGrpSpPr/>
                    <p:nvPr/>
                  </p:nvGrpSpPr>
                  <p:grpSpPr>
                    <a:xfrm>
                      <a:off x="7362720" y="5164200"/>
                      <a:ext cx="576360" cy="168480"/>
                      <a:chOff x="7362720" y="5164200"/>
                      <a:chExt cx="576360" cy="168480"/>
                    </a:xfrm>
                  </p:grpSpPr>
                  <p:sp>
                    <p:nvSpPr>
                      <p:cNvPr id="131" name="Line 25"/>
                      <p:cNvSpPr/>
                      <p:nvPr/>
                    </p:nvSpPr>
                    <p:spPr>
                      <a:xfrm>
                        <a:off x="7362720" y="5332680"/>
                        <a:ext cx="576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Oval 26"/>
                      <p:cNvSpPr/>
                      <p:nvPr/>
                    </p:nvSpPr>
                    <p:spPr>
                      <a:xfrm>
                        <a:off x="7505640" y="5164200"/>
                        <a:ext cx="71640" cy="853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3" name="Oval 27"/>
                  <p:cNvSpPr/>
                  <p:nvPr/>
                </p:nvSpPr>
                <p:spPr>
                  <a:xfrm>
                    <a:off x="7505640" y="5419080"/>
                    <a:ext cx="7164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17650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кончился двадцатый ве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да стремится челове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ен космос и мор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оенье звезд и вся зем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 математиков зов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вестный лозун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в литературе мы встречаем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атематическими понятиями! Так, вспомним строки из"Евгения Онегина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...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 мы не бились, отличить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грессия в литератур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800080"/>
                </a:solidFill>
                <a:uFillTx/>
                <a:latin typeface="Tahoma"/>
              </a:rPr>
              <a:t>Ямб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55640" y="2565360"/>
            <a:ext cx="7555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Мой дЯдя сАмых чЕстных прАвил...»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55640" y="3202200"/>
            <a:ext cx="82090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Ям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четных слогах 2; 4; 6; 8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 ударных слогов обра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с первым членом 2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стью прогресси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995760" y="587628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2; 4; 6; 8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7"/>
          <p:cNvSpPr/>
          <p:nvPr/>
        </p:nvSpPr>
        <p:spPr>
          <a:xfrm>
            <a:off x="324000" y="198900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00080"/>
                </a:solidFill>
                <a:uFillTx/>
                <a:latin typeface="Constantia"/>
              </a:rPr>
              <a:t>Хо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464120" y="2349360"/>
            <a:ext cx="606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Я пропАл, как звЕрь в загО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219640" y="3141720"/>
            <a:ext cx="32418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Б. Л. Пастер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26440" y="5396760"/>
            <a:ext cx="41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1; 3 ;5; 7..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933720"/>
            <a:ext cx="856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Хорей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на нечетных слогах стиха. Номера ударных слогов образую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1; 3; 5; 7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89000"/>
            <a:ext cx="77929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39:23Z</dcterms:created>
  <dc:creator>Мелкомуковы</dc:creator>
  <dc:description/>
  <dc:language>en-US</dc:language>
  <cp:lastModifiedBy>Мелкомуковы</cp:lastModifiedBy>
  <dcterms:modified xsi:type="dcterms:W3CDTF">2012-01-22T12:34:14Z</dcterms:modified>
  <cp:revision>5</cp:revision>
  <dc:subject/>
  <dc:title>Арифметическая прогрессия</dc:title>
</cp:coreProperties>
</file>