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CE53-6911-4547-B312-B2490A1D7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6112-56C3-45D0-B7E0-A87388746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0313-80DB-4E73-9FBF-5D51E34D1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6C14-DE26-4811-8716-86F8AE509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D0E48-FD17-454F-B958-9346F0F37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55215-8C1F-4406-9C5C-ADF564ED2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C5023-80CF-4C42-8159-E5447C00C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E048E-3459-484C-9EEF-DA1BFB368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53189-BE89-4DE4-A9DE-4D3EBEB47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34F18-1A83-41D7-B700-80169B018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9FC1D-7EF4-4943-9ACB-602BCBDA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AFA1-6D27-46D0-AD57-7F095FB93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5B67C-8270-4EBC-9872-64BF5A73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B1277-C2D4-4DA3-93A3-FA15C21E2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0567C-67F4-4A52-9757-CE1E6714F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29B08-BDF4-4A6B-A1E3-4150F0138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29D1E-BD19-47A9-98A9-1B055C2F1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AD45-C6AB-4224-94A8-FFFCD7E88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379A-CDA3-4900-9FCC-F3BB0A4D3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4C4B-FCF2-4B1B-AEDB-8465688D1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3E04-B7CC-46CE-8CD3-A5F768314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D21E-58E4-455D-9745-935929190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1A00-8236-4606-912F-8C314BAAB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85D9-6325-4DAE-9952-C3C91C12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4565E-44B7-4437-8AC0-26E712D7CEF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4A482-31BF-4344-A9AB-33AECFA658C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8007480" cy="26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Tahoma"/>
              </a:rPr>
              <a:t>Определение арифметической прогрессии. Формула </a:t>
            </a: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n</a:t>
            </a:r>
            <a:r>
              <a:rPr b="0" lang="ru-RU" sz="4000" spc="-1" strike="noStrike">
                <a:solidFill>
                  <a:srgbClr val="ff3300"/>
                </a:solidFill>
                <a:latin typeface="Tahoma"/>
              </a:rPr>
              <a:t>-го чле-на арифметической прогрессии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9 клас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2843280" y="472428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Урок №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8007480" cy="26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Tahoma"/>
              </a:rPr>
              <a:t>Определение арифметической прогрессии. Формула </a:t>
            </a: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n</a:t>
            </a:r>
            <a:r>
              <a:rPr b="0" lang="ru-RU" sz="4000" spc="-1" strike="noStrike">
                <a:solidFill>
                  <a:srgbClr val="ff3300"/>
                </a:solidFill>
                <a:latin typeface="Tahoma"/>
              </a:rPr>
              <a:t>-го чле-на арифметической прогрессии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9 клас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2843280" y="472428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Урок №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315600" y="5661000"/>
            <a:ext cx="577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Прогрессия – движение вперёд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Цел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2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аучиться применять изученный материал, включающий определение, свойства, формулу n-го члена арифметической прогрессии,  на практик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Устная работ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920" y="1844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Дайте определение арифметической прогресси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403280" y="5157720"/>
          <a:ext cx="2016360" cy="103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5157720"/>
                    <a:ext cx="2016360" cy="10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971640" y="2637000"/>
            <a:ext cx="777240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Какие из последовательностей являются арифметическими прогрессиями? Почем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, 12, 18, 24, 30,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, 6, 9, 12,…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 -7, -14, -28, -35, -49,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Устная работ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77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Что называют разностью арифметической прогрессии? Как обозначают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7800" indent="-577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Найти разность арифметической прогрессии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7800" indent="-577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; 5; 9……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7800" indent="-577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5; 100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7800" indent="-577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13; -15; -17…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7800" indent="-577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1; ? ; 19,…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Устная работ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061400" cy="12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кое  из  равенств является формулой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ого члена арифметической прогресси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979640" y="3357720"/>
          <a:ext cx="3816360" cy="82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3357720"/>
                    <a:ext cx="3816360" cy="82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1908000" y="4149720"/>
          <a:ext cx="4176720" cy="77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8000" y="4149720"/>
                    <a:ext cx="4176720" cy="7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1908000" y="4797360"/>
          <a:ext cx="4185000" cy="827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8000" y="4797360"/>
                    <a:ext cx="4185000" cy="8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1908000" y="5516640"/>
          <a:ext cx="4227840" cy="826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08000" y="5516640"/>
                    <a:ext cx="422784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2000" fill="hold"/>
                                        <p:tgtEl>
                                          <p:spTgt spid="1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Устная работ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Запишите формулу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-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о члена арифметической прогресси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ервый член арифметической прогрессии равен 5, а разность 3, найдите её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340000" y="4005360"/>
            <a:ext cx="37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ятнадцатый чл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340000" y="4005360"/>
            <a:ext cx="37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то первый чл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556000" y="407664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диннадцатый чле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en-US" sz="4400" spc="-1" strike="noStrike" baseline="-25000">
                <a:solidFill>
                  <a:srgbClr val="333399"/>
                </a:solidFill>
                <a:latin typeface="Arial"/>
              </a:rPr>
              <a:t>n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=a</a:t>
            </a:r>
            <a:r>
              <a:rPr b="0" lang="en-US" sz="44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+ d(n-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Oval 3"/>
          <p:cNvSpPr/>
          <p:nvPr/>
        </p:nvSpPr>
        <p:spPr>
          <a:xfrm>
            <a:off x="3419640" y="3645000"/>
            <a:ext cx="2592360" cy="107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=a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+ d(n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4"/>
          <p:cNvSpPr/>
          <p:nvPr/>
        </p:nvSpPr>
        <p:spPr>
          <a:xfrm>
            <a:off x="1332000" y="4869000"/>
            <a:ext cx="1439640" cy="71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  <a:hlinkClick r:id="rId1" action="ppaction://hlinksldjump"/>
              </a:rPr>
              <a:t>a</a:t>
            </a:r>
            <a:r>
              <a:rPr b="0" lang="en-US" sz="2800" spc="-1" strike="noStrike" u="sng" baseline="-25000">
                <a:solidFill>
                  <a:srgbClr val="ff0000"/>
                </a:solidFill>
                <a:uFillTx/>
                <a:latin typeface="Arial"/>
                <a:hlinkClick r:id="rId2" action="ppaction://hlinksldjump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5"/>
          <p:cNvSpPr/>
          <p:nvPr/>
        </p:nvSpPr>
        <p:spPr>
          <a:xfrm>
            <a:off x="3851280" y="5877000"/>
            <a:ext cx="1440000" cy="71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6"/>
          <p:cNvSpPr/>
          <p:nvPr/>
        </p:nvSpPr>
        <p:spPr>
          <a:xfrm>
            <a:off x="6443640" y="4653000"/>
            <a:ext cx="1440000" cy="71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7"/>
          <p:cNvSpPr/>
          <p:nvPr/>
        </p:nvSpPr>
        <p:spPr>
          <a:xfrm>
            <a:off x="5867280" y="2349360"/>
            <a:ext cx="1440000" cy="71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  <a:hlinkClick r:id="rId3" action="ppaction://hlinksldjump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8"/>
          <p:cNvSpPr/>
          <p:nvPr/>
        </p:nvSpPr>
        <p:spPr>
          <a:xfrm>
            <a:off x="2124000" y="2349360"/>
            <a:ext cx="1440000" cy="71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(a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9"/>
          <p:cNvSpPr/>
          <p:nvPr/>
        </p:nvSpPr>
        <p:spPr>
          <a:xfrm flipH="1">
            <a:off x="2484360" y="4365720"/>
            <a:ext cx="100800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0"/>
          <p:cNvSpPr/>
          <p:nvPr/>
        </p:nvSpPr>
        <p:spPr>
          <a:xfrm>
            <a:off x="4643280" y="472428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1"/>
          <p:cNvSpPr/>
          <p:nvPr/>
        </p:nvSpPr>
        <p:spPr>
          <a:xfrm>
            <a:off x="5940360" y="4365720"/>
            <a:ext cx="64764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2"/>
          <p:cNvSpPr/>
          <p:nvPr/>
        </p:nvSpPr>
        <p:spPr>
          <a:xfrm flipV="1">
            <a:off x="5435640" y="3068280"/>
            <a:ext cx="1008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3"/>
          <p:cNvSpPr/>
          <p:nvPr/>
        </p:nvSpPr>
        <p:spPr>
          <a:xfrm flipH="1" flipV="1">
            <a:off x="3131640" y="3068280"/>
            <a:ext cx="1079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8007480" cy="26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Tahoma"/>
              </a:rPr>
              <a:t>Определение арифметической прогрессии. Формула </a:t>
            </a: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n</a:t>
            </a:r>
            <a:r>
              <a:rPr b="0" lang="ru-RU" sz="4000" spc="-1" strike="noStrike">
                <a:solidFill>
                  <a:srgbClr val="ff3300"/>
                </a:solidFill>
                <a:latin typeface="Tahoma"/>
              </a:rPr>
              <a:t>-го чле-на арифметической прогрессии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9 клас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2843280" y="472428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Урок №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604320" y="5533920"/>
            <a:ext cx="577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Прогрессия – движение вперёд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Цел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альнейшее освоение теоретических знаний по теме «Определение арифметической прогрессии. Формула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го члена арифметической прогрессии»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менять полученные знания для решения задач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Устная работ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16000" y="2017440"/>
            <a:ext cx="763272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Какая последовательность называется арифметической прогрессие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"/>
          <p:cNvSpPr/>
          <p:nvPr/>
        </p:nvSpPr>
        <p:spPr>
          <a:xfrm>
            <a:off x="1042920" y="4508640"/>
            <a:ext cx="76327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Является ли последовательность чисел, кратных 6 арифметической прогрессией? Чему равен ее первый член и разнос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116000" y="3068640"/>
            <a:ext cx="76327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Как проверить, является ли последовательность арифметической прогрессией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Цел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2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зучить определение арифметической прогресси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учиться определять является ли числовая последовательность арифметической прогрессией или нет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зучить формулу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го члена  арифметической прогресси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учиться применять формулу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го члена  арифметической прогрессии при решении задач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Устная работ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061400" cy="12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Является ли арифметической прогрессией последовательность (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а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 заданная формуло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627280" y="3429000"/>
          <a:ext cx="276228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3429000"/>
                    <a:ext cx="276228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2700360" y="4149720"/>
          <a:ext cx="2513160" cy="77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00360" y="4149720"/>
                    <a:ext cx="2513160" cy="7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2700360" y="4869000"/>
          <a:ext cx="2987640" cy="826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00360" y="4869000"/>
                    <a:ext cx="298764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1476360" y="5591160"/>
            <a:ext cx="706104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ычислить первые три члена последователь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Устная работ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13448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Разность арифметической прогрессии равна 4. Какой формулой может быть задана эта арифметическая прогрессия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203640" y="3645000"/>
          <a:ext cx="2089080" cy="60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3645000"/>
                    <a:ext cx="2089080" cy="60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3203640" y="4292640"/>
          <a:ext cx="2087640" cy="58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4292640"/>
                    <a:ext cx="208764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3203640" y="4869000"/>
          <a:ext cx="2158920" cy="612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3640" y="4869000"/>
                    <a:ext cx="21589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1547640" y="5589720"/>
            <a:ext cx="57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Чему равен первый член этой арифметической прогресс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рок сегодня завершён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о каждый должен знать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знание, упорство, труд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 прогрессу в жизни приведут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Что такое ПРОГРЕССИЯ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50560" y="2017800"/>
            <a:ext cx="6654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Термин «</a:t>
            </a:r>
            <a:r>
              <a:rPr b="0" lang="ru-RU" sz="3600" spc="-1" strike="noStrike">
                <a:solidFill>
                  <a:srgbClr val="ff3300"/>
                </a:solidFill>
                <a:latin typeface="Tahoma"/>
              </a:rPr>
              <a:t>прогрессия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»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67120" indent="-2671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имеет латинское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67120" indent="-2671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происхождение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67120" indent="-2671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(progression), что означает «</a:t>
            </a:r>
            <a:r>
              <a:rPr b="0" lang="ru-RU" sz="3600" spc="-1" strike="noStrike">
                <a:solidFill>
                  <a:srgbClr val="ff3300"/>
                </a:solidFill>
                <a:latin typeface="Tahoma"/>
              </a:rPr>
              <a:t>движение вперед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»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67120" indent="-2671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и был введен римским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67120" indent="-2671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автором </a:t>
            </a:r>
            <a:r>
              <a:rPr b="0" lang="ru-RU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Боэцием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(VI в.)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67120" indent="-2671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588000" y="2133720"/>
            <a:ext cx="228600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Что такое ПРОГРЕСС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5075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Этим термином в математике прежде именовали всякую последовательность чисел, построенную по такому закону, который позволяет неограниченно продолжать эту последовательность в одном направлении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В настоящее время термин «прогрессия» в первоначально широком смысле не употребляется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VIII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. в английских учебниках появились обозначения арифметической и геометрической прогрессий: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0" name="Group 33"/>
          <p:cNvGrpSpPr/>
          <p:nvPr/>
        </p:nvGrpSpPr>
        <p:grpSpPr>
          <a:xfrm>
            <a:off x="3344760" y="4076640"/>
            <a:ext cx="5474880" cy="581400"/>
            <a:chOff x="3344760" y="4076640"/>
            <a:chExt cx="5474880" cy="581400"/>
          </a:xfrm>
        </p:grpSpPr>
        <p:sp>
          <p:nvSpPr>
            <p:cNvPr id="111" name="Rectangle 6"/>
            <p:cNvSpPr/>
            <p:nvPr/>
          </p:nvSpPr>
          <p:spPr>
            <a:xfrm>
              <a:off x="7524720" y="4105080"/>
              <a:ext cx="107964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" name="Group 32"/>
            <p:cNvGrpSpPr/>
            <p:nvPr/>
          </p:nvGrpSpPr>
          <p:grpSpPr>
            <a:xfrm>
              <a:off x="3344760" y="4076640"/>
              <a:ext cx="5474880" cy="581400"/>
              <a:chOff x="3344760" y="4076640"/>
              <a:chExt cx="5474880" cy="581400"/>
            </a:xfrm>
          </p:grpSpPr>
          <p:sp>
            <p:nvSpPr>
              <p:cNvPr id="113" name="Rectangle 4"/>
              <p:cNvSpPr/>
              <p:nvPr/>
            </p:nvSpPr>
            <p:spPr>
              <a:xfrm>
                <a:off x="3344760" y="4076640"/>
                <a:ext cx="4208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Constantia"/>
                  </a:rPr>
                  <a:t>Арифметическая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Constantia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4" name="Group 7"/>
              <p:cNvGrpSpPr/>
              <p:nvPr/>
            </p:nvGrpSpPr>
            <p:grpSpPr>
              <a:xfrm>
                <a:off x="7885080" y="4105080"/>
                <a:ext cx="934560" cy="519120"/>
                <a:chOff x="7885080" y="4105080"/>
                <a:chExt cx="934560" cy="519120"/>
              </a:xfrm>
            </p:grpSpPr>
            <p:sp>
              <p:nvSpPr>
                <p:cNvPr id="115" name="Text Box 8"/>
                <p:cNvSpPr/>
                <p:nvPr/>
              </p:nvSpPr>
              <p:spPr>
                <a:xfrm>
                  <a:off x="8316720" y="4105080"/>
                  <a:ext cx="50292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6" name="Group 9"/>
                <p:cNvGrpSpPr/>
                <p:nvPr/>
              </p:nvGrpSpPr>
              <p:grpSpPr>
                <a:xfrm>
                  <a:off x="7885080" y="4249440"/>
                  <a:ext cx="360000" cy="290520"/>
                  <a:chOff x="7885080" y="4249440"/>
                  <a:chExt cx="360000" cy="290520"/>
                </a:xfrm>
              </p:grpSpPr>
              <p:grpSp>
                <p:nvGrpSpPr>
                  <p:cNvPr id="117" name="Group 10"/>
                  <p:cNvGrpSpPr/>
                  <p:nvPr/>
                </p:nvGrpSpPr>
                <p:grpSpPr>
                  <a:xfrm>
                    <a:off x="7885080" y="4249440"/>
                    <a:ext cx="360000" cy="144360"/>
                    <a:chOff x="7885080" y="4249440"/>
                    <a:chExt cx="360000" cy="144360"/>
                  </a:xfrm>
                </p:grpSpPr>
                <p:sp>
                  <p:nvSpPr>
                    <p:cNvPr id="118" name="Line 11"/>
                    <p:cNvSpPr/>
                    <p:nvPr/>
                  </p:nvSpPr>
                  <p:spPr>
                    <a:xfrm>
                      <a:off x="7885080" y="4393800"/>
                      <a:ext cx="3600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" name="Oval 12"/>
                    <p:cNvSpPr/>
                    <p:nvPr/>
                  </p:nvSpPr>
                  <p:spPr>
                    <a:xfrm>
                      <a:off x="8029080" y="4249440"/>
                      <a:ext cx="70920" cy="730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5400" bIns="5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" name="Oval 13"/>
                  <p:cNvSpPr/>
                  <p:nvPr/>
                </p:nvSpPr>
                <p:spPr>
                  <a:xfrm>
                    <a:off x="8029080" y="4466880"/>
                    <a:ext cx="70920" cy="730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21" name="Group 35"/>
          <p:cNvGrpSpPr/>
          <p:nvPr/>
        </p:nvGrpSpPr>
        <p:grpSpPr>
          <a:xfrm>
            <a:off x="3369240" y="4941720"/>
            <a:ext cx="4930200" cy="625680"/>
            <a:chOff x="3369240" y="4941720"/>
            <a:chExt cx="4930200" cy="625680"/>
          </a:xfrm>
        </p:grpSpPr>
        <p:sp>
          <p:nvSpPr>
            <p:cNvPr id="122" name="Rectangle 14"/>
            <p:cNvSpPr/>
            <p:nvPr/>
          </p:nvSpPr>
          <p:spPr>
            <a:xfrm>
              <a:off x="3369240" y="4941720"/>
              <a:ext cx="389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Constantia"/>
                </a:rPr>
                <a:t>Геометрическа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Group 34"/>
            <p:cNvGrpSpPr/>
            <p:nvPr/>
          </p:nvGrpSpPr>
          <p:grpSpPr>
            <a:xfrm>
              <a:off x="7291440" y="5062680"/>
              <a:ext cx="1008000" cy="504720"/>
              <a:chOff x="7291440" y="5062680"/>
              <a:chExt cx="1008000" cy="504720"/>
            </a:xfrm>
          </p:grpSpPr>
          <p:sp>
            <p:nvSpPr>
              <p:cNvPr id="124" name="Rectangle 18"/>
              <p:cNvSpPr/>
              <p:nvPr/>
            </p:nvSpPr>
            <p:spPr>
              <a:xfrm>
                <a:off x="7291440" y="5062680"/>
                <a:ext cx="1008000" cy="504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" name="Group 19"/>
              <p:cNvGrpSpPr/>
              <p:nvPr/>
            </p:nvGrpSpPr>
            <p:grpSpPr>
              <a:xfrm>
                <a:off x="7362720" y="5164200"/>
                <a:ext cx="576360" cy="340920"/>
                <a:chOff x="7362720" y="5164200"/>
                <a:chExt cx="576360" cy="340920"/>
              </a:xfrm>
            </p:grpSpPr>
            <p:sp>
              <p:nvSpPr>
                <p:cNvPr id="126" name="Oval 20"/>
                <p:cNvSpPr/>
                <p:nvPr/>
              </p:nvSpPr>
              <p:spPr>
                <a:xfrm>
                  <a:off x="7723080" y="5419440"/>
                  <a:ext cx="71640" cy="856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7" name="Group 21"/>
                <p:cNvGrpSpPr/>
                <p:nvPr/>
              </p:nvGrpSpPr>
              <p:grpSpPr>
                <a:xfrm>
                  <a:off x="7362720" y="5164200"/>
                  <a:ext cx="576360" cy="340560"/>
                  <a:chOff x="7362720" y="5164200"/>
                  <a:chExt cx="576360" cy="340560"/>
                </a:xfrm>
              </p:grpSpPr>
              <p:grpSp>
                <p:nvGrpSpPr>
                  <p:cNvPr id="128" name="Group 22"/>
                  <p:cNvGrpSpPr/>
                  <p:nvPr/>
                </p:nvGrpSpPr>
                <p:grpSpPr>
                  <a:xfrm>
                    <a:off x="7362720" y="5164200"/>
                    <a:ext cx="576360" cy="168480"/>
                    <a:chOff x="7362720" y="5164200"/>
                    <a:chExt cx="576360" cy="168480"/>
                  </a:xfrm>
                </p:grpSpPr>
                <p:sp>
                  <p:nvSpPr>
                    <p:cNvPr id="129" name="Oval 23"/>
                    <p:cNvSpPr/>
                    <p:nvPr/>
                  </p:nvSpPr>
                  <p:spPr>
                    <a:xfrm>
                      <a:off x="7723080" y="5164200"/>
                      <a:ext cx="71640" cy="853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4040" bIns="14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30" name="Group 24"/>
                    <p:cNvGrpSpPr/>
                    <p:nvPr/>
                  </p:nvGrpSpPr>
                  <p:grpSpPr>
                    <a:xfrm>
                      <a:off x="7362720" y="5164200"/>
                      <a:ext cx="576360" cy="168480"/>
                      <a:chOff x="7362720" y="5164200"/>
                      <a:chExt cx="576360" cy="168480"/>
                    </a:xfrm>
                  </p:grpSpPr>
                  <p:sp>
                    <p:nvSpPr>
                      <p:cNvPr id="131" name="Line 25"/>
                      <p:cNvSpPr/>
                      <p:nvPr/>
                    </p:nvSpPr>
                    <p:spPr>
                      <a:xfrm>
                        <a:off x="7362720" y="5332680"/>
                        <a:ext cx="57636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2" name="Oval 26"/>
                      <p:cNvSpPr/>
                      <p:nvPr/>
                    </p:nvSpPr>
                    <p:spPr>
                      <a:xfrm>
                        <a:off x="7505640" y="5164200"/>
                        <a:ext cx="71640" cy="8532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4040" bIns="1404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33" name="Oval 27"/>
                  <p:cNvSpPr/>
                  <p:nvPr/>
                </p:nvSpPr>
                <p:spPr>
                  <a:xfrm>
                    <a:off x="7505640" y="5419080"/>
                    <a:ext cx="71640" cy="856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68360" y="4005360"/>
            <a:ext cx="1765080" cy="15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Закончился двадцатый век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Куда стремится человек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Изучен космос и моря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троенье звезд и вся земл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Но математиков зове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Известный лозунг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Прогрессия – движение вперёд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же в литературе мы встречаемс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математическими понятиями! Так, вспомним строки из"Евгения Онегина"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00"/>
                </a:solidFill>
                <a:latin typeface="Arial"/>
              </a:rPr>
              <a:t>...</a:t>
            </a: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Не мог он ямба от хорея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Как мы не бились, отличить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рогрессия в литератур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ример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 u="sng">
                <a:solidFill>
                  <a:srgbClr val="800080"/>
                </a:solidFill>
                <a:uFillTx/>
                <a:latin typeface="Tahoma"/>
              </a:rPr>
              <a:t>Ямб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Rectangle 13"/>
          <p:cNvSpPr/>
          <p:nvPr/>
        </p:nvSpPr>
        <p:spPr>
          <a:xfrm>
            <a:off x="755640" y="2565360"/>
            <a:ext cx="75553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«Мой дЯдя сАмых чЕстных прАвил...»</a:t>
            </a: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8"/>
          <p:cNvSpPr/>
          <p:nvPr/>
        </p:nvSpPr>
        <p:spPr>
          <a:xfrm>
            <a:off x="755640" y="3202200"/>
            <a:ext cx="8209080" cy="26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Ямб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это стихотворный размер с ударени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 четных слогах 2; 4; 6; 8..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омера ударных слогов образу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рифметическую прогрессию с первым членом 2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ностью прогрессии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5"/>
          <p:cNvSpPr/>
          <p:nvPr/>
        </p:nvSpPr>
        <p:spPr>
          <a:xfrm>
            <a:off x="995760" y="5876280"/>
            <a:ext cx="407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nstantia"/>
              </a:rPr>
              <a:t>Прогрессия: 2; 4; 6; 8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77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" dur="770" fill="hold"/>
                                        <p:tgtEl>
                                          <p:spTgt spid="1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" dur="77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" dur="77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7"/>
          <p:cNvSpPr/>
          <p:nvPr/>
        </p:nvSpPr>
        <p:spPr>
          <a:xfrm>
            <a:off x="324000" y="1989000"/>
            <a:ext cx="286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800080"/>
                </a:solidFill>
                <a:uFillTx/>
                <a:latin typeface="Constantia"/>
              </a:rPr>
              <a:t>Хор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1464120" y="2349360"/>
            <a:ext cx="60649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«Я пропАл, как звЕрь в загОн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0"/>
          <p:cNvSpPr/>
          <p:nvPr/>
        </p:nvSpPr>
        <p:spPr>
          <a:xfrm>
            <a:off x="5219640" y="3141720"/>
            <a:ext cx="324180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Б. Л. Пастерн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8"/>
          <p:cNvSpPr/>
          <p:nvPr/>
        </p:nvSpPr>
        <p:spPr>
          <a:xfrm>
            <a:off x="226440" y="5396760"/>
            <a:ext cx="413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nstantia"/>
              </a:rPr>
              <a:t>Прогрессия: 1; 3 ;5; 7...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5280" y="3933720"/>
            <a:ext cx="85694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Хорей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это стихотворный размер с ударением на нечетных слогах стиха. Номера ударных слогов образуют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рифметическую прогрессию 1; 3; 5; 7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16000" y="189000"/>
            <a:ext cx="779292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рим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77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" dur="770" fill="hold"/>
                                        <p:tgtEl>
                                          <p:spTgt spid="1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" dur="77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" dur="77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8T17:39:23Z</dcterms:created>
  <dc:creator>Мелкомуковы</dc:creator>
  <dc:description/>
  <dc:language>en-US</dc:language>
  <cp:lastModifiedBy>Мелкомуковы</cp:lastModifiedBy>
  <dcterms:modified xsi:type="dcterms:W3CDTF">2012-01-22T12:34:14Z</dcterms:modified>
  <cp:revision>5</cp:revision>
  <dc:subject/>
  <dc:title>Арифметическая прогрессия</dc:title>
</cp:coreProperties>
</file>