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060-44B7-47A7-83CB-309C20DE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483-ED2E-4724-8924-AE4E0B33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3E9-7354-4B5C-A51E-23CEFE16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248-278C-423C-80B4-05A12F25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CCE-5530-45DF-85DE-CEF8F5BD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AEE-5BC2-4D74-8110-03D09ADB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98D-4AF0-42F9-B3BB-5EC29402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9B1-C2E3-469D-ABFE-67B9EAAB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96E-EDF8-4BC7-8828-9FF6A0C8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4C9-4983-472B-B6FA-933AF322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492-2698-40EE-91A0-F75DD321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383-558F-4FE7-91FE-2E9E1732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4B99-14D2-48EA-A259-B79F6A95C5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8A02-2670-4A84-9600-4BE899735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A368-B8E8-47EE-8AE6-5926C522AE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729B-3264-44AA-A35D-3D3B7E633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-335880" y="1341360"/>
            <a:ext cx="97459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и цепочку примеров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- 2,6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* 0,1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20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0, 08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0,1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,4       0,74   0,037      0,117    1,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0,2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*10 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40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,8 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100 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0,8         8        0,2            4         0,0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Масштаб карты 1  : 100000. Заполните табли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2492280"/>
          <a:ext cx="8347320" cy="2859120"/>
        </p:xfrm>
        <a:graphic>
          <a:graphicData uri="http://schemas.openxmlformats.org/drawingml/2006/table">
            <a:tbl>
              <a:tblPr/>
              <a:tblGrid>
                <a:gridCol w="2592360"/>
                <a:gridCol w="1150920"/>
                <a:gridCol w="1150920"/>
                <a:gridCol w="1151280"/>
                <a:gridCol w="1150920"/>
                <a:gridCol w="115092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пунктами 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пунктами на мес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615600" y="544500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твет : 1 см; 4 км; 5,5 см; 0,8 см; 16 к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Customer</cp:lastModifiedBy>
  <dcterms:modified xsi:type="dcterms:W3CDTF">2011-01-22T16:51:34Z</dcterms:modified>
  <cp:revision>5</cp:revision>
  <dc:subject/>
  <dc:title>Слайд 1</dc:title>
</cp:coreProperties>
</file>