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FC9B-A687-45A7-B9E8-D524BDEC1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5DB4-01F4-4FCF-B053-BE2530B73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3C20-9C42-40A3-9615-4E2705111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FA61-2F21-44E5-B9A2-7454F5D6A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0203-A77D-43B4-8C80-D04EDABF4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AC65-DFFE-465E-9A4E-89D6C8F28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ADFC-2425-4A1E-A0C2-9FB4F9EB9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671F-A14C-47AD-9CFF-E6B6A5E08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950C-0CB7-425E-9AB1-23D607D42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2AF0-2ED7-4C3B-86A8-771CF8111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C4CE-9BC1-4F9B-92C2-AD97A80E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DAB9-C969-4906-9E69-EE0822267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B5FFA-CBA1-4B1A-B584-8BE106C858A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E2082-FF55-4D28-8681-5F5DCF0058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3880" y="2428920"/>
            <a:ext cx="7961400" cy="24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H:\Documents and Settings\Aida\Рабочий стол\НОвая ГРАФИКА сборник\КАРТИНКИ СБОРНИК_ школьные\1.gif"/>
          <p:cNvPicPr/>
          <p:nvPr/>
        </p:nvPicPr>
        <p:blipFill>
          <a:blip r:embed="rId2"/>
          <a:stretch/>
        </p:blipFill>
        <p:spPr>
          <a:xfrm>
            <a:off x="0" y="6429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H:\Documents and Settings\Aida\Рабочий стол\НОвая ГРАФИКА сборник\КАРТИНКИ СБОРНИК_ школьные\2.gif"/>
          <p:cNvPicPr/>
          <p:nvPr/>
        </p:nvPicPr>
        <p:blipFill>
          <a:blip r:embed="rId3"/>
          <a:stretch/>
        </p:blipFill>
        <p:spPr>
          <a:xfrm>
            <a:off x="642960" y="6429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H:\Documents and Settings\Aida\Рабочий стол\НОвая ГРАФИКА сборник\КАРТИНКИ СБОРНИК_ школьные\3.gif"/>
          <p:cNvPicPr/>
          <p:nvPr/>
        </p:nvPicPr>
        <p:blipFill>
          <a:blip r:embed="rId4"/>
          <a:stretch/>
        </p:blipFill>
        <p:spPr>
          <a:xfrm>
            <a:off x="1285920" y="6429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H:\Documents and Settings\Aida\Рабочий стол\НОвая ГРАФИКА сборник\КАРТИНКИ СБОРНИК_ школьные\4.gif"/>
          <p:cNvPicPr/>
          <p:nvPr/>
        </p:nvPicPr>
        <p:blipFill>
          <a:blip r:embed="rId5"/>
          <a:stretch/>
        </p:blipFill>
        <p:spPr>
          <a:xfrm>
            <a:off x="3571920" y="12142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H:\Documents and Settings\Aida\Рабочий стол\НОвая ГРАФИКА сборник\КАРТИНКИ СБОРНИК_ школьные\5.gif"/>
          <p:cNvPicPr/>
          <p:nvPr/>
        </p:nvPicPr>
        <p:blipFill>
          <a:blip r:embed="rId6"/>
          <a:stretch/>
        </p:blipFill>
        <p:spPr>
          <a:xfrm>
            <a:off x="5286240" y="12142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H:\Documents and Settings\Aida\Рабочий стол\НОвая ГРАФИКА сборник\1111111111111\image316.gif"/>
          <p:cNvPicPr/>
          <p:nvPr/>
        </p:nvPicPr>
        <p:blipFill>
          <a:blip r:embed="rId7"/>
          <a:stretch/>
        </p:blipFill>
        <p:spPr>
          <a:xfrm rot="20451000">
            <a:off x="7359480" y="5319720"/>
            <a:ext cx="1257480" cy="10904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1763640" y="3103560"/>
            <a:ext cx="5040360" cy="16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99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СЧИТАЙ УСТНО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99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9778E-007 C 1.66667E-006 0.07516 0.02326 0.13321 0.05191 0.13321 C 0.08125 0.13321 0.10469 0.07516 0.10469 -3.9778E-007 C 0.10469 -0.07539 0.1283 -0.13321 0.15764 -0.13321 C 0.18611 -0.13321 0.20989 -0.07539 0.20989 -3.9778E-007 E">
                                      <p:cBhvr>
                                        <p:cTn id="6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2.84921E-006 C 1.66667E-006 0.07401 0.01562 0.13136 0.03472 0.13136 C 0.05451 0.13136 0.07014 0.07401 0.07014 -2.84921E-006 C 0.07014 -0.07423 0.08594 -0.13113 0.10555 -0.13113 C 0.12482 -0.13113 0.14062 -0.07423 0.14062 -2.84921E-006 E">
                                      <p:cBhvr>
                                        <p:cTn id="8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04514-F6E2-43F7-B877-C5346C7FED7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19941-976A-4DC7-B365-C3E31C3D58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/>
          <p:nvPr/>
        </p:nvSpPr>
        <p:spPr>
          <a:xfrm>
            <a:off x="-335880" y="1341360"/>
            <a:ext cx="9745920" cy="36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еши цепочку примеров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 - 2,6=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?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* 0,1=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?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: 20=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?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+ 0, 08=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?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:0,1=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            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7,4       0,74   0,037      0,117    1,1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-0,2=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?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*10 =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?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: 40=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?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+ 3,8 =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?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: 100 =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         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0,8         8        0,2            4         0,0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d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94920" y="148428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Масштаб карты 1  : 100000. Заполните таблиц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539640" y="2492280"/>
          <a:ext cx="8347320" cy="2859120"/>
        </p:xfrm>
        <a:graphic>
          <a:graphicData uri="http://schemas.openxmlformats.org/drawingml/2006/table">
            <a:tbl>
              <a:tblPr/>
              <a:tblGrid>
                <a:gridCol w="2592360"/>
                <a:gridCol w="1150920"/>
                <a:gridCol w="1150920"/>
                <a:gridCol w="1151280"/>
                <a:gridCol w="1150920"/>
                <a:gridCol w="1150920"/>
              </a:tblGrid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стояние между пунктами на карт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с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 м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стояние между пунктами на мест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к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5 к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0 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615600" y="5445000"/>
            <a:ext cx="704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Ответ : 1 см; 4 км; 5,5 см; 0,8 см; 16 км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0T11:24:02Z</dcterms:created>
  <dc:creator>Aida_Alex</dc:creator>
  <dc:description/>
  <dc:language>en-US</dc:language>
  <cp:lastModifiedBy>Customer</cp:lastModifiedBy>
  <dcterms:modified xsi:type="dcterms:W3CDTF">2011-01-22T16:51:34Z</dcterms:modified>
  <cp:revision>5</cp:revision>
  <dc:subject/>
  <dc:title>Слайд 1</dc:title>
</cp:coreProperties>
</file>