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D479-A230-427C-89A2-CBDF110DF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6557-F547-46B4-ABF9-944FE49E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E118-5EFB-4784-920C-E8FEB416A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AEF2-EF23-4D72-9FB1-D80E7FF0B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50C9-BEAA-48DC-8B9F-83CE4831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78B5-DBB6-4854-ABC9-34B39F93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7D9B-5D76-49F3-B8C8-6D481352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055D-CBF4-4904-A5B2-5FAF88B1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BC42-DD39-41BE-9ABF-706254A7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BAFB-69EA-4B14-AC23-1C222387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6F9B-95BA-43E9-AFBF-687CC3F9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10B9-AC5D-46D8-87C1-2666B53D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A045-F9FF-4981-AF55-3B665604A5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A4FF-1F4C-4B52-9C5F-C999AB3ACA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3880" y="2428920"/>
            <a:ext cx="796140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2"/>
          <a:stretch/>
        </p:blipFill>
        <p:spPr>
          <a:xfrm>
            <a:off x="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3"/>
          <a:stretch/>
        </p:blipFill>
        <p:spPr>
          <a:xfrm>
            <a:off x="64296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4"/>
          <a:stretch/>
        </p:blipFill>
        <p:spPr>
          <a:xfrm>
            <a:off x="128592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:\Documents and Settings\Aida\Рабочий стол\НОвая ГРАФИКА сборник\КАРТИНКИ СБОРНИК_ школьные\4.gif"/>
          <p:cNvPicPr/>
          <p:nvPr/>
        </p:nvPicPr>
        <p:blipFill>
          <a:blip r:embed="rId5"/>
          <a:stretch/>
        </p:blipFill>
        <p:spPr>
          <a:xfrm>
            <a:off x="3571920" y="1214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H:\Documents and Settings\Aida\Рабочий стол\НОвая ГРАФИКА сборник\КАРТИНКИ СБОРНИК_ школьные\5.gif"/>
          <p:cNvPicPr/>
          <p:nvPr/>
        </p:nvPicPr>
        <p:blipFill>
          <a:blip r:embed="rId6"/>
          <a:stretch/>
        </p:blipFill>
        <p:spPr>
          <a:xfrm>
            <a:off x="5286240" y="1214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:\Documents and Settings\Aida\Рабочий стол\НОвая ГРАФИКА сборник\1111111111111\image316.gif"/>
          <p:cNvPicPr/>
          <p:nvPr/>
        </p:nvPicPr>
        <p:blipFill>
          <a:blip r:embed="rId7"/>
          <a:stretch/>
        </p:blipFill>
        <p:spPr>
          <a:xfrm rot="20451000">
            <a:off x="7359480" y="5319720"/>
            <a:ext cx="1257480" cy="1090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763640" y="3103560"/>
            <a:ext cx="5040360" cy="16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СЧИТАЙ УСТН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9778E-007 C 1.66667E-006 0.07516 0.02326 0.13321 0.05191 0.13321 C 0.08125 0.13321 0.10469 0.07516 0.10469 -3.9778E-007 C 0.10469 -0.07539 0.1283 -0.13321 0.15764 -0.13321 C 0.18611 -0.13321 0.20989 -0.07539 0.20989 -3.9778E-007 E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84921E-006 C 1.66667E-006 0.07401 0.01562 0.13136 0.03472 0.13136 C 0.05451 0.13136 0.07014 0.07401 0.07014 -2.84921E-006 C 0.07014 -0.07423 0.08594 -0.13113 0.10555 -0.13113 C 0.12482 -0.13113 0.14062 -0.07423 0.14062 -2.84921E-006 E">
                                      <p:cBhvr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A7D0-9E6C-485B-BC6E-225D0B1458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8B5F-743F-41F8-9647-94BA5E7276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-335880" y="1341360"/>
            <a:ext cx="974592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ши цепочку примеров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 - 2,6=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* 0,1=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: 20=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+ 0, 08=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:0,1=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        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7,4       0,74   0,037      0,117    1,1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-0,2=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*10 =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: 40=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+ 3,8 =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: 100 =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0,8         8        0,2            4         0,0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4920" y="148428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Масштаб карты 1  : 100000. Заполните таблиц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9640" y="2492280"/>
          <a:ext cx="8347320" cy="2859120"/>
        </p:xfrm>
        <a:graphic>
          <a:graphicData uri="http://schemas.openxmlformats.org/drawingml/2006/table">
            <a:tbl>
              <a:tblPr/>
              <a:tblGrid>
                <a:gridCol w="2592360"/>
                <a:gridCol w="1150920"/>
                <a:gridCol w="1150920"/>
                <a:gridCol w="1151280"/>
                <a:gridCol w="1150920"/>
                <a:gridCol w="115092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тояние между пунктами на кар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тояние между пунктами на мест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 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615600" y="5445000"/>
            <a:ext cx="70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Ответ : 1 см; 4 км; 5,5 см; 0,8 см; 16 к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1:24:02Z</dcterms:created>
  <dc:creator>Aida_Alex</dc:creator>
  <dc:description/>
  <dc:language>en-US</dc:language>
  <cp:lastModifiedBy>Customer</cp:lastModifiedBy>
  <dcterms:modified xsi:type="dcterms:W3CDTF">2011-01-22T16:51:34Z</dcterms:modified>
  <cp:revision>5</cp:revision>
  <dc:subject/>
  <dc:title>Слайд 1</dc:title>
</cp:coreProperties>
</file>