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2E9-A2F0-4ADF-A0A6-A93FCBFF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435-923B-4296-90BD-AF7DBBB6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6C0-0D17-47AF-A055-C566C0C9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B9A-3273-4CB0-9DEB-5A997CAD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623-76F7-4481-A130-2F921C44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5FE-B2FC-4D48-9763-5D5EFD0A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BF2-ED13-47B8-823E-2BD967AB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C50-AB80-4B21-B911-DF846717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387-11D1-4E69-A0F2-1CC22780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0A5-7D4D-4D54-AA01-1B6C0A8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1B5-3EF4-4469-A2CB-420C9DE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BB9-ED52-4AE3-B315-8E66666F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8E93-8E8F-46AB-BE18-5B4B1EF284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C709-96ED-409C-B8A4-DE4B4966B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78FE-BA19-4CA8-80C8-2D08370C2B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6CB8-2F0B-4FB7-BC73-723B1B332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-335880" y="1341360"/>
            <a:ext cx="97459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 цепочку примеров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- 2,6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 0,1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20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0, 08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0,1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,4       0,74   0,037      0,117    1,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0,2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1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40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,8 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10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,8         8        0,2            4         0,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Масштаб карты 1  : 100000. Заполните табл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2492280"/>
          <a:ext cx="8347320" cy="2859120"/>
        </p:xfrm>
        <a:graphic>
          <a:graphicData uri="http://schemas.openxmlformats.org/drawingml/2006/table">
            <a:tbl>
              <a:tblPr/>
              <a:tblGrid>
                <a:gridCol w="2592360"/>
                <a:gridCol w="1150920"/>
                <a:gridCol w="1150920"/>
                <a:gridCol w="1151280"/>
                <a:gridCol w="1150920"/>
                <a:gridCol w="11509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15600" y="544500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твет : 1 см; 4 км; 5,5 см; 0,8 см; 16 к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Customer</cp:lastModifiedBy>
  <dcterms:modified xsi:type="dcterms:W3CDTF">2011-01-22T16:51:34Z</dcterms:modified>
  <cp:revision>5</cp:revision>
  <dc:subject/>
  <dc:title>Слайд 1</dc:title>
</cp:coreProperties>
</file>