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C0AA-7301-407B-90B9-74291010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EE19-0A61-4A5B-8F42-F143BACA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D028-2618-4D78-BBEE-52F35C55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54F6-F4DC-4AC7-9CFE-8C9B4879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D8C7-A8E8-4258-A19B-516947DD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BF66-1E62-4045-8FC5-854E51AC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1FCD-6176-4B6E-A82C-53E9983B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A182-6999-4D11-B505-C708013A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7E9-82E6-412B-945E-87680E3C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C10E-8641-418A-9CF4-BD5AD365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703-717E-477E-A7FB-88D9AD42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0327-61C1-444D-ADE6-9E05D499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EAAE-385D-48F9-B77A-5018647237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8F08-F01F-4E40-AF25-84677E99F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2428920"/>
            <a:ext cx="796140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763640" y="3103560"/>
            <a:ext cx="5040360" cy="16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СЧИТАЙ УСТН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4CF3-3AC1-4138-9D57-93596389C9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81F7-BAF1-40A0-9B2B-30233A709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-335880" y="1341360"/>
            <a:ext cx="974592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и цепочку примеров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 - 2,6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* 0,1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: 20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0, 08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:0,1=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7,4       0,74   0,037      0,117    1,1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-0,2=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*10 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: 40=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3,8 =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: 100 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0,8         8        0,2            4         0,0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4920" y="14842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Масштаб карты 1  : 100000. Заполните таблиц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9640" y="2492280"/>
          <a:ext cx="8347320" cy="2859120"/>
        </p:xfrm>
        <a:graphic>
          <a:graphicData uri="http://schemas.openxmlformats.org/drawingml/2006/table">
            <a:tbl>
              <a:tblPr/>
              <a:tblGrid>
                <a:gridCol w="2592360"/>
                <a:gridCol w="1150920"/>
                <a:gridCol w="1150920"/>
                <a:gridCol w="1151280"/>
                <a:gridCol w="1150920"/>
                <a:gridCol w="115092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между пунктами на кар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между пунктами на мес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 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615600" y="5445000"/>
            <a:ext cx="70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Ответ : 1 см; 4 км; 5,5 см; 0,8 см; 16 к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1:24:02Z</dcterms:created>
  <dc:creator>Aida_Alex</dc:creator>
  <dc:description/>
  <dc:language>en-US</dc:language>
  <cp:lastModifiedBy>Customer</cp:lastModifiedBy>
  <dcterms:modified xsi:type="dcterms:W3CDTF">2011-01-22T16:51:34Z</dcterms:modified>
  <cp:revision>5</cp:revision>
  <dc:subject/>
  <dc:title>Слайд 1</dc:title>
</cp:coreProperties>
</file>