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7814-A441-43F5-AA3E-B005003E4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CD1E-DB99-4B80-A2B2-F982D193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4FC1-7EFA-4EEA-B3C3-6920E21B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CCC7-8C01-402D-B427-98722C91D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7A20-2873-4FF4-BA55-95FCBA12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D5B9-F12A-4B71-ABBC-F59313C3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5268-74B2-4380-B999-BD4F72778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17A1-303E-4B93-BDF6-6AF81A68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4F6C-5337-4D26-A62A-6EFBB878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0FCF-9A87-46D8-875D-2159C1BE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2477-1DB3-4DA6-B744-E2D237DC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CBC4-DD39-4B73-8A3D-D101ABBA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133A-86D8-44D9-850A-3DE71F8D0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835344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3300"/>
                </a:solidFill>
                <a:latin typeface="Comic Sans MS"/>
              </a:rPr>
              <a:t>Hello, Computer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50912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s of a comp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042920" y="692280"/>
          <a:ext cx="70106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692280"/>
                    <a:ext cx="70106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468360" y="551664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 (compact disk), floppy disk, keyboard, mouse, printer,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96000" cy="5483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03640" y="1197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79640" y="1557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n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08720" y="4869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515772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y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5157720"/>
            <a:ext cx="158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oppy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19280" y="4653000"/>
            <a:ext cx="20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D (compact dis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bug – an error in the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flame – an unfriendly e-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geek (a haker) – a person who knows everything about comp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o press – to use force grad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o look up – to search for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o surf – to “move around”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ww – World Wide 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843280" y="333360"/>
            <a:ext cx="374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ew Word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523880" y="1397160"/>
          <a:ext cx="6096240" cy="4659120"/>
        </p:xfrm>
        <a:graphic>
          <a:graphicData uri="http://schemas.openxmlformats.org/drawingml/2006/table">
            <a:tbl>
              <a:tblPr/>
              <a:tblGrid>
                <a:gridCol w="609840"/>
                <a:gridCol w="566640"/>
                <a:gridCol w="652320"/>
                <a:gridCol w="571680"/>
                <a:gridCol w="647640"/>
                <a:gridCol w="609480"/>
                <a:gridCol w="609840"/>
                <a:gridCol w="609480"/>
                <a:gridCol w="609480"/>
                <a:gridCol w="609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6732720" y="14842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32720" y="1557360"/>
            <a:ext cx="21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80000" y="1916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80360" y="234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2852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56360" y="33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2360" y="3933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56360" y="4437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720" y="49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54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04000" y="1341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67280" y="1341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o    u    s   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19162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l    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19640" y="2421000"/>
            <a:ext cx="41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a    n    n    e   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68360" y="2924280"/>
            <a:ext cx="41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   p    g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a   d   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92360" y="342900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    e    y    b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a    r  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16360" y="393372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   i 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59280" y="4076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55840" y="496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24200" y="4889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19480" y="4529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48000" y="450864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d    e  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501336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24360" y="501336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l    a    m  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24000" y="551664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    o    o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Times New Roman"/>
              </a:rPr>
              <a:t>Bill Gate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48800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03640" y="-360"/>
            <a:ext cx="2736720" cy="1143000"/>
          </a:xfrm>
          <a:prstGeom prst="rect">
            <a:avLst/>
          </a:prstGeom>
          <a:solidFill>
            <a:srgbClr val="186bb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500" spc="-1" strike="noStrike">
                <a:solidFill>
                  <a:srgbClr val="ffffff"/>
                </a:solidFill>
                <a:latin typeface="Comic Sans MS"/>
              </a:rPr>
              <a:t>E-mail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274160" cy="581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ssa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=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 =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nx = th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= s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=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=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=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 = g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 bet = Yes! (the strong mean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te = nig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na = do you want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up =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 = bec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hat room dialo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ia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Hel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how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re yo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:  Great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ank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lad to see you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ia: M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o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:  Did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yo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well in that test on Mon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ia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Y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: So what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re yo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ing on Friday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ia: Well, I’ll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ing to Jenny’s party.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Do you want t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Yes! Than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nia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ill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you 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e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club on Satur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04:38:52Z</dcterms:created>
  <dc:creator>a1</dc:creator>
  <dc:description/>
  <dc:language>en-US</dc:language>
  <cp:lastModifiedBy>Supervisor</cp:lastModifiedBy>
  <dcterms:modified xsi:type="dcterms:W3CDTF">2007-11-27T17:34:37Z</dcterms:modified>
  <cp:revision>12</cp:revision>
  <dc:subject/>
  <dc:title>Слайд 1</dc:title>
</cp:coreProperties>
</file>