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A5FD-8BD2-42DD-B4E1-7E3C7A74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DAF-2D9D-4856-99D1-5FBCB707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23DC-8DA7-4575-9DE5-BDE2589F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AF0A-023A-439D-890A-1DE38257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1CF3-A02C-4891-A168-3BD19E8A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3BBA-DBEC-4100-8FAC-93CC0D47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F90-CF3E-4C0F-A8B1-080BB3C4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0DD6-AEC4-46FD-98BC-2B15BDBE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1EB-434B-4059-938F-A4EFBDD7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B2D6-A90C-4B24-85C5-F3ADA642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67DD-A75D-409E-B484-C897A24B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AD7-CBBC-4225-B090-621D40AF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B596-A2CC-4D01-939C-EB14D71CC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35344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3300"/>
                </a:solidFill>
                <a:latin typeface="Comic Sans MS"/>
              </a:rPr>
              <a:t>Hello, Computer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5091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a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042920" y="692280"/>
          <a:ext cx="70106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692280"/>
                    <a:ext cx="70106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468360" y="551664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 (compact disk), floppy disk, keyboard, mouse, printer,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5483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03640" y="1197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1557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08720" y="486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5157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15772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oppy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46530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D (compact di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bug – an error in the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flame – an unfriendly 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geek (a haker) – a person who knows everything about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press – to use force grad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look up – to search for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surf – to “move around”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ww – World Wid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43280" y="333360"/>
            <a:ext cx="374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w Word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523880" y="1397160"/>
          <a:ext cx="6096240" cy="4659120"/>
        </p:xfrm>
        <a:graphic>
          <a:graphicData uri="http://schemas.openxmlformats.org/drawingml/2006/table">
            <a:tbl>
              <a:tblPr/>
              <a:tblGrid>
                <a:gridCol w="609840"/>
                <a:gridCol w="566640"/>
                <a:gridCol w="652320"/>
                <a:gridCol w="571680"/>
                <a:gridCol w="64764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732720" y="1484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32720" y="1557360"/>
            <a:ext cx="21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80000" y="1916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80360" y="23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2852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56360" y="33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2360" y="393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4437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49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54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04000" y="134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1341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o    u    s 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1916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l  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19640" y="242100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a    n    n    e   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68360" y="292428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  p    g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a   d 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92360" y="342900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   e    y    b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a    r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16360" y="3933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   i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59280" y="4076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55840" y="496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2420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19480" y="4529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48000" y="450864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d    e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501336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24360" y="5013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l    a    m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24000" y="551664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   o    o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Bill Gat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4880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03640" y="-360"/>
            <a:ext cx="2736720" cy="1143000"/>
          </a:xfrm>
          <a:prstGeom prst="rect">
            <a:avLst/>
          </a:prstGeom>
          <a:solidFill>
            <a:srgbClr val="186bb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ffffff"/>
                </a:solidFill>
                <a:latin typeface="Comic Sans MS"/>
              </a:rPr>
              <a:t>E-mail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27416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ss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=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x = th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s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=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=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 = g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bet = Yes! (the strong mea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te = n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na = do you wan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up =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= bec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hat room dia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l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ow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re 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 Grea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ank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ad to see yo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M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o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 Di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well in that test on Mon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So wha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re 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ing on Friday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Well, I’ll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ing to Jenny’s party.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o you want t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es! Tha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ll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ou 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e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lub on Satur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4:38:52Z</dcterms:created>
  <dc:creator>a1</dc:creator>
  <dc:description/>
  <dc:language>en-US</dc:language>
  <cp:lastModifiedBy>Supervisor</cp:lastModifiedBy>
  <dcterms:modified xsi:type="dcterms:W3CDTF">2007-11-27T17:34:37Z</dcterms:modified>
  <cp:revision>12</cp:revision>
  <dc:subject/>
  <dc:title>Слайд 1</dc:title>
</cp:coreProperties>
</file>