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73C-2983-4D5F-9DE9-21EA6505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B3D-E4AE-419E-AAB7-A40CCDB0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A98-D914-4B7A-9D7B-500A7B97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B80-CB23-477E-BA64-2A35860B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3B3-2EF0-4694-B3E1-B099D653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B65-0E33-4992-9993-DBBD2382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C7A-EA94-4598-B0C6-E91AC06B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291-907B-45F3-B376-CA38CF14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1E8-E7AE-43C5-9FE7-B8E0D5CC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A39-6422-4D54-A6ED-75D22EC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362-E362-47D2-83FE-2048DFE0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EF8-4B38-48A9-AC8E-14492E0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4CA1-F23D-4077-86EA-4E41D17C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Comic Sans MS"/>
              </a:rPr>
              <a:t>Hello, Computer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091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42920" y="692280"/>
          <a:ext cx="7010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10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68360" y="551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(compact disk), floppy disk, keyboard, mouse, printer,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48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364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86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1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157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D (compact 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bug – an error in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lame – an unfriendl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geek (a haker) – a person who knows everything ab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press – to use force gra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look up – to search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surf – to “move around”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 – World Wid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33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3880" y="1397160"/>
          <a:ext cx="6096240" cy="465912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571680"/>
                <a:gridCol w="64764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732720" y="148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55736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19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34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o    u    s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l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421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n    n    e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2924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  p    g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d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   e    y    b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r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i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584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4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9480" y="452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50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    e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501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01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l    a    m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5516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o    o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88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2736720" cy="1143000"/>
          </a:xfrm>
          <a:prstGeom prst="rect">
            <a:avLst/>
          </a:prstGeom>
          <a:solidFill>
            <a:srgbClr val="186bb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41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x = 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= g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bet = Yes! (the strong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e = 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na = do you wa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p =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=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hat room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Gre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ad to see y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Di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ll in that test on Mo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So w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ing on Frida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Well, I’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Jenny’s party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 you want t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lub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4:38:52Z</dcterms:created>
  <dc:creator>a1</dc:creator>
  <dc:description/>
  <dc:language>en-US</dc:language>
  <cp:lastModifiedBy>Supervisor</cp:lastModifiedBy>
  <dcterms:modified xsi:type="dcterms:W3CDTF">2007-11-27T17:34:37Z</dcterms:modified>
  <cp:revision>12</cp:revision>
  <dc:subject/>
  <dc:title>Слайд 1</dc:title>
</cp:coreProperties>
</file>