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44C-10F2-4CFA-B944-3B3537A4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EBE-C6FD-48B9-8611-E9358BF4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B29-9E20-4188-A182-6EC26BE2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C22-6F79-4359-8950-DCE27EB3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BBC-1BFE-42C0-B73F-505D598B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35E-4782-4D36-A7C5-901E29AD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DB9-D2FF-4C90-B2C6-5CC80DB3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8E1-A362-4452-9DA1-F3B0FE3C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842-FDA5-482A-9CA4-16C18BD3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1A9-C50C-425E-AEAC-885D7F9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A6C-C085-4895-B19A-26F3C5B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D94-EA5C-4DB3-8F69-74B457F3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74f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F9B6-286B-4327-9B1C-F7D7348DC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0;&#1088;&#1086;&#1089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529524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DSC05381"/>
          <p:cNvPicPr/>
          <p:nvPr/>
        </p:nvPicPr>
        <p:blipFill>
          <a:blip r:embed="rId1"/>
          <a:stretch/>
        </p:blipFill>
        <p:spPr>
          <a:xfrm rot="399000">
            <a:off x="4557600" y="3186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SC05384"/>
          <p:cNvPicPr/>
          <p:nvPr/>
        </p:nvPicPr>
        <p:blipFill>
          <a:blip r:embed="rId2"/>
          <a:stretch/>
        </p:blipFill>
        <p:spPr>
          <a:xfrm>
            <a:off x="1447920" y="3352680"/>
            <a:ext cx="251604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SC05411"/>
          <p:cNvPicPr/>
          <p:nvPr/>
        </p:nvPicPr>
        <p:blipFill>
          <a:blip r:embed="rId3"/>
          <a:stretch/>
        </p:blipFill>
        <p:spPr>
          <a:xfrm rot="20846400">
            <a:off x="317520" y="547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DSC05363"/>
          <p:cNvPicPr/>
          <p:nvPr/>
        </p:nvPicPr>
        <p:blipFill>
          <a:blip r:embed="rId4"/>
          <a:stretch/>
        </p:blipFill>
        <p:spPr>
          <a:xfrm rot="325800">
            <a:off x="4257360" y="351432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419000" y="3786120"/>
            <a:ext cx="7596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га- это мальчик, подросток, обучающийся морскому делу и исполняющий обязанности 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тро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екоторых флотах — младший матро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ЙУ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, 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НГ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Л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БКА</a:t>
            </a:r>
            <a:br>
              <a:rPr sz="7200"/>
            </a:b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ЛЮВ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Р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Ю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1"/>
          <p:cNvSpPr/>
          <p:nvPr/>
        </p:nvSpPr>
        <p:spPr>
          <a:xfrm>
            <a:off x="2438280" y="1828800"/>
            <a:ext cx="914400" cy="838080"/>
          </a:xfrm>
          <a:prstGeom prst="flowChartProcess">
            <a:avLst/>
          </a:prstGeom>
          <a:gradFill rotWithShape="0">
            <a:gsLst>
              <a:gs pos="0">
                <a:srgbClr val="99cc00"/>
              </a:gs>
              <a:gs pos="100000">
                <a:srgbClr val="b821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943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ЮР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19112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105520" y="1828800"/>
            <a:ext cx="914400" cy="838080"/>
          </a:xfrm>
          <a:prstGeom prst="flowChartProcess">
            <a:avLst/>
          </a:prstGeom>
          <a:solidFill>
            <a:srgbClr val="b821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8954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8954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8954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895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895480" y="1905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35268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2 из 145624"/>
          <p:cNvPicPr/>
          <p:nvPr/>
        </p:nvPicPr>
        <p:blipFill>
          <a:blip r:embed="rId1"/>
          <a:stretch/>
        </p:blipFill>
        <p:spPr>
          <a:xfrm>
            <a:off x="533520" y="2590920"/>
            <a:ext cx="279720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8 из 99289"/>
          <p:cNvPicPr/>
          <p:nvPr/>
        </p:nvPicPr>
        <p:blipFill>
          <a:blip r:embed="rId2"/>
          <a:stretch/>
        </p:blipFill>
        <p:spPr>
          <a:xfrm>
            <a:off x="5715000" y="304920"/>
            <a:ext cx="31240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4:50Z</dcterms:created>
  <dc:creator>1</dc:creator>
  <dc:description/>
  <dc:language>en-US</dc:language>
  <cp:lastModifiedBy>gor</cp:lastModifiedBy>
  <dcterms:modified xsi:type="dcterms:W3CDTF">2012-03-10T05:25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