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AE4-BDD6-48F5-A548-10FC0A79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309-F743-42B1-8283-00C1C52B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46A2-67DF-43E8-A102-C626BB50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869-12EF-4A87-846E-DA8EFC50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5B5-A6DB-4E09-A39F-6603910E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14F-4008-4CE4-9E24-EFDC25F1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DDA-04B2-43BC-AF25-FEB47F03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2AE-8CB3-4E69-A407-BE2957D3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49B-60A5-4993-B3F3-7F5B302B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C3C-8267-4E85-B463-0DC773D6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223-771B-40E9-8786-4AB7207F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AEE-6C8E-4436-82F1-7985465B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74f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52FC-27F3-4506-9C56-02A690CB9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90;&#1088;&#1086;&#1089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-529524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DSC05381"/>
          <p:cNvPicPr/>
          <p:nvPr/>
        </p:nvPicPr>
        <p:blipFill>
          <a:blip r:embed="rId1"/>
          <a:stretch/>
        </p:blipFill>
        <p:spPr>
          <a:xfrm rot="399000">
            <a:off x="4557600" y="3186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SC05384"/>
          <p:cNvPicPr/>
          <p:nvPr/>
        </p:nvPicPr>
        <p:blipFill>
          <a:blip r:embed="rId2"/>
          <a:stretch/>
        </p:blipFill>
        <p:spPr>
          <a:xfrm>
            <a:off x="1447920" y="3352680"/>
            <a:ext cx="2516040" cy="335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DSC05411"/>
          <p:cNvPicPr/>
          <p:nvPr/>
        </p:nvPicPr>
        <p:blipFill>
          <a:blip r:embed="rId3"/>
          <a:stretch/>
        </p:blipFill>
        <p:spPr>
          <a:xfrm rot="20846400">
            <a:off x="317520" y="5472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DSC05363"/>
          <p:cNvPicPr/>
          <p:nvPr/>
        </p:nvPicPr>
        <p:blipFill>
          <a:blip r:embed="rId4"/>
          <a:stretch/>
        </p:blipFill>
        <p:spPr>
          <a:xfrm rot="325800">
            <a:off x="4257360" y="351432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10800000">
            <a:off x="4419000" y="3786120"/>
            <a:ext cx="7596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нга- это мальчик, подросток, обучающийся морскому делу и исполняющий обязанности 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тро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некоторых флотах — младший матрос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(ЙУ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Ю, 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НГ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Л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БКА</a:t>
            </a:r>
            <a:br>
              <a:rPr sz="7200"/>
            </a:b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Л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ЛЮВ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УРЮК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ЛЮК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РЮ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11"/>
          <p:cNvSpPr/>
          <p:nvPr/>
        </p:nvSpPr>
        <p:spPr>
          <a:xfrm>
            <a:off x="2438280" y="1828800"/>
            <a:ext cx="914400" cy="838080"/>
          </a:xfrm>
          <a:prstGeom prst="flowChartProcess">
            <a:avLst/>
          </a:prstGeom>
          <a:gradFill rotWithShape="0">
            <a:gsLst>
              <a:gs pos="0">
                <a:srgbClr val="99cc00"/>
              </a:gs>
              <a:gs pos="100000">
                <a:srgbClr val="b82108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8943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ЮРТ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191120" y="1828800"/>
            <a:ext cx="914400" cy="838080"/>
          </a:xfrm>
          <a:prstGeom prst="flowChartProcess">
            <a:avLst/>
          </a:prstGeom>
          <a:solidFill>
            <a:srgbClr val="190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5105520" y="1828800"/>
            <a:ext cx="914400" cy="838080"/>
          </a:xfrm>
          <a:prstGeom prst="flowChartProcess">
            <a:avLst/>
          </a:prstGeom>
          <a:solidFill>
            <a:srgbClr val="b821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289548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V="1">
            <a:off x="28954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28954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2895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2895480" y="1905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3352680" y="1828800"/>
            <a:ext cx="914400" cy="838080"/>
          </a:xfrm>
          <a:prstGeom prst="flowChartProcess">
            <a:avLst/>
          </a:prstGeom>
          <a:solidFill>
            <a:srgbClr val="190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_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__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а 2 из 145624"/>
          <p:cNvPicPr/>
          <p:nvPr/>
        </p:nvPicPr>
        <p:blipFill>
          <a:blip r:embed="rId1"/>
          <a:stretch/>
        </p:blipFill>
        <p:spPr>
          <a:xfrm>
            <a:off x="533520" y="2590920"/>
            <a:ext cx="2797200" cy="363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Картинка 8 из 99289"/>
          <p:cNvPicPr/>
          <p:nvPr/>
        </p:nvPicPr>
        <p:blipFill>
          <a:blip r:embed="rId2"/>
          <a:stretch/>
        </p:blipFill>
        <p:spPr>
          <a:xfrm>
            <a:off x="5715000" y="304920"/>
            <a:ext cx="312408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8:24:50Z</dcterms:created>
  <dc:creator>1</dc:creator>
  <dc:description/>
  <dc:language>en-US</dc:language>
  <cp:lastModifiedBy>gor</cp:lastModifiedBy>
  <dcterms:modified xsi:type="dcterms:W3CDTF">2012-03-10T05:25:2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