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15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30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49.png" ContentType="image/png"/>
  <Override PartName="/ppt/media/%D0%9D%D1%8E%D1%88%D0%B0.wav" ContentType="audio/x-wav"/>
  <Override PartName="/ppt/media/image45.png" ContentType="image/png"/>
  <Override PartName="/ppt/media/image11.png" ContentType="image/png"/>
  <Override PartName="/ppt/media/image48.png" ContentType="image/png"/>
  <Override PartName="/ppt/media/image37.png" ContentType="image/png"/>
  <Override PartName="/ppt/media/whoosh.wav" ContentType="audio/x-wav"/>
  <Override PartName="/ppt/media/image19.png" ContentType="image/png"/>
  <Override PartName="/ppt/media/image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9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B8A-B61F-492D-94AD-30397EC0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4AE-F0BD-4B0C-9899-AEA5F739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1DB-2C41-4EB9-9D86-7538D3A2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E52-B7D2-417E-8F90-9EFBA208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9EF-B84C-4C22-9D87-CC340172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9CA-DC8C-472F-B57A-7622A1CC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739-74EF-46BB-8E78-5308890E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275-DDBB-4255-9077-639274A5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AF6-D6F9-4A17-88F3-D51274FD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989-479C-4503-92C0-DD0D2C2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0EB-97E3-4E3B-B370-451C606C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B7D-D737-4716-BC05-B8D61CB9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E66B-0DEC-4C54-AC60-7CA81D7FA0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16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20.png"/><Relationship Id="rId10" Type="http://schemas.openxmlformats.org/officeDocument/2006/relationships/image" Target="../media/image18.png"/><Relationship Id="rId11" Type="http://schemas.openxmlformats.org/officeDocument/2006/relationships/image" Target="../media/image16.png"/><Relationship Id="rId12" Type="http://schemas.openxmlformats.org/officeDocument/2006/relationships/image" Target="../media/image2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&#1050;&#1072;&#1088;-&#1050;&#1072;&#1088;&#1099;&#1095;.wav" TargetMode="External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2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2.png"/><Relationship Id="rId6" Type="http://schemas.openxmlformats.org/officeDocument/2006/relationships/image" Target="../media/image30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29.png"/><Relationship Id="rId9" Type="http://schemas.openxmlformats.org/officeDocument/2006/relationships/image" Target="../media/image33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4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36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7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5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6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hyperlink" Target="file:///tmp/home/.config/libreoffice/4/user/gallery/whoosh.wav" TargetMode="External"/><Relationship Id="rId9" Type="http://schemas.openxmlformats.org/officeDocument/2006/relationships/image" Target="../media/image32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0.png"/><Relationship Id="rId13" Type="http://schemas.openxmlformats.org/officeDocument/2006/relationships/image" Target="../media/image33.png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&#1050;&#1072;&#1088;-&#1050;&#1072;&#1088;&#1099;&#1095;.wav" TargetMode="External"/><Relationship Id="rId3" Type="http://schemas.openxmlformats.org/officeDocument/2006/relationships/image" Target="../media/image37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3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5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4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25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image" Target="../media/image29.png"/><Relationship Id="rId4" Type="http://schemas.openxmlformats.org/officeDocument/2006/relationships/hyperlink" Target="file:///tmp/home/.config/libreoffice/4/user/gallery/&#1050;&#1072;&#1088;-&#1050;&#1072;&#1088;&#1099;&#1095;.wav" TargetMode="External"/><Relationship Id="rId5" Type="http://schemas.openxmlformats.org/officeDocument/2006/relationships/image" Target="../media/image38.png"/><Relationship Id="rId6" Type="http://schemas.openxmlformats.org/officeDocument/2006/relationships/hyperlink" Target="file:///tmp/home/.config/libreoffice/4/user/gallery/whoosh.wav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21.xml"/><Relationship Id="rId5" Type="http://schemas.openxmlformats.org/officeDocument/2006/relationships/image" Target="../media/image5.png"/><Relationship Id="rId6" Type="http://schemas.openxmlformats.org/officeDocument/2006/relationships/slide" Target="slide37.xml"/><Relationship Id="rId7" Type="http://schemas.openxmlformats.org/officeDocument/2006/relationships/image" Target="../media/image6.png"/><Relationship Id="rId8" Type="http://schemas.openxmlformats.org/officeDocument/2006/relationships/slide" Target="slide12.xml"/><Relationship Id="rId9" Type="http://schemas.openxmlformats.org/officeDocument/2006/relationships/image" Target="../media/image7.png"/><Relationship Id="rId10" Type="http://schemas.openxmlformats.org/officeDocument/2006/relationships/slide" Target="slide29.xml"/><Relationship Id="rId11" Type="http://schemas.openxmlformats.org/officeDocument/2006/relationships/image" Target="../media/image8.png"/><Relationship Id="rId12" Type="http://schemas.openxmlformats.org/officeDocument/2006/relationships/slide" Target="slide45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0.png"/><Relationship Id="rId7" Type="http://schemas.openxmlformats.org/officeDocument/2006/relationships/image" Target="../media/image33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arrow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arrow.wav" TargetMode="External"/><Relationship Id="rId5" Type="http://schemas.openxmlformats.org/officeDocument/2006/relationships/hyperlink" Target="file:///tmp/home/.config/libreoffice/4/user/gallery/arrow.wav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&#1055;&#1080;&#1085;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file:///tmp/home/.config/libreoffice/4/user/gallery/&#1053;&#1102;&#1096;&#1072;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hyperlink" Target="file:///tmp/home/.config/libreoffice/4/user/gallery/whoosh.wav" TargetMode="External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audio" Target="../media/whoosh.wav"/><Relationship Id="rId13" Type="http://schemas.openxmlformats.org/officeDocument/2006/relationships/audio" Target="../media/&#1053;&#1102;&#1096;&#1072;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5.png"/><Relationship Id="rId3" Type="http://schemas.openxmlformats.org/officeDocument/2006/relationships/hyperlink" Target="file:///tmp/home/.config/libreoffice/4/user/gallery/&#1050;&#1086;&#1087;&#1072;&#1090;&#1099;&#1095;.wav" TargetMode="External"/><Relationship Id="rId4" Type="http://schemas.openxmlformats.org/officeDocument/2006/relationships/image" Target="../media/image46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7.png"/><Relationship Id="rId7" Type="http://schemas.openxmlformats.org/officeDocument/2006/relationships/hyperlink" Target="file:///tmp/home/.config/libreoffice/4/user/gallery/&#1050;&#1086;&#1087;&#1072;&#1090;&#1099;&#1095;.wav" TargetMode="External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suction.wav" TargetMode="External"/><Relationship Id="rId3" Type="http://schemas.openxmlformats.org/officeDocument/2006/relationships/image" Target="../media/image48.png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image" Target="../media/image49.png"/><Relationship Id="rId6" Type="http://schemas.openxmlformats.org/officeDocument/2006/relationships/image" Target="../media/image43.png"/><Relationship Id="rId7" Type="http://schemas.openxmlformats.org/officeDocument/2006/relationships/image" Target="../media/image50.png"/><Relationship Id="rId8" Type="http://schemas.openxmlformats.org/officeDocument/2006/relationships/image" Target="../media/image45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1.png"/><Relationship Id="rId3" Type="http://schemas.openxmlformats.org/officeDocument/2006/relationships/image" Target="../media/image44.png"/><Relationship Id="rId4" Type="http://schemas.openxmlformats.org/officeDocument/2006/relationships/image" Target="../media/image52.png"/><Relationship Id="rId5" Type="http://schemas.openxmlformats.org/officeDocument/2006/relationships/hyperlink" Target="file:///tmp/home/.config/libreoffice/4/user/gallery/suction.wa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tmp/home/.config/libreoffice/4/user/gallery/suction.wa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53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tmp/home/.config/libreoffice/4/user/gallery/&#1050;&#1086;&#1087;&#1072;&#1090;&#1099;&#1095;.wav" TargetMode="External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60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63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image" Target="../media/image58.png"/><Relationship Id="rId10" Type="http://schemas.openxmlformats.org/officeDocument/2006/relationships/image" Target="../media/image60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image" Target="../media/image62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66.png"/><Relationship Id="rId7" Type="http://schemas.openxmlformats.org/officeDocument/2006/relationships/image" Target="../media/image58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audio" Target="../media/&#1053;&#1102;&#1096;&#1072;.wav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&#1105;&#1078;&#1080;&#1082;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&#1105;&#1078;&#1080;&#1082;.wav" TargetMode="Externa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slide" Target="slide2.xml"/><Relationship Id="rId5" Type="http://schemas.openxmlformats.org/officeDocument/2006/relationships/hyperlink" Target="file:///tmp/home/.config/libreoffice/4/user/gallery/wind.wav" TargetMode="External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hyperlink" Target="file:///tmp/home/.config/libreoffice/4/user/gallery/wind.wav" TargetMode="External"/><Relationship Id="rId11" Type="http://schemas.openxmlformats.org/officeDocument/2006/relationships/hyperlink" Target="file:///tmp/home/.config/libreoffice/4/user/gallery/wind.wav" TargetMode="External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hyperlink" Target="file:///tmp/home/.config/libreoffice/4/user/gallery/&#1083;&#1086;&#1089;&#1103;&#1096;&#1072;.wav" TargetMode="External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mesharikon.ru/" TargetMode="External"/><Relationship Id="rId3" Type="http://schemas.openxmlformats.org/officeDocument/2006/relationships/hyperlink" Target="http://smesharikon.ru/" TargetMode="External"/><Relationship Id="rId4" Type="http://schemas.openxmlformats.org/officeDocument/2006/relationships/hyperlink" Target="http://smesharikon.ru/" TargetMode="External"/><Relationship Id="rId5" Type="http://schemas.openxmlformats.org/officeDocument/2006/relationships/hyperlink" Target="http://smesharikon.ru/" TargetMode="External"/><Relationship Id="rId6" Type="http://schemas.openxmlformats.org/officeDocument/2006/relationships/hyperlink" Target="http://smesharikon.ru/" TargetMode="External"/><Relationship Id="rId7" Type="http://schemas.openxmlformats.org/officeDocument/2006/relationships/hyperlink" Target="http://smesharikon.ru/" TargetMode="External"/><Relationship Id="rId8" Type="http://schemas.openxmlformats.org/officeDocument/2006/relationships/hyperlink" Target="http://s49.radikal.ru/i125/0811/05/f625f271f746.png" TargetMode="External"/><Relationship Id="rId9" Type="http://schemas.openxmlformats.org/officeDocument/2006/relationships/hyperlink" Target="http://s53.radikal.ru/i140/0811/03/dde68d8254bd.png" TargetMode="External"/><Relationship Id="rId10" Type="http://schemas.openxmlformats.org/officeDocument/2006/relationships/hyperlink" Target="http://images.yandex.ru/search?p=239&amp;ed=1&amp;text=&#1074;&#1077;&#1076;&#1088;&#1086;&amp;spsite=fake-037-1328904.ru&amp;img_url=www.ogonek-toys.ru%2Fcontent%2Fimages%2FVedro.jpg%2F420.jpg&amp;rpt=simage" TargetMode="External"/><Relationship Id="rId11" Type="http://schemas.openxmlformats.org/officeDocument/2006/relationships/hyperlink" Target="http://images.yandex.ru/yandsearch?text=&#1086;&#1074;&#1086;&#1097;&#1080;&amp;stype=image" TargetMode="External"/><Relationship Id="rId12" Type="http://schemas.openxmlformats.org/officeDocument/2006/relationships/hyperlink" Target="http://images.yandex.ru/yandsearch?text=&#1086;&#1074;&#1086;&#1097;&#1080;&amp;stype=image" TargetMode="External"/><Relationship Id="rId13" Type="http://schemas.openxmlformats.org/officeDocument/2006/relationships/hyperlink" Target="http://images.yandex.ru/yandsearch?text=&#1086;&#1074;&#1086;&#1097;&#1080;&amp;stype=image" TargetMode="External"/><Relationship Id="rId14" Type="http://schemas.openxmlformats.org/officeDocument/2006/relationships/hyperlink" Target="http://images.yandex.ru/yandsearch?text=&#1086;&#1074;&#1086;&#1097;&#1080;&amp;stype=image" TargetMode="External"/><Relationship Id="rId15" Type="http://schemas.openxmlformats.org/officeDocument/2006/relationships/hyperlink" Target="http://images.yandex.ru/yandsearch?text=&#1086;&#1074;&#1086;&#1097;&#1080;&amp;stype=image" TargetMode="External"/><Relationship Id="rId16" Type="http://schemas.openxmlformats.org/officeDocument/2006/relationships/hyperlink" Target="http://images.yandex.ru/yandsearch?text=&#1086;&#1074;&#1086;&#1097;&#1080;&amp;stype=image" TargetMode="External"/><Relationship Id="rId17" Type="http://schemas.openxmlformats.org/officeDocument/2006/relationships/hyperlink" Target="http://images.yandex.ru/yandsearch?text=&#1086;&#1074;&#1086;&#1097;&#1080;&amp;stype=image" TargetMode="External"/><Relationship Id="rId18" Type="http://schemas.openxmlformats.org/officeDocument/2006/relationships/hyperlink" Target="http://images.yandex.ru/yandsearch?text=&#1086;&#1074;&#1086;&#1097;&#1080;&amp;stype=image" TargetMode="External"/><Relationship Id="rId19" Type="http://schemas.openxmlformats.org/officeDocument/2006/relationships/hyperlink" Target="http://images.yandex.ru/yandsearch?text=&#1086;&#1074;&#1086;&#1097;&#1080;&amp;stype=image" TargetMode="External"/><Relationship Id="rId20" Type="http://schemas.openxmlformats.org/officeDocument/2006/relationships/hyperlink" Target="http://images.yandex.ru/yandsearch?text=&#1086;&#1074;&#1086;&#1097;&#1080;&amp;stype=image" TargetMode="External"/><Relationship Id="rId21" Type="http://schemas.openxmlformats.org/officeDocument/2006/relationships/hyperlink" Target="http://images.yandex.ru/yandsearch?text=&#1086;&#1074;&#1086;&#1097;&#1080;&amp;stype=image" TargetMode="External"/><Relationship Id="rId22" Type="http://schemas.openxmlformats.org/officeDocument/2006/relationships/hyperlink" Target="http://images.yandex.ru/yandsearch?text=&#1086;&#1074;&#1086;&#1097;&#1080;&amp;stype=image" TargetMode="External"/><Relationship Id="rId23" Type="http://schemas.openxmlformats.org/officeDocument/2006/relationships/hyperlink" Target="http://images.yandex.ru/yandsearch?text=&#1086;&#1074;&#1086;&#1097;&#1080;&amp;stype=image" TargetMode="External"/><Relationship Id="rId24" Type="http://schemas.openxmlformats.org/officeDocument/2006/relationships/hyperlink" Target="http://images.yandex.ru/yandsearch?text=&#1086;&#1074;&#1086;&#1097;&#1080;&amp;stype=image" TargetMode="External"/><Relationship Id="rId25" Type="http://schemas.openxmlformats.org/officeDocument/2006/relationships/hyperlink" Target="http://images.yandex.ru/yandsearch?text=&#1086;&#1074;&#1086;&#1097;&#1080;&amp;stype=image" TargetMode="External"/><Relationship Id="rId26" Type="http://schemas.openxmlformats.org/officeDocument/2006/relationships/hyperlink" Target="http://images.yandex.ru/yandsearch?text=&#1086;&#1074;&#1086;&#1097;&#1080;&amp;stype=image" TargetMode="External"/><Relationship Id="rId27" Type="http://schemas.openxmlformats.org/officeDocument/2006/relationships/hyperlink" Target="http://images.yandex.ru/yandsearch?text=&#1086;&#1074;&#1086;&#1097;&#1080;&amp;stype=image" TargetMode="External"/><Relationship Id="rId28" Type="http://schemas.openxmlformats.org/officeDocument/2006/relationships/hyperlink" Target="http://images.yandex.ru/yandsearch?text=&#1086;&#1074;&#1086;&#1097;&#1080;&amp;stype=image" TargetMode="External"/><Relationship Id="rId29" Type="http://schemas.openxmlformats.org/officeDocument/2006/relationships/hyperlink" Target="http://images.yandex.ru/yandsearch?text=&#1086;&#1074;&#1086;&#1097;&#1080;&amp;stype=image" TargetMode="External"/><Relationship Id="rId30" Type="http://schemas.openxmlformats.org/officeDocument/2006/relationships/hyperlink" Target="http://images.yandex.ru/yandsearch?text=&#1086;&#1074;&#1086;&#1097;&#1080;&amp;stype=image" TargetMode="External"/><Relationship Id="rId31" Type="http://schemas.openxmlformats.org/officeDocument/2006/relationships/hyperlink" Target="http://images.yandex.ru/yandsearch?text=&#1086;&#1074;&#1086;&#1097;&#1080;&amp;stype=image" TargetMode="External"/><Relationship Id="rId32" Type="http://schemas.openxmlformats.org/officeDocument/2006/relationships/hyperlink" Target="http://images.yandex.ru/yandsearch?text=&#1086;&#1074;&#1086;&#1097;&#1080;&amp;stype=image" TargetMode="External"/><Relationship Id="rId33" Type="http://schemas.openxmlformats.org/officeDocument/2006/relationships/hyperlink" Target="http://images.yandex.ru/yandsearch?text=&#1086;&#1074;&#1086;&#1097;&#1080;&amp;stype=image" TargetMode="External"/><Relationship Id="rId34" Type="http://schemas.openxmlformats.org/officeDocument/2006/relationships/hyperlink" Target="http://images.yandex.ru/yandsearch?text=&#1086;&#1074;&#1086;&#1097;&#1080;&amp;stype=image" TargetMode="External"/><Relationship Id="rId35" Type="http://schemas.openxmlformats.org/officeDocument/2006/relationships/hyperlink" Target="http://images.yandex.ru/yandsearch?text=&#1086;&#1074;&#1086;&#1097;&#1080;&amp;stype=image" TargetMode="External"/><Relationship Id="rId36" Type="http://schemas.openxmlformats.org/officeDocument/2006/relationships/hyperlink" Target="http://images.yandex.ru/yandsearch?text=&#1086;&#1074;&#1086;&#1097;&#1080;&amp;stype=image" TargetMode="External"/><Relationship Id="rId37" Type="http://schemas.openxmlformats.org/officeDocument/2006/relationships/hyperlink" Target="http://images.yandex.ru/yandsearch?text=&#1086;&#1074;&#1086;&#1097;&#1080;&amp;stype=image" TargetMode="External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6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6.png"/><Relationship Id="rId8" Type="http://schemas.openxmlformats.org/officeDocument/2006/relationships/image" Target="../media/image19.png"/><Relationship Id="rId9" Type="http://schemas.openxmlformats.org/officeDocument/2006/relationships/image" Target="../media/image16.png"/><Relationship Id="rId10" Type="http://schemas.openxmlformats.org/officeDocument/2006/relationships/image" Target="../media/image19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hyperlink" Target="file:///tmp/home/.config/libreoffice/4/user/gallery/whoosh.wav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20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 rot="21150600">
            <a:off x="3203280" y="1550880"/>
            <a:ext cx="28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шарик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ка</a:t>
            </a:r>
            <a:endParaRPr b="1" i="1" lang="en-US" sz="40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8"/>
          <p:cNvSpPr/>
          <p:nvPr/>
        </p:nvSpPr>
        <p:spPr>
          <a:xfrm rot="21145200">
            <a:off x="3492000" y="3644640"/>
            <a:ext cx="288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Табличное 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ложение и 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692360" y="189000"/>
            <a:ext cx="3744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Игровой тренаж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 rot="21229200">
            <a:off x="145800" y="479520"/>
            <a:ext cx="54324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132000"/>
                </a:gradFill>
                <a:latin typeface="Impact"/>
              </a:rPr>
              <a:t>Замечательн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132000"/>
              </a:gradFill>
              <a:latin typeface="Impact"/>
              <a:ea typeface="Impact"/>
            </a:endParaRPr>
          </a:p>
        </p:txBody>
      </p:sp>
      <p:sp>
        <p:nvSpPr>
          <p:cNvPr id="197" name="AutoShape 32">
            <a:hlinkClick r:id="rId2" action="ppaction://hlinksldjump"/>
          </p:cNvPr>
          <p:cNvSpPr/>
          <p:nvPr/>
        </p:nvSpPr>
        <p:spPr>
          <a:xfrm>
            <a:off x="8496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6" descr="корзинка2"/>
          <p:cNvPicPr/>
          <p:nvPr/>
        </p:nvPicPr>
        <p:blipFill>
          <a:blip r:embed="rId3"/>
          <a:stretch/>
        </p:blipFill>
        <p:spPr>
          <a:xfrm>
            <a:off x="3203640" y="5180040"/>
            <a:ext cx="3166920" cy="1677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7" descr="яблоко"/>
          <p:cNvPicPr/>
          <p:nvPr/>
        </p:nvPicPr>
        <p:blipFill>
          <a:blip r:embed="rId4"/>
          <a:stretch/>
        </p:blipFill>
        <p:spPr>
          <a:xfrm>
            <a:off x="4067280" y="472428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яблоко"/>
          <p:cNvPicPr/>
          <p:nvPr/>
        </p:nvPicPr>
        <p:blipFill>
          <a:blip r:embed="rId5"/>
          <a:stretch/>
        </p:blipFill>
        <p:spPr>
          <a:xfrm>
            <a:off x="3564000" y="501336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9" descr="яблоко"/>
          <p:cNvPicPr/>
          <p:nvPr/>
        </p:nvPicPr>
        <p:blipFill>
          <a:blip r:embed="rId6"/>
          <a:stretch/>
        </p:blipFill>
        <p:spPr>
          <a:xfrm>
            <a:off x="4140360" y="5157720"/>
            <a:ext cx="687240" cy="63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0" descr="яблоко"/>
          <p:cNvPicPr/>
          <p:nvPr/>
        </p:nvPicPr>
        <p:blipFill>
          <a:blip r:embed="rId7"/>
          <a:stretch/>
        </p:blipFill>
        <p:spPr>
          <a:xfrm>
            <a:off x="4500720" y="465300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" descr="яблоко"/>
          <p:cNvPicPr/>
          <p:nvPr/>
        </p:nvPicPr>
        <p:blipFill>
          <a:blip r:embed="rId8"/>
          <a:stretch/>
        </p:blipFill>
        <p:spPr>
          <a:xfrm>
            <a:off x="4859280" y="5013360"/>
            <a:ext cx="830160" cy="768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2" descr="яблоко"/>
          <p:cNvPicPr/>
          <p:nvPr/>
        </p:nvPicPr>
        <p:blipFill>
          <a:blip r:embed="rId9"/>
          <a:stretch/>
        </p:blipFill>
        <p:spPr>
          <a:xfrm>
            <a:off x="4572000" y="508464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яблоко"/>
          <p:cNvPicPr/>
          <p:nvPr/>
        </p:nvPicPr>
        <p:blipFill>
          <a:blip r:embed="rId10"/>
          <a:stretch/>
        </p:blipFill>
        <p:spPr>
          <a:xfrm>
            <a:off x="5364000" y="5084640"/>
            <a:ext cx="75888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7"/>
          <p:cNvGrpSpPr/>
          <p:nvPr/>
        </p:nvGrpSpPr>
        <p:grpSpPr>
          <a:xfrm>
            <a:off x="5148360" y="981000"/>
            <a:ext cx="576000" cy="576360"/>
            <a:chOff x="5148360" y="981000"/>
            <a:chExt cx="576000" cy="576360"/>
          </a:xfrm>
        </p:grpSpPr>
        <p:pic>
          <p:nvPicPr>
            <p:cNvPr id="210" name="Picture 28" descr="2"/>
            <p:cNvPicPr/>
            <p:nvPr/>
          </p:nvPicPr>
          <p:blipFill>
            <a:blip r:embed="rId3"/>
            <a:stretch/>
          </p:blipFill>
          <p:spPr>
            <a:xfrm>
              <a:off x="5148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WordArt 29"/>
            <p:cNvSpPr txBox="1"/>
            <p:nvPr/>
          </p:nvSpPr>
          <p:spPr>
            <a:xfrm>
              <a:off x="5352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Group 30"/>
          <p:cNvGrpSpPr/>
          <p:nvPr/>
        </p:nvGrpSpPr>
        <p:grpSpPr>
          <a:xfrm>
            <a:off x="3132000" y="1773360"/>
            <a:ext cx="576360" cy="576000"/>
            <a:chOff x="3132000" y="1773360"/>
            <a:chExt cx="576360" cy="576000"/>
          </a:xfrm>
        </p:grpSpPr>
        <p:pic>
          <p:nvPicPr>
            <p:cNvPr id="213" name="Picture 31" descr="2"/>
            <p:cNvPicPr/>
            <p:nvPr/>
          </p:nvPicPr>
          <p:blipFill>
            <a:blip r:embed="rId4"/>
            <a:stretch/>
          </p:blipFill>
          <p:spPr>
            <a:xfrm>
              <a:off x="313200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WordArt 32"/>
            <p:cNvSpPr txBox="1"/>
            <p:nvPr/>
          </p:nvSpPr>
          <p:spPr>
            <a:xfrm>
              <a:off x="333648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5" name="Group 33"/>
          <p:cNvGrpSpPr/>
          <p:nvPr/>
        </p:nvGrpSpPr>
        <p:grpSpPr>
          <a:xfrm>
            <a:off x="4356000" y="1844640"/>
            <a:ext cx="576360" cy="576360"/>
            <a:chOff x="4356000" y="1844640"/>
            <a:chExt cx="576360" cy="576360"/>
          </a:xfrm>
        </p:grpSpPr>
        <p:pic>
          <p:nvPicPr>
            <p:cNvPr id="216" name="Picture 34" descr="2"/>
            <p:cNvPicPr/>
            <p:nvPr/>
          </p:nvPicPr>
          <p:blipFill>
            <a:blip r:embed="rId5"/>
            <a:stretch/>
          </p:blipFill>
          <p:spPr>
            <a:xfrm>
              <a:off x="435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WordArt 35"/>
            <p:cNvSpPr txBox="1"/>
            <p:nvPr/>
          </p:nvSpPr>
          <p:spPr>
            <a:xfrm>
              <a:off x="456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8" name="Group 36"/>
          <p:cNvGrpSpPr/>
          <p:nvPr/>
        </p:nvGrpSpPr>
        <p:grpSpPr>
          <a:xfrm>
            <a:off x="5867280" y="1773360"/>
            <a:ext cx="576360" cy="576000"/>
            <a:chOff x="5867280" y="1773360"/>
            <a:chExt cx="576360" cy="576000"/>
          </a:xfrm>
        </p:grpSpPr>
        <p:pic>
          <p:nvPicPr>
            <p:cNvPr id="219" name="Picture 37" descr="2"/>
            <p:cNvPicPr/>
            <p:nvPr/>
          </p:nvPicPr>
          <p:blipFill>
            <a:blip r:embed="rId6"/>
            <a:stretch/>
          </p:blipFill>
          <p:spPr>
            <a:xfrm>
              <a:off x="5867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WordArt 38"/>
            <p:cNvSpPr txBox="1"/>
            <p:nvPr/>
          </p:nvSpPr>
          <p:spPr>
            <a:xfrm>
              <a:off x="6071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1" name="Group 39"/>
          <p:cNvGrpSpPr/>
          <p:nvPr/>
        </p:nvGrpSpPr>
        <p:grpSpPr>
          <a:xfrm>
            <a:off x="3780000" y="907920"/>
            <a:ext cx="576000" cy="576360"/>
            <a:chOff x="3780000" y="907920"/>
            <a:chExt cx="576000" cy="576360"/>
          </a:xfrm>
        </p:grpSpPr>
        <p:pic>
          <p:nvPicPr>
            <p:cNvPr id="222" name="Picture 40" descr="2"/>
            <p:cNvPicPr/>
            <p:nvPr/>
          </p:nvPicPr>
          <p:blipFill>
            <a:blip r:embed="rId7"/>
            <a:stretch/>
          </p:blipFill>
          <p:spPr>
            <a:xfrm>
              <a:off x="3780000" y="90792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WordArt 41"/>
            <p:cNvSpPr txBox="1"/>
            <p:nvPr/>
          </p:nvSpPr>
          <p:spPr>
            <a:xfrm>
              <a:off x="3984120" y="111420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24" name="Picture 47" descr="яблоко"/>
          <p:cNvPicPr/>
          <p:nvPr/>
        </p:nvPicPr>
        <p:blipFill>
          <a:blip r:embed="rId8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8" descr="яблоко"/>
          <p:cNvPicPr/>
          <p:nvPr/>
        </p:nvPicPr>
        <p:blipFill>
          <a:blip r:embed="rId9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9" descr="яблоко"/>
          <p:cNvPicPr/>
          <p:nvPr/>
        </p:nvPicPr>
        <p:blipFill>
          <a:blip r:embed="rId10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яблоко"/>
          <p:cNvPicPr/>
          <p:nvPr/>
        </p:nvPicPr>
        <p:blipFill>
          <a:blip r:embed="rId11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1" descr="яблоко"/>
          <p:cNvPicPr/>
          <p:nvPr/>
        </p:nvPicPr>
        <p:blipFill>
          <a:blip r:embed="rId12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4" descr="корзинка2"/>
          <p:cNvPicPr/>
          <p:nvPr/>
        </p:nvPicPr>
        <p:blipFill>
          <a:blip r:embed="rId13"/>
          <a:stretch/>
        </p:blipFill>
        <p:spPr>
          <a:xfrm>
            <a:off x="5219640" y="5637240"/>
            <a:ext cx="259236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8415E-006 L 0.11823 0.6411 E">
                                      <p:cBhvr>
                                        <p:cTn id="20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C 1.66667E-006 0.00486 1.66666999999992E-006 0.01065 0.00226 0.02408 C 0.00469 0.03773 0.01146 0.06412 0.01441 0.08148 C 0.01684 0.09861 0.01753 0.11111 0.01927 0.12847 C 0.02048 0.14607 0.02048 0.16713 0.0217 0.18634 C 0.02292 0.20602 0.02413 0.22801 0.02726 0.24653 C 0.03021 0.26458 0.0375 0.28218 0.03923 0.2963 C 0.04114 0.31065 0.03507 0.31968 0.03923 0.33171 C 0.04357 0.34398 0.05677 0.35787 0.06406 0.36991 C 0.07135 0.38171 0.07691 0.39352 0.08281 0.40347 C 0.08889 0.41343 0.09687 0.42269 0.10104 0.42894 C 0.1059 0.43519 0.10833 0.43866 0.11024 0.44097 E">
                                      <p:cBhvr>
                                        <p:cTn id="209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5209E-006 L 0.05521 0.45204 E">
                                      <p:cBhvr>
                                        <p:cTn id="21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C -2.77778E-007 0.0051 0.00017 0.01042 0.00434 0.02361 C 0.00851 0.03704 0.02049 0.06273 0.02517 0.07963 C 0.03004 0.09653 0.0309 0.10857 0.03316 0.12547 C 0.03542 0.1426 0.03576 0.1632 0.03802 0.18218 C 0.04028 0.20139 0.04254 0.22292 0.04722 0.24074 C 0.05243 0.25857 0.06458 0.2757 0.06806 0.28959 C 0.07135 0.30348 0.06076 0.31204 0.06806 0.32408 C 0.07517 0.33611 0.09861 0.34954 0.11094 0.36111 C 0.12344 0.37292 0.13212 0.38426 0.14271 0.39398 C 0.1533 0.40371 0.16667 0.41273 0.17448 0.41898 C 0.18247 0.425 0.18663 0.42848 0.18924 0.43056 E">
                                      <p:cBhvr>
                                        <p:cTn id="21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224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826920" y="4005360"/>
            <a:ext cx="2519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4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225+">
            <a:hlinkClick r:id="rId2"/>
          </p:cNvPr>
          <p:cNvPicPr/>
          <p:nvPr/>
        </p:nvPicPr>
        <p:blipFill>
          <a:blip r:embed="rId3"/>
          <a:stretch/>
        </p:blipFill>
        <p:spPr>
          <a:xfrm rot="21161400">
            <a:off x="1331640" y="1628280"/>
            <a:ext cx="1143000" cy="1022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231+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22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8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830"/>
          <p:cNvPicPr/>
          <p:nvPr/>
        </p:nvPicPr>
        <p:blipFill>
          <a:blip r:embed="rId10"/>
          <a:stretch/>
        </p:blipFill>
        <p:spPr>
          <a:xfrm>
            <a:off x="5796000" y="5229360"/>
            <a:ext cx="3135240" cy="20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5607E-007 C 0.00226 -0.01043 0.00382 -0.02734 0.01198 -0.03336 C 0.01753 -0.04263 0.02344 -0.05422 0.03299 -0.05792 C 0.04253 -0.06928 0.04531 -0.07044 0.05625 -0.07623 C 0.06267 -0.0797 0.06719 -0.08642 0.07396 -0.0892 C 0.08368 -0.10102 0.07153 -0.08781 0.08056 -0.09453 C 0.08993 -0.10172 0.09861 -0.11052 0.10816 -0.1177 C 0.11198 -0.12071 0.11719 -0.11979 0.12135 -0.12164 C 0.12726 -0.12906 0.12153 -0.12303 0.13142 -0.12674 C 0.13837 -0.12929 0.14497 -0.13415 0.15226 -0.13577 C 0.16649 -0.14481 0.18125 -0.14968 0.19757 -0.15269 C 0.21215 -0.15802 0.22865 -0.15987 0.24392 -0.16103 C 0.27101 -0.1608 0.29861 -0.16057 0.32569 -0.15894 C 0.33177 -0.15848 0.33767 -0.15292 0.34323 -0.15107 C 0.3467 -0.14852 0.35104 -0.14527 0.35434 -0.14365 C 0.35799 -0.1411 0.36215 -0.14064 0.36545 -0.13832 C 0.375 -0.13045 0.38455 -0.11979 0.39514 -0.11376 C 0.40174 -0.1038 0.41059 -0.09639 0.41962 -0.0892 C 0.42309 -0.08364 0.42743 -0.07994 0.4316 -0.07507 C 0.43351 -0.06858 0.43524 -0.06557 0.43941 -0.0607 C 0.44201 -0.05074 0.44931 -0.04078 0.45486 -0.03221 C 0.45764 -0.0278 0.45868 -0.02248 0.46146 -0.01807 C 0.46337 -0.0146 0.46701 -0.01344 0.4691 -0.0102 C 0.48194 0.0088 0.47361 -0.00116 0.48142 0.00788 C 0.48611 0.01946 0.4934 0.03267 0.5 0.04263 C 0.50365 0.04842 0.50851 0.05352 0.51111 0.05955 C 0.51858 0.07715 0.52986 0.09152 0.53767 0.1089 C 0.54201 0.11886 0.54479 0.12905 0.54861 0.13879 C 0.55191 0.15686 0.55729 0.17516 0.56406 0.19184 C 0.56562 0.20111 0.56806 0.21061 0.57083 0.22011 C 0.57222 0.22521 0.57552 0.23262 0.57639 0.23818 C 0.5776 0.24745 0.57674 0.24351 0.57847 0.25 C 0.57882 0.28221 0.57847 0.31279 0.58177 0.3443 C 0.58316 0.44393 0.58281 0.40153 0.58281 0.47289 E">
                                      <p:cBhvr>
                                        <p:cTn id="23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23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4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4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826920" y="3860640"/>
            <a:ext cx="2592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3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1679400"/>
            <a:ext cx="1079640" cy="852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43280" y="242100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22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1"/>
          <p:cNvPicPr/>
          <p:nvPr/>
        </p:nvPicPr>
        <p:blipFill>
          <a:blip r:embed="rId10"/>
          <a:stretch/>
        </p:blipFill>
        <p:spPr>
          <a:xfrm>
            <a:off x="5940360" y="5157720"/>
            <a:ext cx="1009800" cy="905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7" descr="8h30"/>
          <p:cNvPicPr/>
          <p:nvPr/>
        </p:nvPicPr>
        <p:blipFill>
          <a:blip r:embed="rId11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65 C 0.00104 -0.05089 0.00451 -0.05436 0.00903 -0.0576 C 0.01093 -0.05899 0.01493 -0.06199 0.01493 -0.06199 C 0.01736 -0.06662 0.01337 -0.06037 0.0184 -0.06454 C 0.01927 -0.06523 0.01927 -0.06616 0.01996 -0.06708 C 0.02187 -0.06916 0.02291 -0.06916 0.02604 -0.07055 C 0.02934 -0.07333 0.03455 -0.07379 0.03941 -0.07587 C 0.04392 -0.07772 0.04948 -0.08119 0.05451 -0.08235 C 0.0592 -0.08489 0.06423 -0.08721 0.06805 -0.08998 C 0.06927 -0.09207 0.07048 -0.09299 0.07326 -0.09415 C 0.07639 -0.09669 0.08021 -0.09762 0.0842 -0.0997 C 0.09149 -0.1034 0.08107 -0.09877 0.09028 -0.10248 C 0.09253 -0.10456 0.09427 -0.10502 0.09791 -0.10641 C 0.10694 -0.10988 0.10798 -0.11057 0.11875 -0.11242 C 0.12534 -0.11497 0.13385 -0.11635 0.14166 -0.11728 C 0.14861 -0.11936 0.15347 -0.12052 0.16111 -0.12167 C 0.16562 -0.1226 0.16892 -0.12422 0.17361 -0.12468 C 0.1783 -0.12607 0.18489 -0.12815 0.18975 -0.12931 C 0.19288 -0.13 0.2 -0.1307 0.2 -0.13046 C 0.20573 -0.13232 0.20069 -0.13116 0.20764 -0.13208 C 0.21267 -0.13278 0.21736 -0.1344 0.22291 -0.13509 C 0.2276 -0.13648 0.23246 -0.13694 0.23784 -0.13764 C 0.2401 -0.13833 0.24271 -0.13926 0.24548 -0.13949 C 0.24982 -0.13995 0.25903 -0.14064 0.25903 -0.14041 C 0.31753 -0.14018 0.29843 -0.14249 0.32222 -0.13902 C 0.32691 -0.1374 0.33212 -0.13671 0.3375 -0.13602 C 0.34305 -0.13347 0.34774 -0.13255 0.35451 -0.13162 C 0.35833 -0.13023 0.3618 -0.13 0.36562 -0.12885 C 0.37343 -0.12607 0.3809 -0.1226 0.38993 -0.12167 C 0.39271 -0.12098 0.39531 -0.11982 0.39826 -0.11913 C 0.4 -0.1189 0.40173 -0.11867 0.40347 -0.1182 C 0.4151 -0.11497 0.40555 -0.11635 0.41458 -0.11543 C 0.41909 -0.11358 0.42343 -0.11173 0.42778 -0.10988 C 0.42951 -0.10918 0.43298 -0.1078 0.43298 -0.1078 C 0.43472 -0.10594 0.43611 -0.10363 0.43715 -0.10155 C 0.4375 -0.10086 0.43889 -0.10062 0.43958 -0.10016 C 0.44253 -0.09785 0.44323 -0.09577 0.44722 -0.09415 C 0.44913 -0.08998 0.4467 -0.09415 0.45069 -0.09068 C 0.45225 -0.08906 0.4533 -0.08721 0.45486 -0.08582 C 0.4559 -0.08466 0.45781 -0.08397 0.45833 -0.08281 C 0.46041 -0.07911 0.45955 -0.07518 0.46354 -0.07194 C 0.46441 -0.06916 0.46475 -0.06639 0.46771 -0.06384 C 0.46875 -0.06061 0.47118 -0.05714 0.47118 -0.05367 E">
                                      <p:cBhvr>
                                        <p:cTn id="25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25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1966 C 0.00938 -0.02244 0.00417 -0.01989 0.00695 -0.02683 C 0.00833 -0.02961 0.01285 -0.03192 0.01771 -0.03377 C 0.02136 -0.03516 0.02431 -0.03701 0.02847 -0.03771 C 0.03299 -0.03863 0.04271 -0.03933 0.04271 -0.03933 C 0.07188 -0.03909 0.1007 -0.03909 0.12986 -0.03863 C 0.15261 -0.03817 0.16267 -0.03077 0.1816 -0.02845 C 0.18681 -0.02475 0.19201 -0.02128 0.19913 -0.01804 C 0.20382 -0.0118 0.2191 -0.0074 0.22587 -0.00139 C 0.23351 0.00532 0.22674 0.00277 0.23663 0.00555 C 0.23854 0.00671 0.23976 0.00786 0.24184 0.00879 C 0.2434 0.00948 0.24583 0.00971 0.24722 0.01041 C 0.26719 0.02197 0.24167 0.01018 0.25799 0.01735 C 0.25972 0.02475 0.25972 0.02221 0.25972 0.02544 E">
                                      <p:cBhvr>
                                        <p:cTn id="261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2109 C 0.00226 -0.02758 0.00434 -0.02827 0.00885 -0.03244 C 0.01042 -0.03823 0.0125 -0.04102 0.0158 -0.04519 C 0.0184 -0.0519 0.02309 -0.05654 0.0283 -0.06048 C 0.03542 -0.07253 0.04288 -0.07924 0.05347 -0.08573 C 0.05868 -0.08921 0.06233 -0.09407 0.06806 -0.09709 C 0.07587 -0.10102 0.08437 -0.10265 0.09236 -0.10566 C 0.10191 -0.10937 0.11094 -0.11423 0.12066 -0.11724 C 0.13177 -0.12419 0.14392 -0.12952 0.15625 -0.13254 C 0.16649 -0.13902 0.17014 -0.13879 0.18368 -0.13972 C 0.19462 -0.14273 0.20608 -0.15177 0.21788 -0.15223 C 0.23316 -0.15316 0.24826 -0.15339 0.26337 -0.15362 C 0.29236 -0.15339 0.32135 -0.15362 0.35035 -0.15223 C 0.35486 -0.15223 0.37014 -0.14621 0.37535 -0.14389 C 0.37917 -0.14227 0.38663 -0.13972 0.38663 -0.13949 C 0.39306 -0.13439 0.40017 -0.13624 0.40729 -0.13393 C 0.4092 -0.13254 0.41128 -0.13138 0.41302 -0.12975 C 0.41441 -0.12836 0.4151 -0.12651 0.41649 -0.12558 C 0.42066 -0.12188 0.4276 -0.12095 0.43246 -0.11863 C 0.4408 -0.114 0.45017 -0.10543 0.45764 -0.09871 C 0.46024 -0.09616 0.46337 -0.09361 0.4658 -0.09013 C 0.46875 -0.08527 0.46962 -0.07901 0.47361 -0.07484 C 0.47552 -0.07229 0.48056 -0.06905 0.48056 -0.06882 C 0.48368 -0.06303 0.48715 -0.05747 0.49288 -0.05469 C 0.49531 -0.05214 0.49757 -0.05051 0.49983 -0.04773 C 0.50764 -0.03823 0.49583 -0.04843 0.50556 -0.04078 C 0.51042 -0.02874 0.51094 -0.02665 0.51927 -0.01808 C 0.52083 -0.01228 0.52656 -0.0058 0.53073 -0.00255 C 0.53628 0.00718 0.54184 0.01621 0.54757 0.02595 C 0.55 0.03336 0.55417 0.04031 0.55781 0.0468 C 0.56024 0.05074 0.56493 0.05815 0.56493 0.05838 C 0.56771 0.07089 0.57587 0.07738 0.57969 0.0892 C 0.58316 0.09939 0.58802 0.11051 0.5934 0.11886 C 0.59531 0.12627 0.59983 0.13044 0.6026 0.13739 C 0.60642 0.14759 0.61163 0.15778 0.61615 0.16705 C 0.61927 0.17284 0.61892 0.17608 0.62326 0.18095 C 0.62865 0.19531 0.63767 0.20898 0.64462 0.22219 C 0.64774 0.23679 0.64306 0.21779 0.64948 0.23354 C 0.65121 0.23772 0.65069 0.24304 0.65174 0.24768 C 0.6526 0.25139 0.65417 0.25509 0.65503 0.2588 C 0.65694 0.31348 0.65764 0.33063 0.65764 0.39898 E">
                                      <p:cBhvr>
                                        <p:cTn id="266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900000" y="3933720"/>
            <a:ext cx="2592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2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844640"/>
            <a:ext cx="1235160" cy="97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231-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1989000"/>
            <a:ext cx="1101600" cy="91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1"/>
          <p:cNvPicPr/>
          <p:nvPr/>
        </p:nvPicPr>
        <p:blipFill>
          <a:blip r:embed="rId6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22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2219400"/>
            <a:ext cx="1224000" cy="981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3"/>
          <p:cNvPicPr/>
          <p:nvPr/>
        </p:nvPicPr>
        <p:blipFill>
          <a:blip r:embed="rId9"/>
          <a:stretch/>
        </p:blipFill>
        <p:spPr>
          <a:xfrm rot="19976400">
            <a:off x="6066000" y="5370120"/>
            <a:ext cx="863280" cy="72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8h30"/>
          <p:cNvPicPr/>
          <p:nvPr/>
        </p:nvPicPr>
        <p:blipFill>
          <a:blip r:embed="rId10"/>
          <a:stretch/>
        </p:blipFill>
        <p:spPr>
          <a:xfrm>
            <a:off x="529272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39 -0.05144 C 0.10642 -0.05862 0.11215 -0.0607 0.11927 -0.06117 C 0.12309 -0.06117 0.12882 -0.06186 0.12899 -0.06163 C 0.13593 -0.06719 0.12656 -0.0614 0.13507 -0.06279 C 0.13663 -0.06302 0.1368 -0.06418 0.13854 -0.06603 C 0.14253 -0.06719 0.14288 -0.0658 0.14809 -0.06487 C 0.1533 -0.06626 0.15798 -0.0607 0.16406 -0.06001 C 0.16927 -0.05862 0.17708 -0.05839 0.18316 -0.05537 C 0.18941 -0.05398 0.19618 -0.05259 0.20191 -0.05352 C 0.20521 -0.05514 0.20694 -0.05514 0.21076 -0.05445 C 0.21597 -0.05514 0.22014 -0.05398 0.22604 -0.05259 C 0.23472 -0.05213 0.22222 -0.05398 0.23333 -0.05074 C 0.23715 -0.0519 0.23906 -0.05051 0.24323 -0.04958 C 0.25416 -0.0468 0.25642 -0.04564 0.26753 -0.03846 C 0.275 -0.03568 0.28246 -0.02942 0.29045 -0.0234 C 0.29843 -0.01946 0.30347 -0.01575 0.31093 -0.01066 C 0.31614 -0.00741 0.32014 -0.00718 0.32413 -0.00255 C 0.33021 -1.44578000000001E-006 0.33698 0.00255 0.34253 0.00487 C 0.34566 0.00742 0.35156 0.0139 0.35139 0.0146 C 0.3585 0.01715 0.35295 0.01274 0.35989 0.01854 C 0.36458 0.02248 0.36979 0.02456 0.37534 0.02896 C 0.38073 0.03174 0.38472 0.03638 0.38993 0.04008 C 0.39201 0.04194 0.39566 0.04287 0.39791 0.04472 C 0.40208 0.04843 0.41024 0.05677 0.41007 0.057 C 0.45625 0.11515 0.44323 0.09291 0.45868 0.12164 C 0.46111 0.12813 0.46475 0.13508 0.46805 0.14157 C 0.46979 0.15037 0.47274 0.1564 0.47691 0.16497 C 0.47847 0.17169 0.48142 0.17516 0.48385 0.18142 C 0.48593 0.19185 0.48906 0.20552 0.49427 0.21594 C 0.49635 0.21988 0.49774 0.22405 0.4993 0.22799 C 0.49982 0.22938 0.50086 0.231 0.50173 0.23517 C 0.50746 0.25023 0.50173 0.24004 0.50781 0.25 C 0.50955 0.25742 0.51111 0.2646 0.51284 0.27155 C 0.51302 0.2741 0.51423 0.28059 0.51406 0.28059 C 0.51389 0.28476 0.51198 0.28962 0.51093 0.29449 C 0.51041 0.29541 0.51146 0.2975 0.51215 0.29889 C 0.51146 0.30538 0.50972 0.30908 0.51093 0.31603 C 0.50833 0.32391 0.51093 0.31464 0.51041 0.32391 C 0.50955 0.32831 0.50833 0.33156 0.5085 0.33666 C 0.50816 0.33897 0.50885 0.34198 0.50833 0.34337 C 0.50538 0.35148 0.50052 0.35658 0.50052 0.36608 C 0.49826 0.37095 0.49479 0.37628 0.49444 0.38299 C 0.49288 0.38925 0.49114 0.39759 0.4875 0.40338 E">
                                      <p:cBhvr>
                                        <p:cTn id="2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5133E-006 C 0.00226 -0.00301 0.00434 -0.00417 0.0092 -0.00694 C 0.01059 -0.00972 0.01285 -0.01157 0.01632 -0.01388 C 0.01858 -0.01759 0.02379 -0.02129 0.02952 -0.02406 C 0.03681 -0.031 0.04497 -0.03609 0.05625 -0.04187 C 0.06198 -0.04488 0.06615 -0.04812 0.07257 -0.05159 C 0.08073 -0.05506 0.09063 -0.05899 0.09913 -0.06269 C 0.10973 -0.06778 0.11979 -0.07264 0.13073 -0.0775 C 0.14288 -0.08351 0.15643 -0.08976 0.16962 -0.09508 C 0.18125 -0.10132 0.18525 -0.10225 0.20087 -0.10757 C 0.21302 -0.11266 0.22552 -0.1196 0.23872 -0.12446 C 0.25573 -0.12954 0.27292 -0.13486 0.29011 -0.14042 C 0.32309 -0.15059 0.35591 -0.16077 0.38872 -0.17095 C 0.39375 -0.17234 0.41163 -0.17558 0.41754 -0.17673 C 0.42223 -0.1772 0.43073 -0.17905 0.43091 -0.17858 C 0.4382 -0.17928 0.44636 -0.18252 0.45452 -0.18367 C 0.45677 -0.18437 0.45903 -0.18437 0.46129 -0.18483 C 0.46285 -0.1839 0.46389 -0.1839 0.46545 -0.1846 C 0.47066 -0.1846 0.47848 -0.18645 0.4842 -0.18737 C 0.49393 -0.1883 0.50469 -0.18876 0.51389 -0.18923 C 0.51684 -0.18946 0.52084 -0.18946 0.52361 -0.18923 C 0.52726 -0.1883 0.52865 -0.18622 0.53334 -0.18622 C 0.53594 -0.18576 0.5415 -0.18691 0.54184 -0.18645 C 0.54601 -0.18576 0.55 -0.18506 0.55677 -0.18576 C 0.55955 -0.18552 0.56216 -0.18552 0.56511 -0.18529 C 0.57431 -0.1846 0.56025 -0.1846 0.57188 -0.18529 C 0.57813 -0.18275 0.57882 -0.18205 0.58854 -0.18205 C 0.5908 -0.17997 0.59809 -0.17951 0.60278 -0.17974 C 0.60973 -0.17905 0.61667 -0.17743 0.62379 -0.17627 C 0.62674 -0.17396 0.63212 -0.17326 0.63646 -0.17164 C 0.63941 -0.17141 0.64532 -0.17026 0.64549 -0.17003 C 0.64931 -0.16632 0.65903 -0.16725 0.66407 -0.16447 C 0.66875 -0.16216 0.67466 -0.15985 0.68177 -0.15869 C 0.68386 -0.15638 0.68959 -0.15684 0.69306 -0.15499 C 0.69792 -0.15291 0.70452 -0.15106 0.71025 -0.14921 C 0.71441 -0.14828 0.71372 -0.14712 0.71927 -0.14689 C 0.72639 -0.14296 0.73733 -0.1418 0.74618 -0.13926 C 0.75052 -0.13556 0.7441 -0.14042 0.75243 -0.13741 C 0.75469 -0.13648 0.75434 -0.1344 0.75538 -0.13278 C 0.75712 -0.13186 0.75903 -0.13093 0.76025 -0.12954 C 0.7658 -0.11081 0.76754 -0.10502 0.7724 -0.08004 E">
                                      <p:cBhvr>
                                        <p:cTn id="27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37 -0.03054 C 0.04931 -0.0317 0.05209 -0.03609 0.05816 -0.03863 C 0.06059 -0.03956 0.06563 -0.04049 0.06563 -0.04025 C 0.07518 -0.04881 0.0908 -0.05228 0.10382 -0.05506 C 0.10973 -0.05622 0.11511 -0.05968 0.12101 -0.06107 C 0.14514 -0.06732 0.16424 -0.07033 0.18976 -0.07148 C 0.1974 -0.07241 0.20382 -0.0731 0.21094 -0.07541 C 0.25712 -0.07518 0.30348 -0.07518 0.34966 -0.07449 C 0.35834 -0.07426 0.37848 -0.06686 0.38785 -0.06408 C 0.38907 -0.06385 0.39028 -0.06362 0.39167 -0.06339 C 0.39323 -0.06269 0.39497 -0.06177 0.39653 -0.06107 C 0.40018 -0.05992 0.40764 -0.05807 0.40764 -0.05783 C 0.41546 -0.05367 0.42344 -0.04951 0.43108 -0.04488 C 0.43386 -0.03956 0.43803 -0.03748 0.44202 -0.03239 C 0.44271 -0.03123 0.44445 -0.02938 0.44445 -0.02915 C 0.44549 -0.02568 0.44705 -0.0229 0.44705 -0.01897 E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900000" y="4149720"/>
            <a:ext cx="24480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231+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682640"/>
            <a:ext cx="1296720" cy="1079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2349360"/>
            <a:ext cx="1105200" cy="871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229+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349360"/>
            <a:ext cx="1308240" cy="1032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225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51280" y="1547640"/>
            <a:ext cx="1085760" cy="971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1"/>
          <p:cNvPicPr/>
          <p:nvPr/>
        </p:nvPicPr>
        <p:blipFill>
          <a:blip r:embed="rId10"/>
          <a:stretch/>
        </p:blipFill>
        <p:spPr>
          <a:xfrm>
            <a:off x="7524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3"/>
          <p:cNvPicPr/>
          <p:nvPr/>
        </p:nvPicPr>
        <p:blipFill>
          <a:blip r:embed="rId11"/>
          <a:stretch/>
        </p:blipFill>
        <p:spPr>
          <a:xfrm rot="19360800">
            <a:off x="6877080" y="544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1"/>
          <p:cNvPicPr/>
          <p:nvPr/>
        </p:nvPicPr>
        <p:blipFill>
          <a:blip r:embed="rId12"/>
          <a:stretch/>
        </p:blipFill>
        <p:spPr>
          <a:xfrm rot="20490000">
            <a:off x="7236000" y="5444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8h30"/>
          <p:cNvPicPr/>
          <p:nvPr/>
        </p:nvPicPr>
        <p:blipFill>
          <a:blip r:embed="rId13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278 C 0.22153 -0.04633 0.44341 -0.09522 0.55226 -0.02131 C 0.66146 0.05306 0.63664 0.37072 0.65348 0.44926 E">
                                      <p:cBhvr>
                                        <p:cTn id="28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9.32223E-007 C 0.00486 -0.02198 0.01493 -0.02984 0.0283 -0.04233 C 0.03073 -0.05459 0.04202 -0.06176 0.0507 -0.0657 C 0.06007 -0.07449 0.0474 -0.062 0.05764 -0.07518 C 0.06493 -0.08467 0.07292 -0.08952 0.08247 -0.0923 C 0.08785 -0.096 0.09306 -0.09785 0.09896 -0.10016 C 0.10642 -0.1071 0.09757 -0.09993 0.11059 -0.10502 C 0.11198 -0.10548 0.11285 -0.10734 0.11424 -0.10803 C 0.11632 -0.10919 0.12309 -0.11057 0.12483 -0.11127 C 0.13038 -0.11312 0.13281 -0.11613 0.13889 -0.11751 C 0.14722 -0.12145 0.15608 -0.1263 0.16476 -0.12839 C 0.17361 -0.13671 0.1908 -0.13718 0.20243 -0.14111 C 0.20365 -0.14203 0.20452 -0.14412 0.2059 -0.14412 C 0.26702 -0.14412 0.3283 -0.14319 0.38941 -0.14111 C 0.40087 -0.14065 0.41441 -0.127 0.42587 -0.12376 C 0.44271 -0.11266 0.41806 -0.12815 0.43646 -0.11913 C 0.43785 -0.11844 0.43872 -0.11659 0.44011 -0.11589 C 0.44549 -0.11289 0.45122 -0.1108 0.4566 -0.10803 C 0.46198 -0.10525 0.4684 -0.096 0.47413 -0.0923 C 0.48264 -0.08675 0.48976 -0.08073 0.49774 -0.07356 C 0.50052 -0.07102 0.50417 -0.07125 0.50712 -0.06894 C 0.51545 -0.06269 0.52153 -0.05089 0.52952 -0.04372 C 0.53038 -0.04025 0.53177 -0.03655 0.53177 -0.03285 E">
                                      <p:cBhvr>
                                        <p:cTn id="29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3 -0.01041 C 0.0441 -0.01434 0.04462 -0.01827 0.04635 -0.02197 C 0.04757 -0.02914 0.04913 -0.03539 0.05694 -0.03955 C 0.05781 -0.04071 0.05903 -0.04163 0.05972 -0.04256 C 0.06024 -0.04348 0.06024 -0.04487 0.06094 -0.04557 C 0.06423 -0.04927 0.07361 -0.05459 0.07847 -0.05713 C 0.08194 -0.06153 0.08507 -0.06176 0.09028 -0.0643 C 0.09653 -0.06731 0.10191 -0.07171 0.10781 -0.07471 C 0.11163 -0.07679 0.11805 -0.07726 0.12222 -0.07888 C 0.13107 -0.08558 0.14375 -0.09021 0.1559 -0.09229 C 0.1651 -0.09761 0.17743 -0.09877 0.18767 -0.1027 C 0.20087 -0.10779 0.21493 -0.11172 0.22899 -0.11519 C 0.23958 -0.12005 0.24896 -0.1226 0.26111 -0.12445 C 0.26892 -0.12699 0.27708 -0.12861 0.28507 -0.13069 C 0.30104 -0.13486 0.3151 -0.14041 0.33194 -0.14295 C 0.37222 -0.15914 0.4125 -0.15799 0.45746 -0.15868 C 0.50087 -0.15845 0.54462 -0.15822 0.58802 -0.15753 C 0.59583 -0.15753 0.59219 -0.15591 0.59896 -0.15244 C 0.60382 -0.14989 0.61475 -0.14619 0.61475 -0.14596 C 0.61632 -0.14527 0.61719 -0.14388 0.61875 -0.14295 C 0.61996 -0.14249 0.6217 -0.14295 0.62309 -0.14203 C 0.62413 -0.14133 0.62448 -0.13994 0.62552 -0.13902 C 0.62639 -0.13786 0.62847 -0.13578 0.62847 -0.13555 E">
                                      <p:cBhvr>
                                        <p:cTn id="29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99861E-006 C 0.03767 -0.03007 0.07552 -0.06014 0.0941 -0.07379 C 0.11267 -0.08744 0.09479 -0.08004 0.11181 -0.08165 C 0.12882 -0.08327 0.16684 -0.10294 0.19653 -0.08304 C 0.22622 -0.06315 0.25833 -0.01295 0.29063 0.03748 E">
                                      <p:cBhvr>
                                        <p:cTn id="30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042920" y="4076640"/>
            <a:ext cx="2305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-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229+12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2133720"/>
            <a:ext cx="1320840" cy="104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23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557360"/>
            <a:ext cx="1306440" cy="1089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2492280"/>
            <a:ext cx="1177920" cy="92880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7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231-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87280" y="1700280"/>
            <a:ext cx="1368720" cy="1141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1"/>
          <p:cNvPicPr/>
          <p:nvPr/>
        </p:nvPicPr>
        <p:blipFill>
          <a:blip r:embed="rId10"/>
          <a:stretch/>
        </p:blipFill>
        <p:spPr>
          <a:xfrm>
            <a:off x="7524720" y="522936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3"/>
          <p:cNvPicPr/>
          <p:nvPr/>
        </p:nvPicPr>
        <p:blipFill>
          <a:blip r:embed="rId11"/>
          <a:stretch/>
        </p:blipFill>
        <p:spPr>
          <a:xfrm>
            <a:off x="6877080" y="537228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1"/>
          <p:cNvPicPr/>
          <p:nvPr/>
        </p:nvPicPr>
        <p:blipFill>
          <a:blip r:embed="rId12"/>
          <a:stretch/>
        </p:blipFill>
        <p:spPr>
          <a:xfrm>
            <a:off x="7237440" y="530064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3"/>
          <p:cNvPicPr/>
          <p:nvPr/>
        </p:nvPicPr>
        <p:blipFill>
          <a:blip r:embed="rId13"/>
          <a:stretch/>
        </p:blipFill>
        <p:spPr>
          <a:xfrm>
            <a:off x="695016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8h30"/>
          <p:cNvPicPr/>
          <p:nvPr/>
        </p:nvPicPr>
        <p:blipFill>
          <a:blip r:embed="rId14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41476E-007 C 0.00174 -0.01342 0.0066 -0.02429 0.01285 -0.03447 C 0.01563 -0.03909 0.02101 -0.04858 0.02101 -0.04858 C 0.02465 -0.06315 0.01893 -0.04372 0.02587 -0.05644 C 0.02708 -0.05876 0.02708 -0.06176 0.02813 -0.06431 C 0.03073 -0.07079 0.03212 -0.07102 0.03646 -0.07518 C 0.04097 -0.0849 0.04844 -0.08628 0.05521 -0.09253 C 0.06146 -0.09808 0.0691 -0.10942 0.07639 -0.11289 C 0.08264 -0.12121 0.08976 -0.12815 0.09514 -0.13787 C 0.0967 -0.14411 0.09827 -0.14689 0.10226 -0.15059 C 0.1066 -0.15892 0.11198 -0.16123 0.11754 -0.16771 C 0.12778 -0.17974 0.1132 -0.16516 0.12587 -0.17719 C 0.12917 -0.1839 0.13143 -0.18552 0.13646 -0.18968 C 0.14931 -0.20056 0.15052 -0.20287 0.1658 -0.20842 C 0.17483 -0.21675 0.18681 -0.22161 0.19757 -0.22415 C 0.20729 -0.23086 0.21406 -0.23433 0.22465 -0.23826 C 0.23108 -0.24081 0.23559 -0.2459 0.24219 -0.24775 C 0.24861 -0.25191 0.25799 -0.25862 0.26458 -0.26186 C 0.2691 -0.26417 0.27882 -0.26648 0.27882 -0.26648 C 0.28681 -0.27203 0.28004 -0.2681 0.28941 -0.27111 C 0.2967 -0.27342 0.30313 -0.27851 0.31059 -0.28059 C 0.31736 -0.28453 0.32431 -0.28684 0.3316 -0.28846 C 0.33472 -0.29123 0.33837 -0.29378 0.34219 -0.2947 C 0.34844 -0.29609 0.36111 -0.29794 0.36111 -0.29794 C 0.44254 -0.29632 0.41615 -0.30465 0.44931 -0.29309 C 0.45573 -0.28753 0.46302 -0.28568 0.47049 -0.28383 C 0.47813 -0.27597 0.4849 -0.2725 0.4941 -0.26972 C 0.49931 -0.26533 0.50417 -0.26417 0.50938 -0.26024 C 0.52031 -0.25214 0.53108 -0.24127 0.5434 -0.23826 C 0.5474 -0.23572 0.55104 -0.23225 0.55521 -0.2304 C 0.55764 -0.22947 0.56007 -0.22878 0.56233 -0.22739 C 0.57865 -0.21675 0.56528 -0.22138 0.57761 -0.21791 C 0.58403 -0.21235 0.59011 -0.20634 0.59636 -0.20079 C 0.59879 -0.19871 0.60347 -0.19431 0.60347 -0.19431 C 0.6059 -0.1876 0.60764 -0.18089 0.60938 -0.17395 C 0.6099 -0.17187 0.61181 -0.17118 0.61285 -0.16933 C 0.61667 -0.16239 0.61788 -0.15545 0.62344 -0.15059 C 0.62604 -0.13764 0.62257 -0.15059 0.62813 -0.13949 C 0.63038 -0.13486 0.63177 -0.12862 0.63403 -0.12376 C 0.63542 -0.12052 0.63785 -0.11798 0.63872 -0.11451 C 0.64167 -0.10294 0.64045 -0.09022 0.64583 -0.08004 C 0.64722 -0.07079 0.64774 -0.06269 0.65174 -0.05482 C 0.65347 -0.04418 0.65643 -0.03308 0.65643 -0.02198 E">
                                      <p:cBhvr>
                                        <p:cTn id="30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55 C 0.00469 -0.01157 0.01077 -0.01388 0.0165 -0.02105 C 0.02361 -0.0303 0.03143 -0.04256 0.0408 -0.04603 C 0.04601 -0.05344 0.04775 -0.05135 0.05296 -0.05668 C 0.06129 -0.06547 0.06841 -0.07426 0.0783 -0.08004 C 0.08941 -0.09484 0.10556 -0.10479 0.11806 -0.11728 C 0.12414 -0.12306 0.12535 -0.12746 0.13247 -0.12954 C 0.14115 -0.14088 0.15139 -0.14273 0.16233 -0.14805 C 0.17622 -0.15499 0.18993 -0.16262 0.20434 -0.16817 C 0.21025 -0.17372 0.21927 -0.1765 0.22639 -0.17904 C 0.23195 -0.18113 0.23716 -0.18598 0.24289 -0.18691 C 0.2474 -0.1876 0.25174 -0.1876 0.25608 -0.1883 C 0.25868 -0.18876 0.26146 -0.18945 0.26407 -0.18968 C 0.2974 -0.18945 0.33091 -0.18968 0.36441 -0.1883 C 0.36945 -0.18807 0.37379 -0.18298 0.37882 -0.18043 C 0.38889 -0.17534 0.39931 -0.16956 0.40973 -0.16655 C 0.41407 -0.16262 0.41841 -0.16262 0.42309 -0.16031 C 0.42952 -0.1573 0.43594 -0.15152 0.44184 -0.14643 C 0.44636 -0.13671 0.4566 -0.1337 0.46389 -0.12792 C 0.47431 -0.11983 0.46111 -0.12653 0.47483 -0.11867 C 0.48056 -0.1152 0.48629 -0.11265 0.4915 -0.1078 C 0.49827 -0.10178 0.50452 -0.09531 0.51146 -0.08929 C 0.51997 -0.07333 0.52587 -0.07102 0.53681 -0.06153 C 0.53993 -0.05436 0.54671 -0.05066 0.55226 -0.04765 C 0.55556 -0.04025 0.56563 -0.03424 0.56563 -0.02429 E">
                                      <p:cBhvr>
                                        <p:cTn id="31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-0.06326 C 0.08524 -0.07438 0.07274 -0.0621 0.09028 -0.10519 C 0.09809 -0.12234 0.1092 -0.13392 0.11997 -0.14203 C 0.12795 -0.14829 0.13576 -0.15802 0.14288 -0.16011 C 0.15174 -0.16242 0.16667 -0.15872 0.16632 -0.15756 C 0.20868 -0.13485 0.2507 -0.11284 0.29219 -0.08759 C 0.32448 -0.06696 0.32431 -0.01089 0.3474 0.01899 C 0.34792 0.04726 0.34826 0.07437 0.35226 0.10125 C 0.34688 0.14504 0.36059 0.18605 0.35816 0.2303 C 0.35642 0.28035 0.35156 0.25834 0.36059 0.28429 C 0.36094 0.29332 0.36024 0.30143 0.36181 0.30908 C 0.36267 0.3151 0.36563 0.31881 0.36701 0.32414 C 0.37344 0.41566 0.35903 0.31811 0.3684 0.37836 C 0.35695 0.42794 0.36129 0.41102 0.35486 0.43257 E">
                                      <p:cBhvr>
                                        <p:cTn id="319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0981E-006 C 0.00156 -0.00255 0.00295 -0.00347 0.00711 -0.00509 C 0.01163 -0.01134 0.02413 -0.01758 0.0368 -0.01966 C 0.04079 -0.02175 0.04409 -0.02221 0.04913 -0.02336 C 0.05434 -0.02614 0.06406 -0.0273 0.07135 -0.02845 C 0.08645 -0.03077 0.10104 -0.03308 0.11579 -0.03562 C 0.17517 -0.03539 0.23489 -0.03516 0.29427 -0.03447 C 0.30868 -0.03424 0.32413 -0.03146 0.33871 -0.03077 C 0.3559 -0.02868 0.37291 -0.02406 0.39045 -0.0229 C 0.40295 -0.01966 0.41666 -0.01874 0.42986 -0.01596 C 0.44166 -0.01365 0.45191 -0.0111 0.46423 -0.00925 C 0.4743 -0.00532 0.48541 -0.00278 0.49757 -0.0007 C 0.50138 0.00092 0.50434 0.00277 0.5085 0.00439 C 0.51684 0.00717 0.52638 0.00925 0.53454 0.01226 C 0.53645 0.01295 0.53767 0.01388 0.53958 0.0148 C 0.54357 0.01642 0.55191 0.01966 0.55191 0.01989 C 0.55659 0.02521 0.56145 0.02521 0.56788 0.03007 C 0.58107 0.03979 0.59288 0.0502 0.60607 0.06014 C 0.61215 0.06477 0.62152 0.07032 0.62569 0.07495 C 0.63593 0.08628 0.63906 0.099 0.65052 0.11011 C 0.65173 0.11358 0.65243 0.11751 0.65659 0.12052 C 0.65902 0.12561 0.65607 0.12005 0.66024 0.12607 C 0.66302 0.13 0.66267 0.13347 0.6677 0.13694 C 0.66979 0.14041 0.66579 0.15059 0.67257 0.14388 C 0.67152 0.1374 0.67326 0.13486 0.66388 0.13093 C 0.65972 0.12931 0.65937 0.12746 0.65416 0.12653 C 0.65243 0.12537 0.65 0.12422 0.64913 0.12283 C 0.64878 0.12214 0.64791 0.12098 0.64791 0.12121 E">
                                      <p:cBhvr>
                                        <p:cTn id="32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55640" y="4149720"/>
            <a:ext cx="259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225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4240" y="1600200"/>
            <a:ext cx="1157040" cy="103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2291+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11280" y="2276640"/>
            <a:ext cx="1033560" cy="814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229+12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2349360"/>
            <a:ext cx="934920" cy="738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1"/>
          <p:cNvPicPr/>
          <p:nvPr/>
        </p:nvPicPr>
        <p:blipFill>
          <a:blip r:embed="rId8"/>
          <a:stretch/>
        </p:blipFill>
        <p:spPr>
          <a:xfrm>
            <a:off x="7308720" y="53020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3"/>
          <p:cNvPicPr/>
          <p:nvPr/>
        </p:nvPicPr>
        <p:blipFill>
          <a:blip r:embed="rId9"/>
          <a:stretch/>
        </p:blipFill>
        <p:spPr>
          <a:xfrm>
            <a:off x="6877080" y="54468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1"/>
          <p:cNvPicPr/>
          <p:nvPr/>
        </p:nvPicPr>
        <p:blipFill>
          <a:blip r:embed="rId10"/>
          <a:stretch/>
        </p:blipFill>
        <p:spPr>
          <a:xfrm>
            <a:off x="651672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3"/>
          <p:cNvPicPr/>
          <p:nvPr/>
        </p:nvPicPr>
        <p:blipFill>
          <a:blip r:embed="rId11"/>
          <a:stretch/>
        </p:blipFill>
        <p:spPr>
          <a:xfrm>
            <a:off x="7667640" y="5300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1" descr="8h30"/>
          <p:cNvPicPr/>
          <p:nvPr/>
        </p:nvPicPr>
        <p:blipFill>
          <a:blip r:embed="rId12"/>
          <a:stretch/>
        </p:blipFill>
        <p:spPr>
          <a:xfrm>
            <a:off x="5969160" y="530064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239 C 0.00608 -0.03887 0.0158 -0.04604 0.02396 -0.04881 C 0.0283 -0.05621 0.04705 -0.06315 0.05504 -0.06524 C 0.05816 -0.06686 0.06164 -0.06778 0.06441 -0.0694 C 0.07309 -0.07472 0.08178 -0.08143 0.0915 -0.0849 C 0.10244 -0.0886 0.11407 -0.09068 0.125 -0.09461 C 0.13646 -0.09901 0.14757 -0.10364 0.15938 -0.10664 C 0.1948 -0.10595 0.23021 -0.10618 0.26563 -0.10456 C 0.27136 -0.1041 0.27587 -0.09947 0.28125 -0.09785 C 0.29306 -0.09438 0.30487 -0.09045 0.31667 -0.08698 C 0.32518 -0.08212 0.33264 -0.07935 0.34167 -0.07611 C 0.34757 -0.07403 0.35226 -0.07079 0.35834 -0.0694 C 0.36702 -0.06524 0.37518 -0.05968 0.38334 -0.05413 C 0.3941 -0.04696 0.3849 -0.05506 0.39792 -0.04766 C 0.42657 -0.03146 0.40122 -0.04257 0.42084 -0.03447 C 0.43195 -0.02475 0.44462 -0.01735 0.45625 -0.00833 C 0.46546 -0.00139 0.47032 0.01179 0.47726 0.02105 C 0.48004 0.02868 0.48212 0.03655 0.48438 0.04418 C 0.48681 0.05204 0.48664 0.04487 0.48664 0.04857 E">
                                      <p:cBhvr>
                                        <p:cTn id="33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47 C 0.02153 -0.01019 0.03021 -0.01066 0.05694 -0.01181 C 0.06406 -0.01367 0.07222 -0.01367 0.07882 -0.01737 C 0.0868 -0.02155 0.09305 -0.02572 0.10191 -0.0285 C 0.11545 -0.03753 0.13472 -0.03846 0.14982 -0.03939 C 0.15677 -0.04147 0.16319 -0.04518 0.17014 -0.0475 C 0.17673 -0.05028 0.18611 -0.05143 0.19201 -0.05468 C 0.20555 -0.0614 0.21892 -0.06603 0.2342 -0.06812 C 0.24357 -0.07136 0.2533 -0.06974 0.26284 -0.07229 C 0.30625 -0.07159 0.34045 -0.0746 0.38003 -0.06534 C 0.39045 -0.06302 0.3967 -0.05468 0.40607 -0.0519 C 0.41267 -0.04726 0.41232 -0.04518 0.421 -0.04356 C 0.42864 -0.03939 0.43437 -0.03452 0.44288 -0.03267 C 0.44948 -0.0285 0.4559 -0.02131 0.46302 -0.01876 C 0.47118 -0.00811 0.48507 -0.00278 0.49583 0.0044 C 0.50868 0.01321 0.521 0.02595 0.53559 0.03082 C 0.54705 0.03916 0.55382 0.05352 0.56128 0.06511 C 0.56319 0.07252 0.5684 0.08133 0.57343 0.08735 C 0.57361 0.08828 0.57587 0.09801 0.57639 0.09963 C 0.57778 0.10241 0.58003 0.10496 0.58194 0.10774 C 0.58281 0.10913 0.58472 0.11191 0.58472 0.11214 C 0.58611 0.11933 0.5934 0.13068 0.59809 0.13693 C 0.60191 0.15176 0.60416 0.16543 0.61319 0.17818 C 0.6151 0.18397 0.61649 0.1893 0.61996 0.19463 C 0.6217 0.20529 0.62604 0.21849 0.63212 0.22776 C 0.6335 0.23587 0.63316 0.23726 0.63489 0.24398 C 0.63576 0.24699 0.63767 0.25232 0.63767 0.25255 C 0.63975 0.27503 0.64028 0.29773 0.64323 0.31997 C 0.64218 0.39481 0.66979 0.41659 0.6309 0.44393 C 0.62986 0.44532 0.62899 0.44625 0.62795 0.44787 C 0.62413 0.45413 0.62448 0.45274 0.62951 0.44926 C 0.62986 0.44787 0.62986 0.44602 0.6309 0.44532 C 0.63177 0.44416 0.63489 0.44393 0.63489 0.44416 E">
                                      <p:cBhvr>
                                        <p:cTn id="33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4853E-007 C 0.00261 -0.00347 0.0059 -0.00578 0.00816 -0.00948 C 0.00903 -0.01064 0.00868 -0.01272 0.00938 -0.01411 C 0.01042 -0.01665 0.01667 -0.0266 0.01771 -0.02822 C 0.02379 -0.03724 0.03143 -0.04348 0.03768 -0.05181 C 0.04375 -0.05991 0.04514 -0.06222 0.05295 -0.06731 C 0.0566 -0.0724 0.06024 -0.07448 0.06476 -0.07841 C 0.07431 -0.08697 0.08629 -0.09946 0.09757 -0.10201 C 0.10365 -0.10594 0.10851 -0.10825 0.11528 -0.10964 C 0.12153 -0.11473 0.12691 -0.11866 0.13403 -0.12075 C 0.14844 -0.13023 0.16146 -0.13393 0.17639 -0.1411 C 0.18438 -0.14503 0.19288 -0.14943 0.20122 -0.15197 C 0.20781 -0.1566 0.21528 -0.15984 0.2224 -0.16308 C 0.22656 -0.16493 0.23524 -0.1677 0.23524 -0.1677 C 0.24271 -0.17418 0.23507 -0.16863 0.24827 -0.17233 C 0.25608 -0.17464 0.26372 -0.17696 0.2717 -0.17881 C 0.3882 -0.17765 0.37899 -0.18413 0.44358 -0.16932 C 0.44514 -0.16817 0.44653 -0.16678 0.44827 -0.16608 C 0.45174 -0.1647 0.45886 -0.16308 0.45886 -0.16308 C 0.46424 -0.15799 0.47222 -0.15544 0.47882 -0.15359 C 0.48038 -0.15267 0.48195 -0.15128 0.48351 -0.15059 C 0.48663 -0.1492 0.49288 -0.14735 0.49288 -0.14735 C 0.50365 -0.13833 0.51441 -0.12907 0.52465 -0.11913 C 0.53229 -0.11172 0.53438 -0.10663 0.54236 -0.10039 C 0.54722 -0.09183 0.56111 -0.08003 0.56111 -0.08003 C 0.56459 -0.07286 0.57031 -0.07101 0.57535 -0.06592 C 0.58004 -0.05574 0.58455 -0.04603 0.58941 -0.03608 C 0.59045 -0.034 0.59184 -0.03215 0.59288 -0.02984 C 0.59462 -0.0259 0.59757 -0.01734 0.59757 -0.01734 C 0.59879 -0.00925 0.60139 -0.00578 0.60347 0.00162 C 0.60729 0.01527 0.60712 0.03146 0.61528 0.04234 C 0.61649 0.05251 0.61962 0.06107 0.6224 0.07056 C 0.625 0.07958 0.62622 0.08837 0.62934 0.09716 C 0.62969 0.10086 0.63004 0.10456 0.63056 0.10826 C 0.6309 0.11081 0.63195 0.11844 0.63177 0.1159 C 0.63038 0.10179 0.62899 0.08767 0.62709 0.07356 C 0.62587 0.06408 0.61962 0.04696 0.61771 0.04072 C 0.61337 0.02707 0.61215 0.0125 0.60938 -0.00162 C 0.60816 -0.07402 0.61424 -0.06083 0.6 -0.09877 E">
                                      <p:cBhvr>
                                        <p:cTn id="34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826920" y="4005360"/>
            <a:ext cx="24498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3+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225+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276640"/>
            <a:ext cx="1014480" cy="906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229+12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76640"/>
            <a:ext cx="960480" cy="757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1844640"/>
            <a:ext cx="900000" cy="70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3"/>
          <p:cNvPicPr/>
          <p:nvPr/>
        </p:nvPicPr>
        <p:blipFill>
          <a:blip r:embed="rId9"/>
          <a:stretch/>
        </p:blipFill>
        <p:spPr>
          <a:xfrm>
            <a:off x="7164360" y="537372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1"/>
          <p:cNvPicPr/>
          <p:nvPr/>
        </p:nvPicPr>
        <p:blipFill>
          <a:blip r:embed="rId10"/>
          <a:stretch/>
        </p:blipFill>
        <p:spPr>
          <a:xfrm>
            <a:off x="6732720" y="501336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3"/>
          <p:cNvPicPr/>
          <p:nvPr/>
        </p:nvPicPr>
        <p:blipFill>
          <a:blip r:embed="rId11"/>
          <a:stretch/>
        </p:blipFill>
        <p:spPr>
          <a:xfrm>
            <a:off x="7308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8h30"/>
          <p:cNvPicPr/>
          <p:nvPr/>
        </p:nvPicPr>
        <p:blipFill>
          <a:blip r:embed="rId12"/>
          <a:stretch/>
        </p:blipFill>
        <p:spPr>
          <a:xfrm>
            <a:off x="6156360" y="5229360"/>
            <a:ext cx="31748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252 C 0.0283 -0.03082 -0.01198 -0.00672 0.01997 -0.0197 C 0.0283 -0.02271 0.03629 -0.02734 0.04392 -0.03198 C 0.06667 -0.04542 0.03802 -0.0285 0.05764 -0.03962 C 0.06042 -0.04125 0.06545 -0.04403 0.06545 -0.04379 C 0.07639 -0.06048 0.09965 -0.07113 0.11684 -0.0811 C 0.14306 -0.09546 0.17083 -0.1096 0.20139 -0.11446 C 0.21875 -0.12002 0.23698 -0.1235 0.25469 -0.12697 C 0.43056 -0.12443 0.2625 -0.12466 0.38594 -0.12929 C 0.4033 -0.12929 0.42639 -0.12651 0.44271 -0.12582 C 0.45417 -0.1235 0.46493 -0.12025 0.47674 -0.11886 C 0.50451 -0.11307 0.53229 -0.10427 0.55868 -0.0943 C 0.56754 -0.08434 0.56146 -0.09013 0.57882 -0.07971 C 0.59688 -0.06928 0.61701 -0.05932 0.63177 -0.04518 C 0.64705 -0.03082 0.66337 -0.00765 0.67604 0.0088 C 0.68299 0.0176 0.69879 0.02988 0.70764 0.03776 C 0.71528 0.04425 0.71649 0.05375 0.72031 0.06232 C 0.7276 0.07831 0.73212 0.09569 0.74028 0.11167 C 0.74514 0.12094 0.7526 0.12998 0.75938 0.13809 C 0.76389 0.14411 0.76597 0.15129 0.76927 0.15732 C 0.77396 0.16543 0.77986 0.17307 0.78455 0.18095 C 0.79115 0.19277 0.79635 0.20597 0.80486 0.21686 C 0.80677 0.22474 0.81059 0.23239 0.81354 0.24026 C 0.81771 0.25069 0.82083 0.26181 0.82483 0.2727 C 0.82448 0.28568 0.82552 0.29865 0.82361 0.31186 C 0.82344 0.31371 0.82101 0.31487 0.81979 0.31626 C 0.81389 0.3246 0.81042 0.33317 0.79965 0.33758 C 0.79427 0.3443 0.79201 0.34314 0.78333 0.34314 E">
                                      <p:cBhvr>
                                        <p:cTn id="34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36 0.0111 C 0.08299 0.00601 0.09514 0.00116 0.1066 -0.00463 C 0.12101 -0.01203 0.13299 -0.02313 0.14775 -0.02961 C 0.15799 -0.03886 0.16737 -0.04164 0.1783 -0.04835 C 0.19792 -0.06061 0.21893 -0.07171 0.23959 -0.07981 C 0.24375 -0.08142 0.2481 -0.08212 0.25244 -0.08281 C 0.26146 -0.0842 0.27952 -0.08605 0.27952 -0.08605 C 0.3283 -0.08489 0.37674 -0.08004 0.42535 -0.08443 C 0.46615 -0.07934 0.50539 -0.06801 0.54653 -0.06569 C 0.57362 -0.0613 0.60018 -0.05552 0.62657 -0.04696 C 0.64636 -0.04048 0.64497 -0.04002 0.66546 -0.02961 C 0.66806 -0.02822 0.67362 -0.02637 0.67362 -0.02637 E">
                                      <p:cBhvr>
                                        <p:cTn id="35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2422E-006 C 0.00382 -0.01319 -2.77778000000277E-007 -0.00324 0.00712 -0.01412 C 0.01181 -0.02129 0.01441 -0.03123 0.01997 -0.03771 C 0.0224 -0.04049 0.0257 -0.04118 0.02813 -0.04396 C 0.04219 -0.05969 0.0665 -0.07264 0.08473 -0.0768 C 0.09063 -0.08097 0.09688 -0.08282 0.10348 -0.08467 C 0.12466 -0.08421 0.14584 -0.08444 0.16702 -0.08305 C 0.17657 -0.08236 0.18542 -0.07449 0.1941 -0.07056 C 0.20174 -0.06709 0.21007 -0.06477 0.21771 -0.06107 C 0.22344 -0.0583 0.22778 -0.05275 0.23299 -0.04858 C 0.25209 -0.03355 0.2717 -0.01967 0.28941 -0.00162 C 0.29601 0.00508 0.30243 0.01249 0.30938 0.01873 C 0.31684 0.02544 0.32552 0.03053 0.33177 0.03909 C 0.34914 0.06268 0.37344 0.08211 0.39289 0.1034 C 0.39844 0.10941 0.40504 0.1145 0.40938 0.12213 C 0.41181 0.1263 0.4165 0.13486 0.4165 0.13486 C 0.41858 0.14295 0.42327 0.14712 0.42709 0.15359 C 0.42882 0.1566 0.42986 0.1603 0.43177 0.16308 C 0.43733 0.17048 0.44566 0.17534 0.45174 0.18181 C 0.45486 0.18898 0.45868 0.19407 0.46233 0.20055 C 0.46719 0.20911 0.4698 0.21975 0.47414 0.22877 C 0.47917 0.23964 0.48039 0.2526 0.48594 0.26324 C 0.48629 0.26578 0.48646 0.26856 0.48698 0.2711 C 0.48768 0.27434 0.48941 0.28059 0.48941 0.28059 C 0.49896 0.2445 0.49167 0.27411 0.48941 0.17557 C 0.48924 0.16817 0.4875 0.15752 0.48594 0.15035 C 0.48455 0.14457 0.48108 0.13324 0.48108 0.13324 C 0.47969 0.12005 0.47639 0.10617 0.4717 0.09414 C 0.46997 0.08466 0.46927 0.0761 0.4658 0.06731 C 0.46389 0.0532 0.4592 0.04048 0.45643 0.0266 C 0.45591 0.02359 0.45348 0.02174 0.45295 0.01873 C 0.45226 0.01457 0.45295 0.0104 0.45295 0.00624 E">
                                      <p:cBhvr>
                                        <p:cTn id="35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971640" y="3933720"/>
            <a:ext cx="2448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>
            <a:hlinkClick r:id="" action="ppaction://hlinkshowjump?jump=nextslide"/>
          </p:cNvPr>
          <p:cNvSpPr/>
          <p:nvPr/>
        </p:nvSpPr>
        <p:spPr>
          <a:xfrm>
            <a:off x="8317080" y="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2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2205000"/>
            <a:ext cx="1082520" cy="868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22t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700280"/>
            <a:ext cx="927000" cy="828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22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2421000"/>
            <a:ext cx="1106280" cy="871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1"/>
          <p:cNvPicPr/>
          <p:nvPr/>
        </p:nvPicPr>
        <p:blipFill>
          <a:blip r:embed="rId8"/>
          <a:stretch/>
        </p:blipFill>
        <p:spPr>
          <a:xfrm>
            <a:off x="7596360" y="5157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"/>
          <p:cNvPicPr/>
          <p:nvPr/>
        </p:nvPicPr>
        <p:blipFill>
          <a:blip r:embed="rId9"/>
          <a:stretch/>
        </p:blipFill>
        <p:spPr>
          <a:xfrm>
            <a:off x="6804000" y="515772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1"/>
          <p:cNvPicPr/>
          <p:nvPr/>
        </p:nvPicPr>
        <p:blipFill>
          <a:blip r:embed="rId10"/>
          <a:stretch/>
        </p:blipFill>
        <p:spPr>
          <a:xfrm>
            <a:off x="7236000" y="4940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3"/>
          <p:cNvPicPr/>
          <p:nvPr/>
        </p:nvPicPr>
        <p:blipFill>
          <a:blip r:embed="rId11"/>
          <a:stretch/>
        </p:blipFill>
        <p:spPr>
          <a:xfrm>
            <a:off x="7164360" y="544500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8h30"/>
          <p:cNvPicPr/>
          <p:nvPr/>
        </p:nvPicPr>
        <p:blipFill>
          <a:blip r:embed="rId12"/>
          <a:stretch/>
        </p:blipFill>
        <p:spPr>
          <a:xfrm>
            <a:off x="6227640" y="5229360"/>
            <a:ext cx="3175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82443E-006 C 0.004 -0.01318 -0.00034 -0.00509 0.01181 -0.01087 C 0.02292 -0.01619 0.02692 -0.02012 0.0389 -0.02197 C 0.07727 -0.03423 0.11685 -0.04649 0.15643 -0.05019 C 0.20504 -0.06777 0.31702 -0.0532 0.32709 -0.0532 C 0.33213 -0.05274 0.33733 -0.05343 0.34237 -0.05181 C 0.34584 -0.05066 0.34827 -0.04649 0.35174 -0.04557 C 0.35608 -0.04441 0.35817 -0.04395 0.36233 -0.04233 C 0.36355 -0.04187 0.36477 -0.0414 0.36598 -0.04071 C 0.3672 -0.04001 0.36824 -0.0384 0.36945 -0.0377 C 0.3724 -0.03631 0.37883 -0.03446 0.37883 -0.03446 C 0.39046 -0.02243 0.38577 -0.02706 0.39289 -0.02035 C 0.40192 -0.000920000000000001 0.41737 0.00995 0.43056 0.0236 C 0.43751 0.03077 0.44428 0.03355 0.44949 0.04395 C 0.4514 0.05228 0.45487 0.05968 0.45765 0.06732 C 0.46008 0.07403 0.45747 0.07056 0.46008 0.07356 E">
                                      <p:cBhvr>
                                        <p:cTn id="362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67638E-006 C 0.00347 -0.00047 0.00729 -0.00023 0.01059 -0.00162 C 0.01493 -0.00347 0.01562 -0.01157 0.01771 -0.01573 C 0.01944 -0.0192 0.02222 -0.02128 0.02465 -0.0236 C 0.02691 -0.02313 0.03611 -0.02152 0.03889 -0.02036 C 0.04531 -0.01758 0.04931 -0.00902 0.05538 -0.00625 C 0.06146 -0.00347 0.05764 -0.00486 0.06701 -0.00324 C 0.07691 0.00115 0.06424 -0.00509 0.07413 0.00162 C 0.07917 0.00486 0.08455 0.00671 0.08941 0.01087 C 0.09028 0.01295 0.0908 0.01526 0.09184 0.01712 C 0.09271 0.0185 0.09444 0.01897 0.09531 0.02035 C 0.10174 0.03123 0.08993 0.01897 0.1 0.02822 C 0.10139 0.03331 0.1 0.03284 0.10243 0.03284 E">
                                      <p:cBhvr>
                                        <p:cTn id="36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324 C 0.00313 -0.01599 0.01025 -0.0183 0.01945 -0.02502 C 0.02587 -0.03012 0.03559 -0.03916 0.04167 -0.04611 C 0.04532 -0.0563 0.04184 -0.05028 0.0507 -0.05769 C 0.05191 -0.05862 0.06198 -0.06858 0.0658 -0.0702 C 0.07535 -0.07507 0.09132 -0.08086 0.10139 -0.08318 C 0.12535 -0.09685 0.15035 -0.10172 0.17674 -0.10311 C 0.21111 -0.10311 0.24566 -0.10311 0.27986 -0.10287 C 0.28264 -0.10264 0.29479 -0.09546 0.29896 -0.09361 C 0.31632 -0.08642 0.32986 -0.0753 0.34514 -0.06372 C 0.34844 -0.05862 0.35122 -0.05584 0.3566 -0.05352 C 0.36476 -0.04657 0.37379 -0.04032 0.38212 -0.03313 C 0.38542 -0.02665 0.39462 -0.02271 0.40104 -0.019 C 0.40417 -0.01483 0.40712 -0.01182 0.41181 -0.00996 C 0.42049 -0.00209 0.42848 0.00324 0.4375 0.0095 C 0.44132 0.01182 0.44393 0.01575 0.4474 0.01807 C 0.45365 0.02363 0.46163 0.02664 0.46719 0.0322 C 0.47413 0.03939 0.47934 0.04703 0.48837 0.05051 C 0.49184 0.0563 0.49618 0.06163 0.5007 0.06719 C 0.50278 0.07437 0.50712 0.07878 0.51059 0.0848 C 0.51528 0.09407 0.52049 0.10264 0.52622 0.11098 C 0.53125 0.12697 0.52431 0.10797 0.53264 0.12257 C 0.53368 0.12442 0.53386 0.12697 0.5349 0.12882 C 0.53768 0.13485 0.54202 0.13994 0.54479 0.14574 C 0.54636 0.14828 0.54705 0.15106 0.54809 0.15361 C 0.54983 0.15686 0.55365 0.16265 0.55365 0.16288 C 0.55799 0.17562 0.55538 0.16937 0.56163 0.18026 C 0.56389 0.19115 0.57032 0.20459 0.57483 0.21501 C 0.57604 0.22173 0.57639 0.22706 0.57917 0.23309 C 0.58056 0.23587 0.58282 0.23818 0.58386 0.24073 C 0.58663 0.25023 0.5849 0.24629 0.5882 0.25371 C 0.58993 0.26321 0.59115 0.2741 0.59601 0.28197 C 0.59723 0.28916 0.59792 0.29541 0.60157 0.3012 C 0.60278 0.31001 0.60417 0.31881 0.60695 0.32692 C 0.60747 0.32901 0.60834 0.33132 0.6092 0.33318 C 0.61025 0.33619 0.61163 0.34106 0.61163 0.34129 C 0.61198 0.3487 0.6132 0.35357 0.61493 0.36052 C 0.61598 0.37766 0.61858 0.39504 0.61858 0.41265 E">
                                      <p:cBhvr>
                                        <p:cTn id="37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нюш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2040" y="2133720"/>
            <a:ext cx="2019240" cy="21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3870360"/>
            <a:ext cx="2843280" cy="235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000" y="1916280"/>
            <a:ext cx="205416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626000"/>
            <a:ext cx="280836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8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471636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3"/>
          <p:cNvSpPr txBox="1"/>
          <p:nvPr/>
        </p:nvSpPr>
        <p:spPr>
          <a:xfrm>
            <a:off x="684360" y="333360"/>
            <a:ext cx="777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 кем поиграем?</a:t>
            </a:r>
            <a:endParaRPr b="1" i="1" lang="en-US" sz="1800" spc="1" strike="noStrike">
              <a:ln w="1260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1" name="Picture 14" descr="10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843280" y="2565360"/>
            <a:ext cx="2257200" cy="23115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6">
            <a:hlinkClick r:id="" action="ppaction://hlinkshowjump?jump=endshow"/>
          </p:cNvPr>
          <p:cNvSpPr/>
          <p:nvPr/>
        </p:nvSpPr>
        <p:spPr>
          <a:xfrm>
            <a:off x="8675640" y="6453360"/>
            <a:ext cx="325440" cy="260280"/>
          </a:xfrm>
          <a:custGeom>
            <a:avLst/>
            <a:gdLst>
              <a:gd name="textAreaLeft" fmla="*/ 16560 w 325440"/>
              <a:gd name="textAreaRight" fmla="*/ 308880 w 3254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3c8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11"/>
          <p:cNvSpPr txBox="1"/>
          <p:nvPr/>
        </p:nvSpPr>
        <p:spPr>
          <a:xfrm>
            <a:off x="1979640" y="115920"/>
            <a:ext cx="491976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дорово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AutoShape 15">
            <a:hlinkClick r:id="rId2" action="ppaction://hlinksldjump"/>
          </p:cNvPr>
          <p:cNvSpPr/>
          <p:nvPr/>
        </p:nvSpPr>
        <p:spPr>
          <a:xfrm>
            <a:off x="8459640" y="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10800"/>
                </a:moveTo>
                <a:lnTo>
                  <a:pt x="25266" y="3794"/>
                </a:lnTo>
                <a:lnTo>
                  <a:pt x="252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0" descr="8h30"/>
          <p:cNvPicPr/>
          <p:nvPr/>
        </p:nvPicPr>
        <p:blipFill>
          <a:blip r:embed="rId3"/>
          <a:stretch/>
        </p:blipFill>
        <p:spPr>
          <a:xfrm>
            <a:off x="5259240" y="4869000"/>
            <a:ext cx="3884760" cy="2579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1"/>
          <p:cNvPicPr/>
          <p:nvPr/>
        </p:nvPicPr>
        <p:blipFill>
          <a:blip r:embed="rId4"/>
          <a:stretch/>
        </p:blipFill>
        <p:spPr>
          <a:xfrm>
            <a:off x="7093080" y="472428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5" descr="3"/>
          <p:cNvPicPr/>
          <p:nvPr/>
        </p:nvPicPr>
        <p:blipFill>
          <a:blip r:embed="rId5"/>
          <a:stretch/>
        </p:blipFill>
        <p:spPr>
          <a:xfrm>
            <a:off x="6156360" y="4869000"/>
            <a:ext cx="790560" cy="660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6" descr="1"/>
          <p:cNvPicPr/>
          <p:nvPr/>
        </p:nvPicPr>
        <p:blipFill>
          <a:blip r:embed="rId6"/>
          <a:stretch/>
        </p:blipFill>
        <p:spPr>
          <a:xfrm>
            <a:off x="6516720" y="4508640"/>
            <a:ext cx="868320" cy="777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" descr="3"/>
          <p:cNvPicPr/>
          <p:nvPr/>
        </p:nvPicPr>
        <p:blipFill>
          <a:blip r:embed="rId7"/>
          <a:stretch/>
        </p:blipFill>
        <p:spPr>
          <a:xfrm>
            <a:off x="6661080" y="501156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8" descr="1"/>
          <p:cNvPicPr/>
          <p:nvPr/>
        </p:nvPicPr>
        <p:blipFill>
          <a:blip r:embed="rId8"/>
          <a:stretch/>
        </p:blipFill>
        <p:spPr>
          <a:xfrm>
            <a:off x="7093080" y="4941720"/>
            <a:ext cx="868320" cy="777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9" descr="3"/>
          <p:cNvPicPr/>
          <p:nvPr/>
        </p:nvPicPr>
        <p:blipFill>
          <a:blip r:embed="rId9"/>
          <a:stretch/>
        </p:blipFill>
        <p:spPr>
          <a:xfrm>
            <a:off x="6300720" y="5084640"/>
            <a:ext cx="790560" cy="660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0" descr="1"/>
          <p:cNvPicPr/>
          <p:nvPr/>
        </p:nvPicPr>
        <p:blipFill>
          <a:blip r:embed="rId10"/>
          <a:stretch/>
        </p:blipFill>
        <p:spPr>
          <a:xfrm>
            <a:off x="6732720" y="4867200"/>
            <a:ext cx="86832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4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>
            <a:hlinkClick r:id="rId3"/>
          </p:cNvPr>
          <p:cNvSpPr/>
          <p:nvPr/>
        </p:nvSpPr>
        <p:spPr>
          <a:xfrm>
            <a:off x="4932360" y="33336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3250440" y="409680"/>
            <a:ext cx="457920" cy="1729080"/>
            <a:chOff x="3250440" y="409680"/>
            <a:chExt cx="457920" cy="1729080"/>
          </a:xfrm>
        </p:grpSpPr>
        <p:sp>
          <p:nvSpPr>
            <p:cNvPr id="321" name="AutoShape 9"/>
            <p:cNvSpPr/>
            <p:nvPr/>
          </p:nvSpPr>
          <p:spPr>
            <a:xfrm rot="21100200">
              <a:off x="3441240" y="410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 rot="21100200">
              <a:off x="3279960" y="4543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1"/>
          <p:cNvGrpSpPr/>
          <p:nvPr/>
        </p:nvGrpSpPr>
        <p:grpSpPr>
          <a:xfrm>
            <a:off x="4714920" y="-31320"/>
            <a:ext cx="579960" cy="1716480"/>
            <a:chOff x="4714920" y="-31320"/>
            <a:chExt cx="579960" cy="1716480"/>
          </a:xfrm>
        </p:grpSpPr>
        <p:sp>
          <p:nvSpPr>
            <p:cNvPr id="324" name="AutoShape 12"/>
            <p:cNvSpPr/>
            <p:nvPr/>
          </p:nvSpPr>
          <p:spPr>
            <a:xfrm rot="20842200">
              <a:off x="4965120" y="-363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13"/>
            <p:cNvSpPr/>
            <p:nvPr/>
          </p:nvSpPr>
          <p:spPr>
            <a:xfrm rot="20842200">
              <a:off x="4758480" y="158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4"/>
          <p:cNvGrpSpPr/>
          <p:nvPr/>
        </p:nvGrpSpPr>
        <p:grpSpPr>
          <a:xfrm>
            <a:off x="1050840" y="1485360"/>
            <a:ext cx="1078920" cy="1545840"/>
            <a:chOff x="1050840" y="1485360"/>
            <a:chExt cx="1078920" cy="1545840"/>
          </a:xfrm>
        </p:grpSpPr>
        <p:sp>
          <p:nvSpPr>
            <p:cNvPr id="327" name="AutoShape 15"/>
            <p:cNvSpPr/>
            <p:nvPr/>
          </p:nvSpPr>
          <p:spPr>
            <a:xfrm rot="19677000">
              <a:off x="1539720" y="13978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6"/>
            <p:cNvSpPr/>
            <p:nvPr/>
          </p:nvSpPr>
          <p:spPr>
            <a:xfrm rot="19677000">
              <a:off x="1143360" y="1528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316440" y="3875760"/>
            <a:ext cx="1623960" cy="912600"/>
            <a:chOff x="316440" y="3875760"/>
            <a:chExt cx="1623960" cy="912600"/>
          </a:xfrm>
        </p:grpSpPr>
        <p:sp>
          <p:nvSpPr>
            <p:cNvPr id="330" name="AutoShape 18"/>
            <p:cNvSpPr/>
            <p:nvPr/>
          </p:nvSpPr>
          <p:spPr>
            <a:xfrm rot="14692200">
              <a:off x="1056960" y="3443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9"/>
            <p:cNvSpPr/>
            <p:nvPr/>
          </p:nvSpPr>
          <p:spPr>
            <a:xfrm rot="14692200">
              <a:off x="432360" y="43502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1000" fill="hold"/>
                                        <p:tgtEl>
                                          <p:spTgt spid="31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6389 -0.49884 E">
                                      <p:cBhvr>
                                        <p:cTn id="380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0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37535E-007 L 0.075 0.32576 E">
                                      <p:cBhvr>
                                        <p:cTn id="387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8 0.11562 L 0.09861 0.67285 E">
                                      <p:cBhvr>
                                        <p:cTn id="39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1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79 0.0841 L 0.4059 0.56742 E">
                                      <p:cBhvr>
                                        <p:cTn id="401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00"/>
                </a:solidFill>
                <a:latin typeface="Arial"/>
              </a:rPr>
              <a:t>2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>
            <a:hlinkClick r:id="rId3"/>
          </p:cNvPr>
          <p:cNvSpPr/>
          <p:nvPr/>
        </p:nvSpPr>
        <p:spPr>
          <a:xfrm>
            <a:off x="1187280" y="4365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>
            <a:hlinkClick r:id="rId4"/>
          </p:cNvPr>
          <p:cNvSpPr/>
          <p:nvPr/>
        </p:nvSpPr>
        <p:spPr>
          <a:xfrm>
            <a:off x="1187280" y="213372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>
            <a:hlinkClick r:id="rId5"/>
          </p:cNvPr>
          <p:cNvSpPr/>
          <p:nvPr/>
        </p:nvSpPr>
        <p:spPr>
          <a:xfrm>
            <a:off x="5003640" y="33336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3024720" y="401400"/>
            <a:ext cx="1010520" cy="1580040"/>
            <a:chOff x="3024720" y="401400"/>
            <a:chExt cx="1010520" cy="1580040"/>
          </a:xfrm>
        </p:grpSpPr>
        <p:sp>
          <p:nvSpPr>
            <p:cNvPr id="339" name="AutoShape 9"/>
            <p:cNvSpPr/>
            <p:nvPr/>
          </p:nvSpPr>
          <p:spPr>
            <a:xfrm rot="19852800">
              <a:off x="3481200" y="3290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0"/>
            <p:cNvSpPr/>
            <p:nvPr/>
          </p:nvSpPr>
          <p:spPr>
            <a:xfrm rot="19852800">
              <a:off x="3111480" y="4435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1"/>
          <p:cNvGrpSpPr/>
          <p:nvPr/>
        </p:nvGrpSpPr>
        <p:grpSpPr>
          <a:xfrm>
            <a:off x="5049720" y="18720"/>
            <a:ext cx="371160" cy="1732680"/>
            <a:chOff x="5049720" y="18720"/>
            <a:chExt cx="371160" cy="1732680"/>
          </a:xfrm>
        </p:grpSpPr>
        <p:sp>
          <p:nvSpPr>
            <p:cNvPr id="342" name="AutoShape 12"/>
            <p:cNvSpPr/>
            <p:nvPr/>
          </p:nvSpPr>
          <p:spPr>
            <a:xfrm rot="321000">
              <a:off x="5129640" y="21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3"/>
            <p:cNvSpPr/>
            <p:nvPr/>
          </p:nvSpPr>
          <p:spPr>
            <a:xfrm rot="321000">
              <a:off x="5113800" y="612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4"/>
          <p:cNvGrpSpPr/>
          <p:nvPr/>
        </p:nvGrpSpPr>
        <p:grpSpPr>
          <a:xfrm>
            <a:off x="1005480" y="1446120"/>
            <a:ext cx="1345320" cy="1348200"/>
            <a:chOff x="1005480" y="1446120"/>
            <a:chExt cx="1345320" cy="1348200"/>
          </a:xfrm>
        </p:grpSpPr>
        <p:sp>
          <p:nvSpPr>
            <p:cNvPr id="345" name="AutoShape 15"/>
            <p:cNvSpPr/>
            <p:nvPr/>
          </p:nvSpPr>
          <p:spPr>
            <a:xfrm rot="18906600">
              <a:off x="1619280" y="1268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6"/>
            <p:cNvSpPr/>
            <p:nvPr/>
          </p:nvSpPr>
          <p:spPr>
            <a:xfrm rot="18906600">
              <a:off x="1116000" y="1484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7"/>
          <p:cNvGrpSpPr/>
          <p:nvPr/>
        </p:nvGrpSpPr>
        <p:grpSpPr>
          <a:xfrm>
            <a:off x="460440" y="4034880"/>
            <a:ext cx="1705320" cy="642960"/>
            <a:chOff x="460440" y="4034880"/>
            <a:chExt cx="1705320" cy="642960"/>
          </a:xfrm>
        </p:grpSpPr>
        <p:sp>
          <p:nvSpPr>
            <p:cNvPr id="348" name="AutoShape 18"/>
            <p:cNvSpPr/>
            <p:nvPr/>
          </p:nvSpPr>
          <p:spPr>
            <a:xfrm rot="15306000">
              <a:off x="1241640" y="346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9"/>
            <p:cNvSpPr/>
            <p:nvPr/>
          </p:nvSpPr>
          <p:spPr>
            <a:xfrm rot="15306000">
              <a:off x="579960" y="42674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1000" fill="hold"/>
                                        <p:tgtEl>
                                          <p:spTgt spid="3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40955 -0.15222 E">
                                      <p:cBhvr>
                                        <p:cTn id="409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4826 0.71478 E">
                                      <p:cBhvr>
                                        <p:cTn id="416" dur="1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1000" fill="hold"/>
                                        <p:tgtEl>
                                          <p:spTgt spid="33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841 L 0.37413 0.53614 E">
                                      <p:cBhvr>
                                        <p:cTn id="42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3355E-006 L -0.07483 0.76761 E">
                                      <p:cBhvr>
                                        <p:cTn id="430" dur="1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Arial"/>
              </a:rPr>
              <a:t>5 -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>
            <a:hlinkClick r:id="rId4"/>
          </p:cNvPr>
          <p:cNvSpPr/>
          <p:nvPr/>
        </p:nvSpPr>
        <p:spPr>
          <a:xfrm>
            <a:off x="594036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8"/>
          <p:cNvGrpSpPr/>
          <p:nvPr/>
        </p:nvGrpSpPr>
        <p:grpSpPr>
          <a:xfrm>
            <a:off x="386640" y="3827160"/>
            <a:ext cx="1639440" cy="873720"/>
            <a:chOff x="386640" y="3827160"/>
            <a:chExt cx="1639440" cy="873720"/>
          </a:xfrm>
        </p:grpSpPr>
        <p:sp>
          <p:nvSpPr>
            <p:cNvPr id="357" name="AutoShape 9"/>
            <p:cNvSpPr/>
            <p:nvPr/>
          </p:nvSpPr>
          <p:spPr>
            <a:xfrm rot="14784600">
              <a:off x="1134720" y="3374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0"/>
            <p:cNvSpPr/>
            <p:nvPr/>
          </p:nvSpPr>
          <p:spPr>
            <a:xfrm rot="14784600">
              <a:off x="503640" y="4266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360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4"/>
          <p:cNvGrpSpPr/>
          <p:nvPr/>
        </p:nvGrpSpPr>
        <p:grpSpPr>
          <a:xfrm>
            <a:off x="3342240" y="139680"/>
            <a:ext cx="589680" cy="1714680"/>
            <a:chOff x="3342240" y="139680"/>
            <a:chExt cx="589680" cy="1714680"/>
          </a:xfrm>
        </p:grpSpPr>
        <p:sp>
          <p:nvSpPr>
            <p:cNvPr id="363" name="AutoShape 15"/>
            <p:cNvSpPr/>
            <p:nvPr/>
          </p:nvSpPr>
          <p:spPr>
            <a:xfrm rot="20820600">
              <a:off x="3597120" y="1335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6"/>
            <p:cNvSpPr/>
            <p:nvPr/>
          </p:nvSpPr>
          <p:spPr>
            <a:xfrm rot="20820600">
              <a:off x="3386880" y="1861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66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1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6875 0.12627 E">
                                      <p:cBhvr>
                                        <p:cTn id="438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1168 L 0.16944 0.7317 E">
                                      <p:cBhvr>
                                        <p:cTn id="445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1000" fill="hold"/>
                                        <p:tgtEl>
                                          <p:spTgt spid="35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52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1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4 -0.07855 L 0.76407 -0.40454 E">
                                      <p:cBhvr>
                                        <p:cTn id="459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>
            <a:hlinkClick r:id="rId2"/>
          </p:cNvPr>
          <p:cNvSpPr/>
          <p:nvPr/>
        </p:nvSpPr>
        <p:spPr>
          <a:xfrm>
            <a:off x="586728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>
            <a:hlinkClick r:id="rId3"/>
          </p:cNvPr>
          <p:cNvSpPr/>
          <p:nvPr/>
        </p:nvSpPr>
        <p:spPr>
          <a:xfrm>
            <a:off x="3635280" y="981000"/>
            <a:ext cx="107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8"/>
          <p:cNvGrpSpPr/>
          <p:nvPr/>
        </p:nvGrpSpPr>
        <p:grpSpPr>
          <a:xfrm>
            <a:off x="462960" y="3846960"/>
            <a:ext cx="1602000" cy="962280"/>
            <a:chOff x="462960" y="3846960"/>
            <a:chExt cx="1602000" cy="962280"/>
          </a:xfrm>
        </p:grpSpPr>
        <p:sp>
          <p:nvSpPr>
            <p:cNvPr id="375" name="AutoShape 9"/>
            <p:cNvSpPr/>
            <p:nvPr/>
          </p:nvSpPr>
          <p:spPr>
            <a:xfrm rot="14572200">
              <a:off x="1192680" y="3440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0"/>
            <p:cNvSpPr/>
            <p:nvPr/>
          </p:nvSpPr>
          <p:spPr>
            <a:xfrm rot="14572200">
              <a:off x="577800" y="4366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1"/>
          <p:cNvGrpSpPr/>
          <p:nvPr/>
        </p:nvGrpSpPr>
        <p:grpSpPr>
          <a:xfrm>
            <a:off x="609120" y="2241720"/>
            <a:ext cx="1727280" cy="288360"/>
            <a:chOff x="609120" y="2241720"/>
            <a:chExt cx="1727280" cy="288360"/>
          </a:xfrm>
        </p:grpSpPr>
        <p:sp>
          <p:nvSpPr>
            <p:cNvPr id="378" name="AutoShape 12"/>
            <p:cNvSpPr/>
            <p:nvPr/>
          </p:nvSpPr>
          <p:spPr>
            <a:xfrm rot="16192800">
              <a:off x="1401480" y="1520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3"/>
            <p:cNvSpPr/>
            <p:nvPr/>
          </p:nvSpPr>
          <p:spPr>
            <a:xfrm rot="16192800">
              <a:off x="718920" y="216972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4"/>
          <p:cNvGrpSpPr/>
          <p:nvPr/>
        </p:nvGrpSpPr>
        <p:grpSpPr>
          <a:xfrm>
            <a:off x="2794320" y="154800"/>
            <a:ext cx="1209240" cy="1464120"/>
            <a:chOff x="2794320" y="154800"/>
            <a:chExt cx="1209240" cy="1464120"/>
          </a:xfrm>
        </p:grpSpPr>
        <p:sp>
          <p:nvSpPr>
            <p:cNvPr id="381" name="AutoShape 15"/>
            <p:cNvSpPr/>
            <p:nvPr/>
          </p:nvSpPr>
          <p:spPr>
            <a:xfrm rot="19322400">
              <a:off x="3344760" y="306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16"/>
            <p:cNvSpPr/>
            <p:nvPr/>
          </p:nvSpPr>
          <p:spPr>
            <a:xfrm rot="19322400">
              <a:off x="2896560" y="1972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7"/>
          <p:cNvGrpSpPr/>
          <p:nvPr/>
        </p:nvGrpSpPr>
        <p:grpSpPr>
          <a:xfrm>
            <a:off x="6082200" y="69840"/>
            <a:ext cx="1139040" cy="1511280"/>
            <a:chOff x="6082200" y="69840"/>
            <a:chExt cx="1139040" cy="1511280"/>
          </a:xfrm>
        </p:grpSpPr>
        <p:sp>
          <p:nvSpPr>
            <p:cNvPr id="384" name="AutoShape 18"/>
            <p:cNvSpPr/>
            <p:nvPr/>
          </p:nvSpPr>
          <p:spPr>
            <a:xfrm rot="2083800">
              <a:off x="6561360" y="-324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9"/>
            <p:cNvSpPr/>
            <p:nvPr/>
          </p:nvSpPr>
          <p:spPr>
            <a:xfrm rot="2083800">
              <a:off x="6836400" y="1130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562 L 0.21684 0.3114 E">
                                      <p:cBhvr>
                                        <p:cTn id="467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36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08966 L -0.43299 0.75162 E">
                                      <p:cBhvr>
                                        <p:cTn id="474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1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3105 L 0.7993 -0.02062 E">
                                      <p:cBhvr>
                                        <p:cTn id="481" dur="1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1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5 -0.07854 L 0.74028 -0.47798 E">
                                      <p:cBhvr>
                                        <p:cTn id="488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1+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>
            <a:hlinkClick r:id="rId2"/>
          </p:cNvPr>
          <p:cNvSpPr/>
          <p:nvPr/>
        </p:nvSpPr>
        <p:spPr>
          <a:xfrm>
            <a:off x="3708360" y="98100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>
            <a:hlinkClick r:id="rId3"/>
          </p:cNvPr>
          <p:cNvSpPr/>
          <p:nvPr/>
        </p:nvSpPr>
        <p:spPr>
          <a:xfrm>
            <a:off x="6012000" y="620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>
            <a:hlinkClick r:id="rId4"/>
          </p:cNvPr>
          <p:cNvSpPr/>
          <p:nvPr/>
        </p:nvSpPr>
        <p:spPr>
          <a:xfrm>
            <a:off x="1332000" y="184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>
            <a:hlinkClick r:id="rId5"/>
          </p:cNvPr>
          <p:cNvSpPr/>
          <p:nvPr/>
        </p:nvSpPr>
        <p:spPr>
          <a:xfrm>
            <a:off x="684360" y="371628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8"/>
          <p:cNvGrpSpPr/>
          <p:nvPr/>
        </p:nvGrpSpPr>
        <p:grpSpPr>
          <a:xfrm>
            <a:off x="457560" y="3945600"/>
            <a:ext cx="1667520" cy="793440"/>
            <a:chOff x="457560" y="3945600"/>
            <a:chExt cx="1667520" cy="793440"/>
          </a:xfrm>
        </p:grpSpPr>
        <p:sp>
          <p:nvSpPr>
            <p:cNvPr id="393" name="AutoShape 9"/>
            <p:cNvSpPr/>
            <p:nvPr/>
          </p:nvSpPr>
          <p:spPr>
            <a:xfrm rot="14970000">
              <a:off x="1220040" y="3451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10"/>
            <p:cNvSpPr/>
            <p:nvPr/>
          </p:nvSpPr>
          <p:spPr>
            <a:xfrm rot="14970000">
              <a:off x="576360" y="43128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1"/>
          <p:cNvGrpSpPr/>
          <p:nvPr/>
        </p:nvGrpSpPr>
        <p:grpSpPr>
          <a:xfrm>
            <a:off x="630720" y="2421000"/>
            <a:ext cx="1732680" cy="335160"/>
            <a:chOff x="630720" y="2421000"/>
            <a:chExt cx="1732680" cy="335160"/>
          </a:xfrm>
        </p:grpSpPr>
        <p:sp>
          <p:nvSpPr>
            <p:cNvPr id="396" name="AutoShape 12"/>
            <p:cNvSpPr/>
            <p:nvPr/>
          </p:nvSpPr>
          <p:spPr>
            <a:xfrm rot="15954600">
              <a:off x="1425600" y="16898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3"/>
            <p:cNvSpPr/>
            <p:nvPr/>
          </p:nvSpPr>
          <p:spPr>
            <a:xfrm rot="15954600">
              <a:off x="744480" y="2381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4"/>
          <p:cNvGrpSpPr/>
          <p:nvPr/>
        </p:nvGrpSpPr>
        <p:grpSpPr>
          <a:xfrm>
            <a:off x="3393000" y="149040"/>
            <a:ext cx="462240" cy="1728720"/>
            <a:chOff x="3393000" y="149040"/>
            <a:chExt cx="462240" cy="1728720"/>
          </a:xfrm>
        </p:grpSpPr>
        <p:sp>
          <p:nvSpPr>
            <p:cNvPr id="399" name="AutoShape 15"/>
            <p:cNvSpPr/>
            <p:nvPr/>
          </p:nvSpPr>
          <p:spPr>
            <a:xfrm rot="21090600">
              <a:off x="3585600" y="14976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6"/>
            <p:cNvSpPr/>
            <p:nvPr/>
          </p:nvSpPr>
          <p:spPr>
            <a:xfrm rot="21090600">
              <a:off x="3423240" y="1936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02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1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10243 0.36284 E">
                                      <p:cBhvr>
                                        <p:cTn id="496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2000" fill="hold"/>
                                        <p:tgtEl>
                                          <p:spTgt spid="38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12211 L 0.18524 0.75278 E">
                                      <p:cBhvr>
                                        <p:cTn id="50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1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02595 L 0.7875 -0.05746 E">
                                      <p:cBhvr>
                                        <p:cTn id="510" dur="1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1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4 L 0.7717 -0.39388 E">
                                      <p:cBhvr>
                                        <p:cTn id="517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00720" y="2852640"/>
            <a:ext cx="237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"/>
              </a:rPr>
              <a:t>5 -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>
            <a:hlinkClick r:id="rId3"/>
          </p:cNvPr>
          <p:cNvSpPr/>
          <p:nvPr/>
        </p:nvSpPr>
        <p:spPr>
          <a:xfrm>
            <a:off x="1403280" y="1773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>
            <a:hlinkClick r:id="rId4"/>
          </p:cNvPr>
          <p:cNvSpPr/>
          <p:nvPr/>
        </p:nvSpPr>
        <p:spPr>
          <a:xfrm>
            <a:off x="5724360" y="404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460440" y="3890520"/>
            <a:ext cx="1705320" cy="642960"/>
            <a:chOff x="460440" y="3890520"/>
            <a:chExt cx="1705320" cy="642960"/>
          </a:xfrm>
        </p:grpSpPr>
        <p:sp>
          <p:nvSpPr>
            <p:cNvPr id="411" name="AutoShape 9"/>
            <p:cNvSpPr/>
            <p:nvPr/>
          </p:nvSpPr>
          <p:spPr>
            <a:xfrm rot="15306000">
              <a:off x="1241640" y="33181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0"/>
            <p:cNvSpPr/>
            <p:nvPr/>
          </p:nvSpPr>
          <p:spPr>
            <a:xfrm rot="15306000">
              <a:off x="579960" y="41230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1"/>
          <p:cNvGrpSpPr/>
          <p:nvPr/>
        </p:nvGrpSpPr>
        <p:grpSpPr>
          <a:xfrm>
            <a:off x="657720" y="2090520"/>
            <a:ext cx="1707840" cy="630360"/>
            <a:chOff x="657720" y="2090520"/>
            <a:chExt cx="1707840" cy="630360"/>
          </a:xfrm>
        </p:grpSpPr>
        <p:sp>
          <p:nvSpPr>
            <p:cNvPr id="414" name="AutoShape 12"/>
            <p:cNvSpPr/>
            <p:nvPr/>
          </p:nvSpPr>
          <p:spPr>
            <a:xfrm rot="17069400">
              <a:off x="1440000" y="1572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3"/>
            <p:cNvSpPr/>
            <p:nvPr/>
          </p:nvSpPr>
          <p:spPr>
            <a:xfrm rot="17069400">
              <a:off x="776520" y="206748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4"/>
          <p:cNvGrpSpPr/>
          <p:nvPr/>
        </p:nvGrpSpPr>
        <p:grpSpPr>
          <a:xfrm>
            <a:off x="3318480" y="137160"/>
            <a:ext cx="649080" cy="1703880"/>
            <a:chOff x="3318480" y="137160"/>
            <a:chExt cx="649080" cy="1703880"/>
          </a:xfrm>
        </p:grpSpPr>
        <p:sp>
          <p:nvSpPr>
            <p:cNvPr id="417" name="AutoShape 15"/>
            <p:cNvSpPr/>
            <p:nvPr/>
          </p:nvSpPr>
          <p:spPr>
            <a:xfrm rot="20692200">
              <a:off x="3601800" y="12564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16"/>
            <p:cNvSpPr/>
            <p:nvPr/>
          </p:nvSpPr>
          <p:spPr>
            <a:xfrm rot="20692200">
              <a:off x="3369600" y="1836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7"/>
          <p:cNvGrpSpPr/>
          <p:nvPr/>
        </p:nvGrpSpPr>
        <p:grpSpPr>
          <a:xfrm>
            <a:off x="6038640" y="121320"/>
            <a:ext cx="786600" cy="1669320"/>
            <a:chOff x="6038640" y="121320"/>
            <a:chExt cx="786600" cy="1669320"/>
          </a:xfrm>
        </p:grpSpPr>
        <p:sp>
          <p:nvSpPr>
            <p:cNvPr id="420" name="AutoShape 18"/>
            <p:cNvSpPr/>
            <p:nvPr/>
          </p:nvSpPr>
          <p:spPr>
            <a:xfrm rot="1215600">
              <a:off x="6333120" y="925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9"/>
            <p:cNvSpPr/>
            <p:nvPr/>
          </p:nvSpPr>
          <p:spPr>
            <a:xfrm rot="1215600">
              <a:off x="6471720" y="1677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1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1066 L 0.44514 0.09476 E">
                                      <p:cBhvr>
                                        <p:cTn id="525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0" fill="hold"/>
                                        <p:tgtEl>
                                          <p:spTgt spid="40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11168 L 0.21684 0.76321 E">
                                      <p:cBhvr>
                                        <p:cTn id="532" dur="1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1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7924 L -0.23611 0.72011 E">
                                      <p:cBhvr>
                                        <p:cTn id="539" dur="1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1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7969 -0.3728 E">
                                      <p:cBhvr>
                                        <p:cTn id="54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4500720" y="2852640"/>
            <a:ext cx="2087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Arial"/>
              </a:rPr>
              <a:t>5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>
            <a:hlinkClick r:id="rId2"/>
          </p:cNvPr>
          <p:cNvSpPr/>
          <p:nvPr/>
        </p:nvSpPr>
        <p:spPr>
          <a:xfrm>
            <a:off x="3635280" y="105264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>
            <a:hlinkClick r:id="rId3"/>
          </p:cNvPr>
          <p:cNvSpPr/>
          <p:nvPr/>
        </p:nvSpPr>
        <p:spPr>
          <a:xfrm>
            <a:off x="5796000" y="549360"/>
            <a:ext cx="720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>
            <a:hlinkClick r:id="rId4"/>
          </p:cNvPr>
          <p:cNvSpPr/>
          <p:nvPr/>
        </p:nvSpPr>
        <p:spPr>
          <a:xfrm>
            <a:off x="1476360" y="1628640"/>
            <a:ext cx="72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>
            <a:hlinkClick r:id="rId5"/>
          </p:cNvPr>
          <p:cNvSpPr/>
          <p:nvPr/>
        </p:nvSpPr>
        <p:spPr>
          <a:xfrm>
            <a:off x="684360" y="3573360"/>
            <a:ext cx="107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" action="ppaction://hlinkshowjump?jump=next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460440" y="3963600"/>
            <a:ext cx="1705320" cy="642960"/>
            <a:chOff x="460440" y="3963600"/>
            <a:chExt cx="1705320" cy="642960"/>
          </a:xfrm>
        </p:grpSpPr>
        <p:sp>
          <p:nvSpPr>
            <p:cNvPr id="429" name="AutoShape 9"/>
            <p:cNvSpPr/>
            <p:nvPr/>
          </p:nvSpPr>
          <p:spPr>
            <a:xfrm rot="15306000">
              <a:off x="1241640" y="33912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 rot="15306000">
              <a:off x="579960" y="419616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1"/>
          <p:cNvGrpSpPr/>
          <p:nvPr/>
        </p:nvGrpSpPr>
        <p:grpSpPr>
          <a:xfrm>
            <a:off x="609840" y="2241720"/>
            <a:ext cx="1726920" cy="287280"/>
            <a:chOff x="609840" y="2241720"/>
            <a:chExt cx="1726920" cy="287280"/>
          </a:xfrm>
        </p:grpSpPr>
        <p:sp>
          <p:nvSpPr>
            <p:cNvPr id="432" name="AutoShape 12"/>
            <p:cNvSpPr/>
            <p:nvPr/>
          </p:nvSpPr>
          <p:spPr>
            <a:xfrm rot="16199400">
              <a:off x="1401840" y="152100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3"/>
            <p:cNvSpPr/>
            <p:nvPr/>
          </p:nvSpPr>
          <p:spPr>
            <a:xfrm rot="16199400">
              <a:off x="719280" y="21690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4"/>
          <p:cNvGrpSpPr/>
          <p:nvPr/>
        </p:nvGrpSpPr>
        <p:grpSpPr>
          <a:xfrm>
            <a:off x="3287520" y="142560"/>
            <a:ext cx="544680" cy="1720800"/>
            <a:chOff x="3287520" y="142560"/>
            <a:chExt cx="544680" cy="1720800"/>
          </a:xfrm>
        </p:grpSpPr>
        <p:sp>
          <p:nvSpPr>
            <p:cNvPr id="435" name="AutoShape 15"/>
            <p:cNvSpPr/>
            <p:nvPr/>
          </p:nvSpPr>
          <p:spPr>
            <a:xfrm rot="20916600">
              <a:off x="3520440" y="13932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 rot="20916600">
              <a:off x="3327120" y="18864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7"/>
          <p:cNvGrpSpPr/>
          <p:nvPr/>
        </p:nvGrpSpPr>
        <p:grpSpPr>
          <a:xfrm>
            <a:off x="6327360" y="-23040"/>
            <a:ext cx="786600" cy="1669320"/>
            <a:chOff x="6327360" y="-23040"/>
            <a:chExt cx="786600" cy="1669320"/>
          </a:xfrm>
        </p:grpSpPr>
        <p:sp>
          <p:nvSpPr>
            <p:cNvPr id="438" name="AutoShape 18"/>
            <p:cNvSpPr/>
            <p:nvPr/>
          </p:nvSpPr>
          <p:spPr>
            <a:xfrm rot="1215600">
              <a:off x="6621840" y="-51480"/>
              <a:ext cx="142560" cy="1726920"/>
            </a:xfrm>
            <a:prstGeom prst="downArrow">
              <a:avLst>
                <a:gd name="adj1" fmla="val 50000"/>
                <a:gd name="adj2" fmla="val 30284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9"/>
            <p:cNvSpPr/>
            <p:nvPr/>
          </p:nvSpPr>
          <p:spPr>
            <a:xfrm rot="1215600">
              <a:off x="6760440" y="23400"/>
              <a:ext cx="287280" cy="432000"/>
            </a:xfrm>
            <a:custGeom>
              <a:avLst/>
              <a:gdLst>
                <a:gd name="textAreaLeft" fmla="*/ 66600 w 287280"/>
                <a:gd name="textAreaRight" fmla="*/ 220680 w 287280"/>
                <a:gd name="textAreaTop" fmla="*/ 46080 h 432000"/>
                <a:gd name="textAreaBottom" fmla="*/ 2732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2" dur="1000" fill="hold"/>
                                        <p:tgtEl>
                                          <p:spTgt spid="4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924 L -0.08664 0.36284 E">
                                      <p:cBhvr>
                                        <p:cTn id="554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9" dur="2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19 0.10125 L 0.21684 0.7317 E">
                                      <p:cBhvr>
                                        <p:cTn id="561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000" fill="hold"/>
                                        <p:tgtEl>
                                          <p:spTgt spid="42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102 L 0.72847 -0.04171 E">
                                      <p:cBhvr>
                                        <p:cTn id="568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1000" fill="hold"/>
                                        <p:tgtEl>
                                          <p:spTgt spid="42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7855 L 0.7875 -0.37303 E">
                                      <p:cBhvr>
                                        <p:cTn id="575" dur="1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3"/>
          <p:cNvSpPr txBox="1"/>
          <p:nvPr/>
        </p:nvSpPr>
        <p:spPr>
          <a:xfrm>
            <a:off x="2916360" y="0"/>
            <a:ext cx="478764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ра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здравляю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1" name="AutoShape 5">
            <a:hlinkClick r:id="rId2" action="ppaction://hlinksldjump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9" descr="8"/>
          <p:cNvPicPr/>
          <p:nvPr/>
        </p:nvPicPr>
        <p:blipFill>
          <a:blip r:embed="rId3"/>
          <a:stretch/>
        </p:blipFill>
        <p:spPr>
          <a:xfrm>
            <a:off x="0" y="3357720"/>
            <a:ext cx="3384720" cy="279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+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6" descr="капуста5"/>
          <p:cNvPicPr/>
          <p:nvPr/>
        </p:nvPicPr>
        <p:blipFill>
          <a:blip r:embed="rId2"/>
          <a:stretch/>
        </p:blipFill>
        <p:spPr>
          <a:xfrm>
            <a:off x="4284720" y="5373720"/>
            <a:ext cx="1198440" cy="1155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tomato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371628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2" descr="корзинка"/>
          <p:cNvPicPr/>
          <p:nvPr/>
        </p:nvPicPr>
        <p:blipFill>
          <a:blip r:embed="rId5"/>
          <a:stretch/>
        </p:blipFill>
        <p:spPr>
          <a:xfrm>
            <a:off x="-252360" y="4221000"/>
            <a:ext cx="2781360" cy="128304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9" descr="баклажанn"/>
          <p:cNvPicPr/>
          <p:nvPr/>
        </p:nvPicPr>
        <p:blipFill>
          <a:blip r:embed="rId6"/>
          <a:stretch/>
        </p:blipFill>
        <p:spPr>
          <a:xfrm>
            <a:off x="5724360" y="4581360"/>
            <a:ext cx="1125720" cy="8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6881 C -0.00538 -0.07044 -0.00729 -0.07461 -0.01302 -0.07623 C -0.0224 -0.07831 -0.03004 -0.08364 -0.03941 -0.08527 C -0.04514 -0.08758 -0.05122 -0.08944 -0.05747 -0.09036 C -0.06632 -0.09407 -0.0757 -0.09755 -0.08507 -0.10009 C -0.08976 -0.10102 -0.08993 -0.10033 -0.09375 -0.10148 C -0.10156 -0.1045 -0.10972 -0.10704 -0.11806 -0.10936 C -0.12327 -0.11214 -0.12986 -0.11539 -0.13611 -0.11701 C -0.14341 -0.12118 -0.15816 -0.12164 -0.16667 -0.1221 C -0.17466 -0.12373 -0.18212 -0.12465 -0.19011 -0.12581 C -0.1967 -0.1272 -0.2033 -0.12952 -0.21025 -0.13068 C -0.21719 -0.13485 -0.23386 -0.13809 -0.24306 -0.13995 C -0.254 -0.14551 -0.26823 -0.14435 -0.28038 -0.14551 C -0.30556 -0.15084 -0.28646 -0.1469 -0.35347 -0.1469 C -0.404 -0.1469 -0.45452 -0.1462 -0.50504 -0.1462 C -0.51129 -0.14458 -0.51788 -0.14388 -0.52431 -0.14273 C -0.52778 -0.14064 -0.53177 -0.14064 -0.53594 -0.13948 C -0.54983 -0.13485 -0.54202 -0.13647 -0.554 -0.13485 C -0.5658 -0.12906 -0.55243 -0.13508 -0.56545 -0.1316 C -0.57049 -0.13021 -0.57257 -0.12882 -0.5783 -0.1279 C -0.58733 -0.12512 -0.59653 -0.12164 -0.60591 -0.12025 C -0.61111 -0.1177 -0.61875 -0.11608 -0.62483 -0.11515 C -0.62917 -0.11307 -0.63195 -0.11122 -0.63663 -0.11006 C -0.64063 -0.10704 -0.64306 -0.10542 -0.64827 -0.10403 C -0.65417 -0.0994 -0.66059 -0.09847 -0.66736 -0.09453 C -0.67604 -0.09013 -0.66893 -0.09198 -0.67795 -0.09036 C -0.68472 -0.08666 -0.67726 -0.09036 -0.68646 -0.08758 C -0.69045 -0.08712 -0.69045 -0.08573 -0.69375 -0.08434 C -0.69827 -0.08248 -0.70295 -0.08109 -0.70764 -0.07947 C -0.70972 -0.07716 -0.71146 -0.07461 -0.71406 -0.07252 C -0.71632 -0.07067 -0.72031 -0.06742 -0.72031 -0.06696 C -0.7224 -0.06395 -0.72361 -0.06163 -0.72778 -0.05978 C -0.72934 -0.05584 -0.73264 -0.05283 -0.73403 -0.04958 C -0.73316 -0.01691 -0.73316 -0.02827 -0.73316 -0.01552 E">
                                      <p:cBhvr>
                                        <p:cTn id="581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7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8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9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деревоб"/>
          <p:cNvPicPr/>
          <p:nvPr/>
        </p:nvPicPr>
        <p:blipFill>
          <a:blip r:embed="rId2"/>
          <a:stretch/>
        </p:blipFill>
        <p:spPr>
          <a:xfrm>
            <a:off x="1908000" y="57240"/>
            <a:ext cx="5326200" cy="509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корзинка2"/>
          <p:cNvPicPr/>
          <p:nvPr/>
        </p:nvPicPr>
        <p:blipFill>
          <a:blip r:embed="rId3"/>
          <a:stretch/>
        </p:blipFill>
        <p:spPr>
          <a:xfrm>
            <a:off x="5435640" y="5827680"/>
            <a:ext cx="1944720" cy="1030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6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58" name="Picture 7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8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5219640" y="2060640"/>
            <a:ext cx="576360" cy="576360"/>
            <a:chOff x="5219640" y="2060640"/>
            <a:chExt cx="576360" cy="576360"/>
          </a:xfrm>
        </p:grpSpPr>
        <p:pic>
          <p:nvPicPr>
            <p:cNvPr id="61" name="Picture 10" descr="2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219640" y="2060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11"/>
            <p:cNvSpPr txBox="1"/>
            <p:nvPr/>
          </p:nvSpPr>
          <p:spPr>
            <a:xfrm>
              <a:off x="5424120" y="2266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" name="Group 12"/>
          <p:cNvGrpSpPr/>
          <p:nvPr/>
        </p:nvGrpSpPr>
        <p:grpSpPr>
          <a:xfrm>
            <a:off x="2627280" y="2205000"/>
            <a:ext cx="576360" cy="576360"/>
            <a:chOff x="2627280" y="2205000"/>
            <a:chExt cx="576360" cy="576360"/>
          </a:xfrm>
        </p:grpSpPr>
        <p:pic>
          <p:nvPicPr>
            <p:cNvPr id="64" name="Picture 13" descr="2"/>
            <p:cNvPicPr/>
            <p:nvPr/>
          </p:nvPicPr>
          <p:blipFill>
            <a:blip r:embed="rId7"/>
            <a:stretch/>
          </p:blipFill>
          <p:spPr>
            <a:xfrm>
              <a:off x="2627280" y="220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14"/>
            <p:cNvSpPr txBox="1"/>
            <p:nvPr/>
          </p:nvSpPr>
          <p:spPr>
            <a:xfrm>
              <a:off x="2831760" y="241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67" name="Picture 16" descr="2"/>
            <p:cNvPicPr/>
            <p:nvPr/>
          </p:nvPicPr>
          <p:blipFill>
            <a:blip r:embed="rId8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WordArt 17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6084720" y="1341360"/>
            <a:ext cx="576360" cy="576360"/>
            <a:chOff x="6084720" y="1341360"/>
            <a:chExt cx="576360" cy="576360"/>
          </a:xfrm>
        </p:grpSpPr>
        <p:pic>
          <p:nvPicPr>
            <p:cNvPr id="70" name="Picture 19" descr="2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084720" y="134136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20"/>
            <p:cNvSpPr txBox="1"/>
            <p:nvPr/>
          </p:nvSpPr>
          <p:spPr>
            <a:xfrm>
              <a:off x="6289200" y="1547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73" name="Picture 22" descr="2"/>
            <p:cNvPicPr/>
            <p:nvPr/>
          </p:nvPicPr>
          <p:blipFill>
            <a:blip r:embed="rId11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9D%D1%8E%D1%88%D0%B0.wav"/>
                                        </p:tgtEl>
                                      </p:cMediaNode>
                                    </p:audio>
                                    <p:animMotion origin="layout" path="M 3.05556E-006 1.59407E-006 C 3.05556E-006 0.00579 3.05556E-006 0.01228 0.00243 0.02803 C 0.00486 0.04379 0.0118 0.0746 0.01458 0.09476 C 0.01736 0.11515 0.01788 0.12975 0.01909 0.15014 C 0.02066 0.17029 0.02083 0.19532 0.02205 0.21802 C 0.02326 0.24073 0.02465 0.26622 0.02743 0.28776 C 0.03038 0.30908 0.03767 0.32947 0.03958 0.34615 C 0.04149 0.36283 0.03524 0.37303 0.03958 0.38739 C 0.04375 0.40199 0.05729 0.41798 0.06458 0.43165 C 0.07187 0.44555 0.07708 0.45945 0.08316 0.47104 C 0.08923 0.48262 0.09722 0.49374 0.10156 0.50069 C 0.10625 0.50788 0.10868 0.51228 0.11041 0.51506 E">
                                      <p:cBhvr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animMotion origin="layout" path="M 0 -2.74328E-006 L 0.15764 0.44138 E">
                                      <p:cBhvr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5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animMotion origin="layout" path="M 5E-006 -1.11214E-007 C 5E-006 0.00579 0.00018 0.01228 0.0033 0.0278 C 0.00643 0.04333 0.01528 0.07345 0.01893 0.09337 C 0.0224 0.11307 0.0231 0.1272 0.02483 0.14713 C 0.02657 0.16705 0.02674 0.19115 0.02848 0.21339 C 0.03004 0.23587 0.03178 0.26112 0.03542 0.28221 C 0.03924 0.30283 0.04827 0.32298 0.05105 0.3392 C 0.0533 0.35542 0.04549 0.36562 0.05105 0.37975 C 0.05626 0.39365 0.07379 0.40941 0.08316 0.42308 C 0.09237 0.43675 0.09896 0.45019 0.10678 0.46154 C 0.11476 0.47289 0.12483 0.48378 0.13056 0.49073 C 0.13664 0.49791 0.13959 0.50209 0.14167 0.5044 E">
                                      <p:cBhvr>
                                        <p:cTn id="5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animMotion origin="layout" path="M 1.38889E-006 -4.81841E-006 L 0.18125 0.46172 E">
                                      <p:cBhvr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4" descr="перец8"/>
          <p:cNvPicPr/>
          <p:nvPr/>
        </p:nvPicPr>
        <p:blipFill>
          <a:blip r:embed="rId2"/>
          <a:stretch/>
        </p:blipFill>
        <p:spPr>
          <a:xfrm>
            <a:off x="4788000" y="5373720"/>
            <a:ext cx="842760" cy="861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149720"/>
            <a:ext cx="793800" cy="82548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ogurec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3716280"/>
            <a:ext cx="1296720" cy="1266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7" descr="tomato1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4076640"/>
            <a:ext cx="895320" cy="9334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1" descr="корзинка"/>
          <p:cNvPicPr/>
          <p:nvPr/>
        </p:nvPicPr>
        <p:blipFill>
          <a:blip r:embed="rId9"/>
          <a:stretch/>
        </p:blipFill>
        <p:spPr>
          <a:xfrm>
            <a:off x="0" y="4292640"/>
            <a:ext cx="266400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-0.09175 C -0.01476 -0.08897 -0.02014 -0.08619 -0.02726 -0.08433 C -0.02987 -0.08155 -0.0349 -0.0797 -0.03976 -0.07738 C -0.04184 -0.07646 -0.04375 -0.0746 -0.04705 -0.07367 C -0.04879 -0.07321 -0.05139 -0.07321 -0.05313 -0.07275 C -0.05868 -0.07043 -0.06164 -0.06858 -0.06841 -0.06672 C -0.07049 -0.06441 -0.07223 -0.06394 -0.079 -0.06255 C -0.08316 -0.06024 -0.08941 -0.05653 -0.09723 -0.05468 C -0.10504 -0.05282 -0.11493 -0.0519 -0.12483 -0.05097 C -0.12796 -0.05051 -0.13056 -0.04958 -0.13368 -0.04912 C -0.14618 -0.0468 -0.15695 -0.04448 -0.17171 -0.04402 C -0.1816 -0.0417 -0.18178 -0.04077 -0.19462 -0.04031 C -0.2007 -0.03985 -0.20434 -0.03892 -0.21007 -0.03846 C -0.21615 -0.03707 -0.22292 -0.0366 -0.23039 -0.03614 C -0.23733 -0.03521 -0.24184 -0.03382 -0.25 -0.03336 C -0.25487 -0.0329 -0.26754 -0.03197 -0.26754 -0.03243 C -0.27674 -0.03058 -0.26719 -0.03197 -0.28559 -0.03104 C -0.30348 -0.03012 -0.31615 -0.02919 -0.33559 -0.02873 C -0.35313 -0.02919 -0.37118 -0.02873 -0.38837 -0.02919 C -0.39375 -0.02919 -0.3974 -0.03104 -0.40243 -0.03151 C -0.41198 -0.0329 -0.40053 -0.03104 -0.41441 -0.03243 C -0.42223 -0.03336 -0.429 -0.03475 -0.43716 -0.03521 C -0.44323 -0.0366 -0.45834 -0.03707 -0.45834 -0.03753 C -0.46476 -0.03753 -0.47188 -0.03799 -0.47813 -0.03892 C -0.48125 -0.03892 -0.4875 -0.03938 -0.4875 -0.03985 C -0.4908 -0.04263 -0.48872 -0.04124 -0.49358 -0.04402 C -0.49549 -0.0468 -0.49341 -0.04402 -0.49792 -0.04726 C -0.49862 -0.04726 -0.49809 -0.04819 -0.49948 -0.04865 C -0.50174 -0.04865 -0.50799 -0.04912 -0.50799 -0.04958 E">
                                      <p:cBhvr>
                                        <p:cTn id="611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7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8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9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tomato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3" descr="tomato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7" descr="корзинка"/>
          <p:cNvPicPr/>
          <p:nvPr/>
        </p:nvPicPr>
        <p:blipFill>
          <a:blip r:embed="rId6"/>
          <a:stretch/>
        </p:blipFill>
        <p:spPr>
          <a:xfrm>
            <a:off x="0" y="4221000"/>
            <a:ext cx="2544840" cy="1173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9" descr="перец1"/>
          <p:cNvPicPr/>
          <p:nvPr/>
        </p:nvPicPr>
        <p:blipFill>
          <a:blip r:embed="rId7"/>
          <a:stretch/>
        </p:blipFill>
        <p:spPr>
          <a:xfrm>
            <a:off x="4859280" y="5373720"/>
            <a:ext cx="917640" cy="968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0" descr="перец8"/>
          <p:cNvPicPr/>
          <p:nvPr/>
        </p:nvPicPr>
        <p:blipFill>
          <a:blip r:embed="rId8"/>
          <a:stretch/>
        </p:blipFill>
        <p:spPr>
          <a:xfrm>
            <a:off x="6156360" y="4724280"/>
            <a:ext cx="842760" cy="8622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1" descr="капуста5"/>
          <p:cNvPicPr/>
          <p:nvPr/>
        </p:nvPicPr>
        <p:blipFill>
          <a:blip r:embed="rId9"/>
          <a:stretch/>
        </p:blipFill>
        <p:spPr>
          <a:xfrm>
            <a:off x="7524720" y="4149720"/>
            <a:ext cx="119844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63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-0.09546 C -0.00902 -0.12628 -0.00955 -0.13415 -0.01198 -0.17748 C -0.01215 -0.18072 -0.01389 -0.18327 -0.01458 -0.18628 C -0.01805 -0.20042 -0.02222 -0.21455 -0.02534 -0.22892 C -0.02812 -0.24166 -0.03038 -0.25695 -0.03593 -0.26807 C -0.03645 -0.27039 -0.03645 -0.27294 -0.03732 -0.27526 C -0.03871 -0.27896 -0.04253 -0.28591 -0.04253 -0.28568 C -0.04427 -0.29472 -0.04687 -0.29796 -0.05052 -0.30538 C -0.05711 -0.31858 -0.0684 -0.33758 -0.07986 -0.34291 C -0.08455 -0.34917 -0.08784 -0.3487 -0.09323 -0.35357 C -0.09531 -0.35542 -0.0967 -0.35867 -0.09861 -0.36075 C -0.10399 -0.36701 -0.11302 -0.37628 -0.11996 -0.37836 C -0.14652 -0.40292 -0.17882 -0.40964 -0.21059 -0.41219 C -0.22118 -0.41172 -0.23194 -0.41219 -0.24253 -0.41057 C -0.2467 -0.40987 -0.25451 -0.40524 -0.25451 -0.40501 C -0.25868 -0.39968 -0.26371 -0.39991 -0.26927 -0.39805 C -0.27274 -0.39319 -0.2783 -0.38577 -0.28264 -0.38369 C -0.28836 -0.3779 -0.29305 -0.37095 -0.3 -0.3677 C -0.30416 -0.36214 -0.30746 -0.35774 -0.31319 -0.35542 C -0.31823 -0.3487 -0.31527 -0.35311 -0.32118 -0.34106 C -0.32205 -0.33944 -0.32395 -0.34013 -0.32534 -0.3392 C -0.32986 -0.33619 -0.33368 -0.33434 -0.33854 -0.33225 C -0.34236 -0.32716 -0.34514 -0.32507 -0.35052 -0.32322 C -0.35659 -0.31557 -0.36458 -0.30955 -0.36927 -0.30005 C -0.37291 -0.29286 -0.37639 -0.28591 -0.37986 -0.27873 C -0.3835 -0.27132 -0.38784 -0.27016 -0.39201 -0.2646 E">
                                      <p:cBhvr>
                                        <p:cTn id="641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7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8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9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0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6" descr="морковь3"/>
          <p:cNvPicPr/>
          <p:nvPr/>
        </p:nvPicPr>
        <p:blipFill>
          <a:blip r:embed="rId2"/>
          <a:stretch/>
        </p:blipFill>
        <p:spPr>
          <a:xfrm>
            <a:off x="6156360" y="35020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0" descr="баклажанn"/>
          <p:cNvPicPr/>
          <p:nvPr/>
        </p:nvPicPr>
        <p:blipFill>
          <a:blip r:embed="rId3"/>
          <a:stretch/>
        </p:blipFill>
        <p:spPr>
          <a:xfrm>
            <a:off x="6227640" y="5013360"/>
            <a:ext cx="1327320" cy="950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2" descr="огурец-7"/>
          <p:cNvPicPr/>
          <p:nvPr/>
        </p:nvPicPr>
        <p:blipFill>
          <a:blip r:embed="rId4"/>
          <a:stretch/>
        </p:blipFill>
        <p:spPr>
          <a:xfrm>
            <a:off x="3564000" y="4941720"/>
            <a:ext cx="2581200" cy="2187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5" descr="tomato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4076640"/>
            <a:ext cx="653760" cy="681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6" descr="tomato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187280" y="4149720"/>
            <a:ext cx="757440" cy="789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7" descr="перец1"/>
          <p:cNvPicPr/>
          <p:nvPr/>
        </p:nvPicPr>
        <p:blipFill>
          <a:blip r:embed="rId9"/>
          <a:stretch/>
        </p:blipFill>
        <p:spPr>
          <a:xfrm>
            <a:off x="1692360" y="4076640"/>
            <a:ext cx="849240" cy="897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9" descr="корзинка"/>
          <p:cNvPicPr/>
          <p:nvPr/>
        </p:nvPicPr>
        <p:blipFill>
          <a:blip r:embed="rId10"/>
          <a:stretch/>
        </p:blipFill>
        <p:spPr>
          <a:xfrm>
            <a:off x="0" y="4221000"/>
            <a:ext cx="302436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2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3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4888 C -0.01111 -0.05236 -0.01736 -0.05862 -0.0283 -0.06279 C -0.05382 -0.07298 -0.08177 -0.08016 -0.10868 -0.08735 C -0.12882 -0.09244 -0.14809 -0.10287 -0.1691 -0.10565 C -0.1816 -0.11121 -0.1665 -0.10495 -0.18108 -0.10913 C -0.19011 -0.11191 -0.19879 -0.11584 -0.20799 -0.11839 C -0.22136 -0.12233 -0.23594 -0.12558 -0.24948 -0.12882 C -0.25104 -0.12928 -0.2875 -0.13114 -0.2882 -0.13114 C -0.35712 -0.13971 -0.3316 -0.13299 -0.47604 -0.12998 C -0.48924 -0.12511 -0.47639 -0.13067 -0.48802 -0.12303 C -0.49861 -0.11608 -0.49097 -0.12766 -0.50816 -0.1126 C -0.51268 -0.10866 -0.51684 -0.10356 -0.52153 -0.09986 C -0.52466 -0.09105 -0.52622 -0.08109 -0.53212 -0.07321 C -0.53403 -0.06742 -0.5375 -0.06394 -0.54167 -0.05931 C -0.54688 -0.05352 -0.54549 -0.05306 -0.55104 -0.04888 C -0.55972 -0.04286 -0.55104 -0.05051 -0.55764 -0.04425 C -0.55972 -0.03892 -0.56407 -0.03637 -0.56702 -0.03151 E">
                                      <p:cBhvr>
                                        <p:cTn id="683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9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0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+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ogure9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5164200"/>
            <a:ext cx="1439640" cy="14079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2" descr="перец"/>
          <p:cNvPicPr/>
          <p:nvPr/>
        </p:nvPicPr>
        <p:blipFill>
          <a:blip r:embed="rId4"/>
          <a:stretch/>
        </p:blipFill>
        <p:spPr>
          <a:xfrm>
            <a:off x="1619280" y="4653000"/>
            <a:ext cx="679320" cy="717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4434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огурец-"/>
          <p:cNvPicPr/>
          <p:nvPr/>
        </p:nvPicPr>
        <p:blipFill>
          <a:blip r:embed="rId6"/>
          <a:stretch/>
        </p:blipFill>
        <p:spPr>
          <a:xfrm>
            <a:off x="611280" y="4724280"/>
            <a:ext cx="1871640" cy="15861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pepper1"/>
          <p:cNvPicPr/>
          <p:nvPr/>
        </p:nvPicPr>
        <p:blipFill>
          <a:blip r:embed="rId7"/>
          <a:stretch/>
        </p:blipFill>
        <p:spPr>
          <a:xfrm>
            <a:off x="392040" y="4797360"/>
            <a:ext cx="992160" cy="1013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корзинка"/>
          <p:cNvPicPr/>
          <p:nvPr/>
        </p:nvPicPr>
        <p:blipFill>
          <a:blip r:embed="rId8"/>
          <a:stretch/>
        </p:blipFill>
        <p:spPr>
          <a:xfrm>
            <a:off x="-252360" y="5084640"/>
            <a:ext cx="3348000" cy="1543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8" descr="перец8"/>
          <p:cNvPicPr/>
          <p:nvPr/>
        </p:nvPicPr>
        <p:blipFill>
          <a:blip r:embed="rId9"/>
          <a:stretch/>
        </p:blipFill>
        <p:spPr>
          <a:xfrm>
            <a:off x="6878520" y="3789360"/>
            <a:ext cx="771480" cy="789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капуста5"/>
          <p:cNvPicPr/>
          <p:nvPr/>
        </p:nvPicPr>
        <p:blipFill>
          <a:blip r:embed="rId10"/>
          <a:stretch/>
        </p:blipFill>
        <p:spPr>
          <a:xfrm>
            <a:off x="6156360" y="4941720"/>
            <a:ext cx="1079640" cy="10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8248 C 0.00764 -0.09476 0.00243 -0.10912 -0.00451 -0.11886 C -0.0059 -0.1265 -0.00902 -0.13507 -0.01458 -0.13924 C -0.01753 -0.14944 -0.01527 -0.1455 -0.02135 -0.15245 C -0.02274 -0.15824 -0.02569 -0.16218 -0.02899 -0.16658 C -0.03229 -0.17423 -0.03663 -0.18188 -0.04166 -0.18836 C -0.04948 -0.19879 -0.06389 -0.20435 -0.07395 -0.21153 C -0.09114 -0.22405 -0.0776 -0.21408 -0.08645 -0.22451 C -0.09305 -0.23192 -0.10191 -0.23702 -0.10885 -0.24374 C -0.11944 -0.25393 -0.12361 -0.27293 -0.13784 -0.27873 C -0.15208 -0.29124 -0.13402 -0.27595 -0.15139 -0.28753 C -0.15382 -0.28869 -0.1552 -0.29124 -0.15711 -0.29286 C -0.15885 -0.29402 -0.16076 -0.29541 -0.16302 -0.29657 C -0.17274 -0.30305 -0.18489 -0.30722 -0.19635 -0.30954 C -0.20746 -0.31835 -0.21163 -0.31603 -0.22795 -0.31719 C -0.27239 -0.32437 -0.31545 -0.31464 -0.35902 -0.31186 C -0.3618 -0.31024 -0.36527 -0.30931 -0.36823 -0.30676 C -0.37014 -0.30491 -0.37222 -0.30236 -0.37465 -0.3005 C -0.37725 -0.29471 -0.37934 -0.2866 -0.38264 -0.28104 C -0.38576 -0.26807 -0.38264 -0.25324 -0.38264 -0.24003 E">
                                      <p:cBhvr>
                                        <p:cTn id="701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7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8" dur="1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9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0" dur="1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tomato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3933720"/>
            <a:ext cx="1035000" cy="107784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перец"/>
          <p:cNvPicPr/>
          <p:nvPr/>
        </p:nvPicPr>
        <p:blipFill>
          <a:blip r:embed="rId4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морковь"/>
          <p:cNvPicPr/>
          <p:nvPr/>
        </p:nvPicPr>
        <p:blipFill>
          <a:blip r:embed="rId5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огурец-"/>
          <p:cNvPicPr/>
          <p:nvPr/>
        </p:nvPicPr>
        <p:blipFill>
          <a:blip r:embed="rId6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6" descr="корзинка"/>
          <p:cNvPicPr/>
          <p:nvPr/>
        </p:nvPicPr>
        <p:blipFill>
          <a:blip r:embed="rId8"/>
          <a:stretch/>
        </p:blipFill>
        <p:spPr>
          <a:xfrm>
            <a:off x="0" y="5084640"/>
            <a:ext cx="3336840" cy="15382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7" descr="капуста5"/>
          <p:cNvPicPr/>
          <p:nvPr/>
        </p:nvPicPr>
        <p:blipFill>
          <a:blip r:embed="rId9"/>
          <a:stretch/>
        </p:blipFill>
        <p:spPr>
          <a:xfrm>
            <a:off x="5076720" y="537372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9" descr="перец1"/>
          <p:cNvPicPr/>
          <p:nvPr/>
        </p:nvPicPr>
        <p:blipFill>
          <a:blip r:embed="rId10"/>
          <a:stretch/>
        </p:blipFill>
        <p:spPr>
          <a:xfrm>
            <a:off x="7885080" y="3789360"/>
            <a:ext cx="91764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6" dur="indefinite" restart="never" nodeType="tmRoot">
          <p:childTnLst>
            <p:seq>
              <p:cTn id="72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7855 C -0.00052 -0.08341 -0.00034 -0.08805 -0.00139 -0.09222 C -0.00173 -0.09314 -0.00364 -0.09361 -0.00416 -0.0943 C -0.00503 -0.09592 -0.00468 -0.09731 -0.00555 -0.09917 C -0.01267 -0.10844 -0.0184 -0.11377 -0.02968 -0.11886 C -0.05277 -0.14203 -0.10173 -0.15408 -0.13593 -0.16196 C -0.15208 -0.16566 -0.16718 -0.17146 -0.18298 -0.17563 C -0.20451 -0.18073 -0.22621 -0.18559 -0.24774 -0.19069 C -0.26215 -0.19463 -0.2717 -0.19324 -0.28802 -0.19764 C -0.3092 -0.20366 -0.33038 -0.20644 -0.3526 -0.2083 C -0.38524 -0.2076 -0.41545 -0.20807 -0.44809 -0.2076 C -0.45191 -0.20644 -0.45573 -0.20621 -0.45902 -0.20436 C -0.46493 -0.20111 -0.47118 -0.19648 -0.47777 -0.19532 C -0.48125 -0.19161 -0.48246 -0.18999 -0.48715 -0.18652 C -0.49079 -0.1842 -0.49514 -0.18281 -0.49791 -0.1798 C -0.5026 -0.17516 -0.50781 -0.17053 -0.51145 -0.16543 C -0.51215 -0.16451 -0.51198 -0.16288 -0.51284 -0.16196 C -0.51805 -0.1557 -0.525 -0.14968 -0.52899 -0.14203 C -0.53229 -0.13578 -0.53385 -0.12697 -0.53698 -0.12118 C -0.53836 -0.11863 -0.54132 -0.11701 -0.54236 -0.11446 C -0.54323 -0.11214 -0.54479 -0.10797 -0.54479 -0.10751 E">
                                      <p:cBhvr>
                                        <p:cTn id="74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49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0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3492360" y="2133720"/>
            <a:ext cx="22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8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1" descr="перец"/>
          <p:cNvPicPr/>
          <p:nvPr/>
        </p:nvPicPr>
        <p:blipFill>
          <a:blip r:embed="rId2"/>
          <a:stretch/>
        </p:blipFill>
        <p:spPr>
          <a:xfrm>
            <a:off x="1403280" y="4005360"/>
            <a:ext cx="639720" cy="676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tomato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13360"/>
            <a:ext cx="1000080" cy="104148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6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2" descr="морковь"/>
          <p:cNvPicPr/>
          <p:nvPr/>
        </p:nvPicPr>
        <p:blipFill>
          <a:blip r:embed="rId5"/>
          <a:stretch/>
        </p:blipFill>
        <p:spPr>
          <a:xfrm>
            <a:off x="755640" y="4005360"/>
            <a:ext cx="865080" cy="10414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3" descr="огурец-"/>
          <p:cNvPicPr/>
          <p:nvPr/>
        </p:nvPicPr>
        <p:blipFill>
          <a:blip r:embed="rId6"/>
          <a:stretch/>
        </p:blipFill>
        <p:spPr>
          <a:xfrm>
            <a:off x="611280" y="4221000"/>
            <a:ext cx="1617480" cy="1371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pepper1"/>
          <p:cNvPicPr/>
          <p:nvPr/>
        </p:nvPicPr>
        <p:blipFill>
          <a:blip r:embed="rId7"/>
          <a:stretch/>
        </p:blipFill>
        <p:spPr>
          <a:xfrm>
            <a:off x="212760" y="426888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" descr="корзинка"/>
          <p:cNvPicPr/>
          <p:nvPr/>
        </p:nvPicPr>
        <p:blipFill>
          <a:blip r:embed="rId8"/>
          <a:stretch/>
        </p:blipFill>
        <p:spPr>
          <a:xfrm>
            <a:off x="-252360" y="4581360"/>
            <a:ext cx="3024000" cy="1393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6" descr="pepper1"/>
          <p:cNvPicPr/>
          <p:nvPr/>
        </p:nvPicPr>
        <p:blipFill>
          <a:blip r:embed="rId9"/>
          <a:stretch/>
        </p:blipFill>
        <p:spPr>
          <a:xfrm>
            <a:off x="1835280" y="4149720"/>
            <a:ext cx="711000" cy="725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8" descr="капуста5"/>
          <p:cNvPicPr/>
          <p:nvPr/>
        </p:nvPicPr>
        <p:blipFill>
          <a:blip r:embed="rId10"/>
          <a:stretch/>
        </p:blipFill>
        <p:spPr>
          <a:xfrm>
            <a:off x="4643280" y="5229360"/>
            <a:ext cx="1081080" cy="1041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2" descr="огурец-7"/>
          <p:cNvPicPr/>
          <p:nvPr/>
        </p:nvPicPr>
        <p:blipFill>
          <a:blip r:embed="rId11"/>
          <a:stretch/>
        </p:blipFill>
        <p:spPr>
          <a:xfrm rot="20866200">
            <a:off x="6227640" y="3433320"/>
            <a:ext cx="214812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2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3" dur="1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4 -0.06719 C 0.00625 -0.08294 0.00156 -0.09522 -0.0099 -0.10472 C -0.01285 -0.11052 -0.01285 -0.11399 -0.01788 -0.1177 C -0.02344 -0.12697 -0.02812 -0.13647 -0.03368 -0.1455 C -0.0342 -0.14736 -0.0342 -0.14921 -0.03507 -0.15037 C -0.03611 -0.15199 -0.03819 -0.15199 -0.03906 -0.15361 C -0.04566 -0.16798 -0.03472 -0.15709 -0.04427 -0.16496 C -0.04705 -0.17053 -0.05017 -0.17562 -0.0526 -0.18142 C -0.05382 -0.18466 -0.05503 -0.1879 -0.0566 -0.19115 C -0.05868 -0.19555 -0.06319 -0.20412 -0.06319 -0.20389 C -0.06458 -0.21154 -0.06771 -0.21408 -0.07101 -0.22034 C -0.07274 -0.22891 -0.08038 -0.24166 -0.08576 -0.24791 C -0.08819 -0.26135 -0.09687 -0.26112 -0.10434 -0.26761 C -0.1191 -0.28058 -0.13941 -0.2968 -0.15764 -0.30004 C -0.17257 -0.30931 -0.18698 -0.31487 -0.20295 -0.32136 C -0.2191 -0.32762 -0.23333 -0.33572 -0.24983 -0.33943 C -0.27257 -0.35982 -0.3342 -0.34546 -0.3658 -0.3443 C -0.37674 -0.34152 -0.38976 -0.33457 -0.40052 -0.32947 C -0.41128 -0.3246 -0.42292 -0.32113 -0.43385 -0.31649 C -0.43698 -0.30143 -0.43524 -0.31232 -0.43524 -0.28382 E">
                                      <p:cBhvr>
                                        <p:cTn id="773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8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9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0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3"/>
          <p:cNvSpPr txBox="1"/>
          <p:nvPr/>
        </p:nvSpPr>
        <p:spPr>
          <a:xfrm>
            <a:off x="3708360" y="1125360"/>
            <a:ext cx="480240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5" name="AutoShape 10">
            <a:hlinkClick r:id="rId2" action="ppaction://hlinksldjump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10800"/>
                </a:moveTo>
                <a:lnTo>
                  <a:pt x="29166" y="3794"/>
                </a:lnTo>
                <a:lnTo>
                  <a:pt x="2916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5" descr="перец"/>
          <p:cNvPicPr/>
          <p:nvPr/>
        </p:nvPicPr>
        <p:blipFill>
          <a:blip r:embed="rId3"/>
          <a:stretch/>
        </p:blipFill>
        <p:spPr>
          <a:xfrm>
            <a:off x="1908000" y="4292640"/>
            <a:ext cx="1020960" cy="10778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8" descr="морковь"/>
          <p:cNvPicPr/>
          <p:nvPr/>
        </p:nvPicPr>
        <p:blipFill>
          <a:blip r:embed="rId4"/>
          <a:stretch/>
        </p:blipFill>
        <p:spPr>
          <a:xfrm>
            <a:off x="684360" y="4076640"/>
            <a:ext cx="1662120" cy="1662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1" descr="огурец-"/>
          <p:cNvPicPr/>
          <p:nvPr/>
        </p:nvPicPr>
        <p:blipFill>
          <a:blip r:embed="rId5"/>
          <a:stretch/>
        </p:blipFill>
        <p:spPr>
          <a:xfrm>
            <a:off x="755640" y="4365720"/>
            <a:ext cx="2581200" cy="218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4" descr="капуста"/>
          <p:cNvPicPr/>
          <p:nvPr/>
        </p:nvPicPr>
        <p:blipFill>
          <a:blip r:embed="rId6"/>
          <a:stretch/>
        </p:blipFill>
        <p:spPr>
          <a:xfrm>
            <a:off x="0" y="3860640"/>
            <a:ext cx="1376280" cy="1325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5" descr="pepper1"/>
          <p:cNvPicPr/>
          <p:nvPr/>
        </p:nvPicPr>
        <p:blipFill>
          <a:blip r:embed="rId7"/>
          <a:stretch/>
        </p:blipFill>
        <p:spPr>
          <a:xfrm>
            <a:off x="250920" y="465300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7" descr="корзинка"/>
          <p:cNvPicPr/>
          <p:nvPr/>
        </p:nvPicPr>
        <p:blipFill>
          <a:blip r:embed="rId8"/>
          <a:stretch/>
        </p:blipFill>
        <p:spPr>
          <a:xfrm>
            <a:off x="-324000" y="5132520"/>
            <a:ext cx="374508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>
            <a:hlinkClick r:id="rId3"/>
          </p:cNvPr>
          <p:cNvSpPr/>
          <p:nvPr/>
        </p:nvSpPr>
        <p:spPr>
          <a:xfrm rot="1420200">
            <a:off x="5546520" y="150840"/>
            <a:ext cx="863280" cy="863640"/>
          </a:xfrm>
          <a:custGeom>
            <a:avLst/>
            <a:gdLst>
              <a:gd name="textAreaLeft" fmla="*/ 302040 w 863280"/>
              <a:gd name="textAreaRight" fmla="*/ 561240 w 86328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6">
            <a:hlinkClick r:id="rId5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">
            <a:hlinkClick r:id="rId6"/>
          </p:cNvPr>
          <p:cNvSpPr/>
          <p:nvPr/>
        </p:nvSpPr>
        <p:spPr>
          <a:xfrm rot="286200">
            <a:off x="684360" y="220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74902E-006 C -0.00625 0.00394 -0.0059 0.00602 -0.00972 0.01805 C -0.01007 0.02429 -0.00955 0.0317 -0.01146 0.03632 C -0.01302 0.03956 -0.01684 0.04419 -0.01684 0.04442 C -0.01875 0.05367 -0.02188 0.06223 -0.02569 0.06824 C -0.02639 0.07634 -0.0283 0.08074 -0.02917 0.08837 C -0.03038 0.09924 -0.03125 0.11289 -0.03351 0.1226 C -0.03455 0.127 -0.03524 0.13116 -0.03611 0.1351 C -0.03715 0.13903 -0.03958 0.14666 -0.03958 0.14736 C -0.04097 0.15568 -0.04323 0.16586 -0.0467 0.17141 C -0.05017 0.18367 -0.05243 0.1964 -0.05642 0.20773 C -0.05833 0.22115 -0.05573 0.20496 -0.0599 0.21953 C -0.06111 0.22346 -0.06146 0.22786 -0.0625 0.23179 C -0.06337 0.24451 -0.06476 0.25099 -0.06875 0.26001 C -0.06997 0.2688 -0.0717 0.27505 -0.07396 0.28222 C -0.07535 0.29725 -0.08108 0.32732 -0.08819 0.33288 C -0.08993 0.33889 -0.09201 0.34583 -0.09323 0.35277 C -0.09375 0.35485 -0.09358 0.3574 -0.09427 0.35878 C -0.09497 0.3604 -0.09583 0.3604 -0.09688 0.36087 C -0.0974 0.36734 -0.09861 0.3766 -0.09861 0.3833 E">
                                      <p:cBhvr>
                                        <p:cTn id="791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11288E-006 C 0.00746 0.00879 0.01684 0.02267 0.02569 0.02775 C 0.03003 0.03585 0.03142 0.04533 0.03715 0.0488 C 0.04375 0.06037 0.03941 0.05412 0.05121 0.06477 C 0.05868 0.07171 0.06371 0.08258 0.07066 0.09044 C 0.07673 0.10918 0.08402 0.11542 0.09375 0.12745 C 0.09878 0.1337 0.10277 0.14226 0.10781 0.1485 C 0.11788 0.16123 0.13142 0.17534 0.14253 0.18552 C 0.15989 0.22253 0.1875 0.2371 0.20833 0.26671 C 0.21562 0.27712 0.22222 0.28892 0.23142 0.29215 C 0.24114 0.31089 0.25573 0.3287 0.26857 0.33865 C 0.28524 0.36826 0.29791 0.40388 0.31111 0.43812 C 0.31267 0.44251 0.31475 0.44552 0.31632 0.45015 C 0.31979 0.4594 0.32309 0.46865 0.32656 0.4779 C 0.32829 0.4823 0.33177 0.49202 0.33177 0.49225 C 0.33628 0.51862 0.34166 0.53805 0.34722 0.56396 C 0.34878 0.57136 0.35 0.57922 0.35104 0.58686 C 0.35208 0.5931 0.35225 0.59981 0.35364 0.60559 C 0.35972 0.63451 0.36163 0.63428 0.36527 0.65672 C 0.36875 0.6773 0.3684 0.70067 0.37031 0.72149 C 0.37326 0.75086 0.3809 0.77862 0.38454 0.80777 C 0.38177 0.82859 0.38593 0.80731 0.37934 0.82118 C 0.37829 0.82327 0.37795 0.82859 0.37795 0.82905 E">
                                      <p:cBhvr>
                                        <p:cTn id="796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01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06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8513E-006 C 0.04514 0.01966 0.12379 0.04672 0.1533 0.06893 C 0.18386 0.0916 0.20469 0.11496 0.24688 0.13648 C 0.26649 0.15729 0.29601 0.17603 0.32656 0.19592 C 0.35521 0.21443 0.36198 0.23363 0.40035 0.25144 C 0.40938 0.25561 0.425 0.25884 0.43386 0.26301 C 0.47031 0.28128 0.46441 0.28591 0.48698 0.30441 C 0.51962 0.33055 0.5559 0.35623 0.5934 0.38168 C 0.61406 0.45894 0.57865 0.53643 0.64653 0.6123 C 0.65139 0.62526 0.65434 0.64168 0.66719 0.65463 C 0.67604 0.66389 0.70556 0.67129 0.70642 0.681 C 0.70868 0.70622 0.70642 0.73074 0.70642 0.75549 E">
                                      <p:cBhvr>
                                        <p:cTn id="811" dur="1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>
            <a:hlinkClick r:id="rId3"/>
          </p:cNvPr>
          <p:cNvSpPr/>
          <p:nvPr/>
        </p:nvSpPr>
        <p:spPr>
          <a:xfrm rot="1420200">
            <a:off x="2700000" y="26028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0">
            <a:hlinkClick r:id="rId7"/>
          </p:cNvPr>
          <p:cNvSpPr/>
          <p:nvPr/>
        </p:nvSpPr>
        <p:spPr>
          <a:xfrm rot="1482000">
            <a:off x="4355640" y="5877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499E-006 C 0.01111 0.0037 0.01042 0.00555 0.01736 0.01642 C 0.01806 0.02197 0.01701 0.02868 0.02049 0.03284 C 0.02326 0.03585 0.03004 0.04001 0.03004 0.04025 C 0.03351 0.04857 0.03906 0.05644 0.04583 0.06176 C 0.04722 0.06916 0.05052 0.07309 0.05226 0.08003 C 0.05451 0.08975 0.05608 0.10224 0.06007 0.11103 C 0.06181 0.11496 0.06319 0.11866 0.06476 0.12213 C 0.06667 0.12583 0.07101 0.13277 0.07101 0.13324 C 0.07344 0.14087 0.0776 0.15012 0.08368 0.15498 C 0.08993 0.16608 0.0941 0.17765 0.10122 0.18783 C 0.10451 0.20009 0.09983 0.18528 0.10747 0.19847 C 0.10955 0.20217 0.11024 0.2061 0.11215 0.20957 C 0.11372 0.22114 0.11615 0.22692 0.12326 0.23525 C 0.12552 0.24311 0.12847 0.24867 0.13264 0.25514 C 0.13524 0.26879 0.14549 0.29609 0.15816 0.30094 C 0.16129 0.3065 0.16493 0.31274 0.16736 0.31899 C 0.16806 0.32084 0.16788 0.32315 0.1691 0.32454 C 0.17031 0.32593 0.17205 0.32593 0.17379 0.32639 C 0.17465 0.33217 0.17708 0.3405 0.17708 0.34651 E">
                                      <p:cBhvr>
                                        <p:cTn id="817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7837E-006 C 0.00764 0.00694 0.01719 0.01758 0.02604 0.02151 C 0.03038 0.02775 0.03177 0.03516 0.03767 0.0377 C 0.04427 0.04672 0.03993 0.04186 0.05191 0.05019 C 0.05937 0.05551 0.06441 0.06384 0.07153 0.06985 C 0.0776 0.08443 0.08507 0.08929 0.09479 0.09854 C 0.09983 0.1034 0.10399 0.10987 0.10903 0.11473 C 0.11927 0.12468 0.13281 0.13555 0.1441 0.14341 C 0.16163 0.17187 0.18958 0.1832 0.21059 0.2061 C 0.21788 0.2142 0.22465 0.22322 0.23385 0.22576 C 0.24375 0.24011 0.25851 0.25399 0.27153 0.26162 C 0.28837 0.28452 0.30104 0.31205 0.31441 0.33865 C 0.31597 0.34189 0.31805 0.3442 0.31962 0.34767 C 0.32326 0.35484 0.32656 0.36201 0.33003 0.36918 C 0.33177 0.37288 0.33524 0.38006 0.33524 0.38029 C 0.33993 0.40064 0.34531 0.41568 0.35087 0.43557 C 0.35243 0.44136 0.35365 0.44737 0.35469 0.45338 C 0.35573 0.45824 0.35608 0.46333 0.35746 0.46773 C 0.36354 0.49016 0.36545 0.48993 0.3691 0.50728 C 0.37257 0.52324 0.37222 0.54129 0.3743 0.55748 C 0.37726 0.57992 0.3849 0.60143 0.38854 0.62387 C 0.38576 0.64006 0.38993 0.62364 0.38333 0.63428 C 0.38229 0.6359 0.38194 0.64006 0.38194 0.64029 E">
                                      <p:cBhvr>
                                        <p:cTn id="822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27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32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37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4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>
            <a:hlinkClick r:id="rId7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848" dur="1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11288E-006 C 0.00208 0.00832 0.00486 0.02151 0.00746 0.02614 C 0.00885 0.034 0.0092 0.04302 0.01093 0.04626 C 0.01284 0.05713 0.01163 0.05135 0.0151 0.0613 C 0.01736 0.068 0.01875 0.07818 0.02083 0.08582 C 0.02256 0.10363 0.02482 0.10941 0.0276 0.12098 C 0.02916 0.12676 0.03038 0.13486 0.03177 0.14087 C 0.03472 0.1529 0.03888 0.16632 0.04218 0.17603 C 0.04722 0.21119 0.05538 0.22484 0.06163 0.25306 C 0.06371 0.26301 0.06562 0.27411 0.0684 0.27712 C 0.07135 0.29493 0.07569 0.31182 0.07934 0.3213 C 0.08437 0.34952 0.08802 0.38329 0.09201 0.41568 C 0.09253 0.41984 0.09305 0.42285 0.09357 0.42725 C 0.09461 0.43604 0.09548 0.44483 0.09652 0.45362 C 0.09704 0.45778 0.09809 0.4668 0.09809 0.46703 C 0.09947 0.49225 0.10104 0.51052 0.1026 0.53527 C 0.10312 0.54221 0.10347 0.54961 0.10381 0.55702 C 0.10416 0.5628 0.10416 0.56928 0.10451 0.57483 C 0.10642 0.60212 0.10694 0.60189 0.10798 0.62317 C 0.10902 0.64284 0.10902 0.66504 0.10954 0.68471 C 0.11041 0.7127 0.11267 0.73907 0.11371 0.76659 C 0.11284 0.78649 0.11423 0.76613 0.11215 0.77932 C 0.1118 0.7814 0.1118 0.78649 0.1118 0.78695 E">
                                      <p:cBhvr>
                                        <p:cTn id="853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858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863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68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73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деревоб"/>
          <p:cNvPicPr/>
          <p:nvPr/>
        </p:nvPicPr>
        <p:blipFill>
          <a:blip r:embed="rId2"/>
          <a:stretch/>
        </p:blipFill>
        <p:spPr>
          <a:xfrm>
            <a:off x="2195640" y="189000"/>
            <a:ext cx="5256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"/>
          <p:cNvGrpSpPr/>
          <p:nvPr/>
        </p:nvGrpSpPr>
        <p:grpSpPr>
          <a:xfrm>
            <a:off x="3059280" y="1484280"/>
            <a:ext cx="576000" cy="576360"/>
            <a:chOff x="3059280" y="1484280"/>
            <a:chExt cx="576000" cy="576360"/>
          </a:xfrm>
        </p:grpSpPr>
        <p:pic>
          <p:nvPicPr>
            <p:cNvPr id="79" name="Picture 7" descr="2"/>
            <p:cNvPicPr/>
            <p:nvPr/>
          </p:nvPicPr>
          <p:blipFill>
            <a:blip r:embed="rId3"/>
            <a:stretch/>
          </p:blipFill>
          <p:spPr>
            <a:xfrm>
              <a:off x="3059280" y="148428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WordArt 8"/>
            <p:cNvSpPr txBox="1"/>
            <p:nvPr/>
          </p:nvSpPr>
          <p:spPr>
            <a:xfrm>
              <a:off x="3263400" y="1690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5724360" y="1844640"/>
            <a:ext cx="649440" cy="503280"/>
            <a:chOff x="5724360" y="1844640"/>
            <a:chExt cx="649440" cy="503280"/>
          </a:xfrm>
        </p:grpSpPr>
        <p:pic>
          <p:nvPicPr>
            <p:cNvPr id="82" name="Picture 10" descr="2"/>
            <p:cNvPicPr/>
            <p:nvPr/>
          </p:nvPicPr>
          <p:blipFill>
            <a:blip r:embed="rId4"/>
            <a:stretch/>
          </p:blipFill>
          <p:spPr>
            <a:xfrm>
              <a:off x="5724360" y="1844640"/>
              <a:ext cx="6494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WordArt 11"/>
            <p:cNvSpPr txBox="1"/>
            <p:nvPr/>
          </p:nvSpPr>
          <p:spPr>
            <a:xfrm>
              <a:off x="5954760" y="202500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4" name="Group 12"/>
          <p:cNvGrpSpPr/>
          <p:nvPr/>
        </p:nvGrpSpPr>
        <p:grpSpPr>
          <a:xfrm>
            <a:off x="4643280" y="765000"/>
            <a:ext cx="576360" cy="576360"/>
            <a:chOff x="4643280" y="765000"/>
            <a:chExt cx="576360" cy="576360"/>
          </a:xfrm>
        </p:grpSpPr>
        <p:pic>
          <p:nvPicPr>
            <p:cNvPr id="85" name="Picture 13" descr="2"/>
            <p:cNvPicPr/>
            <p:nvPr/>
          </p:nvPicPr>
          <p:blipFill>
            <a:blip r:embed="rId5"/>
            <a:stretch/>
          </p:blipFill>
          <p:spPr>
            <a:xfrm>
              <a:off x="464328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WordArt 14"/>
            <p:cNvSpPr txBox="1"/>
            <p:nvPr/>
          </p:nvSpPr>
          <p:spPr>
            <a:xfrm>
              <a:off x="484776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4211640" y="1844640"/>
            <a:ext cx="682560" cy="547560"/>
            <a:chOff x="4211640" y="1844640"/>
            <a:chExt cx="682560" cy="547560"/>
          </a:xfrm>
        </p:grpSpPr>
        <p:pic>
          <p:nvPicPr>
            <p:cNvPr id="88" name="Picture 16" descr="2"/>
            <p:cNvPicPr/>
            <p:nvPr/>
          </p:nvPicPr>
          <p:blipFill>
            <a:blip r:embed="rId6"/>
            <a:stretch/>
          </p:blipFill>
          <p:spPr>
            <a:xfrm>
              <a:off x="4211640" y="1844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WordArt 17"/>
            <p:cNvSpPr txBox="1"/>
            <p:nvPr/>
          </p:nvSpPr>
          <p:spPr>
            <a:xfrm>
              <a:off x="4453560" y="2040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0" name="Picture 28" descr="яблоко"/>
          <p:cNvPicPr/>
          <p:nvPr/>
        </p:nvPicPr>
        <p:blipFill>
          <a:blip r:embed="rId7"/>
          <a:stretch/>
        </p:blipFill>
        <p:spPr>
          <a:xfrm>
            <a:off x="6372360" y="5734080"/>
            <a:ext cx="600120" cy="55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2" descr="корзинка2"/>
          <p:cNvPicPr/>
          <p:nvPr/>
        </p:nvPicPr>
        <p:blipFill>
          <a:blip r:embed="rId8"/>
          <a:stretch/>
        </p:blipFill>
        <p:spPr>
          <a:xfrm>
            <a:off x="5292720" y="5867280"/>
            <a:ext cx="187164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0%9D%D1%8E%D1%88%D0%B0.wav"/>
                                        </p:tgtEl>
                                      </p:cMediaNode>
                                    </p:audio>
                                    <p:animMotion origin="layout" path="M -2.22222E-006 -2.75255E-006 L 0.29948 0.60983 E">
                                      <p:cBhvr>
                                        <p:cTn id="6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0.11423 0.45694 E">
                                      <p:cBhvr>
                                        <p:cTn id="7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L -0.10816 0.52731 E">
                                      <p:cBhvr>
                                        <p:cTn id="8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>
            <a:hlinkClick r:id="rId2"/>
          </p:cNvPr>
          <p:cNvSpPr/>
          <p:nvPr/>
        </p:nvSpPr>
        <p:spPr>
          <a:xfrm rot="1420200">
            <a:off x="826560" y="404640"/>
            <a:ext cx="1079640" cy="100836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>
            <a:hlinkClick r:id="rId3"/>
          </p:cNvPr>
          <p:cNvSpPr/>
          <p:nvPr/>
        </p:nvSpPr>
        <p:spPr>
          <a:xfrm rot="1420200">
            <a:off x="3348000" y="189000"/>
            <a:ext cx="934920" cy="863640"/>
          </a:xfrm>
          <a:custGeom>
            <a:avLst/>
            <a:gdLst>
              <a:gd name="textAreaLeft" fmla="*/ 327240 w 934920"/>
              <a:gd name="textAreaRight" fmla="*/ 607680 w 93492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">
            <a:hlinkClick r:id="rId4"/>
          </p:cNvPr>
          <p:cNvSpPr/>
          <p:nvPr/>
        </p:nvSpPr>
        <p:spPr>
          <a:xfrm rot="18480600">
            <a:off x="2807640" y="180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>
            <a:hlinkClick r:id="rId5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9">
            <a:hlinkClick r:id="rId7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5077E-006 C 0.00764 0.0037 0.00712 0.00555 0.01198 0.01688 C 0.01232 0.02243 0.01163 0.02937 0.01406 0.03377 C 0.01597 0.03678 0.02066 0.04117 0.02066 0.0414 C 0.02309 0.04996 0.02691 0.05806 0.03159 0.06338 C 0.03246 0.07101 0.03472 0.07518 0.03594 0.08235 C 0.0375 0.09229 0.03854 0.10502 0.04132 0.11427 C 0.04253 0.1182 0.04357 0.12213 0.04462 0.1256 C 0.046 0.1293 0.04896 0.13648 0.04896 0.13694 C 0.05052 0.1448 0.05347 0.15452 0.05764 0.15938 C 0.06198 0.17094 0.06493 0.18274 0.06979 0.19315 C 0.07205 0.20587 0.06875 0.1906 0.07413 0.20425 C 0.07552 0.20795 0.07604 0.21212 0.07725 0.21559 C 0.07847 0.22762 0.08003 0.2334 0.08507 0.24196 C 0.08663 0.25005 0.08854 0.25584 0.09149 0.26255 C 0.09323 0.27666 0.10034 0.30465 0.10903 0.30974 C 0.11128 0.31529 0.11371 0.32176 0.11545 0.32824 C 0.11597 0.33009 0.1158 0.33264 0.11666 0.33402 C 0.11753 0.33541 0.11857 0.33541 0.11979 0.33587 C 0.12048 0.34189 0.12222 0.35045 0.12222 0.35669 E">
                                      <p:cBhvr>
                                        <p:cTn id="879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0.22066 0.4985 E">
                                      <p:cBhvr>
                                        <p:cTn id="884" dur="1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89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8235 C 0.03142 0.10131 0.04531 0.12722 0.05052 0.14827 C 0.0559 0.16979 0.05955 0.19199 0.06701 0.21258 C 0.07049 0.23224 0.07569 0.25028 0.08108 0.26902 C 0.08611 0.28683 0.08733 0.30511 0.0941 0.32223 C 0.09566 0.32616 0.09844 0.32917 0.1 0.3331 C 0.10642 0.35045 0.10538 0.35484 0.10937 0.37242 C 0.1151 0.39717 0.12153 0.42169 0.12812 0.44621 C 0.13177 0.51954 0.12552 0.59333 0.1375 0.66551 C 0.13837 0.67777 0.13889 0.69373 0.14115 0.70599 C 0.14271 0.71478 0.14792 0.72172 0.14809 0.7312 C 0.14844 0.75503 0.14809 0.77839 0.14809 0.80175 E">
                                      <p:cBhvr>
                                        <p:cTn id="89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99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4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09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>
            <a:hlinkClick r:id="rId2"/>
          </p:cNvPr>
          <p:cNvSpPr/>
          <p:nvPr/>
        </p:nvSpPr>
        <p:spPr>
          <a:xfrm rot="1420200">
            <a:off x="1688760" y="1642680"/>
            <a:ext cx="1150920" cy="1008000"/>
          </a:xfrm>
          <a:custGeom>
            <a:avLst/>
            <a:gdLst>
              <a:gd name="textAreaLeft" fmla="*/ 402840 w 1150920"/>
              <a:gd name="textAreaRight" fmla="*/ 748080 w 115092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7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2">
            <a:hlinkClick r:id="rId9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3">
            <a:hlinkClick r:id="rId10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912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915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920" dur="1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925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930" dur="1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935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0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942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45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0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5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">
            <a:hlinkClick r:id="rId2"/>
          </p:cNvPr>
          <p:cNvSpPr/>
          <p:nvPr/>
        </p:nvSpPr>
        <p:spPr>
          <a:xfrm rot="1420200">
            <a:off x="5435280" y="549360"/>
            <a:ext cx="863640" cy="863640"/>
          </a:xfrm>
          <a:custGeom>
            <a:avLst/>
            <a:gdLst>
              <a:gd name="textAreaLeft" fmla="*/ 302040 w 863640"/>
              <a:gd name="textAreaRight" fmla="*/ 561600 w 863640"/>
              <a:gd name="textAreaTop" fmla="*/ 302040 h 863640"/>
              <a:gd name="textAreaBottom" fmla="*/ 5616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>
            <a:hlinkClick r:id="rId3"/>
          </p:cNvPr>
          <p:cNvSpPr/>
          <p:nvPr/>
        </p:nvSpPr>
        <p:spPr>
          <a:xfrm rot="18480600">
            <a:off x="2664360" y="1663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>
            <a:hlinkClick r:id="rId4"/>
          </p:cNvPr>
          <p:cNvSpPr/>
          <p:nvPr/>
        </p:nvSpPr>
        <p:spPr>
          <a:xfrm rot="1420200">
            <a:off x="2842920" y="18900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rId5"/>
          </p:cNvPr>
          <p:cNvSpPr/>
          <p:nvPr/>
        </p:nvSpPr>
        <p:spPr>
          <a:xfrm rot="286200">
            <a:off x="468360" y="105228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8">
            <a:hlinkClick r:id="rId6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9">
            <a:hlinkClick r:id="rId7"/>
          </p:cNvPr>
          <p:cNvSpPr/>
          <p:nvPr/>
        </p:nvSpPr>
        <p:spPr>
          <a:xfrm rot="1482000">
            <a:off x="399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1">
            <a:hlinkClick r:id="rId8"/>
          </p:cNvPr>
          <p:cNvSpPr/>
          <p:nvPr/>
        </p:nvSpPr>
        <p:spPr>
          <a:xfrm rot="1482000">
            <a:off x="529272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2">
            <a:hlinkClick r:id="rId9"/>
          </p:cNvPr>
          <p:cNvSpPr/>
          <p:nvPr/>
        </p:nvSpPr>
        <p:spPr>
          <a:xfrm rot="1482000">
            <a:off x="4500360" y="580536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>
            <a:hlinkClick r:id="rId10"/>
          </p:cNvPr>
          <p:cNvSpPr/>
          <p:nvPr/>
        </p:nvSpPr>
        <p:spPr>
          <a:xfrm rot="1482000">
            <a:off x="3563640" y="573408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1964E-006 C -0.00556 0.00323 -0.00521 0.00509 -0.00868 0.01526 C -0.00886 0.02058 -0.00851 0.02683 -0.01007 0.03076 C -0.01146 0.03354 -0.01493 0.03747 -0.01493 0.03747 C -0.0165 0.04534 -0.01927 0.05274 -0.02257 0.05783 C -0.02327 0.06477 -0.02483 0.06847 -0.0257 0.07494 C -0.02674 0.0842 -0.02743 0.09576 -0.02952 0.10386 C -0.03039 0.10756 -0.03091 0.11126 -0.03177 0.1145 C -0.03264 0.11774 -0.03473 0.12422 -0.03473 0.12491 C -0.03594 0.13208 -0.03802 0.14064 -0.04098 0.14527 C -0.0441 0.15568 -0.04601 0.16655 -0.04948 0.17603 C -0.05122 0.1876 -0.04896 0.17372 -0.05261 0.18621 C -0.05365 0.18945 -0.054 0.19315 -0.05486 0.19662 C -0.05573 0.20726 -0.05695 0.21281 -0.06042 0.22045 C -0.06146 0.22785 -0.06302 0.23317 -0.06493 0.23941 C -0.06615 0.25214 -0.07118 0.27758 -0.07743 0.28244 C -0.079 0.28753 -0.08073 0.29331 -0.08177 0.29909 C -0.08229 0.30094 -0.08212 0.30303 -0.08282 0.30441 C -0.08334 0.30557 -0.08403 0.30557 -0.08507 0.30603 C -0.08542 0.31159 -0.08646 0.31945 -0.08646 0.32523 E">
                                      <p:cBhvr>
                                        <p:cTn id="961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7837E-006 C 0.00208 0.00832 0.00486 0.02151 0.00746 0.02613 C 0.00885 0.034 0.0092 0.04302 0.01094 0.04626 C 0.01285 0.05713 0.01163 0.05135 0.0151 0.0613 C 0.01736 0.068 0.01875 0.07818 0.02083 0.08582 C 0.02257 0.10363 0.02482 0.10941 0.0276 0.12098 C 0.02917 0.12676 0.03038 0.13486 0.03177 0.14087 C 0.03472 0.1529 0.03889 0.16632 0.04219 0.17603 C 0.04722 0.21119 0.05538 0.22484 0.06163 0.25306 C 0.06371 0.26301 0.06562 0.27411 0.0684 0.27712 C 0.07135 0.29493 0.07569 0.31182 0.07934 0.3213 C 0.08437 0.34952 0.08802 0.38329 0.09201 0.41568 C 0.09253 0.41984 0.09305 0.42285 0.09357 0.42725 C 0.09462 0.43604 0.09548 0.44483 0.09653 0.45362 C 0.09705 0.45778 0.09809 0.4668 0.09809 0.46703 C 0.09948 0.49225 0.10104 0.51052 0.1026 0.53527 C 0.10312 0.54221 0.10347 0.54961 0.10382 0.55702 C 0.10417 0.5628 0.10417 0.56928 0.10451 0.57483 C 0.10642 0.60212 0.10694 0.60189 0.10798 0.62317 C 0.10903 0.64284 0.10903 0.66504 0.10955 0.68471 C 0.11042 0.7127 0.11267 0.73907 0.11371 0.76659 C 0.11285 0.78649 0.11423 0.76613 0.11215 0.77932 C 0.1118 0.7814 0.1118 0.78649 0.1118 0.78695 E">
                                      <p:cBhvr>
                                        <p:cTn id="966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6681E-006 L -0.28333 0.60329 E">
                                      <p:cBhvr>
                                        <p:cTn id="971" dur="1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42517E-006 L -0.0118 0.55633 E">
                                      <p:cBhvr>
                                        <p:cTn id="976" dur="1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1" dur="1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86" dur="1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1" dur="1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993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96" dur="1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998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01" dur="1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AutoShape 2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">
            <a:hlinkClick r:id="rId2"/>
          </p:cNvPr>
          <p:cNvSpPr/>
          <p:nvPr/>
        </p:nvSpPr>
        <p:spPr>
          <a:xfrm rot="1420200">
            <a:off x="1692000" y="1628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">
            <a:hlinkClick r:id="rId3"/>
          </p:cNvPr>
          <p:cNvSpPr/>
          <p:nvPr/>
        </p:nvSpPr>
        <p:spPr>
          <a:xfrm rot="1420200">
            <a:off x="178920" y="333000"/>
            <a:ext cx="936720" cy="792000"/>
          </a:xfrm>
          <a:custGeom>
            <a:avLst/>
            <a:gdLst>
              <a:gd name="textAreaLeft" fmla="*/ 327600 w 936720"/>
              <a:gd name="textAreaRight" fmla="*/ 609120 w 93672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5">
            <a:hlinkClick r:id="rId4"/>
          </p:cNvPr>
          <p:cNvSpPr/>
          <p:nvPr/>
        </p:nvSpPr>
        <p:spPr>
          <a:xfrm rot="18480600">
            <a:off x="2520360" y="224640"/>
            <a:ext cx="1079280" cy="100800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6">
            <a:hlinkClick r:id="rId5"/>
          </p:cNvPr>
          <p:cNvSpPr/>
          <p:nvPr/>
        </p:nvSpPr>
        <p:spPr>
          <a:xfrm rot="1420200">
            <a:off x="4427280" y="404280"/>
            <a:ext cx="1079280" cy="1008360"/>
          </a:xfrm>
          <a:custGeom>
            <a:avLst/>
            <a:gdLst>
              <a:gd name="textAreaLeft" fmla="*/ 377640 w 1079280"/>
              <a:gd name="textAreaRight" fmla="*/ 701640 w 1079280"/>
              <a:gd name="textAreaTop" fmla="*/ 352800 h 1008360"/>
              <a:gd name="textAreaBottom" fmla="*/ 6555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7">
            <a:hlinkClick r:id="rId6"/>
          </p:cNvPr>
          <p:cNvSpPr/>
          <p:nvPr/>
        </p:nvSpPr>
        <p:spPr>
          <a:xfrm rot="286200">
            <a:off x="755640" y="2491920"/>
            <a:ext cx="1079640" cy="1008000"/>
          </a:xfrm>
          <a:custGeom>
            <a:avLst/>
            <a:gdLst>
              <a:gd name="textAreaLeft" fmla="*/ 377640 w 1079640"/>
              <a:gd name="textAreaRight" fmla="*/ 702000 w 1079640"/>
              <a:gd name="textAreaTop" fmla="*/ 352800 h 1008000"/>
              <a:gd name="textAreaBottom" fmla="*/ 6552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6877080" y="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en-US" sz="66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9">
            <a:hlinkClick r:id="rId7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0">
            <a:hlinkClick r:id="rId8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1">
            <a:hlinkClick r:id="rId9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2">
            <a:hlinkClick r:id="rId10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3">
            <a:hlinkClick r:id="rId11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4">
            <a:hlinkClick r:id="rId12"/>
          </p:cNvPr>
          <p:cNvSpPr/>
          <p:nvPr/>
        </p:nvSpPr>
        <p:spPr>
          <a:xfrm rot="1482000">
            <a:off x="543528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3352E-006 C 0.02969 0.0037 0.02778 0.00601 0.04653 0.01758 C 0.04844 0.02405 0.04532 0.03146 0.05486 0.03585 C 0.06216 0.03932 0.08056 0.04395 0.08056 0.04441 C 0.08976 0.05366 0.10504 0.06222 0.12292 0.06777 C 0.12674 0.0761 0.13559 0.0805 0.14011 0.08813 C 0.14618 0.099 0.15035 0.11288 0.16146 0.12236 C 0.16615 0.12676 0.16997 0.13092 0.17414 0.13486 C 0.17917 0.13879 0.19098 0.14665 0.19098 0.14712 C 0.1974 0.15568 0.20851 0.16562 0.225 0.17117 C 0.24167 0.18297 0.25278 0.19593 0.27188 0.20726 C 0.28073 0.22068 0.26806 0.20425 0.28872 0.21883 C 0.29445 0.22322 0.29636 0.22762 0.30139 0.23155 C 0.30556 0.24404 0.31198 0.25052 0.3316 0.25954 C 0.33733 0.26833 0.34532 0.27434 0.35677 0.28175 C 0.36355 0.29678 0.39115 0.32708 0.42518 0.3324 C 0.43351 0.33842 0.44341 0.34536 0.45 0.3523 C 0.45191 0.35438 0.45139 0.35692 0.45452 0.35831 C 0.45799 0.35993 0.4625 0.35993 0.46719 0.36039 C 0.46945 0.36687 0.47639 0.37612 0.47639 0.38306 E">
                                      <p:cBhvr>
                                        <p:cTn id="1007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837E-006 C 0.00434 0.00855 0.0099 0.02197 0.0151 0.02706 C 0.01771 0.03492 0.01858 0.04418 0.02205 0.04742 C 0.02587 0.05898 0.02326 0.05274 0.03038 0.06338 C 0.03472 0.07009 0.03767 0.0805 0.04184 0.08813 C 0.04531 0.1064 0.04965 0.11265 0.05538 0.12421 C 0.05833 0.13046 0.06076 0.13856 0.06372 0.1448 C 0.06979 0.15729 0.0776 0.17117 0.0842 0.18089 C 0.09462 0.21674 0.11094 0.23085 0.12326 0.25977 C 0.12743 0.27018 0.13142 0.28151 0.13681 0.28475 C 0.14271 0.30279 0.15122 0.32037 0.15885 0.33009 C 0.16875 0.35901 0.17622 0.3937 0.18403 0.42725 C 0.1849 0.43141 0.18611 0.43418 0.18698 0.43858 C 0.18924 0.4476 0.19115 0.45685 0.19323 0.46588 C 0.1941 0.4705 0.19618 0.47952 0.19618 0.47975 C 0.19896 0.50543 0.20208 0.52463 0.20538 0.54961 C 0.20625 0.55702 0.20694 0.56465 0.20764 0.57205 C 0.20816 0.5783 0.20833 0.58477 0.2092 0.59033 C 0.21285 0.61832 0.21389 0.61808 0.21597 0.63983 C 0.21806 0.66019 0.21788 0.68285 0.2191 0.70321 C 0.22083 0.73166 0.22535 0.75873 0.22743 0.78718 C 0.22569 0.80754 0.2283 0.78695 0.22431 0.80037 C 0.22378 0.80245 0.22361 0.80754 0.22361 0.808 E">
                                      <p:cBhvr>
                                        <p:cTn id="1012" dur="1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11288E-006 L 0.13403 0.72403 E">
                                      <p:cBhvr>
                                        <p:cTn id="1017" dur="1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22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0.06315 C 0.0434 0.07773 0.08437 0.09832 0.09982 0.11497 C 0.1158 0.13163 0.12639 0.14921 0.14861 0.1654 C 0.15885 0.1809 0.1743 0.19524 0.1901 0.21004 C 0.20521 0.22392 0.20868 0.23826 0.22882 0.25191 C 0.23333 0.25492 0.24166 0.257 0.24618 0.26047 C 0.26528 0.27389 0.26215 0.27759 0.27396 0.29147 C 0.29097 0.3109 0.30989 0.3301 0.32934 0.34953 C 0.34028 0.40713 0.32187 0.46519 0.35712 0.5221 C 0.35972 0.53181 0.36128 0.5443 0.36805 0.55402 C 0.37257 0.56096 0.38802 0.56628 0.38854 0.57391 C 0.38975 0.59265 0.38854 0.61115 0.38854 0.62966 E">
                                      <p:cBhvr>
                                        <p:cTn id="1027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2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37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2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47" dur="1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2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57" dur="1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5" descr="Нюша"/>
          <p:cNvPicPr/>
          <p:nvPr/>
        </p:nvPicPr>
        <p:blipFill>
          <a:blip r:embed="rId2"/>
          <a:stretch/>
        </p:blipFill>
        <p:spPr>
          <a:xfrm>
            <a:off x="1376280" y="3357720"/>
            <a:ext cx="2471760" cy="2916000"/>
          </a:xfrm>
          <a:prstGeom prst="rect">
            <a:avLst/>
          </a:prstGeom>
          <a:ln w="0">
            <a:noFill/>
          </a:ln>
        </p:spPr>
      </p:pic>
      <p:sp>
        <p:nvSpPr>
          <p:cNvPr id="580" name="WordArt 3"/>
          <p:cNvSpPr txBox="1"/>
          <p:nvPr/>
        </p:nvSpPr>
        <p:spPr>
          <a:xfrm>
            <a:off x="539640" y="18900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доров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1" name="AutoShape 6">
            <a:hlinkClick r:id="rId3"/>
          </p:cNvPr>
          <p:cNvSpPr/>
          <p:nvPr/>
        </p:nvSpPr>
        <p:spPr>
          <a:xfrm rot="817200">
            <a:off x="4456080" y="2892600"/>
            <a:ext cx="792360" cy="792000"/>
          </a:xfrm>
          <a:custGeom>
            <a:avLst/>
            <a:gdLst>
              <a:gd name="textAreaLeft" fmla="*/ 277200 w 792360"/>
              <a:gd name="textAreaRight" fmla="*/ 515160 w 792360"/>
              <a:gd name="textAreaTop" fmla="*/ 277200 h 792000"/>
              <a:gd name="textAreaBottom" fmla="*/ 5148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>
            <a:hlinkClick r:id="rId4" action="ppaction://hlinksldjump"/>
          </p:cNvPr>
          <p:cNvSpPr/>
          <p:nvPr/>
        </p:nvSpPr>
        <p:spPr>
          <a:xfrm>
            <a:off x="856764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8">
            <a:hlinkClick r:id="rId5"/>
          </p:cNvPr>
          <p:cNvSpPr/>
          <p:nvPr/>
        </p:nvSpPr>
        <p:spPr>
          <a:xfrm rot="1482000">
            <a:off x="2987640" y="6093000"/>
            <a:ext cx="720720" cy="57600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000"/>
              <a:gd name="textAreaBottom" fmla="*/ 3744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9">
            <a:hlinkClick r:id="rId6"/>
          </p:cNvPr>
          <p:cNvSpPr/>
          <p:nvPr/>
        </p:nvSpPr>
        <p:spPr>
          <a:xfrm rot="1482000">
            <a:off x="4355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0">
            <a:hlinkClick r:id="rId7"/>
          </p:cNvPr>
          <p:cNvSpPr/>
          <p:nvPr/>
        </p:nvSpPr>
        <p:spPr>
          <a:xfrm rot="1482000">
            <a:off x="3419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1">
            <a:hlinkClick r:id="rId8"/>
          </p:cNvPr>
          <p:cNvSpPr/>
          <p:nvPr/>
        </p:nvSpPr>
        <p:spPr>
          <a:xfrm rot="1482000">
            <a:off x="514800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2">
            <a:hlinkClick r:id="rId9"/>
          </p:cNvPr>
          <p:cNvSpPr/>
          <p:nvPr/>
        </p:nvSpPr>
        <p:spPr>
          <a:xfrm rot="1482000">
            <a:off x="4211280" y="566100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3">
            <a:hlinkClick r:id="rId10"/>
          </p:cNvPr>
          <p:cNvSpPr/>
          <p:nvPr/>
        </p:nvSpPr>
        <p:spPr>
          <a:xfrm rot="1482000">
            <a:off x="1186920" y="515772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14">
            <a:hlinkClick r:id="rId11"/>
          </p:cNvPr>
          <p:cNvSpPr/>
          <p:nvPr/>
        </p:nvSpPr>
        <p:spPr>
          <a:xfrm rot="1482000">
            <a:off x="5363640" y="6281640"/>
            <a:ext cx="720720" cy="576360"/>
          </a:xfrm>
          <a:custGeom>
            <a:avLst/>
            <a:gdLst>
              <a:gd name="textAreaLeft" fmla="*/ 252000 w 720720"/>
              <a:gd name="textAreaRight" fmla="*/ 468720 w 720720"/>
              <a:gd name="textAreaTop" fmla="*/ 201600 h 576360"/>
              <a:gd name="textAreaBottom" fmla="*/ 37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59" y="7559"/>
                </a:lnTo>
                <a:lnTo>
                  <a:pt x="10800" y="0"/>
                </a:lnTo>
                <a:lnTo>
                  <a:pt x="14041" y="7559"/>
                </a:lnTo>
                <a:lnTo>
                  <a:pt x="21600" y="10800"/>
                </a:lnTo>
                <a:lnTo>
                  <a:pt x="14041" y="14041"/>
                </a:lnTo>
                <a:lnTo>
                  <a:pt x="10800" y="21600"/>
                </a:lnTo>
                <a:lnTo>
                  <a:pt x="7559" y="1404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060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2887E-006 L -0.04323 0.46195 E">
                                      <p:cBhvr>
                                        <p:cTn id="1063" dur="1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68" dur="1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3" dur="1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78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3" dur="1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88" dur="1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3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098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591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9" descr="Бараш"/>
          <p:cNvPicPr/>
          <p:nvPr/>
        </p:nvPicPr>
        <p:blipFill>
          <a:blip r:embed="rId4"/>
          <a:stretch/>
        </p:blipFill>
        <p:spPr>
          <a:xfrm>
            <a:off x="2340000" y="836640"/>
            <a:ext cx="1503360" cy="158436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104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 -1.0502E-006 C -0.02396 -0.01596 -0.02014 -0.00208 -0.02569 -0.01133 C -0.02621 -0.01203 -0.02604 -0.01365 -0.02639 -0.01457 C -0.02934 -0.02174 -0.03281 -0.02915 -0.03507 -0.03678 C -0.03837 -0.04765 -0.03941 -0.06037 -0.04444 -0.06986 C -0.04548 -0.07703 -0.04722 -0.08651 -0.04913 -0.09322 C -0.04965 -0.09831 -0.05069 -0.1034 -0.05069 -0.10872 C -0.05104 -0.18806 -0.06232 -0.21351 -0.03663 -0.26139 C -0.03541 -0.2637 -0.02951 -0.27365 -0.02725 -0.27481 C -0.02187 -0.28452 -0.01684 -0.29493 -0.01232 -0.30581 C -0.01007 -0.31136 -0.0092 -0.31714 -0.00694 -0.32246 C -0.00451 -0.33541 0.00625 -0.35346 0.01181 -0.36456 C 0.01459 -0.36988 0.01979 -0.37705 0.01979 -0.38469 C 0.01979 -0.42424 0.01979 -0.46403 0.01979 -0.50382 E">
                                      <p:cBhvr>
                                        <p:cTn id="1109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14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19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24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0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493236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>
            <a:hlinkClick r:id="rId3"/>
          </p:cNvPr>
          <p:cNvSpPr/>
          <p:nvPr/>
        </p:nvSpPr>
        <p:spPr>
          <a:xfrm>
            <a:off x="3348000" y="508464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2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9" descr="Бараш"/>
          <p:cNvPicPr/>
          <p:nvPr/>
        </p:nvPicPr>
        <p:blipFill>
          <a:blip r:embed="rId4"/>
          <a:stretch/>
        </p:blipFill>
        <p:spPr>
          <a:xfrm>
            <a:off x="755640" y="907920"/>
            <a:ext cx="1571760" cy="16574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392436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5" dur="indefinite" restart="never" nodeType="tmRoot">
          <p:childTnLst>
            <p:seq>
              <p:cTn id="1126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127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23 C -0.00209 -0.00833 -0.00381 -0.01573 -0.00555 -0.02313 C -0.00781 -0.03354 -0.00468 -0.01989 -0.00729 -0.03053 C -0.00764 -0.03262 -0.00815 -0.0347 -0.00815 -0.03354 C -0.00902 -0.04303 -0.01128 -0.05251 -0.01336 -0.05899 C -0.01475 -0.0694 -0.01284 -0.05575 -0.01545 -0.06616 C -0.01631 -0.07055 -0.01718 -0.0768 -0.01805 -0.08096 C -0.02118 -0.09577 -0.02414 -0.10941 -0.0276 -0.12422 C -0.0302 -0.13463 -0.03229 -0.14851 -0.03576 -0.15684 C -0.03628 -0.16308 -0.03732 -0.16632 -0.03888 -0.17048 C -0.04079 -0.17997 -0.04219 -0.18413 -0.04427 -0.19269 C -0.04565 -0.19894 -0.04635 -0.2031 -0.04791 -0.20842 C -0.04947 -0.22114 -0.04723 -0.2031 -0.04999 -0.21698 C -0.05174 -0.22646 -0.04843 -0.21906 -0.05174 -0.22415 C -0.05381 -0.23479 -0.05678 -0.24312 -0.05937 -0.2526 C -0.06145 -0.25908 -0.06336 -0.27064 -0.06597 -0.27689 C -0.06944 -0.28545 -0.07743 -0.30002 -0.08194 -0.30326 C -0.08402 -0.3065 -0.08559 -0.30858 -0.08784 -0.30951 C -0.08993 -0.31275 -0.09097 -0.3139 -0.0934 -0.31483 C -0.09687 -0.31899 -0.09999 -0.32015 -0.1033 -0.32547 C -0.10678 -0.33056 -0.11042 -0.34004 -0.11389 -0.34328 C -0.11528 -0.3486 -0.11737 -0.34953 -0.1191 -0.35485 C -0.12014 -0.3634 -0.12188 -0.37497 -0.12431 -0.38122 C -0.1257 -0.38538 -0.12744 -0.38862 -0.129 -0.39278 C -0.13212 -0.40134 -0.13247 -0.41591 -0.13612 -0.42239 C -0.13646 -0.42956 -0.13733 -0.43604 -0.13855 -0.44228 C -0.13889 -0.44969 -0.13907 -0.45293 -0.14028 -0.45801 C -0.14098 -0.46542 -0.14254 -0.47698 -0.1441 -0.48346 C -0.14497 -0.49711 -0.14566 -0.52556 -0.14237 -0.53504 C -0.1415 -0.54245 -0.14202 -0.53828 -0.14098 -0.54777 C -0.14028 -0.55077 -0.13889 -0.55077 -0.13855 -0.55494 C -0.1382 -0.55933 -0.13855 -0.5635 -0.13855 -0.5665 E">
                                      <p:cBhvr>
                                        <p:cTn id="1130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35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4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45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50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1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5"/>
          <p:cNvSpPr/>
          <p:nvPr/>
        </p:nvSpPr>
        <p:spPr>
          <a:xfrm>
            <a:off x="5148360" y="5734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">
            <a:hlinkClick r:id="rId3"/>
          </p:cNvPr>
          <p:cNvSpPr/>
          <p:nvPr/>
        </p:nvSpPr>
        <p:spPr>
          <a:xfrm>
            <a:off x="370836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9" descr="Бараш"/>
          <p:cNvPicPr/>
          <p:nvPr/>
        </p:nvPicPr>
        <p:blipFill>
          <a:blip r:embed="rId4"/>
          <a:stretch/>
        </p:blipFill>
        <p:spPr>
          <a:xfrm>
            <a:off x="2050920" y="1268280"/>
            <a:ext cx="1276560" cy="13464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1" dur="indefinite" restart="never" nodeType="tmRoot">
          <p:childTnLst>
            <p:seq>
              <p:cTn id="1152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451 -0.04117 -0.05711 -0.04996 -0.05989 -0.05876 C -0.06371 -0.07102 -0.05868 -0.05529 -0.06284 -0.06778 C -0.06336 -0.0694 -0.0644 -0.07263 -0.0644 -0.0724 C -0.06527 -0.08212 -0.06927 -0.09345 -0.07239 -0.10039 C -0.07447 -0.11288 -0.07135 -0.09646 -0.07534 -0.10965 C -0.0769 -0.11473 -0.07847 -0.12144 -0.07986 -0.12676 C -0.08437 -0.14411 -0.0894 -0.15984 -0.09461 -0.17627 C -0.09861 -0.18876 -0.10208 -0.20449 -0.10729 -0.2149 C -0.10833 -0.22161 -0.10954 -0.22623 -0.11232 -0.2304 C -0.1151 -0.24127 -0.11736 -0.24659 -0.12065 -0.25653 C -0.12274 -0.26324 -0.12395 -0.26879 -0.12656 -0.27504 C -0.12899 -0.28984 -0.125 -0.26856 -0.12951 -0.28452 C -0.13246 -0.2954 -0.1276 -0.28661 -0.13246 -0.29378 C -0.13576 -0.30557 -0.1401 -0.31575 -0.14427 -0.32616 C -0.14756 -0.33426 -0.15069 -0.34698 -0.15451 -0.35415 C -0.16024 -0.3641 -0.17256 -0.38191 -0.17986 -0.38515 C -0.18281 -0.38908 -0.18506 -0.39116 -0.18871 -0.39255 C -0.19184 -0.39602 -0.19409 -0.39741 -0.19756 -0.39903 C -0.20277 -0.40435 -0.20798 -0.40504 -0.21319 -0.41129 C -0.21822 -0.41753 -0.22378 -0.42841 -0.22951 -0.43141 C -0.23142 -0.43766 -0.23489 -0.43974 -0.2375 -0.44529 C -0.23923 -0.45524 -0.24218 -0.46889 -0.24565 -0.47606 C -0.24809 -0.48115 -0.25069 -0.48531 -0.25312 -0.48994 C -0.25798 -0.49965 -0.2585 -0.51631 -0.26423 -0.52394 C -0.26493 -0.53227 -0.26614 -0.5399 -0.26788 -0.5473 C -0.26857 -0.5554 -0.26875 -0.5591 -0.27083 -0.56581 C -0.2717 -0.57437 -0.27447 -0.58779 -0.27673 -0.59519 C -0.27812 -0.61069 -0.27951 -0.644 -0.27378 -0.65556 C -0.27274 -0.66343 -0.27343 -0.6588 -0.2717 -0.66944 C -0.27083 -0.67407 -0.2684 -0.67384 -0.26788 -0.6787 C -0.26753 -0.68332 -0.26788 -0.68818 -0.26788 -0.69257 E">
                                      <p:cBhvr>
                                        <p:cTn id="115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61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25098E-007 C -0.00468 -0.00925 -0.01771 -0.02221 -0.03021 -0.02544 C -0.03246 -0.03192 -0.03472 -0.03354 -0.04236 -0.03678 C -0.04722 -0.04233 -0.05451 -0.04719 -0.0618 -0.05089 C -0.06996 -0.06107 -0.0592 -0.04973 -0.07205 -0.05667 C -0.07396 -0.05737 -0.07413 -0.05968 -0.07569 -0.06084 C -0.07882 -0.06269 -0.08298 -0.06315 -0.08611 -0.065 C -0.0967 -0.07726 -0.10712 -0.08952 -0.11771 -0.10178 C -0.12066 -0.10502 -0.12413 -0.10803 -0.12656 -0.1115 C -0.13333 -0.12191 -0.12864 -0.11566 -0.14236 -0.13 C -0.14409 -0.13185 -0.14774 -0.13555 -0.14774 -0.13532 C -0.15069 -0.14596 -0.14705 -0.13671 -0.15625 -0.14689 C -0.16146 -0.15267 -0.15937 -0.15545 -0.16701 -0.15938 C -0.17014 -0.16609 -0.17291 -0.16863 -0.17934 -0.17372 C -0.1809 -0.18112 -0.18507 -0.18644 -0.18802 -0.19338 C -0.1908 -0.19986 -0.19201 -0.20588 -0.1967 -0.21189 C -0.19982 -0.22415 -0.21545 -0.23965 -0.225 -0.24983 C -0.22673 -0.25168 -0.2283 -0.25376 -0.23021 -0.25561 C -0.23229 -0.25746 -0.23541 -0.26116 -0.23541 -0.26093 C -0.23923 -0.27064 -0.23593 -0.2644 -0.25121 -0.27689 C -0.25694 -0.28129 -0.26041 -0.2873 -0.26545 -0.29216 C -0.26875 -0.29563 -0.26962 -0.30002 -0.27239 -0.30372 C -0.27916 -0.31251 -0.28489 -0.32084 -0.28975 -0.33033 C -0.29375 -0.33796 -0.29496 -0.34582 -0.30225 -0.35161 C -0.30659 -0.35878 -0.3125 -0.36664 -0.32135 -0.36988 C -0.32864 -0.37821 -0.32118 -0.37058 -0.33194 -0.37844 C -0.34166 -0.38538 -0.34982 -0.39348 -0.36024 -0.39949 C -0.36666 -0.40319 -0.37448 -0.40597 -0.38125 -0.40944 C -0.38767 -0.41291 -0.39218 -0.41846 -0.39896 -0.42077 C -0.40746 -0.42355 -0.4158 -0.42494 -0.42326 -0.42933 C -0.43073 -0.43812 -0.43871 -0.44691 -0.44791 -0.45478 C -0.45104 -0.46172 -0.46753 -0.46819 -0.47604 -0.47166 C -0.48524 -0.47906 -0.48767 -0.48253 -0.49896 -0.48577 C -0.50659 -0.4904 -0.51441 -0.49479 -0.5217 -0.49988 C -0.5276 -0.50382 -0.53107 -0.50914 -0.5375 -0.51261 C -0.54323 -0.51955 -0.546 -0.52695 -0.55156 -0.53366 C -0.55642 -0.53967 -0.56389 -0.54453 -0.56909 -0.55077 C -0.57239 -0.56095 -0.571 -0.55448 -0.571 -0.57021 E">
                                      <p:cBhvr>
                                        <p:cTn id="116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71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176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20" name="Oval 3"/>
          <p:cNvSpPr/>
          <p:nvPr/>
        </p:nvSpPr>
        <p:spPr>
          <a:xfrm>
            <a:off x="5148360" y="587700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7">
            <a:hlinkClick r:id="rId3"/>
          </p:cNvPr>
          <p:cNvSpPr/>
          <p:nvPr/>
        </p:nvSpPr>
        <p:spPr>
          <a:xfrm>
            <a:off x="1042920" y="5445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3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9" descr="Бараш"/>
          <p:cNvPicPr/>
          <p:nvPr/>
        </p:nvPicPr>
        <p:blipFill>
          <a:blip r:embed="rId4"/>
          <a:stretch/>
        </p:blipFill>
        <p:spPr>
          <a:xfrm>
            <a:off x="539640" y="1700280"/>
            <a:ext cx="1413000" cy="148896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5251 C -0.01892 -0.06037 -0.0184 -0.06824 -0.01753 -0.07587 C -0.01666 -0.08674 -0.01788 -0.07287 -0.01701 -0.08374 C -0.01684 -0.08513 -0.01649 -0.0879 -0.01649 -0.08744 C -0.01632 -0.096 -0.01545 -0.10618 -0.01458 -0.11219 C -0.01406 -0.12306 -0.01476 -0.10872 -0.01389 -0.12029 C -0.01354 -0.12445 -0.01319 -0.13046 -0.01267 -0.13532 C -0.01163 -0.15036 -0.01041 -0.16424 -0.0092 -0.17835 C -0.00833 -0.18968 -0.00746 -0.2031 -0.00625 -0.21212 C -0.0059 -0.21814 -0.00555 -0.22207 -0.00503 -0.226 C -0.00434 -0.23525 -0.00382 -0.23988 -0.00295 -0.24867 C -0.00243 -0.25445 -0.00208 -0.25931 -0.00139 -0.26486 C -0.00104 -0.27805 -0.00191 -0.25931 -0.00087 -0.27319 C -1.66667000000003E-006 -0.28291 -0.00121 -0.27504 -1.66667E-006 -0.28129 C 0.0007 -0.2917 0.00174 -0.30049 0.00278 -0.30928 C 0.00365 -0.31645 0.00434 -0.32778 0.00521 -0.33403 C 0.0066 -0.34259 0.00972 -0.35832 0.01146 -0.36109 C 0.01215 -0.36479 0.01268 -0.36618 0.01354 -0.3678 C 0.01441 -0.37081 0.01493 -0.37196 0.01563 -0.37335 C 0.01702 -0.37798 0.01823 -0.37867 0.01962 -0.38376 C 0.02084 -0.38954 0.02205 -0.3988 0.02344 -0.40157 C 0.02379 -0.40712 0.02483 -0.40897 0.02535 -0.41383 C 0.0257 -0.42239 0.02656 -0.43442 0.02726 -0.44067 C 0.02795 -0.44483 0.02847 -0.44853 0.02917 -0.45269 C 0.03021 -0.46125 0.03038 -0.4756 0.03177 -0.48277 C 0.03212 -0.48971 0.03229 -0.49618 0.03281 -0.50289 C 0.03281 -0.51006 0.03299 -0.5133 0.03334 -0.51908 C 0.03368 -0.52649 0.0342 -0.53805 0.0349 -0.54476 C 0.03524 -0.55818 0.03559 -0.58755 0.0342 -0.5975 C 0.03386 -0.60421 0.03403 -0.60028 0.03368 -0.60953 C 0.03334 -0.61369 0.03281 -0.61323 0.03281 -0.61786 C 0.03264 -0.62202 0.03281 -0.62595 0.03281 -0.62966 E">
                                      <p:cBhvr>
                                        <p:cTn id="1182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187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192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197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08374E-007 C -0.0066 -0.01434 -0.0026 -0.0037 -0.01007 -0.03817 C -0.01094 -0.04187 -0.0125 -0.04835 -0.0125 -0.04788 C -0.01424 -0.06731 -0.01719 -0.08304 -0.02014 -0.10016 C -0.02187 -0.13278 -0.02674 -0.16216 -0.03021 -0.19338 C -0.03281 -0.21675 -0.03333 -0.24011 -0.03698 -0.26186 C -0.03906 -0.29239 -0.04358 -0.31922 -0.04705 -0.34837 C -0.04809 -0.356 -0.05017 -0.38538 -0.05035 -0.38584 C -0.06302 -0.43882 -0.07344 -0.49572 -0.08611 -0.548 C -0.08924 -0.57599 -0.09687 -0.59843 -0.10174 -0.62387 C -0.1033 -0.63243 -0.1033 -0.64261 -0.10503 -0.65117 C -0.10868 -0.67014 -0.11371 -0.68679 -0.11823 -0.70298 E">
                                      <p:cBhvr>
                                        <p:cTn id="1202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3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>
            <a:off x="3492360" y="602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7">
            <a:hlinkClick r:id="rId3"/>
          </p:cNvPr>
          <p:cNvSpPr/>
          <p:nvPr/>
        </p:nvSpPr>
        <p:spPr>
          <a:xfrm>
            <a:off x="5003640" y="595008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Бараш"/>
          <p:cNvPicPr/>
          <p:nvPr/>
        </p:nvPicPr>
        <p:blipFill>
          <a:blip r:embed="rId4"/>
          <a:stretch/>
        </p:blipFill>
        <p:spPr>
          <a:xfrm>
            <a:off x="2124000" y="549360"/>
            <a:ext cx="1139760" cy="1201680"/>
          </a:xfrm>
          <a:prstGeom prst="rect">
            <a:avLst/>
          </a:prstGeom>
          <a:ln w="0">
            <a:noFill/>
          </a:ln>
        </p:spPr>
      </p:pic>
      <p:sp>
        <p:nvSpPr>
          <p:cNvPr id="63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205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8 C -0.05607 -0.04117 -0.06024 -0.0502 -0.06458 -0.05899 C -0.07083 -0.07148 -0.06285 -0.05552 -0.06927 -0.06824 C -0.07014 -0.06986 -0.0717 -0.0731 -0.0717 -0.0731 C -0.07326 -0.08258 -0.07951 -0.09415 -0.08455 -0.10132 C -0.08785 -0.11381 -0.08281 -0.09715 -0.08923 -0.11057 C -0.09167 -0.11566 -0.0941 -0.1226 -0.09635 -0.12792 C -0.10364 -0.1455 -0.11146 -0.16146 -0.11979 -0.17812 C -0.12621 -0.19084 -0.13177 -0.2068 -0.13993 -0.21721 C -0.14149 -0.22415 -0.14357 -0.22878 -0.14809 -0.23294 C -0.15226 -0.24404 -0.15607 -0.24936 -0.16111 -0.25954 C -0.16441 -0.26625 -0.16649 -0.2718 -0.17048 -0.27828 C -0.1743 -0.29331 -0.16823 -0.27157 -0.17517 -0.28776 C -0.17986 -0.29887 -0.17222 -0.29008 -0.17986 -0.29725 C -0.18524 -0.30928 -0.19201 -0.31945 -0.19861 -0.33009 C -0.20382 -0.33819 -0.20885 -0.35114 -0.2151 -0.35832 C -0.22396 -0.36849 -0.24375 -0.38654 -0.25521 -0.38978 C -0.26007 -0.39394 -0.26354 -0.39602 -0.26927 -0.39741 C -0.2743 -0.40088 -0.27778 -0.40227 -0.28333 -0.40389 C -0.29167 -0.40921 -0.3 -0.41013 -0.30816 -0.41638 C -0.31632 -0.42262 -0.325 -0.43373 -0.33403 -0.43673 C -0.33715 -0.44298 -0.34271 -0.44529 -0.34687 -0.45084 C -0.34948 -0.46079 -0.35434 -0.47467 -0.35989 -0.48207 C -0.36371 -0.48716 -0.36788 -0.49133 -0.3717 -0.49618 C -0.37934 -0.5059 -0.38021 -0.52278 -0.38923 -0.53065 C -0.39045 -0.53898 -0.39236 -0.54661 -0.39514 -0.55424 C -0.39618 -0.56234 -0.39653 -0.56627 -0.39982 -0.57298 C -0.40121 -0.58177 -0.40555 -0.59519 -0.4092 -0.60282 C -0.41128 -0.61855 -0.41371 -0.65232 -0.40451 -0.66389 C -0.40278 -0.67199 -0.40382 -0.66713 -0.40104 -0.678 C -0.39982 -0.68263 -0.39583 -0.6824 -0.39514 -0.68749 C -0.39462 -0.69211 -0.39514 -0.69697 -0.39514 -0.7016 E">
                                      <p:cBhvr>
                                        <p:cTn id="1208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1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13 -0.01018 -0.01181 -0.02452 -0.02014 -0.02823 C -0.0217 -0.0354 -0.02327 -0.03725 -0.0283 -0.04072 C -0.0316 -0.04696 -0.03646 -0.05228 -0.04132 -0.05645 C -0.04688 -0.06778 -0.03959 -0.05506 -0.04827 -0.06269 C -0.04948 -0.06362 -0.04965 -0.06616 -0.0507 -0.06732 C -0.05278 -0.0694 -0.05556 -0.07009 -0.05764 -0.07195 C -0.06476 -0.08559 -0.0717 -0.09924 -0.07882 -0.11289 C -0.08073 -0.11659 -0.08316 -0.11983 -0.08472 -0.12376 C -0.08924 -0.13533 -0.08611 -0.12839 -0.09531 -0.14412 C -0.09653 -0.1462 -0.09896 -0.15036 -0.09896 -0.15036 C -0.10087 -0.16193 -0.09844 -0.15175 -0.10469 -0.16309 C -0.10816 -0.16933 -0.10677 -0.17257 -0.11181 -0.17697 C -0.11389 -0.18437 -0.1158 -0.18714 -0.12014 -0.1927 C -0.12118 -0.20102 -0.12396 -0.20681 -0.12587 -0.21467 C -0.12778 -0.22184 -0.12865 -0.22855 -0.13177 -0.23503 C -0.13386 -0.24867 -0.14427 -0.26602 -0.1507 -0.27736 C -0.15191 -0.27944 -0.15295 -0.28152 -0.15417 -0.2836 C -0.15556 -0.28569 -0.15764 -0.28985 -0.15764 -0.28985 C -0.16025 -0.30026 -0.15799 -0.29355 -0.16823 -0.3072 C -0.17205 -0.31229 -0.17448 -0.31876 -0.17778 -0.32432 C -0.18004 -0.32802 -0.18056 -0.33311 -0.18247 -0.33704 C -0.18698 -0.34699 -0.1908 -0.35601 -0.1941 -0.36665 C -0.1967 -0.37521 -0.19757 -0.38377 -0.20243 -0.39024 C -0.20538 -0.39834 -0.20938 -0.4069 -0.21528 -0.4106 C -0.22014 -0.41985 -0.21511 -0.41129 -0.2224 -0.42008 C -0.22882 -0.42772 -0.23438 -0.43674 -0.24132 -0.44345 C -0.24566 -0.44761 -0.25087 -0.45062 -0.25538 -0.45455 C -0.25972 -0.45825 -0.26268 -0.4645 -0.26719 -0.46704 C -0.27292 -0.47028 -0.27847 -0.47167 -0.28351 -0.47653 C -0.28854 -0.48624 -0.29393 -0.49619 -0.3 -0.50475 C -0.30209 -0.51261 -0.3132 -0.51978 -0.31893 -0.52348 C -0.325 -0.53181 -0.32674 -0.53574 -0.3342 -0.53921 C -0.33941 -0.5443 -0.34462 -0.54939 -0.34948 -0.55494 C -0.35347 -0.55934 -0.35573 -0.56512 -0.36007 -0.56905 C -0.36389 -0.57669 -0.3658 -0.58502 -0.36945 -0.59242 C -0.37275 -0.59913 -0.37778 -0.60445 -0.38125 -0.61139 C -0.38351 -0.62272 -0.38247 -0.61555 -0.38247 -0.63313 E">
                                      <p:cBhvr>
                                        <p:cTn id="1218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23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28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5867280" y="1773360"/>
            <a:ext cx="682920" cy="547560"/>
            <a:chOff x="5867280" y="1773360"/>
            <a:chExt cx="682920" cy="547560"/>
          </a:xfrm>
        </p:grpSpPr>
        <p:pic>
          <p:nvPicPr>
            <p:cNvPr id="96" name="Picture 16" descr="2"/>
            <p:cNvPicPr/>
            <p:nvPr/>
          </p:nvPicPr>
          <p:blipFill>
            <a:blip r:embed="rId3"/>
            <a:stretch/>
          </p:blipFill>
          <p:spPr>
            <a:xfrm>
              <a:off x="5867280" y="1773360"/>
              <a:ext cx="6829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17"/>
            <p:cNvSpPr txBox="1"/>
            <p:nvPr/>
          </p:nvSpPr>
          <p:spPr>
            <a:xfrm>
              <a:off x="6109560" y="196956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4788000" y="1125360"/>
            <a:ext cx="576000" cy="576360"/>
            <a:chOff x="4788000" y="1125360"/>
            <a:chExt cx="576000" cy="576360"/>
          </a:xfrm>
        </p:grpSpPr>
        <p:pic>
          <p:nvPicPr>
            <p:cNvPr id="99" name="Picture 19" descr="2"/>
            <p:cNvPicPr/>
            <p:nvPr/>
          </p:nvPicPr>
          <p:blipFill>
            <a:blip r:embed="rId4"/>
            <a:stretch/>
          </p:blipFill>
          <p:spPr>
            <a:xfrm>
              <a:off x="4788000" y="112536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WordArt 20"/>
            <p:cNvSpPr txBox="1"/>
            <p:nvPr/>
          </p:nvSpPr>
          <p:spPr>
            <a:xfrm>
              <a:off x="4992120" y="133164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1" name="Group 21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02" name="Picture 22" descr="2"/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23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4" name="Group 24"/>
          <p:cNvGrpSpPr/>
          <p:nvPr/>
        </p:nvGrpSpPr>
        <p:grpSpPr>
          <a:xfrm>
            <a:off x="2987640" y="1989000"/>
            <a:ext cx="576360" cy="576360"/>
            <a:chOff x="2987640" y="1989000"/>
            <a:chExt cx="576360" cy="576360"/>
          </a:xfrm>
        </p:grpSpPr>
        <p:pic>
          <p:nvPicPr>
            <p:cNvPr id="105" name="Picture 25" descr="2"/>
            <p:cNvPicPr/>
            <p:nvPr/>
          </p:nvPicPr>
          <p:blipFill>
            <a:blip r:embed="rId6"/>
            <a:stretch/>
          </p:blipFill>
          <p:spPr>
            <a:xfrm>
              <a:off x="2987640" y="1989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WordArt 26"/>
            <p:cNvSpPr txBox="1"/>
            <p:nvPr/>
          </p:nvSpPr>
          <p:spPr>
            <a:xfrm>
              <a:off x="3192120" y="2195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07" name="Picture 29" descr="яблоко"/>
          <p:cNvPicPr/>
          <p:nvPr/>
        </p:nvPicPr>
        <p:blipFill>
          <a:blip r:embed="rId7"/>
          <a:stretch/>
        </p:blipFill>
        <p:spPr>
          <a:xfrm>
            <a:off x="644364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яблоко"/>
          <p:cNvPicPr/>
          <p:nvPr/>
        </p:nvPicPr>
        <p:blipFill>
          <a:blip r:embed="rId8"/>
          <a:stretch/>
        </p:blipFill>
        <p:spPr>
          <a:xfrm>
            <a:off x="6804000" y="5661000"/>
            <a:ext cx="611280" cy="565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4" descr="корзинка2"/>
          <p:cNvPicPr/>
          <p:nvPr/>
        </p:nvPicPr>
        <p:blipFill>
          <a:blip r:embed="rId9"/>
          <a:stretch/>
        </p:blipFill>
        <p:spPr>
          <a:xfrm>
            <a:off x="5292720" y="5711760"/>
            <a:ext cx="2244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23 L 0.01007 0.54865 E">
                                      <p:cBhvr>
                                        <p:cTn id="8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9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9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C 0.00069 0.00718 0.00174 0.01459 0.00538 0.02732 C 0.00903 0.04005 0.01753 0.06227 0.02187 0.07616 C 0.02639 0.09005 0.0309 0.09885 0.03299 0.11181 C 0.0349 0.125 0.03351 0.1375 0.03385 0.15463 C 0.0342 0.17153 0.03455 0.19329 0.0349 0.21297 C 0.03507 0.23287 0.03559 0.25139 0.03576 0.27385 C 0.03594 0.29653 0.03333 0.32801 0.03576 0.34885 C 0.03819 0.36968 0.04566 0.38542 0.05052 0.39885 C 0.05521 0.41227 0.05851 0.42014 0.0651 0.42871 C 0.0717 0.43727 0.08194 0.44561 0.08993 0.45 C 0.09774 0.4544 0.10729 0.45325 0.11285 0.45487 C 0.11858 0.45625 0.11997 0.45764 0.12378 0.45834 C 0.1276 0.45926 0.13142 0.4588 0.13576 0.4595 C 0.1401 0.45996 0.14479 0.46088 0.14965 0.46204 E">
                                      <p:cBhvr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4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+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9" descr="Бараш"/>
          <p:cNvPicPr/>
          <p:nvPr/>
        </p:nvPicPr>
        <p:blipFill>
          <a:blip r:embed="rId4"/>
          <a:stretch/>
        </p:blipFill>
        <p:spPr>
          <a:xfrm>
            <a:off x="468360" y="1125360"/>
            <a:ext cx="1344600" cy="141768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295 -0.04187 -0.05399 -0.05112 -0.05521 -0.06037 C -0.05694 -0.0731 -0.05486 -0.05644 -0.05642 -0.06963 C -0.05659 -0.07125 -0.05712 -0.07472 -0.05712 -0.07472 C -0.05746 -0.08443 -0.0592 -0.09646 -0.06041 -0.10409 C -0.06128 -0.11682 -0.05972 -0.0997 -0.06146 -0.11381 C -0.06232 -0.11867 -0.06284 -0.12607 -0.06354 -0.13139 C -0.06545 -0.14943 -0.06753 -0.16609 -0.06944 -0.18321 C -0.07118 -0.19639 -0.07274 -0.21282 -0.07482 -0.22369 C -0.07517 -0.23063 -0.07569 -0.23572 -0.07691 -0.23988 C -0.07795 -0.25145 -0.07899 -0.25677 -0.08021 -0.26741 C -0.08107 -0.27435 -0.08177 -0.28013 -0.08281 -0.28684 C -0.0835 -0.30234 -0.08212 -0.2799 -0.08403 -0.29655 C -0.08507 -0.30789 -0.08316 -0.2991 -0.08507 -0.30627 C -0.08646 -0.31876 -0.08837 -0.3294 -0.0901 -0.3405 C -0.09132 -0.3486 -0.09271 -0.36202 -0.09444 -0.36942 C -0.0967 -0.38006 -0.10173 -0.39857 -0.10468 -0.40204 C -0.1059 -0.40643 -0.10694 -0.40851 -0.10833 -0.4099 C -0.10972 -0.41337 -0.11041 -0.41476 -0.11198 -0.41638 C -0.11423 -0.42216 -0.11632 -0.42309 -0.1184 -0.42933 C -0.12048 -0.43604 -0.12274 -0.44737 -0.12517 -0.45061 C -0.12621 -0.45686 -0.12743 -0.45963 -0.12847 -0.46542 C -0.12934 -0.47536 -0.13055 -0.48971 -0.13194 -0.49734 C -0.13281 -0.50266 -0.13403 -0.50682 -0.13489 -0.51214 C -0.13698 -0.52186 -0.13715 -0.53944 -0.13941 -0.54754 C -0.13993 -0.55633 -0.14028 -0.56396 -0.14114 -0.57206 C -0.14132 -0.58038 -0.14132 -0.58432 -0.14218 -0.59149 C -0.14253 -0.60028 -0.14392 -0.61416 -0.14462 -0.62225 C -0.14531 -0.63845 -0.14566 -0.67338 -0.1434 -0.6854 C -0.14305 -0.69373 -0.1434 -0.68864 -0.14253 -0.69998 C -0.14218 -0.7046 -0.14132 -0.70437 -0.14114 -0.70969 C -0.14097 -0.71455 -0.14114 -0.71941 -0.14114 -0.72403 E">
                                      <p:cBhvr>
                                        <p:cTn id="12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39" dur="2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241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44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49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54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6602"/>
          <p:cNvPicPr/>
          <p:nvPr/>
        </p:nvPicPr>
        <p:blipFill>
          <a:blip r:embed="rId2"/>
          <a:stretch/>
        </p:blipFill>
        <p:spPr>
          <a:xfrm>
            <a:off x="0" y="0"/>
            <a:ext cx="3333600" cy="2419200"/>
          </a:xfrm>
          <a:prstGeom prst="rect">
            <a:avLst/>
          </a:prstGeom>
          <a:ln w="0">
            <a:noFill/>
          </a:ln>
        </p:spPr>
      </p:pic>
      <p:sp>
        <p:nvSpPr>
          <p:cNvPr id="650" name="Oval 3"/>
          <p:cNvSpPr/>
          <p:nvPr/>
        </p:nvSpPr>
        <p:spPr>
          <a:xfrm>
            <a:off x="1116000" y="515772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"/>
          <p:cNvSpPr/>
          <p:nvPr/>
        </p:nvSpPr>
        <p:spPr>
          <a:xfrm>
            <a:off x="2050920" y="5877000"/>
            <a:ext cx="79236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5"/>
          <p:cNvSpPr/>
          <p:nvPr/>
        </p:nvSpPr>
        <p:spPr>
          <a:xfrm>
            <a:off x="4427640" y="595008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6"/>
          <p:cNvSpPr/>
          <p:nvPr/>
        </p:nvSpPr>
        <p:spPr>
          <a:xfrm>
            <a:off x="2916360" y="5013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7">
            <a:hlinkClick r:id="rId3"/>
          </p:cNvPr>
          <p:cNvSpPr/>
          <p:nvPr/>
        </p:nvSpPr>
        <p:spPr>
          <a:xfrm>
            <a:off x="3276720" y="6021360"/>
            <a:ext cx="79200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6300720" y="333360"/>
            <a:ext cx="208764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4-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9" descr="Бараш"/>
          <p:cNvPicPr/>
          <p:nvPr/>
        </p:nvPicPr>
        <p:blipFill>
          <a:blip r:embed="rId4"/>
          <a:stretch/>
        </p:blipFill>
        <p:spPr>
          <a:xfrm>
            <a:off x="2484360" y="1844640"/>
            <a:ext cx="1481040" cy="1562040"/>
          </a:xfrm>
          <a:prstGeom prst="rect">
            <a:avLst/>
          </a:prstGeom>
          <a:ln w="0">
            <a:noFill/>
          </a:ln>
        </p:spPr>
      </p:pic>
      <p:sp>
        <p:nvSpPr>
          <p:cNvPr id="657" name="AutoShape 10">
            <a:hlinkClick r:id="" action="ppaction://hlinkshowjump?jump=next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3794"/>
                </a:moveTo>
                <a:lnTo>
                  <a:pt x="29067" y="10800"/>
                </a:lnTo>
                <a:lnTo>
                  <a:pt x="15054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1"/>
          <p:cNvSpPr/>
          <p:nvPr/>
        </p:nvSpPr>
        <p:spPr>
          <a:xfrm>
            <a:off x="3780000" y="0"/>
            <a:ext cx="1008000" cy="576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0.03239 C -0.05364 -0.04141 -0.05555 -0.05066 -0.05764 -0.05968 C -0.06041 -0.0724 -0.05677 -0.05598 -0.05972 -0.06893 C -0.06007 -0.07055 -0.06076 -0.07402 -0.06076 -0.07379 C -0.06146 -0.08351 -0.06441 -0.0953 -0.06666 -0.10271 C -0.06823 -0.11543 -0.0658 -0.09854 -0.06875 -0.11219 C -0.06996 -0.11728 -0.071 -0.12445 -0.07205 -0.12977 C -0.07534 -0.14758 -0.07899 -0.16401 -0.08264 -0.18089 C -0.08559 -0.19385 -0.08819 -0.21004 -0.09184 -0.22068 C -0.09253 -0.22762 -0.09357 -0.23248 -0.09566 -0.23664 C -0.09757 -0.24798 -0.0993 -0.2533 -0.10156 -0.26371 C -0.10312 -0.27065 -0.10399 -0.2762 -0.10573 -0.28291 C -0.10746 -0.29817 -0.10486 -0.27597 -0.10798 -0.29239 C -0.11007 -0.30372 -0.10659 -0.29493 -0.11007 -0.30211 C -0.1125 -0.31437 -0.11562 -0.32477 -0.11857 -0.33565 C -0.121 -0.34374 -0.12326 -0.35693 -0.12621 -0.36433 C -0.13021 -0.37474 -0.13923 -0.39301 -0.14444 -0.39625 C -0.14653 -0.40065 -0.14826 -0.40273 -0.15087 -0.40412 C -0.15312 -0.40759 -0.15468 -0.40898 -0.15712 -0.41059 C -0.16093 -0.41615 -0.16475 -0.41707 -0.16857 -0.42332 C -0.17222 -0.42979 -0.17621 -0.44113 -0.18021 -0.44414 C -0.18177 -0.45038 -0.1842 -0.45293 -0.18611 -0.45848 C -0.18732 -0.46866 -0.18958 -0.48277 -0.19201 -0.49017 C -0.19375 -0.49549 -0.19566 -0.49965 -0.19739 -0.50474 C -0.20087 -0.51446 -0.20139 -0.53181 -0.20538 -0.53967 C -0.2059 -0.54823 -0.20677 -0.55586 -0.20816 -0.56373 C -0.20868 -0.57206 -0.20868 -0.57599 -0.21024 -0.58293 C -0.21093 -0.59172 -0.21284 -0.60537 -0.21458 -0.61323 C -0.21545 -0.62919 -0.21649 -0.66366 -0.21232 -0.67546 C -0.21163 -0.68355 -0.21215 -0.6787 -0.21076 -0.6898 C -0.21024 -0.69443 -0.2085 -0.69419 -0.20816 -0.69928 C -0.20781 -0.70414 -0.20816 -0.709 -0.20816 -0.71363 E">
                                      <p:cBhvr>
                                        <p:cTn id="126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1262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8864E-007 C -0.00451 -0.02244 0.00122 -0.00277 -0.00694 -0.01573 C -0.00781 -0.01689 -0.00764 -0.0192 -0.00816 -0.02059 C -0.0125 -0.03076 -0.01771 -0.04117 -0.02118 -0.05205 C -0.02604 -0.06731 -0.02778 -0.08536 -0.03524 -0.09877 C -0.0368 -0.10895 -0.03941 -0.12214 -0.04236 -0.13185 C -0.04305 -0.13902 -0.04462 -0.14619 -0.04462 -0.1536 C -0.04531 -0.26602 -0.06233 -0.3021 -0.02344 -0.36988 C -0.0217 -0.37312 -0.01267 -0.38723 -0.00937 -0.38885 C -0.00139 -0.4025 0.00625 -0.4173 0.01302 -0.43257 C 0.01649 -0.44043 0.01771 -0.44876 0.02118 -0.45616 C 0.02483 -0.47467 0.04097 -0.50011 0.04948 -0.51584 C 0.05365 -0.52348 0.06129 -0.53366 0.06129 -0.5443 C 0.06129 -0.60051 0.06129 -0.65672 0.06129 -0.71316 E">
                                      <p:cBhvr>
                                        <p:cTn id="1265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267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6981E-007 C -0.00417 -0.01018 -0.01528 -0.02406 -0.02587 -0.02776 C -0.02795 -0.0347 -0.02986 -0.03655 -0.03646 -0.04002 C -0.04062 -0.04603 -0.04687 -0.05135 -0.05312 -0.05529 C -0.06024 -0.06639 -0.05087 -0.0539 -0.06198 -0.06153 C -0.06354 -0.06222 -0.06371 -0.06477 -0.0651 -0.06593 C -0.06788 -0.06801 -0.07135 -0.0687 -0.07396 -0.07055 C -0.08316 -0.08374 -0.09201 -0.09715 -0.10121 -0.11057 C -0.10365 -0.11404 -0.10677 -0.11728 -0.10885 -0.12121 C -0.11458 -0.13255 -0.11059 -0.12561 -0.1224 -0.14111 C -0.12396 -0.14319 -0.12708 -0.14712 -0.12708 -0.14689 C -0.12951 -0.15845 -0.12639 -0.14851 -0.13437 -0.15961 C -0.13889 -0.16563 -0.13715 -0.16886 -0.14358 -0.17326 C -0.14618 -0.18043 -0.14861 -0.18321 -0.15417 -0.18853 C -0.15555 -0.19662 -0.1592 -0.20241 -0.16163 -0.21004 C -0.16406 -0.21698 -0.1651 -0.22369 -0.1691 -0.22993 C -0.17187 -0.24335 -0.18524 -0.26024 -0.1934 -0.27134 C -0.19496 -0.27342 -0.19635 -0.2755 -0.19792 -0.27758 C -0.19965 -0.27944 -0.20226 -0.2836 -0.20226 -0.28337 C -0.20573 -0.29378 -0.20278 -0.2873 -0.21597 -0.30049 C -0.22083 -0.30557 -0.22396 -0.31182 -0.22812 -0.31737 C -0.23108 -0.32084 -0.23177 -0.32593 -0.2342 -0.32986 C -0.23993 -0.33958 -0.24479 -0.34837 -0.24913 -0.35878 C -0.25243 -0.36711 -0.25347 -0.37543 -0.25972 -0.38191 C -0.26354 -0.38978 -0.26875 -0.3981 -0.27621 -0.4018 C -0.28246 -0.41083 -0.27604 -0.4025 -0.28542 -0.41106 C -0.29358 -0.41846 -0.30069 -0.42725 -0.30972 -0.43373 C -0.31528 -0.43789 -0.32187 -0.4409 -0.32778 -0.4446 C -0.33333 -0.4483 -0.33715 -0.45431 -0.34288 -0.45686 C -0.35017 -0.4601 -0.35729 -0.46148 -0.36389 -0.46611 C -0.37031 -0.4756 -0.37726 -0.48531 -0.3849 -0.49387 C -0.38767 -0.5015 -0.40191 -0.50844 -0.4092 -0.51214 C -0.41701 -0.52024 -0.41927 -0.52417 -0.42882 -0.52741 C -0.43559 -0.5325 -0.44219 -0.53736 -0.44844 -0.54291 C -0.45365 -0.54707 -0.45642 -0.55286 -0.46198 -0.55679 C -0.46701 -0.56419 -0.46944 -0.57229 -0.47413 -0.57946 C -0.4783 -0.58617 -0.48472 -0.59126 -0.48924 -0.5982 C -0.49201 -0.60907 -0.4908 -0.60213 -0.4908 -0.61925 E">
                                      <p:cBhvr>
                                        <p:cTn id="12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6817E-006 C -0.00103 -0.01295 -0.00312 -0.02706 -0.00937 -0.0377 C -0.01301 -0.0502 -0.01492 -0.06315 -0.02117 -0.07379 C -0.02273 -0.08073 -0.02933 -0.09253 -0.02933 -0.09253 C -0.03176 -0.10502 -0.03454 -0.11682 -0.03871 -0.12861 C -0.03992 -0.1381 -0.04044 -0.14851 -0.04582 -0.15522 C -0.04704 -0.16169 -0.04773 -0.16678 -0.05051 -0.17256 C -0.05207 -0.18228 -0.05485 -0.18853 -0.05763 -0.19755 C -0.06075 -0.22137 -0.05624 -0.19315 -0.0611 -0.21004 C -0.06353 -0.2186 -0.06371 -0.22345 -0.067 -0.23201 C -0.07152 -0.30187 -0.08489 -0.3752 -0.067 -0.44367 C -0.06457 -0.46657 -0.05937 -0.48901 -0.0493 -0.50798 C -0.04721 -0.51908 -0.03975 -0.52787 -0.03159 -0.53157 C -0.02881 -0.53713 -0.01562 -0.55124 -0.01058 -0.55332 C -0.00659 -0.55679 -0.00555 -0.56072 -0.00103 -0.5628 C 0.00261 -0.56604 0.00539 -0.5672 0.00956 -0.56905 C 0.01494 -0.57414 0.02188 -0.57668 0.02831 -0.57853 C 0.03577 -0.58501 0.02692 -0.5783 0.0389 -0.58316 C 0.05418 -0.5894 0.06615 -0.59496 0.08247 -0.59727 C 0.09411 -0.60537 0.10331 -0.60814 0.1165 -0.60976 C 0.12379 -0.61254 0.13022 -0.61624 0.13768 -0.61763 C 0.1514 -0.62387 0.16581 -0.62711 0.18004 -0.63035 C 0.18647 -0.63683 0.18369 -0.63497 0.19306 -0.63798 C 0.19706 -0.63914 0.20487 -0.64122 0.20487 -0.64122 C 0.22536 -0.65279 0.24758 -0.66111 0.26841 -0.67106 C 0.27675 -0.67499 0.27831 -0.67337 0.28716 -0.67893 C 0.28838 -0.67962 0.30713 -0.69396 0.31181 -0.69766 C 0.3257 -0.7083 0.33647 -0.72542 0.3448 -0.743 C 0.3474 -0.74832 0.35036 -0.75341 0.35296 -0.75873 C 0.35418 -0.76128 0.35539 -0.76405 0.35661 -0.7666 C 0.3573 -0.76822 0.35886 -0.77122 0.35886 -0.77122 C 0.35921 -0.7733 0.35956 -0.77562 0.36008 -0.7777 C 0.36043 -0.77932 0.36129 -0.78233 0.36129 -0.78233 E">
                                      <p:cBhvr>
                                        <p:cTn id="1275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27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97641E-006 C -0.00694 -0.00648 -0.0026 -0.00162 -0.01059 -0.01735 C -0.01146 -0.01897 -0.01302 -0.02198 -0.01302 -0.02198 C -0.01493 -0.03054 -0.01805 -0.03771 -0.02118 -0.04557 C -0.02292 -0.06038 -0.02812 -0.07379 -0.03177 -0.0879 C -0.03455 -0.09855 -0.03507 -0.10919 -0.03889 -0.11913 C -0.04114 -0.13301 -0.04583 -0.14527 -0.04948 -0.15846 C -0.05052 -0.16193 -0.05278 -0.17534 -0.05295 -0.17558 C -0.06632 -0.19963 -0.07726 -0.22554 -0.09062 -0.24937 C -0.09392 -0.26209 -0.10208 -0.27227 -0.10712 -0.28383 C -0.10885 -0.28777 -0.10885 -0.29239 -0.11059 -0.29632 C -0.11441 -0.30488 -0.11979 -0.31252 -0.12465 -0.31992 E">
                                      <p:cBhvr>
                                        <p:cTn id="1280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Бараш"/>
          <p:cNvPicPr/>
          <p:nvPr/>
        </p:nvPicPr>
        <p:blipFill>
          <a:blip r:embed="rId2"/>
          <a:stretch/>
        </p:blipFill>
        <p:spPr>
          <a:xfrm>
            <a:off x="0" y="1628640"/>
            <a:ext cx="3005280" cy="3168720"/>
          </a:xfrm>
          <a:prstGeom prst="rect">
            <a:avLst/>
          </a:prstGeom>
          <a:ln w="0">
            <a:noFill/>
          </a:ln>
        </p:spPr>
      </p:pic>
      <p:sp>
        <p:nvSpPr>
          <p:cNvPr id="660" name="WordArt 3"/>
          <p:cNvSpPr txBox="1"/>
          <p:nvPr/>
        </p:nvSpPr>
        <p:spPr>
          <a:xfrm>
            <a:off x="3402000" y="0"/>
            <a:ext cx="57420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номенально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1" name="AutoShape 6">
            <a:hlinkClick r:id="rId3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mesharikon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сайт смешарик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media.meta.ua/files/pic/0/25/168/BMQO7d0FxL.png - Ню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i005.radikal.ru/0902/c2/f698fcf2943a.jpg.html - 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radikal.ru/F/s56.radikal.ru/i153/0902/db/5ebd9a5a6cf2.jpg.html - 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1.zip - П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3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ар-кар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4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Ёж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8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опат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www.fotodryg.ru/clipart/1/4/10.p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ося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s61.radikal.ru/i173/0810/a8/8ab8d68d4611.png - 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49.radikal.ru/i125/0811/05/f625f271f746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53.radikal.ru/i140/0811/03/dde68d8254bd.p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р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ages.yandex.ru/search?p=239&amp;ed=1&amp;text=%D0%B2%D0%B5%D0%B4%D1%80%D0%BE&amp;spsite=fake-037-1328904.ru&amp;img_url=www.ogonek-toys.ru%2Fcontent%2Fimages%2FVedro.jpg%2F420.jpg&amp;rpt=s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д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e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yandex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yandsearch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?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x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=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B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2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0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BE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%89%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&amp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yp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в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564000" y="5589720"/>
            <a:ext cx="2411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5148360" y="836640"/>
            <a:ext cx="576000" cy="576360"/>
            <a:chOff x="5148360" y="836640"/>
            <a:chExt cx="576000" cy="576360"/>
          </a:xfrm>
        </p:grpSpPr>
        <p:pic>
          <p:nvPicPr>
            <p:cNvPr id="114" name="Picture 19" descr="2"/>
            <p:cNvPicPr/>
            <p:nvPr/>
          </p:nvPicPr>
          <p:blipFill>
            <a:blip r:embed="rId3"/>
            <a:stretch/>
          </p:blipFill>
          <p:spPr>
            <a:xfrm>
              <a:off x="5148360" y="836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20"/>
            <p:cNvSpPr txBox="1"/>
            <p:nvPr/>
          </p:nvSpPr>
          <p:spPr>
            <a:xfrm>
              <a:off x="5352480" y="1042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21"/>
          <p:cNvGrpSpPr/>
          <p:nvPr/>
        </p:nvGrpSpPr>
        <p:grpSpPr>
          <a:xfrm>
            <a:off x="4140360" y="1628640"/>
            <a:ext cx="576000" cy="576360"/>
            <a:chOff x="4140360" y="1628640"/>
            <a:chExt cx="576000" cy="576360"/>
          </a:xfrm>
        </p:grpSpPr>
        <p:pic>
          <p:nvPicPr>
            <p:cNvPr id="117" name="Picture 22" descr="2"/>
            <p:cNvPicPr/>
            <p:nvPr/>
          </p:nvPicPr>
          <p:blipFill>
            <a:blip r:embed="rId4"/>
            <a:stretch/>
          </p:blipFill>
          <p:spPr>
            <a:xfrm>
              <a:off x="414036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WordArt 23"/>
            <p:cNvSpPr txBox="1"/>
            <p:nvPr/>
          </p:nvSpPr>
          <p:spPr>
            <a:xfrm>
              <a:off x="434448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9" name="Group 24"/>
          <p:cNvGrpSpPr/>
          <p:nvPr/>
        </p:nvGrpSpPr>
        <p:grpSpPr>
          <a:xfrm>
            <a:off x="5796000" y="1844640"/>
            <a:ext cx="576360" cy="576360"/>
            <a:chOff x="5796000" y="1844640"/>
            <a:chExt cx="576360" cy="576360"/>
          </a:xfrm>
        </p:grpSpPr>
        <p:pic>
          <p:nvPicPr>
            <p:cNvPr id="120" name="Picture 25" descr="2"/>
            <p:cNvPicPr/>
            <p:nvPr/>
          </p:nvPicPr>
          <p:blipFill>
            <a:blip r:embed="rId5"/>
            <a:stretch/>
          </p:blipFill>
          <p:spPr>
            <a:xfrm>
              <a:off x="5796000" y="1844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WordArt 26"/>
            <p:cNvSpPr txBox="1"/>
            <p:nvPr/>
          </p:nvSpPr>
          <p:spPr>
            <a:xfrm>
              <a:off x="6000480" y="2050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2" name="Group 27"/>
          <p:cNvGrpSpPr/>
          <p:nvPr/>
        </p:nvGrpSpPr>
        <p:grpSpPr>
          <a:xfrm>
            <a:off x="2843280" y="1773360"/>
            <a:ext cx="576360" cy="576000"/>
            <a:chOff x="2843280" y="1773360"/>
            <a:chExt cx="576360" cy="576000"/>
          </a:xfrm>
        </p:grpSpPr>
        <p:pic>
          <p:nvPicPr>
            <p:cNvPr id="123" name="Picture 28" descr="2"/>
            <p:cNvPicPr/>
            <p:nvPr/>
          </p:nvPicPr>
          <p:blipFill>
            <a:blip r:embed="rId6"/>
            <a:stretch/>
          </p:blipFill>
          <p:spPr>
            <a:xfrm>
              <a:off x="284328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29"/>
            <p:cNvSpPr txBox="1"/>
            <p:nvPr/>
          </p:nvSpPr>
          <p:spPr>
            <a:xfrm>
              <a:off x="304776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5" name="Group 30"/>
          <p:cNvGrpSpPr/>
          <p:nvPr/>
        </p:nvGrpSpPr>
        <p:grpSpPr>
          <a:xfrm>
            <a:off x="3492360" y="765000"/>
            <a:ext cx="576360" cy="576360"/>
            <a:chOff x="3492360" y="765000"/>
            <a:chExt cx="576360" cy="576360"/>
          </a:xfrm>
        </p:grpSpPr>
        <p:pic>
          <p:nvPicPr>
            <p:cNvPr id="126" name="Picture 31" descr="2"/>
            <p:cNvPicPr/>
            <p:nvPr/>
          </p:nvPicPr>
          <p:blipFill>
            <a:blip r:embed="rId7"/>
            <a:stretch/>
          </p:blipFill>
          <p:spPr>
            <a:xfrm>
              <a:off x="3492360" y="765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32"/>
            <p:cNvSpPr txBox="1"/>
            <p:nvPr/>
          </p:nvSpPr>
          <p:spPr>
            <a:xfrm>
              <a:off x="3696840" y="971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28" name="Picture 35" descr="яблоко"/>
          <p:cNvPicPr/>
          <p:nvPr/>
        </p:nvPicPr>
        <p:blipFill>
          <a:blip r:embed="rId8"/>
          <a:stretch/>
        </p:blipFill>
        <p:spPr>
          <a:xfrm>
            <a:off x="5435640" y="566100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8" descr="яблоко"/>
          <p:cNvPicPr/>
          <p:nvPr/>
        </p:nvPicPr>
        <p:blipFill>
          <a:blip r:embed="rId9"/>
          <a:stretch/>
        </p:blipFill>
        <p:spPr>
          <a:xfrm>
            <a:off x="586728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9" descr="яблоко"/>
          <p:cNvPicPr/>
          <p:nvPr/>
        </p:nvPicPr>
        <p:blipFill>
          <a:blip r:embed="rId10"/>
          <a:stretch/>
        </p:blipFill>
        <p:spPr>
          <a:xfrm>
            <a:off x="6372360" y="566100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1" descr="корзинка2"/>
          <p:cNvPicPr/>
          <p:nvPr/>
        </p:nvPicPr>
        <p:blipFill>
          <a:blip r:embed="rId11"/>
          <a:stretch/>
        </p:blipFill>
        <p:spPr>
          <a:xfrm>
            <a:off x="5292720" y="5781600"/>
            <a:ext cx="202716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78499E-007 L 0.09462 0.65176 E">
                                      <p:cBhvr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101E-006 L 0.15747 0.40987 E">
                                      <p:cBhvr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2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7.36294E-006 C 0.00088 0.00809 0.00192 0.01619 0.00591 0.0303 C 0.0099 0.04441 0.01893 0.06893 0.02379 0.08443 C 0.02865 0.09992 0.03351 0.10941 0.0356 0.12398 C 0.03768 0.13855 0.03629 0.15266 0.03664 0.1714 C 0.03699 0.19014 0.03733 0.2142 0.03768 0.23617 C 0.03803 0.25815 0.03855 0.2785 0.03872 0.30349 C 0.0389 0.32847 0.03612 0.3634 0.03872 0.38653 C 0.04133 0.40966 0.04931 0.42701 0.05452 0.44182 C 0.05973 0.45662 0.0632 0.46541 0.07032 0.47489 C 0.07744 0.48438 0.08855 0.49386 0.09706 0.49872 C 0.10556 0.50358 0.11581 0.50242 0.12188 0.50404 C 0.12796 0.50566 0.12952 0.50705 0.13369 0.50797 C 0.13785 0.5089 0.14185 0.50844 0.14654 0.50913 C 0.15122 0.50982 0.15626 0.51075 0.16147 0.51191 E">
                                      <p:cBhvr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17326 0.60903 E">
                                      <p:cBhvr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1"/>
          <p:cNvGrpSpPr/>
          <p:nvPr/>
        </p:nvGrpSpPr>
        <p:grpSpPr>
          <a:xfrm>
            <a:off x="4716360" y="1773360"/>
            <a:ext cx="576360" cy="576000"/>
            <a:chOff x="4716360" y="1773360"/>
            <a:chExt cx="576360" cy="576000"/>
          </a:xfrm>
        </p:grpSpPr>
        <p:pic>
          <p:nvPicPr>
            <p:cNvPr id="136" name="Picture 22" descr="2"/>
            <p:cNvPicPr/>
            <p:nvPr/>
          </p:nvPicPr>
          <p:blipFill>
            <a:blip r:embed="rId3"/>
            <a:stretch/>
          </p:blipFill>
          <p:spPr>
            <a:xfrm>
              <a:off x="4716360" y="17733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23"/>
            <p:cNvSpPr txBox="1"/>
            <p:nvPr/>
          </p:nvSpPr>
          <p:spPr>
            <a:xfrm>
              <a:off x="4920840" y="197964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8" name="Group 24"/>
          <p:cNvGrpSpPr/>
          <p:nvPr/>
        </p:nvGrpSpPr>
        <p:grpSpPr>
          <a:xfrm>
            <a:off x="3708360" y="981000"/>
            <a:ext cx="576360" cy="576360"/>
            <a:chOff x="3708360" y="981000"/>
            <a:chExt cx="576360" cy="576360"/>
          </a:xfrm>
        </p:grpSpPr>
        <p:pic>
          <p:nvPicPr>
            <p:cNvPr id="139" name="Picture 25" descr="2"/>
            <p:cNvPicPr/>
            <p:nvPr/>
          </p:nvPicPr>
          <p:blipFill>
            <a:blip r:embed="rId4"/>
            <a:stretch/>
          </p:blipFill>
          <p:spPr>
            <a:xfrm>
              <a:off x="3708360" y="98100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WordArt 26"/>
            <p:cNvSpPr txBox="1"/>
            <p:nvPr/>
          </p:nvSpPr>
          <p:spPr>
            <a:xfrm>
              <a:off x="3912840" y="118728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1" name="Group 27"/>
          <p:cNvGrpSpPr/>
          <p:nvPr/>
        </p:nvGrpSpPr>
        <p:grpSpPr>
          <a:xfrm>
            <a:off x="2700360" y="1989000"/>
            <a:ext cx="682560" cy="547920"/>
            <a:chOff x="2700360" y="1989000"/>
            <a:chExt cx="682560" cy="547920"/>
          </a:xfrm>
        </p:grpSpPr>
        <p:pic>
          <p:nvPicPr>
            <p:cNvPr id="142" name="Picture 28" descr="2"/>
            <p:cNvPicPr/>
            <p:nvPr/>
          </p:nvPicPr>
          <p:blipFill>
            <a:blip r:embed="rId5"/>
            <a:stretch/>
          </p:blipFill>
          <p:spPr>
            <a:xfrm>
              <a:off x="2700360" y="1989000"/>
              <a:ext cx="6825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WordArt 29"/>
            <p:cNvSpPr txBox="1"/>
            <p:nvPr/>
          </p:nvSpPr>
          <p:spPr>
            <a:xfrm>
              <a:off x="2942280" y="2185200"/>
              <a:ext cx="243360" cy="2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5508720" y="1125360"/>
            <a:ext cx="649080" cy="503280"/>
            <a:chOff x="5508720" y="1125360"/>
            <a:chExt cx="649080" cy="503280"/>
          </a:xfrm>
        </p:grpSpPr>
        <p:pic>
          <p:nvPicPr>
            <p:cNvPr id="145" name="Picture 31" descr="2"/>
            <p:cNvPicPr/>
            <p:nvPr/>
          </p:nvPicPr>
          <p:blipFill>
            <a:blip r:embed="rId6"/>
            <a:stretch/>
          </p:blipFill>
          <p:spPr>
            <a:xfrm>
              <a:off x="5508720" y="1125360"/>
              <a:ext cx="6490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32"/>
            <p:cNvSpPr txBox="1"/>
            <p:nvPr/>
          </p:nvSpPr>
          <p:spPr>
            <a:xfrm>
              <a:off x="5738760" y="1305720"/>
              <a:ext cx="2314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47" name="Picture 53" descr="яблоко"/>
          <p:cNvPicPr/>
          <p:nvPr/>
        </p:nvPicPr>
        <p:blipFill>
          <a:blip r:embed="rId7"/>
          <a:stretch/>
        </p:blipFill>
        <p:spPr>
          <a:xfrm>
            <a:off x="5724360" y="551664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4" descr="яблоко"/>
          <p:cNvPicPr/>
          <p:nvPr/>
        </p:nvPicPr>
        <p:blipFill>
          <a:blip r:embed="rId8"/>
          <a:stretch/>
        </p:blipFill>
        <p:spPr>
          <a:xfrm>
            <a:off x="6516720" y="558972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5" descr="яблоко"/>
          <p:cNvPicPr/>
          <p:nvPr/>
        </p:nvPicPr>
        <p:blipFill>
          <a:blip r:embed="rId9"/>
          <a:stretch/>
        </p:blipFill>
        <p:spPr>
          <a:xfrm>
            <a:off x="673272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6" descr="яблоко"/>
          <p:cNvPicPr/>
          <p:nvPr/>
        </p:nvPicPr>
        <p:blipFill>
          <a:blip r:embed="rId10"/>
          <a:stretch/>
        </p:blipFill>
        <p:spPr>
          <a:xfrm>
            <a:off x="5867280" y="5661000"/>
            <a:ext cx="830520" cy="766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8" descr="корзинка2"/>
          <p:cNvPicPr/>
          <p:nvPr/>
        </p:nvPicPr>
        <p:blipFill>
          <a:blip r:embed="rId11"/>
          <a:stretch/>
        </p:blipFill>
        <p:spPr>
          <a:xfrm>
            <a:off x="5508720" y="5637240"/>
            <a:ext cx="230328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725E-006 C 0.00035 0.00695 0.00156 0.01529 0.00573 0.0292 C 0.01025 0.04333 0.01979 0.06835 0.02483 0.08388 C 0.03004 0.09917 0.03559 0.1089 0.03768 0.1235 C 0.03976 0.13856 0.03854 0.15246 0.03872 0.17169 C 0.03941 0.18999 0.03959 0.21455 0.03976 0.23633 C 0.04011 0.25857 0.04097 0.27943 0.04115 0.30422 C 0.04115 0.32947 0.03837 0.36469 0.04115 0.38763 C 0.04358 0.41126 0.05243 0.42887 0.05799 0.4437 C 0.06372 0.45922 0.06754 0.46733 0.07518 0.4773 C 0.08281 0.48656 0.09462 0.49629 0.10365 0.5007 C 0.11268 0.50603 0.12379 0.50533 0.13038 0.50649 C 0.13681 0.50788 0.13872 0.50927 0.14306 0.5102 C 0.14722 0.51135 0.15174 0.51066 0.15677 0.51159 C 0.16163 0.51182 0.16719 0.51274 0.17327 0.51506 E">
                                      <p:cBhvr>
                                        <p:cTn id="13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4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023 L -0.01562 0.64006 E">
                                      <p:cBhvr>
                                        <p:cTn id="14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19288 0.53033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3276720" y="5589720"/>
            <a:ext cx="2879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6012000" y="1844640"/>
            <a:ext cx="576000" cy="576360"/>
            <a:chOff x="6012000" y="1844640"/>
            <a:chExt cx="576000" cy="576360"/>
          </a:xfrm>
        </p:grpSpPr>
        <p:pic>
          <p:nvPicPr>
            <p:cNvPr id="156" name="Picture 25" descr="2"/>
            <p:cNvPicPr/>
            <p:nvPr/>
          </p:nvPicPr>
          <p:blipFill>
            <a:blip r:embed="rId3"/>
            <a:stretch/>
          </p:blipFill>
          <p:spPr>
            <a:xfrm>
              <a:off x="6012000" y="1844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WordArt 26"/>
            <p:cNvSpPr txBox="1"/>
            <p:nvPr/>
          </p:nvSpPr>
          <p:spPr>
            <a:xfrm>
              <a:off x="6216120" y="2050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8" name="Group 27"/>
          <p:cNvGrpSpPr/>
          <p:nvPr/>
        </p:nvGrpSpPr>
        <p:grpSpPr>
          <a:xfrm>
            <a:off x="3492360" y="1052640"/>
            <a:ext cx="576360" cy="576000"/>
            <a:chOff x="3492360" y="1052640"/>
            <a:chExt cx="576360" cy="576000"/>
          </a:xfrm>
        </p:grpSpPr>
        <p:pic>
          <p:nvPicPr>
            <p:cNvPr id="159" name="Picture 28" descr="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492360" y="10526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WordArt 29"/>
            <p:cNvSpPr txBox="1"/>
            <p:nvPr/>
          </p:nvSpPr>
          <p:spPr>
            <a:xfrm>
              <a:off x="3696840" y="1258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1" name="Group 30"/>
          <p:cNvGrpSpPr/>
          <p:nvPr/>
        </p:nvGrpSpPr>
        <p:grpSpPr>
          <a:xfrm>
            <a:off x="2987640" y="2060640"/>
            <a:ext cx="682560" cy="547560"/>
            <a:chOff x="2987640" y="2060640"/>
            <a:chExt cx="682560" cy="547560"/>
          </a:xfrm>
        </p:grpSpPr>
        <p:pic>
          <p:nvPicPr>
            <p:cNvPr id="162" name="Picture 31" descr="2"/>
            <p:cNvPicPr/>
            <p:nvPr/>
          </p:nvPicPr>
          <p:blipFill>
            <a:blip r:embed="rId6"/>
            <a:stretch/>
          </p:blipFill>
          <p:spPr>
            <a:xfrm>
              <a:off x="2987640" y="2060640"/>
              <a:ext cx="682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WordArt 32"/>
            <p:cNvSpPr txBox="1"/>
            <p:nvPr/>
          </p:nvSpPr>
          <p:spPr>
            <a:xfrm>
              <a:off x="3229560" y="2256840"/>
              <a:ext cx="2433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4" name="Group 33"/>
          <p:cNvGrpSpPr/>
          <p:nvPr/>
        </p:nvGrpSpPr>
        <p:grpSpPr>
          <a:xfrm>
            <a:off x="4788000" y="1413000"/>
            <a:ext cx="576000" cy="576000"/>
            <a:chOff x="4788000" y="1413000"/>
            <a:chExt cx="576000" cy="576000"/>
          </a:xfrm>
        </p:grpSpPr>
        <p:pic>
          <p:nvPicPr>
            <p:cNvPr id="165" name="Picture 34" descr="2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788000" y="141300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35"/>
            <p:cNvSpPr txBox="1"/>
            <p:nvPr/>
          </p:nvSpPr>
          <p:spPr>
            <a:xfrm>
              <a:off x="4992120" y="1619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5148360" y="692280"/>
            <a:ext cx="576000" cy="576000"/>
            <a:chOff x="5148360" y="692280"/>
            <a:chExt cx="576000" cy="576000"/>
          </a:xfrm>
        </p:grpSpPr>
        <p:pic>
          <p:nvPicPr>
            <p:cNvPr id="168" name="Picture 37" descr="2"/>
            <p:cNvPicPr/>
            <p:nvPr/>
          </p:nvPicPr>
          <p:blipFill>
            <a:blip r:embed="rId9"/>
            <a:stretch/>
          </p:blipFill>
          <p:spPr>
            <a:xfrm>
              <a:off x="5148360" y="692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WordArt 38"/>
            <p:cNvSpPr txBox="1"/>
            <p:nvPr/>
          </p:nvSpPr>
          <p:spPr>
            <a:xfrm>
              <a:off x="5352480" y="89856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70" name="Picture 41" descr="яблоко"/>
          <p:cNvPicPr/>
          <p:nvPr/>
        </p:nvPicPr>
        <p:blipFill>
          <a:blip r:embed="rId10"/>
          <a:stretch/>
        </p:blipFill>
        <p:spPr>
          <a:xfrm>
            <a:off x="601200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2" descr="яблоко"/>
          <p:cNvPicPr/>
          <p:nvPr/>
        </p:nvPicPr>
        <p:blipFill>
          <a:blip r:embed="rId11"/>
          <a:stretch/>
        </p:blipFill>
        <p:spPr>
          <a:xfrm>
            <a:off x="6372360" y="558972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3" descr="яблоко"/>
          <p:cNvPicPr/>
          <p:nvPr/>
        </p:nvPicPr>
        <p:blipFill>
          <a:blip r:embed="rId12"/>
          <a:stretch/>
        </p:blipFill>
        <p:spPr>
          <a:xfrm>
            <a:off x="5435640" y="5734080"/>
            <a:ext cx="830160" cy="766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4" descr="яблоко"/>
          <p:cNvPicPr/>
          <p:nvPr/>
        </p:nvPicPr>
        <p:blipFill>
          <a:blip r:embed="rId13"/>
          <a:stretch/>
        </p:blipFill>
        <p:spPr>
          <a:xfrm>
            <a:off x="6372360" y="5805360"/>
            <a:ext cx="758520" cy="70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корзинка2"/>
          <p:cNvPicPr/>
          <p:nvPr/>
        </p:nvPicPr>
        <p:blipFill>
          <a:blip r:embed="rId14"/>
          <a:stretch/>
        </p:blipFill>
        <p:spPr>
          <a:xfrm>
            <a:off x="5219640" y="5745240"/>
            <a:ext cx="2098800" cy="11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5237 C -0.02344 -0.04379 -0.02344 -0.03522 -0.02326 -0.0197 C -0.02274 -0.0044 -0.02118 0.02247 -0.02066 0.03915 C -0.01962 0.05607 -0.0191 0.06626 -0.01858 0.08248 C -0.01858 0.09801 -0.01858 0.1133 -0.01858 0.13369 C -0.01858 0.15384 -0.01858 0.18049 -0.01858 0.20412 C -0.01858 0.22799 -0.01858 0.25023 -0.01806 0.27734 C -0.01806 0.30445 -0.01858 0.34244 -0.01806 0.3677 C -0.01806 0.39295 -0.01649 0.41172 -0.01597 0.42794 C -0.01493 0.44416 -0.01441 0.45366 -0.01337 0.46408 C -0.01233 0.47451 -0.01094 0.48447 -0.0099 0.48957 C -0.00833 0.4949 -0.00729 0.49374 -0.00625 0.49536 C -0.00521 0.49699 -0.00521 0.49884 -0.00417 0.49977 C -0.00365 0.50092 -0.00313 0.50023 -0.00261 0.50116 C -0.00156 0.50185 -0.00104 0.50278 0.00017 0.50463 E">
                                      <p:cBhvr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6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023 L -0.01371 0.56921 E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-4.72222E-006 0.00602 -4.72221999999996E-006 0.0125 0.00139 0.02847 C 0.00278 0.04421 0.00678 0.075 0.00834 0.09514 C 0.0099 0.11527 0.01025 0.12986 0.01094 0.15 C 0.01181 0.1706 0.01181 0.19514 0.01268 0.21782 C 0.01337 0.24074 0.01407 0.26643 0.01563 0.28773 C 0.01737 0.30902 0.02153 0.32939 0.02257 0.34606 C 0.02362 0.3625 0.02014 0.37291 0.02257 0.38727 C 0.025 0.40162 0.03282 0.41759 0.03698 0.43171 C 0.04115 0.4456 0.04393 0.45949 0.0474 0.47083 C 0.05105 0.4824 0.05556 0.49352 0.05799 0.50069 C 0.06077 0.50787 0.06216 0.51227 0.06303 0.51458 E">
                                      <p:cBhvr>
                                        <p:cTn id="17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3629 0.57778 E">
                                      <p:cBhvr>
                                        <p:cTn id="17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ревоб"/>
          <p:cNvPicPr/>
          <p:nvPr/>
        </p:nvPicPr>
        <p:blipFill>
          <a:blip r:embed="rId2"/>
          <a:stretch/>
        </p:blipFill>
        <p:spPr>
          <a:xfrm>
            <a:off x="1979640" y="47520"/>
            <a:ext cx="5256360" cy="5027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708360" y="5848200"/>
            <a:ext cx="226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6+</a:t>
            </a:r>
            <a:r>
              <a:rPr b="1" lang="en-US" sz="7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4"/>
          <p:cNvGrpSpPr/>
          <p:nvPr/>
        </p:nvGrpSpPr>
        <p:grpSpPr>
          <a:xfrm>
            <a:off x="3851280" y="2060640"/>
            <a:ext cx="720720" cy="503280"/>
            <a:chOff x="3851280" y="2060640"/>
            <a:chExt cx="720720" cy="503280"/>
          </a:xfrm>
        </p:grpSpPr>
        <p:pic>
          <p:nvPicPr>
            <p:cNvPr id="179" name="Picture 25" descr="2"/>
            <p:cNvPicPr/>
            <p:nvPr/>
          </p:nvPicPr>
          <p:blipFill>
            <a:blip r:embed="rId3"/>
            <a:stretch/>
          </p:blipFill>
          <p:spPr>
            <a:xfrm>
              <a:off x="3851280" y="2060640"/>
              <a:ext cx="720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WordArt 26"/>
            <p:cNvSpPr txBox="1"/>
            <p:nvPr/>
          </p:nvSpPr>
          <p:spPr>
            <a:xfrm>
              <a:off x="4106880" y="2241000"/>
              <a:ext cx="25668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1" name="Group 27"/>
          <p:cNvGrpSpPr/>
          <p:nvPr/>
        </p:nvGrpSpPr>
        <p:grpSpPr>
          <a:xfrm>
            <a:off x="2627280" y="1628640"/>
            <a:ext cx="576360" cy="576360"/>
            <a:chOff x="2627280" y="1628640"/>
            <a:chExt cx="576360" cy="576360"/>
          </a:xfrm>
        </p:grpSpPr>
        <p:pic>
          <p:nvPicPr>
            <p:cNvPr id="182" name="Picture 28" descr="2"/>
            <p:cNvPicPr/>
            <p:nvPr/>
          </p:nvPicPr>
          <p:blipFill>
            <a:blip r:embed="rId4"/>
            <a:stretch/>
          </p:blipFill>
          <p:spPr>
            <a:xfrm>
              <a:off x="2627280" y="162864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WordArt 29"/>
            <p:cNvSpPr txBox="1"/>
            <p:nvPr/>
          </p:nvSpPr>
          <p:spPr>
            <a:xfrm>
              <a:off x="2831760" y="1834920"/>
              <a:ext cx="20556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4" name="Group 30"/>
          <p:cNvGrpSpPr/>
          <p:nvPr/>
        </p:nvGrpSpPr>
        <p:grpSpPr>
          <a:xfrm>
            <a:off x="5508720" y="1628640"/>
            <a:ext cx="576000" cy="576360"/>
            <a:chOff x="5508720" y="1628640"/>
            <a:chExt cx="576000" cy="576360"/>
          </a:xfrm>
        </p:grpSpPr>
        <p:pic>
          <p:nvPicPr>
            <p:cNvPr id="185" name="Picture 31" descr="2"/>
            <p:cNvPicPr/>
            <p:nvPr/>
          </p:nvPicPr>
          <p:blipFill>
            <a:blip r:embed="rId5"/>
            <a:stretch/>
          </p:blipFill>
          <p:spPr>
            <a:xfrm>
              <a:off x="5508720" y="162864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WordArt 32"/>
            <p:cNvSpPr txBox="1"/>
            <p:nvPr/>
          </p:nvSpPr>
          <p:spPr>
            <a:xfrm>
              <a:off x="5712840" y="183492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7" name="Group 33"/>
          <p:cNvGrpSpPr/>
          <p:nvPr/>
        </p:nvGrpSpPr>
        <p:grpSpPr>
          <a:xfrm>
            <a:off x="4140360" y="981000"/>
            <a:ext cx="576000" cy="576360"/>
            <a:chOff x="4140360" y="981000"/>
            <a:chExt cx="576000" cy="576360"/>
          </a:xfrm>
        </p:grpSpPr>
        <p:pic>
          <p:nvPicPr>
            <p:cNvPr id="188" name="Picture 34" descr="2"/>
            <p:cNvPicPr/>
            <p:nvPr/>
          </p:nvPicPr>
          <p:blipFill>
            <a:blip r:embed="rId6"/>
            <a:stretch/>
          </p:blipFill>
          <p:spPr>
            <a:xfrm>
              <a:off x="4140360" y="9810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WordArt 35"/>
            <p:cNvSpPr txBox="1"/>
            <p:nvPr/>
          </p:nvSpPr>
          <p:spPr>
            <a:xfrm>
              <a:off x="4344480" y="1187280"/>
              <a:ext cx="2052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0" name="Picture 38" descr="яблоко"/>
          <p:cNvPicPr/>
          <p:nvPr/>
        </p:nvPicPr>
        <p:blipFill>
          <a:blip r:embed="rId7"/>
          <a:stretch/>
        </p:blipFill>
        <p:spPr>
          <a:xfrm>
            <a:off x="5580000" y="558972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9" descr="яблоко"/>
          <p:cNvPicPr/>
          <p:nvPr/>
        </p:nvPicPr>
        <p:blipFill>
          <a:blip r:embed="rId8"/>
          <a:stretch/>
        </p:blipFill>
        <p:spPr>
          <a:xfrm>
            <a:off x="6804000" y="5373720"/>
            <a:ext cx="827280" cy="76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" descr="яблоко"/>
          <p:cNvPicPr/>
          <p:nvPr/>
        </p:nvPicPr>
        <p:blipFill>
          <a:blip r:embed="rId9"/>
          <a:stretch/>
        </p:blipFill>
        <p:spPr>
          <a:xfrm>
            <a:off x="5724360" y="5734080"/>
            <a:ext cx="758880" cy="70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2" descr="яблоко"/>
          <p:cNvPicPr/>
          <p:nvPr/>
        </p:nvPicPr>
        <p:blipFill>
          <a:blip r:embed="rId10"/>
          <a:stretch/>
        </p:blipFill>
        <p:spPr>
          <a:xfrm>
            <a:off x="6227640" y="5805360"/>
            <a:ext cx="685800" cy="63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3" descr="яблоко"/>
          <p:cNvPicPr/>
          <p:nvPr/>
        </p:nvPicPr>
        <p:blipFill>
          <a:blip r:embed="rId11"/>
          <a:stretch/>
        </p:blipFill>
        <p:spPr>
          <a:xfrm>
            <a:off x="6732720" y="5661000"/>
            <a:ext cx="826920" cy="76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7" descr="корзинка2"/>
          <p:cNvPicPr/>
          <p:nvPr/>
        </p:nvPicPr>
        <p:blipFill>
          <a:blip r:embed="rId12"/>
          <a:stretch/>
        </p:blipFill>
        <p:spPr>
          <a:xfrm>
            <a:off x="5364000" y="5675400"/>
            <a:ext cx="237672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0241E-007 L 0.25208 0.48888 E">
                                      <p:cBhvr>
                                        <p:cTn id="18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4328E-006 L 0.15764 0.44138 E">
                                      <p:cBhvr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841E-006 L 0.18125 0.46172 E">
                                      <p:cBhvr>
                                        <p:cTn id="193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9407E-006 C 3.05556E-006 0.00695 3.05556E-006 0.01436 0.00173 0.03244 C 0.00347 0.05051 0.0085 0.08573 0.01041 0.1089 C 0.0125 0.13183 0.01284 0.14852 0.01371 0.17169 C 0.01475 0.19509 0.01493 0.22335 0.0158 0.2493 C 0.01666 0.27548 0.01771 0.30468 0.01962 0.32924 C 0.0217 0.35357 0.02691 0.37697 0.0283 0.39597 C 0.02968 0.41497 0.02517 0.42678 0.0283 0.44323 C 0.03125 0.45968 0.04097 0.47799 0.04618 0.49397 C 0.05139 0.50973 0.05503 0.52548 0.05937 0.53869 C 0.06371 0.5519 0.06944 0.56464 0.07257 0.57275 C 0.07587 0.58109 0.0776 0.58596 0.07882 0.58874 E">
                                      <p:cBhvr>
                                        <p:cTn id="19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7:27:35Z</dcterms:created>
  <dc:creator>Лариса</dc:creator>
  <dc:description/>
  <dc:language>en-US</dc:language>
  <cp:lastModifiedBy>ирина</cp:lastModifiedBy>
  <dcterms:modified xsi:type="dcterms:W3CDTF">2012-02-07T04:24:34Z</dcterms:modified>
  <cp:revision>63</cp:revision>
  <dc:subject/>
  <dc:title>Слайд 1</dc:title>
</cp:coreProperties>
</file>