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move the slide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E47B15-20A7-4B18-926F-BA20A8C2E4AF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РР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A34B2-0B46-48AE-B6CB-30FAB2D96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09815-9055-4B09-A197-AD33637C4E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E450-EE5A-4CE8-9753-BA9B950F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DC02-CC0F-4C96-838C-CD972462E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51E77-BB83-4C64-AD6D-4950EF3A7D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2221F-366C-43D4-928F-D9922C573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533D-82AD-44DB-80E8-FB0DC3506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0F0FF5-6789-49DB-9C0F-E1842DD9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66E80-D5DD-4511-A12B-439529A0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F22E1A-43D6-4FF6-9F2E-910A47A533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9E49B9-2284-48A0-9E18-6773038CF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69E33-50C4-4447-9AED-9C488FF64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3C8D0-9F45-47D0-B08F-FCC6C4CCD9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259A16-2FB7-49C6-988F-C22BFEA383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7154B-C2CF-4679-B447-5903F081D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690283-E3A4-4E43-AA5D-16535D1269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54528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252840" y="190476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83772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54528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252840" y="4093920"/>
            <a:ext cx="257832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CA58B-D153-4552-9089-6E11AB4495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BB87-4B8A-4EB1-9BE8-922F06EE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D5F5B-9EB5-4259-8142-D3FBEE142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CA251-4717-4A2A-BE81-9AC36FE241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44440"/>
            <a:ext cx="8385120" cy="663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39096-97CA-4CD3-959C-3E1B37E74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9C989-EC98-4568-ABF4-A085024E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941000" y="409392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31972-BEB2-453B-AFFA-B20A4C6C03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941000" y="1904760"/>
            <a:ext cx="3907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7720" y="4093920"/>
            <a:ext cx="800748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9DBA-4B89-4E2F-ADAD-0674E1C2D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318960" y="1828800"/>
            <a:ext cx="8825040" cy="5029200"/>
            <a:chOff x="318960" y="1828800"/>
            <a:chExt cx="8825040" cy="5029200"/>
          </a:xfrm>
        </p:grpSpPr>
        <p:sp>
          <p:nvSpPr>
            <p:cNvPr id="1" name=""/>
            <p:cNvSpPr/>
            <p:nvPr/>
          </p:nvSpPr>
          <p:spPr>
            <a:xfrm>
              <a:off x="838080" y="4618080"/>
              <a:ext cx="8305920" cy="22399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333360" y="1828800"/>
              <a:ext cx="8810640" cy="5029200"/>
            </a:xfrm>
            <a:custGeom>
              <a:avLst/>
              <a:gdLst/>
              <a:ahLst/>
              <a:rect l="l" t="t" r="r" b="b"/>
              <a:pathLst>
                <a:path w="5550" h="3168">
                  <a:moveTo>
                    <a:pt x="330" y="1764"/>
                  </a:moveTo>
                  <a:lnTo>
                    <a:pt x="0" y="1764"/>
                  </a:lnTo>
                  <a:lnTo>
                    <a:pt x="0" y="3168"/>
                  </a:lnTo>
                  <a:lnTo>
                    <a:pt x="5550" y="3168"/>
                  </a:lnTo>
                  <a:lnTo>
                    <a:pt x="5550" y="0"/>
                  </a:lnTo>
                  <a:lnTo>
                    <a:pt x="330" y="0"/>
                  </a:lnTo>
                  <a:lnTo>
                    <a:pt x="330" y="1764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38080" y="4654440"/>
              <a:ext cx="8305920" cy="220356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838080" y="1828800"/>
              <a:ext cx="73137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838080" y="1828800"/>
              <a:ext cx="46080" cy="283356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836640" y="4610160"/>
              <a:ext cx="46080" cy="2247840"/>
            </a:xfrm>
            <a:custGeom>
              <a:avLst/>
              <a:gdLst/>
              <a:ahLst/>
              <a:rect l="l" t="t" r="r" b="b"/>
              <a:pathLst>
                <a:path w="29" h="1416">
                  <a:moveTo>
                    <a:pt x="0" y="1416"/>
                  </a:moveTo>
                  <a:lnTo>
                    <a:pt x="29" y="1416"/>
                  </a:lnTo>
                  <a:lnTo>
                    <a:pt x="28" y="24"/>
                  </a:lnTo>
                  <a:lnTo>
                    <a:pt x="0" y="0"/>
                  </a:lnTo>
                  <a:lnTo>
                    <a:pt x="0" y="1416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18960" y="4610160"/>
              <a:ext cx="45705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18960" y="4610160"/>
              <a:ext cx="47880" cy="22478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10196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" name="PlaceHolder 1"/>
          <p:cNvSpPr>
            <a:spLocks noGrp="1"/>
          </p:cNvSpPr>
          <p:nvPr>
            <p:ph type="dt" idx="1"/>
          </p:nvPr>
        </p:nvSpPr>
        <p:spPr>
          <a:xfrm>
            <a:off x="83772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ftr" idx="2"/>
          </p:nvPr>
        </p:nvSpPr>
        <p:spPr>
          <a:xfrm>
            <a:off x="34286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2ED39D-B589-46CF-8765-791F63AE3E7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318960" y="1752480"/>
            <a:ext cx="8825040" cy="5129280"/>
            <a:chOff x="318960" y="1752480"/>
            <a:chExt cx="8825040" cy="5129280"/>
          </a:xfrm>
        </p:grpSpPr>
        <p:sp>
          <p:nvSpPr>
            <p:cNvPr id="51" name=""/>
            <p:cNvSpPr/>
            <p:nvPr/>
          </p:nvSpPr>
          <p:spPr>
            <a:xfrm>
              <a:off x="333360" y="1752480"/>
              <a:ext cx="8810640" cy="5105520"/>
            </a:xfrm>
            <a:custGeom>
              <a:avLst/>
              <a:gdLst/>
              <a:ahLst/>
              <a:rect l="l" t="t" r="r" b="b"/>
              <a:pathLst>
                <a:path w="5550" h="3216">
                  <a:moveTo>
                    <a:pt x="335" y="0"/>
                  </a:moveTo>
                  <a:lnTo>
                    <a:pt x="333" y="1290"/>
                  </a:lnTo>
                  <a:lnTo>
                    <a:pt x="0" y="1290"/>
                  </a:lnTo>
                  <a:lnTo>
                    <a:pt x="6" y="3210"/>
                  </a:lnTo>
                  <a:lnTo>
                    <a:pt x="5550" y="3216"/>
                  </a:lnTo>
                  <a:lnTo>
                    <a:pt x="5550" y="0"/>
                  </a:lnTo>
                  <a:lnTo>
                    <a:pt x="335" y="0"/>
                  </a:lnTo>
                  <a:lnTo>
                    <a:pt x="335" y="0"/>
                  </a:lnTo>
                  <a:close/>
                </a:path>
              </a:pathLst>
            </a:custGeom>
            <a:solidFill>
              <a:srgbClr val="00660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838080" y="3809880"/>
              <a:ext cx="8305920" cy="3048120"/>
            </a:xfrm>
            <a:custGeom>
              <a:avLst/>
              <a:gdLst/>
              <a:ahLst/>
              <a:rect l="l" t="t" r="r" b="b"/>
              <a:pathLst>
                <a:path w="4897" h="2182">
                  <a:moveTo>
                    <a:pt x="0" y="0"/>
                  </a:moveTo>
                  <a:lnTo>
                    <a:pt x="0" y="2182"/>
                  </a:lnTo>
                  <a:lnTo>
                    <a:pt x="4897" y="2182"/>
                  </a:lnTo>
                  <a:lnTo>
                    <a:pt x="489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00660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18960" y="3773520"/>
              <a:ext cx="548496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38080" y="1752480"/>
              <a:ext cx="7769520" cy="46080"/>
            </a:xfrm>
            <a:custGeom>
              <a:avLst/>
              <a:gdLst/>
              <a:ahLst/>
              <a:rect l="l" t="t" r="r" b="b"/>
              <a:pathLst>
                <a:path w="5387" h="149">
                  <a:moveTo>
                    <a:pt x="0" y="0"/>
                  </a:moveTo>
                  <a:lnTo>
                    <a:pt x="0" y="149"/>
                  </a:lnTo>
                  <a:lnTo>
                    <a:pt x="5387" y="149"/>
                  </a:lnTo>
                  <a:lnTo>
                    <a:pt x="5387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5300"/>
                </a:gs>
                <a:gs pos="100000">
                  <a:srgbClr val="006600">
                    <a:alpha val="0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tIns="360" bIns="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18960" y="3773520"/>
              <a:ext cx="47880" cy="3108240"/>
            </a:xfrm>
            <a:custGeom>
              <a:avLst/>
              <a:gdLst/>
              <a:ahLst/>
              <a:rect l="l" t="t" r="r" b="b"/>
              <a:pathLst>
                <a:path w="30" h="1416">
                  <a:moveTo>
                    <a:pt x="0" y="0"/>
                  </a:moveTo>
                  <a:lnTo>
                    <a:pt x="0" y="1416"/>
                  </a:lnTo>
                  <a:lnTo>
                    <a:pt x="29" y="1416"/>
                  </a:lnTo>
                  <a:lnTo>
                    <a:pt x="30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080" y="1752480"/>
              <a:ext cx="46080" cy="5119920"/>
            </a:xfrm>
            <a:custGeom>
              <a:avLst/>
              <a:gdLst/>
              <a:ahLst/>
              <a:rect l="l" t="t" r="r" b="b"/>
              <a:pathLst>
                <a:path w="29" h="2161">
                  <a:moveTo>
                    <a:pt x="0" y="0"/>
                  </a:moveTo>
                  <a:lnTo>
                    <a:pt x="0" y="2161"/>
                  </a:lnTo>
                  <a:lnTo>
                    <a:pt x="29" y="2161"/>
                  </a:lnTo>
                  <a:lnTo>
                    <a:pt x="27" y="27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1e781e"/>
                </a:gs>
                <a:gs pos="100000">
                  <a:srgbClr val="006600">
                    <a:alpha val="0"/>
                  </a:srgbClr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b7"/>
                </a:solidFill>
                <a:latin typeface="Arial Black"/>
              </a:rPr>
              <a:t>Click to edit the title text format</a:t>
            </a:r>
            <a:endParaRPr b="1" lang="en-US" sz="5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99036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46860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936840" y="6244920"/>
            <a:ext cx="1901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A5FC0-3DFC-45EE-80FE-D6416C50151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71640" y="549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b7"/>
                </a:solidFill>
                <a:latin typeface="Arial Black"/>
              </a:rPr>
              <a:t>Размножение и развитие животных</a:t>
            </a:r>
            <a:endParaRPr b="1" lang="en-US" sz="48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990720" y="3962520"/>
            <a:ext cx="67816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6600" spc="-1" strike="noStrike">
              <a:solidFill>
                <a:srgbClr val="ffffff"/>
              </a:solidFill>
              <a:latin typeface="comic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116000" y="2349360"/>
            <a:ext cx="7201080" cy="38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Назовите детеныша: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68000" y="1267920"/>
            <a:ext cx="403236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ров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винь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лошадь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ов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соба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уриц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к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580000" y="1267920"/>
            <a:ext cx="2952720" cy="518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те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порос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жереб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ягн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з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ще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цыпл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индюшо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утёнок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9" dur="5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" dur="5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50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500"/>
                            </p:stCondLst>
                            <p:childTnLst>
                              <p:par>
                                <p:cTn id="37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5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500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2" dur="5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3" dur="5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4" dur="500"/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0"/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5" dur="500"/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1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7" dur="500"/>
                                        <p:tgtEl>
                                          <p:spTgt spid="1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5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500"/>
                            </p:stCondLst>
                            <p:childTnLst>
                              <p:par>
                                <p:cTn id="11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500" fill="hold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18" dur="500"/>
                                        <p:tgtEl>
                                          <p:spTgt spid="10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0"/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333360"/>
            <a:ext cx="8385120" cy="50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 </a:t>
            </a:r>
            <a:r>
              <a:rPr b="1" lang="en-US" sz="4000" spc="-1" strike="noStrike">
                <a:solidFill>
                  <a:srgbClr val="ffffb7"/>
                </a:solidFill>
                <a:latin typeface="Arial Black"/>
              </a:rPr>
              <a:t>Развитие бабочки </a:t>
            </a:r>
            <a:endParaRPr b="1" lang="en-US" sz="40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68360" y="1341360"/>
            <a:ext cx="1942920" cy="159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2627280" y="1341360"/>
            <a:ext cx="2057400" cy="157176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3"/>
          <a:stretch/>
        </p:blipFill>
        <p:spPr>
          <a:xfrm>
            <a:off x="5076720" y="1341360"/>
            <a:ext cx="1143000" cy="1619280"/>
          </a:xfrm>
          <a:prstGeom prst="rect">
            <a:avLst/>
          </a:prstGeom>
          <a:ln w="0">
            <a:noFill/>
          </a:ln>
        </p:spPr>
      </p:pic>
      <p:pic>
        <p:nvPicPr>
          <p:cNvPr id="115" name="" descr=""/>
          <p:cNvPicPr/>
          <p:nvPr/>
        </p:nvPicPr>
        <p:blipFill>
          <a:blip r:embed="rId4"/>
          <a:stretch/>
        </p:blipFill>
        <p:spPr>
          <a:xfrm>
            <a:off x="6588000" y="1341360"/>
            <a:ext cx="1943280" cy="1600200"/>
          </a:xfrm>
          <a:prstGeom prst="rect">
            <a:avLst/>
          </a:prstGeom>
          <a:ln w="0">
            <a:noFill/>
          </a:ln>
        </p:spPr>
      </p:pic>
      <p:sp>
        <p:nvSpPr>
          <p:cNvPr id="116" name=""/>
          <p:cNvSpPr/>
          <p:nvPr/>
        </p:nvSpPr>
        <p:spPr>
          <a:xfrm>
            <a:off x="1045440" y="2997360"/>
            <a:ext cx="72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яйц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134880" y="2997360"/>
            <a:ext cx="111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личин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5078520" y="2997360"/>
            <a:ext cx="106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кукол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7094880" y="2997360"/>
            <a:ext cx="110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b7"/>
                </a:solidFill>
                <a:latin typeface="Arial"/>
              </a:rPr>
              <a:t>бабочк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68360" y="5084640"/>
            <a:ext cx="722160" cy="792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1403280" y="3573360"/>
            <a:ext cx="727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Развитие кузнечика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6"/>
          <a:stretch/>
        </p:blipFill>
        <p:spPr>
          <a:xfrm>
            <a:off x="1476360" y="5013360"/>
            <a:ext cx="1150920" cy="89208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7"/>
          <a:stretch/>
        </p:blipFill>
        <p:spPr>
          <a:xfrm>
            <a:off x="2987640" y="4941720"/>
            <a:ext cx="1440000" cy="9385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8"/>
          <a:stretch/>
        </p:blipFill>
        <p:spPr>
          <a:xfrm>
            <a:off x="6732720" y="4508640"/>
            <a:ext cx="2087280" cy="135072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9"/>
          <a:stretch/>
        </p:blipFill>
        <p:spPr>
          <a:xfrm>
            <a:off x="4716360" y="4724280"/>
            <a:ext cx="1790640" cy="113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1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3000"/>
                            </p:stCondLst>
                            <p:childTnLst>
                              <p:par>
                                <p:cTn id="139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4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9000"/>
                            </p:stCondLst>
                            <p:childTnLst>
                              <p:par>
                                <p:cTn id="146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48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1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5000"/>
                            </p:stCondLst>
                            <p:childTnLst>
                              <p:par>
                                <p:cTn id="153" nodeType="after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5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1" presetSubtype="4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8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21000"/>
                            </p:stCondLst>
                            <p:childTnLst>
                              <p:par>
                                <p:cTn id="160" nodeType="afterEffect" fill="hold" presetClass="entr" presetID="3" presetSubtype="10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10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27000"/>
                            </p:stCondLst>
                            <p:childTnLst>
                              <p:par>
                                <p:cTn id="164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66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29000"/>
                            </p:stCondLst>
                            <p:childTnLst>
                              <p:par>
                                <p:cTn id="168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0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31000"/>
                            </p:stCondLst>
                            <p:childTnLst>
                              <p:par>
                                <p:cTn id="172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4" dur="1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33000"/>
                            </p:stCondLst>
                            <p:childTnLst>
                              <p:par>
                                <p:cTn id="176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8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35000"/>
                            </p:stCondLst>
                            <p:childTnLst>
                              <p:par>
                                <p:cTn id="180" nodeType="afterEffect" fill="hold" presetClass="entr" presetID="21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82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/>
          </p:nvPr>
        </p:nvSpPr>
        <p:spPr>
          <a:xfrm>
            <a:off x="549360" y="259920"/>
            <a:ext cx="8007120" cy="60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46656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Групп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животных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203640" y="333360"/>
            <a:ext cx="280836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множени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012000" y="333360"/>
            <a:ext cx="2842920" cy="71928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Развит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46656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Насекомые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3203640" y="1052640"/>
            <a:ext cx="280836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Откладывают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6012000" y="1052640"/>
            <a:ext cx="2842920" cy="280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и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укол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бабоч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бо: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личинка --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насеком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(кузнечик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6656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Рыбы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3640" y="3860640"/>
            <a:ext cx="280836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2000" y="3860640"/>
            <a:ext cx="2842920" cy="57636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Икра --- малек --- рыб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466560" y="4437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Земноводные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6656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Пресмыкающиеся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203640" y="5084640"/>
            <a:ext cx="280836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Откладывают яйца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012000" y="5084640"/>
            <a:ext cx="2842920" cy="64800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Яйцо ---детеныш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--- взрослое животно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46656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Млекопитающи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12000" y="5661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етеныши ---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взрослое животн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203640" y="4437000"/>
            <a:ext cx="287964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Откладывают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у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6012000" y="4437000"/>
            <a:ext cx="284292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Икра --- головастик ---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лягушка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203640" y="5661000"/>
            <a:ext cx="2808360" cy="647640"/>
          </a:xfrm>
          <a:prstGeom prst="rect">
            <a:avLst/>
          </a:prstGeom>
          <a:solidFill>
            <a:srgbClr val="99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Рождают детенышей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4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9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b7"/>
                </a:solidFill>
                <a:latin typeface="Arial Black"/>
              </a:rPr>
              <a:t> </a:t>
            </a: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981000"/>
            <a:ext cx="9144000" cy="4892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0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1" dur="2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8000"/>
            </a:gs>
            <a:gs pos="100000">
              <a:srgbClr val="00cc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44440"/>
            <a:ext cx="838512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ffb7"/>
              </a:solidFill>
              <a:latin typeface="Arial Black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837720" y="1904760"/>
            <a:ext cx="80074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18T10:01:01Z</dcterms:created>
  <dc:creator>Учитель</dc:creator>
  <dc:description/>
  <dc:language>en-US</dc:language>
  <cp:lastModifiedBy>XP GAME 2007</cp:lastModifiedBy>
  <dcterms:modified xsi:type="dcterms:W3CDTF">2012-01-26T19:37:16Z</dcterms:modified>
  <cp:revision>15</cp:revision>
  <dc:subject/>
  <dc:title>Размножение и развитие животных</dc:title>
</cp:coreProperties>
</file>