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C70B6-CFBD-49A3-8AF7-CFE537051B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Р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C613-B8B0-45EC-8AA0-4A08D119B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78D2-27D7-41D1-891D-B0CC4DDC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7B18-6641-4A6F-8CAB-C9EA76EE0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1E7D-C254-4775-95B2-5002D73C6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20D4-6BE7-4FB4-9A5C-C92A444E2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D874C-3FDF-4448-834C-05DDA2A27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FD22-041C-48FA-8CA6-77F0DE74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D337E-1DEF-4F52-BBC9-0906A51A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18489-5093-41A8-A70B-220D681B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365F0-BBCD-4794-83D5-9654EC97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B9BFB-EB6A-4571-BFD9-CAA3FC3B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F4C5-8C5F-462D-972F-722CE1218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900D5-CC5D-4722-B00F-D8119678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A1EDC-1105-432A-B1F1-DCB819D9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A742E-2CE1-4866-83DA-BFABBDEEC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9A3F5-D437-4A78-9B64-988CEA889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E42B-6E5D-4BA4-ADE1-E3123CCAF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644A-3A2C-4BB8-9ED5-C1FE0783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2D54-C59E-4A84-8288-63D0FF82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8DAD-5279-40B2-9C91-3201883A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1A95-76DC-479C-B06D-B445C916E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09E3-487B-4353-9342-21A2B20A6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5119-CD66-43D2-8709-6AEE7F23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3D4B-06B0-48D0-8DDB-0893700C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4AC8B-EFF8-4175-94FB-A76C476AEED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1ECED-E846-4BD1-B8AA-17EA6C2F099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Размножение и развитие животных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ffffff"/>
              </a:solidFill>
              <a:latin typeface="comic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72010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зовите детеныш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32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ин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оша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в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б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ур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ю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580000" y="1267920"/>
            <a:ext cx="2952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рос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жереб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гн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з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ще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цып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юшо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Развитие бабочки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942920" cy="159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627280" y="1341360"/>
            <a:ext cx="2057400" cy="1571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114300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588000" y="1341360"/>
            <a:ext cx="1943280" cy="1600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45440" y="299736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яй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4880" y="2997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личи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8520" y="299736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куко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4880" y="299736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баб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68360" y="5084640"/>
            <a:ext cx="722160" cy="792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3280" y="3573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звитие кузнеч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76360" y="5013360"/>
            <a:ext cx="1150920" cy="892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2987640" y="4941720"/>
            <a:ext cx="1440000" cy="938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6732720" y="4508640"/>
            <a:ext cx="2087280" cy="135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4716360" y="4724280"/>
            <a:ext cx="17906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3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1000"/>
                            </p:stCondLst>
                            <p:childTnLst>
                              <p:par>
                                <p:cTn id="172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300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49360" y="259920"/>
            <a:ext cx="80071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6560" y="333360"/>
            <a:ext cx="280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упп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ив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333360"/>
            <a:ext cx="280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множ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333360"/>
            <a:ext cx="284292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вит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6560" y="1052640"/>
            <a:ext cx="280836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секом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1052640"/>
            <a:ext cx="280836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ткладыва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й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1052640"/>
            <a:ext cx="284292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бо: яйцо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чинки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уколка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насеком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бабоч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бо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йцо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чинка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насеком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кузнечи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6560" y="3860640"/>
            <a:ext cx="280836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ыб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3860640"/>
            <a:ext cx="280836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клады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3860640"/>
            <a:ext cx="284292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кра --- малек --- рыб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6560" y="4437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емновод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6560" y="5084640"/>
            <a:ext cx="2808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смыкающиес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5084640"/>
            <a:ext cx="2808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кладывают яй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5084640"/>
            <a:ext cx="284292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йцо ---детены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-- взрослое животно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560" y="5661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лекопита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5661000"/>
            <a:ext cx="28429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теныши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живот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4437000"/>
            <a:ext cx="287964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клады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4437000"/>
            <a:ext cx="28429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а --- головастик --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ягушк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5661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ождают детеныш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0:01:01Z</dcterms:created>
  <dc:creator>Учитель</dc:creator>
  <dc:description/>
  <dc:language>en-US</dc:language>
  <cp:lastModifiedBy>XP GAME 2007</cp:lastModifiedBy>
  <dcterms:modified xsi:type="dcterms:W3CDTF">2012-01-26T19:37:16Z</dcterms:modified>
  <cp:revision>15</cp:revision>
  <dc:subject/>
  <dc:title>Размножение и развитие животных</dc:title>
</cp:coreProperties>
</file>