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A7A4-8B90-4161-90F2-18B7EB86B0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Р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3181-068A-4F8E-AB4F-30166B1C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6DB5-EF35-421D-B06B-614E6CD4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A0C5-8228-4D34-805B-C74E1AF8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0A17-EE5D-4C6D-BE7D-451B55B76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DE5F-72FE-4E58-B304-CE067A14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BC7D-6C2D-4837-9817-A6794652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F954-A255-48F1-A1C8-223ECDE5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9FED-2A85-4BDA-9455-C26CBC55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C37C-A2B4-49CB-ABE6-317F193B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01C7-6455-4992-8886-323D9AA6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8581-C61C-4007-A1CF-8B4A50D9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EA15-1FFC-4F72-892A-76C1EC0C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F807-2C17-4F90-B6CC-A58D9050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B5CE-FC81-45C4-AAF2-90EB64AF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7E2C-3FAE-4E4D-9853-2DEC973D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A9D2-ABFF-4FF4-A5D8-AA883E96E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016B-C6C0-4CB0-BD29-4C698349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2EDC-D5F1-43C4-B444-4F11355C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AC84-F62B-4114-9BBE-FA94BF0B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0BF0-5170-49E0-BACE-9284B9CA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7C9A-5EA1-43D0-8B7D-899121A9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63CB-32E5-4277-BA4A-EF08C89A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8DDC-942A-47B0-B82C-2C20E20F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F8C1-9542-4A1C-A27F-B386088E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EC60-0093-4417-A79E-B4B3CC989BD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D48D-AB8B-4619-B1A8-6A1382A6D09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Размножение и развитие животных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ffffff"/>
              </a:solidFill>
              <a:latin typeface="comic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72010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зовите детеныш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323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р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вин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лоша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в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б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ур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дю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т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580000" y="1267920"/>
            <a:ext cx="2952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е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рос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жереб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ягн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з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ще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т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цып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дюшо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т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851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Развитие бабочки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1942920" cy="159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627280" y="1341360"/>
            <a:ext cx="2057400" cy="1571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076720" y="1341360"/>
            <a:ext cx="114300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588000" y="1341360"/>
            <a:ext cx="1943280" cy="1600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45440" y="299736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яй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4880" y="29973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личи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8520" y="2997360"/>
            <a:ext cx="106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кукол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94880" y="299736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баб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68360" y="5084640"/>
            <a:ext cx="722160" cy="792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03280" y="3573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звитие кузнеч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476360" y="5013360"/>
            <a:ext cx="1150920" cy="892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2987640" y="4941720"/>
            <a:ext cx="1440000" cy="938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6732720" y="4508640"/>
            <a:ext cx="2087280" cy="1350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4716360" y="4724280"/>
            <a:ext cx="179064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3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700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900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1000"/>
                            </p:stCondLst>
                            <p:childTnLst>
                              <p:par>
                                <p:cTn id="172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3000"/>
                            </p:stCondLst>
                            <p:childTnLst>
                              <p:par>
                                <p:cTn id="176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5000"/>
                            </p:stCondLst>
                            <p:childTnLst>
                              <p:par>
                                <p:cTn id="180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49360" y="259920"/>
            <a:ext cx="80071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6560" y="333360"/>
            <a:ext cx="280836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рупп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ивот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333360"/>
            <a:ext cx="280836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множ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333360"/>
            <a:ext cx="284292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вит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6560" y="1052640"/>
            <a:ext cx="2808360" cy="28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секом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1052640"/>
            <a:ext cx="2808360" cy="28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ткладыва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яйц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1052640"/>
            <a:ext cx="2842920" cy="28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бо: яйцо 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чинки 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уколка 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рослое насеком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бабоч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бо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йцо 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чинка 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рослое насеком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кузнечи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6560" y="3860640"/>
            <a:ext cx="280836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ыб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3640" y="3860640"/>
            <a:ext cx="280836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ткладыв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кр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3860640"/>
            <a:ext cx="284292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кра --- малек --- рыб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6560" y="4437000"/>
            <a:ext cx="28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емновод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6560" y="5084640"/>
            <a:ext cx="280836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смыкающиес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03640" y="5084640"/>
            <a:ext cx="280836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кладывают яйц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5084640"/>
            <a:ext cx="284292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йцо ---детены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-- взрослое животно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6560" y="5661000"/>
            <a:ext cx="28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лекопитаю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2000" y="5661000"/>
            <a:ext cx="28429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теныши 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рослое живот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4437000"/>
            <a:ext cx="287964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ткладыв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кр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4437000"/>
            <a:ext cx="28429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кра --- головастик ---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лягушк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5661000"/>
            <a:ext cx="28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ождают детеныш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0:01:01Z</dcterms:created>
  <dc:creator>Учитель</dc:creator>
  <dc:description/>
  <dc:language>en-US</dc:language>
  <cp:lastModifiedBy>XP GAME 2007</cp:lastModifiedBy>
  <dcterms:modified xsi:type="dcterms:W3CDTF">2012-01-26T19:37:16Z</dcterms:modified>
  <cp:revision>15</cp:revision>
  <dc:subject/>
  <dc:title>Размножение и развитие животных</dc:title>
</cp:coreProperties>
</file>