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10E-5B59-4CE6-85D6-E70F8501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37C-F0CA-40CD-824E-A16BAB74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13E-B6BE-4BCC-8D75-8924A431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885-0857-4078-A44C-02D4F031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564-AC79-42DD-8C7C-A8D57E5C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F5E-A105-48EB-838F-5DFD282A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413-1DDF-4706-925F-F22206D1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8F0-B4AE-42AE-8145-7F70BA67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DCC-1A03-4436-ADDE-22DB3FE5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EB4-83B7-4DA0-BE2C-BD2A1C4E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B33-B693-4617-AE88-1E6A4B4B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377-2FCF-4B4E-AE88-45ED7EC8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3AF6-61CF-444F-8DA6-D0F92ECE4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27 из 206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55440" y="-115920"/>
            <a:ext cx="903924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а 390 из 206429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504360" y="192888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789920" y="2214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933000" y="2214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290560" y="25002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433560" y="307188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4-tub-ru.yandex.net/i?id=162494125-48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Равнобедренный треугольник 2"/>
          <p:cNvSpPr/>
          <p:nvPr/>
        </p:nvSpPr>
        <p:spPr>
          <a:xfrm>
            <a:off x="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114300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4"/>
          <p:cNvSpPr/>
          <p:nvPr/>
        </p:nvSpPr>
        <p:spPr>
          <a:xfrm>
            <a:off x="2143080" y="85716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Равнобедренный треугольник 5"/>
          <p:cNvSpPr/>
          <p:nvPr/>
        </p:nvSpPr>
        <p:spPr>
          <a:xfrm>
            <a:off x="3071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421488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5214960" y="85716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Равнобедренный треугольник 8"/>
          <p:cNvSpPr/>
          <p:nvPr/>
        </p:nvSpPr>
        <p:spPr>
          <a:xfrm>
            <a:off x="607212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7215120" y="7858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10"/>
          <p:cNvSpPr/>
          <p:nvPr/>
        </p:nvSpPr>
        <p:spPr>
          <a:xfrm>
            <a:off x="8215200" y="785880"/>
            <a:ext cx="928800" cy="919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932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243288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218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479052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550476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6290640" y="25718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7577640" y="2500200"/>
            <a:ext cx="7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745200" y="4071960"/>
            <a:ext cx="783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инутка чистописа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7:29:23Z</dcterms:created>
  <dc:creator>Админ</dc:creator>
  <dc:description/>
  <dc:language>en-US</dc:language>
  <cp:lastModifiedBy>Админ</cp:lastModifiedBy>
  <dcterms:modified xsi:type="dcterms:W3CDTF">2012-02-07T18:25:11Z</dcterms:modified>
  <cp:revision>6</cp:revision>
  <dc:subject/>
  <dc:title>Слайд 1</dc:title>
</cp:coreProperties>
</file>