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507-8E72-4623-A3DF-0E6A241F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757-77EB-4EB9-B5A4-AD1474FA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DB29-C7D8-470C-93BB-C7FEC248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709A-D9A6-4BB8-9F6C-30A421F5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D7B-C0C7-4AF7-97F2-93528F24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6A7-460B-43A0-90FA-7C448B3F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EF2-87A9-4F74-9DAA-37E8D7A5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E90-F51E-430F-AE72-20063A5A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904-1CB0-45BF-8F7D-B811DE4E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E66-1201-484F-B1CE-91C06909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231-A97D-4E89-8759-BB6A8D6F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6BF-F310-48BE-BEDD-B6F9ECE4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5D1F-2D0F-4CE3-9812-1B9A73D2C3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27 из 206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55440" y="-115920"/>
            <a:ext cx="903924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а 390 из 206429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504360" y="192888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789920" y="2214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933000" y="2214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290560" y="25002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433560" y="307188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4-tub-ru.yandex.net/i?id=162494125-48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Равнобедренный треугольник 2"/>
          <p:cNvSpPr/>
          <p:nvPr/>
        </p:nvSpPr>
        <p:spPr>
          <a:xfrm>
            <a:off x="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114300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4"/>
          <p:cNvSpPr/>
          <p:nvPr/>
        </p:nvSpPr>
        <p:spPr>
          <a:xfrm>
            <a:off x="2143080" y="85716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Равнобедренный треугольник 5"/>
          <p:cNvSpPr/>
          <p:nvPr/>
        </p:nvSpPr>
        <p:spPr>
          <a:xfrm>
            <a:off x="3071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421488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5214960" y="85716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Равнобедренный треугольник 8"/>
          <p:cNvSpPr/>
          <p:nvPr/>
        </p:nvSpPr>
        <p:spPr>
          <a:xfrm>
            <a:off x="607212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721512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10"/>
          <p:cNvSpPr/>
          <p:nvPr/>
        </p:nvSpPr>
        <p:spPr>
          <a:xfrm>
            <a:off x="8215200" y="785880"/>
            <a:ext cx="928800" cy="919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932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243288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218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479052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5504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629064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7577640" y="2500200"/>
            <a:ext cx="7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745200" y="4071960"/>
            <a:ext cx="783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инутка чистописа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7:29:23Z</dcterms:created>
  <dc:creator>Админ</dc:creator>
  <dc:description/>
  <dc:language>en-US</dc:language>
  <cp:lastModifiedBy>Админ</cp:lastModifiedBy>
  <dcterms:modified xsi:type="dcterms:W3CDTF">2012-02-07T18:25:11Z</dcterms:modified>
  <cp:revision>6</cp:revision>
  <dc:subject/>
  <dc:title>Слайд 1</dc:title>
</cp:coreProperties>
</file>