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52BF4-9DE0-4E40-ABD7-7431B9E8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F3657-0B5D-42C3-8360-27BE0436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72A68-70ED-490F-AAC0-21EA3EDD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E5402-65F2-4F74-97A3-8F34CF80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4E03-5855-484D-9B27-4BF168B5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20E0-2849-4B0D-A5A1-251C8348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2809-87E6-471A-9A98-6AF9784A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0C8C-1D6D-492A-9617-988942AC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1B08-3EFD-4F35-B618-873232CA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E714-123E-4740-BB6A-D4666BDA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C01C-2256-445F-B044-2871AB69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7BAE-1EAE-44C4-ACB3-95FFC99E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3794-2744-471A-B7DC-1A7E33DC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1D87-455D-4522-B56A-D816452C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F231-9C52-40FB-9370-D3B5A237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65C5-6DFC-46C4-9696-DE62B9AA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B34F-FB7C-4CEF-9F72-1CF642B5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A0E77-D1A6-4DE6-B624-BE0B62D9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FA188-DCDB-418F-B8A6-FDA81170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3536F-ADE2-4AA1-8D50-7A597F90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9208E-FD04-4748-8CF3-D40D15DF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F78B9-D133-4D80-BBFB-2B384105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FEB2-34F0-43DF-BD84-CEFCDC18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1E0A5-800E-4298-80C0-EDA6BB82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88B3-C8E8-4604-900E-06677122115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E9DF-627F-43E6-9161-CFA1129B7F5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Самуил Маршак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«Цирк шапито»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flipV="1">
            <a:off x="0" y="-100080"/>
            <a:ext cx="8893080" cy="158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1. Что означает слово шапит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2. Кто герои этого стихотворения? Назовите одним сло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3. Составьте программу циркового представления по стихотворению. Запишите программу в рабочую тетрадь на с. 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4. Почему фокусника-ежа назвали бессовестн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5. Что нужно сделать с героями, чтобы представление в цирке началос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6. Как называется человек, который ведёт концерт или цирковое представле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7. Составьте рассказ (4-5 предложений) на тему: «Цирк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23:29Z</dcterms:created>
  <dc:creator>1</dc:creator>
  <dc:description/>
  <dc:language>en-US</dc:language>
  <cp:lastModifiedBy>Школа №58</cp:lastModifiedBy>
  <dcterms:modified xsi:type="dcterms:W3CDTF">2011-03-09T05:26:45Z</dcterms:modified>
  <cp:revision>5</cp:revision>
  <dc:subject/>
  <dc:title>Цирк шапито.</dc:title>
</cp:coreProperties>
</file>