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2CCE7-308A-475A-BD2B-13E4B52B2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67EDF-E351-4B4F-83D1-BD030F8F3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FFFF9-A122-42D6-827D-EC2E4208D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34AFC-7C29-43FA-B581-C7E81B3EB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8B9BA-2974-48B3-A23E-647B271CB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7DDA2-2819-4EF4-A890-94669D025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8B8A1-6999-4462-BF20-CC730E1A2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3765D-6C55-4737-8CE2-4A68ED47F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65E66-E57B-417D-8851-F8E0AF16F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0053F-ABB2-4265-BFEB-3C018ABF4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BD84D-2E9A-4636-ADC9-55BCB04F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2C0DE-7F15-4E75-8E3A-84DCFCBA8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E69B9-5C23-4250-865C-1A7AFC58C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0D120-385D-4C72-A1E6-E3862A107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A9D43-5F3E-4A7B-8184-596EF32B3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2CC68-A159-4E21-AEDF-33791353A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23FFB-07D4-4659-A616-DCBAA96FB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A37CB-EF6F-4018-93F3-ECD67A7B9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7EC45-BF6C-4EDF-92F2-252D6D7B6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867F0-A288-4072-95AD-7FF30F627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595D3-153B-4532-A61B-66223853E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77584-7E57-4075-A311-030D5D49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1F84C-0F12-4E12-A360-591F12E5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E70BF-9517-469E-82FD-14A32A9F7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04FF4-7FAF-44F4-AF65-13EF295ABA0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C7D50-C20C-4D7A-8DEE-306E55EDA36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1280" y="98064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Самуил Маршак</a:t>
            </a:r>
            <a:br>
              <a:rPr sz="4800"/>
            </a:b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«Цирк шапито».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 flipV="1">
            <a:off x="0" y="-100080"/>
            <a:ext cx="8893080" cy="158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Карточка 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1. Что означает слово шапито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2. Кто герои этого стихотворения? Назовите одним слов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3. Составьте программу циркового представления по стихотворению. Запишите программу в рабочую тетрадь на с. 8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Карточка 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4. Почему фокусника-ежа назвали бессовестным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5. Что нужно сделать с героями, чтобы представление в цирке началось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6. Как называется человек, который ведёт концерт или цирковое представлени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Карточка 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7. Составьте рассказ (4-5 предложений) на тему: «Цирк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19:23:29Z</dcterms:created>
  <dc:creator>1</dc:creator>
  <dc:description/>
  <dc:language>en-US</dc:language>
  <cp:lastModifiedBy>Школа №58</cp:lastModifiedBy>
  <dcterms:modified xsi:type="dcterms:W3CDTF">2011-03-09T05:26:45Z</dcterms:modified>
  <cp:revision>5</cp:revision>
  <dc:subject/>
  <dc:title>Цирк шапито.</dc:title>
</cp:coreProperties>
</file>