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31BF-BA06-4B45-8A2B-94B3AA50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6907-50C2-422C-8EC5-70B766F4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A601-9736-4CBA-91C9-72B79BDF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D7D5-EF4F-406B-AE85-F9A227DC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1F9C-D4BF-4577-97C3-ABFAF201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BCB9-698F-4EB5-9724-55BA951B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4210-155A-493B-8819-9048B3BB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D113-4054-468A-BBE2-62876E38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D23-A013-47CD-913F-A6E85874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139-2FD7-4678-B7AE-2DDE39EB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CDD4-67F5-4EF8-9F27-DE05EECC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30AE-DF01-4C51-849A-AE896811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5D22-C02F-40FF-A706-AF389291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C3F6-4978-4A58-9979-54C7C86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030C-F754-441A-90F9-5A62D7DF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4FCB-AA47-4506-B7A2-F644595A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C66E-E664-4C3A-A823-EE31F4F4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8DE0-043B-49BC-BB5C-A2F9F131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B945-72CD-4409-95DD-E7B48F8F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0756-6A6C-473F-9CF8-BFFD5426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F302-5642-4DAE-AA87-F2314583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4692-3B12-48BA-8E3F-4F5189F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2D1E-DD70-49D6-88AE-962027EE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57C8-38CA-49AE-8979-49B73F15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F39A-9AF2-4B3B-9FCB-D1B1294382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1D7-D2E3-4459-AB44-57C6FAB737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амуил Марша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Цирк шапито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0" y="-100080"/>
            <a:ext cx="8893080" cy="158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. Что означает слово шапи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. Кто герои этого стихотворения? Назовите одн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. Составьте программу циркового представления по стихотворению. Запишите программу в рабочую тетрадь на с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Почему фокусника-ежа назвали бессовес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5. Что нужно сделать с героями, чтобы представление в цирке нач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6. Как называется человек, который ведёт концерт или цирковое предст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7. Составьте рассказ (4-5 предложений) на тему: «Цир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23:29Z</dcterms:created>
  <dc:creator>1</dc:creator>
  <dc:description/>
  <dc:language>en-US</dc:language>
  <cp:lastModifiedBy>Школа №58</cp:lastModifiedBy>
  <dcterms:modified xsi:type="dcterms:W3CDTF">2011-03-09T05:26:45Z</dcterms:modified>
  <cp:revision>5</cp:revision>
  <dc:subject/>
  <dc:title>Цирк шапито.</dc:title>
</cp:coreProperties>
</file>