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E9B62-2AFA-48BE-8479-AAE3EB4C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DF2E2-95DE-4E4E-8901-3A30D25F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EAB2-426D-4731-A51D-28383CBBD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B567B-D299-4717-878C-9E2C27DA5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81FC-7333-4AEC-8E4E-481870E6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1F03-630A-4911-8090-1DEAF878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B7F9-D409-4976-9516-8BDDE798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2BA0-8CF5-4737-829E-7DCF940A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588A-40D1-4670-AFCC-91D958AF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448F-8F22-43BC-86ED-F42CB231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EB4-ED97-46A7-B0B6-FB5218D9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B4F64-AA88-42B5-A6CB-00B1C482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4E3D-0938-4BD4-A4C0-B61CF2B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8B1B-9E3F-48B3-B53E-82C5DC0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C450-BC73-4431-83DB-2D120ECF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CBB2-FE94-4B63-B7E3-C1383546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0562-0350-46BE-97AF-EF77E212F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3F6D-63F3-43ED-8A24-97B47D34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25D7-C7E4-4949-BFF0-14EE05CE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5609-D337-4D64-BB67-B1FD5F9D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08C3-0D82-4569-8EC2-DA2061F6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5120E-8698-4520-9D07-C3F54D9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65266-FCBF-4665-8685-B70F971D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4C3E-45FA-4032-AA6C-E2CBB093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4A72-B0BA-4E9E-85DF-F440BFB2DE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3B8B-59A0-4A29-A4C4-830070D7DC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980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Самуил Маршак</a:t>
            </a:r>
            <a:br>
              <a:rPr sz="4800"/>
            </a:b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«Цирк шапито»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 flipV="1">
            <a:off x="0" y="-100080"/>
            <a:ext cx="8893080" cy="158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1. Что означает слово шапито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2. Кто герои этого стихотворения? Назовите одним слов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3. Составьте программу циркового представления по стихотворению. Запишите программу в рабочую тетрадь на с. 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4. Почему фокусника-ежа назвали бессовест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5. Что нужно сделать с героями, чтобы представление в цирке началос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6. Как называется человек, который ведёт концерт или цирковое представл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арточка 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ahoma"/>
              </a:rPr>
              <a:t>7. Составьте рассказ (4-5 предложений) на тему: «Цирк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23:29Z</dcterms:created>
  <dc:creator>1</dc:creator>
  <dc:description/>
  <dc:language>en-US</dc:language>
  <cp:lastModifiedBy>Школа №58</cp:lastModifiedBy>
  <dcterms:modified xsi:type="dcterms:W3CDTF">2011-03-09T05:26:45Z</dcterms:modified>
  <cp:revision>5</cp:revision>
  <dc:subject/>
  <dc:title>Цирк шапито.</dc:title>
</cp:coreProperties>
</file>