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E51-0388-4C31-AEEB-B630BAFF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AE12-28D7-4DCA-81F6-32DC7141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CA7-A03F-46BD-83C6-9B3C011A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B97-0524-4096-A336-283708F6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980-0795-445B-987B-41F1308A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60D-DA97-4730-876E-6E5227E9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BDA-1DF5-47FF-8C72-99240348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6FB-695B-4D79-8ED4-1D1297D0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BFF-1DA0-4457-AE6A-E232051F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DC8-B765-4034-80C0-017AC1CC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9C6-055B-4CDA-B8A3-82AD956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B56-D06D-4D68-96B5-133B8655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AFA5-A34B-4BD8-B576-01182DB504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B5E5-0112-4C3A-9633-7BB53AEA4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80F1-3181-45C3-94ED-8B20DEA8531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9671-334B-4E16-850D-77E3965FC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755640" y="1557360"/>
            <a:ext cx="7983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«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Презирай лень мысли» -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евиз урока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ак вы понимаете эти слова ? Что они значат для вас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14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Найдите значение выражения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,6| + |-1,8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4,2|  + |-2,9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14| + |-1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0,6| + |-0,7|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-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| + |-2,2|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5,4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7,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31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1,3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; 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5,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</a:rPr>
              <a:t>Сравните числ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9,8              0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5,028          -5,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8"/>
              <p:cNvSpPr txBox="1"/>
              <p:nvPr/>
            </p:nvSpPr>
            <p:spPr>
              <a:xfrm>
                <a:off x="1476360" y="4076640"/>
                <a:ext cx="1278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Text Box 56"/>
          <p:cNvSpPr/>
          <p:nvPr/>
        </p:nvSpPr>
        <p:spPr>
          <a:xfrm>
            <a:off x="611280" y="5445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1"/>
              <p:cNvSpPr txBox="1"/>
              <p:nvPr/>
            </p:nvSpPr>
            <p:spPr>
              <a:xfrm>
                <a:off x="4140360" y="4005360"/>
                <a:ext cx="13302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2-13T03:34:20Z</dcterms:modified>
  <cp:revision>7</cp:revision>
  <dc:subject/>
  <dc:title>Слайд 1</dc:title>
</cp:coreProperties>
</file>