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641-C99B-4F41-A9AE-5CC1B8E2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7FDF-9ACA-407C-8360-C2F44346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47CA-A79F-4FC0-AD03-CCDB0A7A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DCE-9463-40FA-92AB-E0D5436A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411-928F-40A0-ABED-A9A1915C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369-BDE3-4734-8CB9-4BE6D53D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1428-1CA4-405C-8BD6-7F9F8D42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B54-A05C-4383-BD45-70D30BB9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BD4-1A2C-4BDC-B5B2-022AF190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44E-0652-44FD-9C6A-521B087D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AD83-030E-404C-9199-10277FEB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CB4-F28C-4433-A0DB-83B364EA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72E5-8C39-4496-ABE4-26827639B88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C0EC-DBC9-4CBA-8B64-688C44D958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0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FD5A-3271-423E-97B9-D16FB248324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A2D0-287D-4F2D-B1CF-F57947F136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755640" y="1557360"/>
            <a:ext cx="7983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« 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Презирай лень мысли» -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девиз урока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ак вы понимаете эти слова ? Что они значат для вас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Найдите значение выражения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3,6| + |-1,8|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4,2|  + |-2,9|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14| + |-17|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0,6| + |-0,7|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 + |-2,2|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вет: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5,4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7,1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31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1,3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5,7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Сравните числ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9,8              0,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5,028          -5,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8"/>
              <p:cNvSpPr txBox="1"/>
              <p:nvPr/>
            </p:nvSpPr>
            <p:spPr>
              <a:xfrm>
                <a:off x="1476360" y="4076640"/>
                <a:ext cx="12780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Text Box 56"/>
          <p:cNvSpPr/>
          <p:nvPr/>
        </p:nvSpPr>
        <p:spPr>
          <a:xfrm>
            <a:off x="611280" y="544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1"/>
              <p:cNvSpPr txBox="1"/>
              <p:nvPr/>
            </p:nvSpPr>
            <p:spPr>
              <a:xfrm>
                <a:off x="4140360" y="4005360"/>
                <a:ext cx="133020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ver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Макаров</cp:lastModifiedBy>
  <dcterms:modified xsi:type="dcterms:W3CDTF">2012-02-13T03:34:20Z</dcterms:modified>
  <cp:revision>7</cp:revision>
  <dc:subject/>
  <dc:title>Слайд 1</dc:title>
</cp:coreProperties>
</file>