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BB5-C169-498B-9C22-7D362ADB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071-E87A-4EE3-A826-0A7096F5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C53-AF78-4F30-B8CB-7DC33C56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C6B-374F-4AFC-AE01-32F810AB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52C-FAEC-46F4-8F74-30608868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624-AB6C-4A57-A407-55BC76CF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259-D7A3-4BED-BE1F-DEE5670F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B68-80CA-4527-9A34-0DE269F6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8A5-6215-4887-8DBE-E4E6C71E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F42-9D05-49B3-80AF-1101A5C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E93-8613-41CF-A714-50172784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280-5E7C-4697-8741-81FF456C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FE84-59FB-434C-BFDF-E91F31FFCA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D58D-9959-4B49-A3A1-6BAE8D630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1A64-B1D9-429E-A02A-A4823D5DBB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E715-CC06-4BA2-A706-FEEF96C5F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55640" y="1557360"/>
            <a:ext cx="7983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«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Презирай лень мысли» -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евиз урока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 вы понимаете эти слова ? Что они значат для вас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Найдите значение выражения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,6| + |-1,8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4,2|  + |-2,9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14| + |-1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0,6| + |-0,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 + |-2,2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5,4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7,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1,3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5,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Сравните чис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9,8              0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5,028          -5,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8"/>
              <p:cNvSpPr txBox="1"/>
              <p:nvPr/>
            </p:nvSpPr>
            <p:spPr>
              <a:xfrm>
                <a:off x="1476360" y="4076640"/>
                <a:ext cx="1278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56"/>
          <p:cNvSpPr/>
          <p:nvPr/>
        </p:nvSpPr>
        <p:spPr>
          <a:xfrm>
            <a:off x="61128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1"/>
              <p:cNvSpPr txBox="1"/>
              <p:nvPr/>
            </p:nvSpPr>
            <p:spPr>
              <a:xfrm>
                <a:off x="4140360" y="4005360"/>
                <a:ext cx="13302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2-13T03:34:20Z</dcterms:modified>
  <cp:revision>7</cp:revision>
  <dc:subject/>
  <dc:title>Слайд 1</dc:title>
</cp:coreProperties>
</file>