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8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B01-24D7-4A57-B2F1-F24A8412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F5B-8416-42E7-B327-19BBFD31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EBC-C6D5-4A91-8D78-00533892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DBB-A987-477C-B429-B995D1F9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4D2E-8538-4419-A859-0E9B463D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EA41-EB8B-4E6A-BD03-C1B7AE3B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0CC8-380A-4281-A013-91205ABA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4F65-800F-45EE-8879-7E36B6C2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42E2-43A0-41D3-A436-E7C155C1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0B89-7D89-48AD-BD09-1E25E8A0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5C75-1681-4CBF-A83D-16450FDE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DED-DD59-4AE2-A633-294960BA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9EFD-D837-465B-BB8C-3A362112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D552-D697-441F-9DC0-B0B7346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D715-4BF9-449B-86FD-A6B5FABE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AB69-4A44-4B1D-ABC4-803E1D58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63A9-F101-4E84-8A18-A3E274AF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C2C-094F-43CE-A903-3B42998C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A8B-1BC3-4F52-A36D-2337BF60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EFB-4A88-449C-BA4A-B191B248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C34-83D8-4F22-97F9-CB22C577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299-5133-442C-8F3F-F4A29AED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09D-B8AC-4074-BD34-96090D5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4DC-A0B8-4C87-9EAF-9C823905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A208-C345-4B43-9174-3EB3A622883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5DCB-9807-458E-9F71-207F33E738D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2062080" cy="36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47640" y="407664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ирование ночной сороч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4067280" y="1052280"/>
            <a:ext cx="482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Раздел  4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«Моделирование  плечевого   изделия   с  цельнокроеным   рукавом»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33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7 клас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Какой должна быть ночная сорочка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вободный удлиненный силуэт — идеальный вариант для ночной сорочки, которая не должна сковывать уставшее за день тело.  Какую  выбрать ткань? Конечно же, натуральную —   мягкую фланель, приятный на  ощупь трикотаж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ли прозрачный хлопок.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очной наряд можно  украсить  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ышивкой, воланами, рюшами,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возможными кантами, бей-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ми, аппликациями. Только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 это должно быть   очень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жным, мягким, воздушны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77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1495440" cy="26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835280" y="3429000"/>
          <a:ext cx="7129080" cy="2736360"/>
        </p:xfrm>
        <a:graphic>
          <a:graphicData uri="http://schemas.openxmlformats.org/drawingml/2006/table">
            <a:tbl>
              <a:tblPr/>
              <a:tblGrid>
                <a:gridCol w="7129080"/>
              </a:tblGrid>
              <a:tr h="27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«Модель»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- слово  пришло  к нам  из французского языка, значит – изменять.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Моделирование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– процесс изменения чертежа  выкройки  в  соответствии  с выбранной моделью.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03640" y="836280"/>
            <a:ext cx="56894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о одной и той же выкройке можно сшить изделия разных фасонов. Для этого необходимо промоделировать ег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8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680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0" y="2553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0"/>
          <a:ext cx="182520" cy="494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800" y="494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1467000" cy="187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4720" y="189000"/>
            <a:ext cx="4681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т  так  будет выглядеть ваша ночная сорочка если её не модели- ровать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3500280"/>
            <a:ext cx="338436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можно менять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4797360"/>
            <a:ext cx="237672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Длину издел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4797360"/>
            <a:ext cx="2880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кокетки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5877000"/>
            <a:ext cx="3097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горловины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149720"/>
            <a:ext cx="215640" cy="1727280"/>
          </a:xfrm>
          <a:prstGeom prst="downArrow">
            <a:avLst>
              <a:gd name="adj1" fmla="val 50000"/>
              <a:gd name="adj2" fmla="val 200250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зменение длины ночной сорочк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0" y="0"/>
          <a:ext cx="182520" cy="2517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800" y="2517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566100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Самый простой из приемов моделирования. Всё зависит от желаемой длины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1989000"/>
            <a:ext cx="23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1 и №4 длина </a:t>
            </a: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«макс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2, №3, №5 длина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«мид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2511360" cy="286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448200">
            <a:off x="6659640" y="3429000"/>
            <a:ext cx="2019240" cy="2984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изменением формы выреза горловины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4502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ри изменении формы выреза нужно нанести новую линию выреза горловины на выкройке переда и спинк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1558800" cy="256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59640" y="3284640"/>
            <a:ext cx="21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2924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8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Фигур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031760" cy="295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79840" y="1144440"/>
          <a:ext cx="182520" cy="3652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800" y="47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781360"/>
            <a:ext cx="187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» образ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92360" y="5805360"/>
            <a:ext cx="17636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1120800">
            <a:off x="3708000" y="3141360"/>
            <a:ext cx="1886040" cy="1533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 rot="10079400">
            <a:off x="5363640" y="3715920"/>
            <a:ext cx="1841760" cy="17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5708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0"/>
          <a:ext cx="182520" cy="426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2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800" y="4268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182520" cy="5483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4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800" y="54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0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479840" y="1407960"/>
          <a:ext cx="182520" cy="3125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1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800" y="4533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20781600">
            <a:off x="7020000" y="4508280"/>
            <a:ext cx="1933560" cy="1871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79840" y="2216160"/>
          <a:ext cx="182520" cy="1509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800" y="3725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1766880" cy="2232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0" y="549360"/>
            <a:ext cx="23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Овальный вырез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692360" y="189000"/>
            <a:ext cx="2392200" cy="332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67280" y="2781360"/>
            <a:ext cx="194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164360" y="4005360"/>
            <a:ext cx="1749600" cy="2520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2181240" cy="273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552760" cy="2908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 rot="4948800">
            <a:off x="2100240" y="4460400"/>
            <a:ext cx="1689120" cy="1930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532720" y="5734080"/>
            <a:ext cx="432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619280" y="333360"/>
            <a:ext cx="261612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4479840" y="1639800"/>
          <a:ext cx="182520" cy="2938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800" y="4577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3500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карэ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3429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Вырез «лодочка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кокет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Новую форму плечевого изделия можно получить моделированием  кокетки  с  одновременным расширением низа.  Форма линии, по  которой отрезается кокетка, может быть любой: прямой, ломаной, круглой, фигурной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0" y="4446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19280" y="2743200"/>
            <a:ext cx="2681280" cy="3925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97280" y="3716280"/>
            <a:ext cx="4446720" cy="2664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03640" y="299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Прям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0"/>
          <a:ext cx="182520" cy="4081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0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00" y="4080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5257800" cy="23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479840" y="1957320"/>
          <a:ext cx="182520" cy="202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800" y="3984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176720" cy="3762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8472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Кругл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знакомиться с  приёмами моделирования путем изменения длины  изделия,  формы горло-вины, кокетки;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редставить свою модель ночной сороч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182520" cy="3714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7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800" y="3714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961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Проверочный тест по теме: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«Конструирование ночной сорочки.     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                                             Снятие мерок.»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77263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полуобхват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полуобхват бедер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обхват плеча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-длина спины до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-длина изделия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7-го шейного позвонка до яремной впад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вокруг шеи: сзади - под 7-м шейным позвонком,  спереди -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   яремной впадиной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183240"/>
            <a:ext cx="831672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переди выше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линии талии до 7-го шейного позвон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горизонтально по линии бедер с учетом выступа   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по наиболее выступающим точкам ягодиц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сзади - по наиболее выступающим точкам ягодиц,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реди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– колготы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– хала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03372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549360"/>
            <a:ext cx="316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4508640"/>
            <a:ext cx="741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7. Из приведенных ниже примеров выделите  группу поясной и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плечевой  одежды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брюки,  носки,  жилеты, платья,  шорты,  сарафаны,  блузы,   кепки,  жакеты,  юб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льто, плащи, распашонки</a:t>
            </a: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Проверь себя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г </a:t>
            </a: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II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полуобхват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-полуобхват бедер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б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-обхват плеча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Оп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длина спины до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Д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-полуобхват ше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ш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656000" cy="135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1197000"/>
            <a:ext cx="669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При оценивании работы за каждый правильный ответ – 1 балл,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всего 30 б.                30–28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27-23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22- 19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</a:t>
            </a:r>
            <a:r>
              <a:rPr b="1" lang="en-US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&lt;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18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»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2748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916280"/>
            <a:ext cx="4788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– горловина спи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– линия плеч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– горловина пере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– линия низа рукав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– линия тали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– линия бо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–  линия низа издел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365720"/>
            <a:ext cx="712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7.</a:t>
            </a:r>
            <a:r>
              <a:rPr b="1" i="1" lang="en-US" sz="18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рюки                                             жилет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орты                                            плать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бки                                               сарафан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луз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акет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льто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щ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пашо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1909800" y="4506120"/>
            <a:ext cx="4546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оясн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5078520" y="4505760"/>
            <a:ext cx="4546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лечев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52578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При  всей  изменчивости современной моды меньше всего, пожалуй, ее влияние коснулось домашнего гардероба и одежды для сна. Вопрос об каких-то кардинальных изменениях в области домашней одежды никогда не перед кем не стоял, но она поддавалась веяниям времени и моды. Появление новых способов отделки, новых тканей , новых силуэтов сразу отражалось и на ней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Женщине всегда важно, чтобы дом был полон уюта, частицей которого является она сама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И пусть идея не нова, знакомый всем халат с ярким цветным узором, так любимый нашими мамами и бабушками, и самая обыкновенная ночная сорочка, по-прежнему незаменимы.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111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489600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Удобный ,  красивый, тщательно продуманный домашний , ночной костюм является не только украше -нием  человека  и  дома , он способствует  хорошему настроению, помогает  в домашней работе, и что нема- ло важно доставляет удоволь- ствие окружающим. Такая одежда  отличается  более свободным  покроем, особой декоративностью, но в ней не должно быть неряшлив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на должна распределятся по группам - для детей (а), мужчин (б), женщин (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02896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80360" y="2492280"/>
            <a:ext cx="1538280" cy="208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3933720"/>
            <a:ext cx="1549440" cy="273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7236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К одежде для сна  относятся пижамы и ночные сорочки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57Z</dcterms:created>
  <dc:creator>ХХХ</dc:creator>
  <dc:description/>
  <dc:language>en-US</dc:language>
  <cp:lastModifiedBy>Волчкова</cp:lastModifiedBy>
  <dcterms:modified xsi:type="dcterms:W3CDTF">2012-02-13T19:11:02Z</dcterms:modified>
  <cp:revision>13</cp:revision>
  <dc:subject/>
  <dc:title>Слайд 1</dc:title>
</cp:coreProperties>
</file>