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18.jpeg" ContentType="image/jpeg"/>
  <Override PartName="/ppt/media/image19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8.png" ContentType="image/png"/>
  <Override PartName="/ppt/media/image7.jpeg" ContentType="image/jpeg"/>
  <Override PartName="/ppt/media/image4.gif" ContentType="image/gif"/>
  <Override PartName="/ppt/media/image2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E805-DCD2-4258-BDA7-6C4CFC7D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DD0C-7E86-429D-8211-06CC2723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BE74-6B83-43DF-911C-727575BB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7C9C-2FA8-4384-8075-514000CA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E077-ACE6-4F8F-84ED-66A1BAAE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76C0-2AFC-48D9-B53B-BF478E35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454F-E02C-4B17-A4EE-EFE9ABB9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910A-9022-4E0A-925B-7FF36D36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866D-30BC-4B50-A022-E365DE7A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00A2-5DA1-4E72-9D85-0855BA70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FF25-0A67-45E4-B840-AA8EEB2A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0ACF-2AB5-42B7-AA5B-C32CA427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A49E-6C28-4EAB-BDBF-AB29AA83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99F0-D885-41E5-939C-37ED1161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589F-010E-4F80-9EC8-9CB05549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36EB-CCDC-4209-9F51-69376D36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ADEA-94CA-4E52-BB6B-C01CFA75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AD9D-1923-41C9-B0A2-EF39DE54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024F-D088-43E4-B0ED-CF8B937F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E8E6-0A86-42AB-A6A1-3E021F78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DDE7-427D-4AA8-87D8-D92B382E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FE2B-0B8F-434E-9DD4-4152137D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ECEE-5D67-4CC4-BE63-653074E1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A68D-35D4-49EB-BFDE-97A8F9D4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A6D0-5798-4E05-A3E6-0F5946BE6B70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0CF6-FC7F-43A6-B2EC-D2CBDE3B2C53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2062080" cy="360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0" y="0"/>
          <a:ext cx="182520" cy="3929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9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1800" y="39286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47640" y="4076640"/>
            <a:ext cx="73454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делирование ночной сороч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4067280" y="1052280"/>
            <a:ext cx="4824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6699"/>
                </a:solidFill>
                <a:uFillTx/>
                <a:latin typeface="Times New Roman"/>
              </a:rPr>
              <a:t>Раздел  4</a:t>
            </a:r>
            <a:r>
              <a:rPr b="1" lang="en-US" sz="1800" spc="-1" strike="noStrike" u="sng">
                <a:solidFill>
                  <a:srgbClr val="336699"/>
                </a:solidFill>
                <a:uFillTx/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«Моделирование  плечевого   изделия   с  цельнокроеным   рукавом»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12000" y="333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7 класс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Какой должна быть ночная сорочка?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6360" y="1052280"/>
            <a:ext cx="741672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Свободный удлиненный силуэт — идеальный вариант для ночной сорочки, которая не должна сковывать уставшее за день тело.  Какую  выбрать ткань? Конечно же, натуральную —   мягкую фланель, приятный на  ощупь трикотаж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или прозрачный хлопок.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Ночной наряд можно  украсить    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ышивкой, воланами, рюшами,  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севозможными кантами, бей-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ками, аппликациями. Только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се это должно быть   очень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нежным, мягким, воздушным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27781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1495440" cy="265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1835280" y="3429000"/>
          <a:ext cx="7129080" cy="2736360"/>
        </p:xfrm>
        <a:graphic>
          <a:graphicData uri="http://schemas.openxmlformats.org/drawingml/2006/table">
            <a:tbl>
              <a:tblPr/>
              <a:tblGrid>
                <a:gridCol w="7129080"/>
              </a:tblGrid>
              <a:tr h="27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«Модель»</a:t>
                      </a: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 - слово  пришло  к нам  из французского языка, значит – изменять.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Моделирование</a:t>
                      </a: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 – процесс изменения чертежа  выкройки  в  соответствии  с выбранной моделью.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03640" y="836280"/>
            <a:ext cx="568944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По одной и той же выкройке можно сшить изделия разных фасонов. Для этого необходимо промоделировать его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-85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00" y="68022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00" y="2553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0" y="0"/>
          <a:ext cx="182520" cy="49467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800" y="4946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63640" y="692280"/>
            <a:ext cx="1467000" cy="1873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284720" y="189000"/>
            <a:ext cx="468144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Вот  так  будет выглядеть ваша ночная сорочка если её не модели- ровать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3640" y="3500280"/>
            <a:ext cx="3384360" cy="648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можно менять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4797360"/>
            <a:ext cx="237672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Длину изделия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4797360"/>
            <a:ext cx="288000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Форму кокетки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48000" y="5877000"/>
            <a:ext cx="309708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Форму горловины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88000" y="4149720"/>
            <a:ext cx="215640" cy="1727280"/>
          </a:xfrm>
          <a:prstGeom prst="downArrow">
            <a:avLst>
              <a:gd name="adj1" fmla="val 50000"/>
              <a:gd name="adj2" fmla="val 200250"/>
            </a:avLst>
          </a:prstGeom>
          <a:solidFill>
            <a:srgbClr val="afb5d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48000" y="4149720"/>
            <a:ext cx="216000" cy="647640"/>
          </a:xfrm>
          <a:prstGeom prst="downArrow">
            <a:avLst>
              <a:gd name="adj1" fmla="val 50000"/>
              <a:gd name="adj2" fmla="val 74958"/>
            </a:avLst>
          </a:prstGeom>
          <a:solidFill>
            <a:srgbClr val="afb5d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27640" y="4149720"/>
            <a:ext cx="216000" cy="647640"/>
          </a:xfrm>
          <a:prstGeom prst="downArrow">
            <a:avLst>
              <a:gd name="adj1" fmla="val 50000"/>
              <a:gd name="adj2" fmla="val 74958"/>
            </a:avLst>
          </a:prstGeom>
          <a:solidFill>
            <a:srgbClr val="afb5d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Изменение длины ночной сорочки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4895640" cy="36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0" y="0"/>
          <a:ext cx="182520" cy="2517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5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1800" y="25174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8000" y="5661000"/>
            <a:ext cx="66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Самый простой из приемов моделирования. Всё зависит от желаемой длины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1989000"/>
            <a:ext cx="23767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Модель №1 и №4 длина </a:t>
            </a:r>
            <a:r>
              <a:rPr b="1" i="1" lang="en-US" sz="2000" spc="-1" strike="noStrike" u="sng">
                <a:solidFill>
                  <a:srgbClr val="0066ff"/>
                </a:solidFill>
                <a:uFillTx/>
                <a:latin typeface="Times New Roman"/>
              </a:rPr>
              <a:t>«макси»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Модель №2, №3, №5 длина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«миди»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63640" y="2781360"/>
            <a:ext cx="2511360" cy="2860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 rot="448200">
            <a:off x="6659640" y="3429000"/>
            <a:ext cx="2019240" cy="29844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Моделирование изменением формы выреза горловины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76000" y="1341360"/>
            <a:ext cx="7450200" cy="13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При изменении формы выреза нужно нанести новую линию выреза горловины на выкройке переда и спинки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292720" y="4076640"/>
            <a:ext cx="1558800" cy="2565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659640" y="3284640"/>
            <a:ext cx="21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40360" y="292428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28526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Фигурный вырез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851280" y="3716280"/>
            <a:ext cx="1031760" cy="2952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114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479840" y="1144440"/>
          <a:ext cx="182520" cy="36529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5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800" y="4797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2781360"/>
            <a:ext cx="1873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V</a:t>
            </a: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» образный вырез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1692360" y="5805360"/>
            <a:ext cx="176364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 rot="1120800">
            <a:off x="3708000" y="3141360"/>
            <a:ext cx="1886040" cy="15336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 rot="10079400">
            <a:off x="5363640" y="3715920"/>
            <a:ext cx="1841760" cy="1765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657080" cy="381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0" y="0"/>
          <a:ext cx="182520" cy="4268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26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1800" y="42685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0"/>
          <a:ext cx="182520" cy="5483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48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1800" y="548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40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479840" y="1407960"/>
          <a:ext cx="182520" cy="3125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1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800" y="45334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 rot="20781600">
            <a:off x="7020000" y="4508280"/>
            <a:ext cx="1933560" cy="1871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479840" y="2216160"/>
          <a:ext cx="182520" cy="1509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1800" y="3725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1763640" y="4221000"/>
            <a:ext cx="1766880" cy="2232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572000" y="549360"/>
            <a:ext cx="239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Овальный вырез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1692360" y="189000"/>
            <a:ext cx="2392200" cy="3328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067280" y="2781360"/>
            <a:ext cx="194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164360" y="4005360"/>
            <a:ext cx="1749600" cy="2520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0"/>
          <a:ext cx="182520" cy="3929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9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1800" y="39286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2181240" cy="2736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300720" y="333360"/>
            <a:ext cx="2552760" cy="2908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 rot="4948800">
            <a:off x="2100240" y="4460400"/>
            <a:ext cx="1689120" cy="19303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532720" y="5734080"/>
            <a:ext cx="432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63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619280" y="333360"/>
            <a:ext cx="2616120" cy="29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4479840" y="1639800"/>
          <a:ext cx="182520" cy="2938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9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1800" y="4577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04000" y="35002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Вырез «карэ»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79640" y="342900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Вырез «лодочка»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5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Моделирование кокетки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Новую форму плечевого изделия можно получить моделированием  кокетки  с  одновременным расширением низа.  Форма линии, по  которой отрезается кокетка, может быть любой: прямой, ломаной, круглой, фигурной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00" y="4446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619280" y="2743200"/>
            <a:ext cx="2681280" cy="39258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697280" y="3716280"/>
            <a:ext cx="4446720" cy="2664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003640" y="2997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Прямая кокетка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0"/>
          <a:ext cx="182520" cy="4081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0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800" y="40809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059280" y="4221000"/>
            <a:ext cx="5257800" cy="232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4479840" y="1957320"/>
          <a:ext cx="182520" cy="2027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0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1800" y="39841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763640" y="260280"/>
            <a:ext cx="4176720" cy="3762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084720" y="981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Круглая кокетка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Цель урока: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Познакомиться с  приёмами моделирования путем изменения длины  изделия,  формы горло-вины, кокетки;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Представить свою модель ночной сорочки.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0"/>
          <a:ext cx="182520" cy="3714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71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800" y="37144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0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1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" dur="25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4" dur="25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5" dur="25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689616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Проверочный тест по теме: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«Конструирование ночной сорочки.     </a:t>
            </a:r>
            <a:br>
              <a:rPr sz="28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                                              Снятие мерок.»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772632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1. Напишите условное обозначение мерки напротив ее названия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уобхват груди второй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-полуобхват талии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-полуобхват бедер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-обхват плеча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-длина спины до талии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-длина изделия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Найдите верный ответ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Мерку "полуобхват шеи"  снимают ……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- горизонтально вокруг шеи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- от 7-го шейного позвонка до яремной впадины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- вокруг шеи: сзади - под 7-м шейным позвонком,  спереди - 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    яремной впадиной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32000" y="183240"/>
            <a:ext cx="8316720" cy="66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3. Мерку «полуобхват груди второй»  снимают …….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- спереди выше грудных желез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- от линии талии до 7-го шейного позвонк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- горизонтально по линии бедер с учетом выступа    живот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 - спереди горизонтально по наиболее выступающим        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чкам        грудных желез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4. Мерку "полуобхват бедер" снимают горизонтально вокруг бедер ….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- с учетом выступа живот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- по наиболее выступающим точкам ягодиц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- сзади - по наиболее выступающим точкам ягодиц,  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ереди - с учетом выступа живот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5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Из приведенного ниже перечня одежды выберите только ту которая относится к нательному белью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– колготы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– ночная сорочк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– пижама для сн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 – халат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 - плавки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92720" y="620640"/>
            <a:ext cx="3033720" cy="3745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92360" y="549360"/>
            <a:ext cx="3168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6. Дайте название линиям и срезам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4508640"/>
            <a:ext cx="741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7. Из приведенных ниже примеров выделите  группу поясной и</a:t>
            </a: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плечевой  одежды</a:t>
            </a: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брюки,  носки,  жилеты, платья,  шорты,  сарафаны,  блузы,   кепки,  жакеты,  юбк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альто, плащи, распашонки</a:t>
            </a: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Проверь себя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1. Напишите условное обозначение мерки напротив ее названия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луобхват груди второй - 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Сг </a:t>
            </a:r>
            <a:r>
              <a:rPr b="1" lang="en-US" sz="1800" spc="-1" strike="noStrike">
                <a:solidFill>
                  <a:srgbClr val="ff3399"/>
                </a:solidFill>
                <a:latin typeface="Times New Roman"/>
              </a:rPr>
              <a:t>II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полуобхват талии -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Ст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-полуобхват бедер -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Сб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-обхват плеча -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Оп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длина спины до талии -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Дст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-полуобхват шеи -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Сш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2.</a:t>
            </a: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Найдите верный ответ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Мерку "полуобхват шеи"  снимают ……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 - горизонтально вокруг шеи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3. Мерку «полуобхват груди второй»  снимают …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 - спереди горизонтально по наиболее выступающим        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очкам        грудных желез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4. Мерку "полуобхват бедер" снимают горизонтально вокруг бедер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 - с учетом выступа живота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1656000" cy="1351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32000" y="1197000"/>
            <a:ext cx="669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При оценивании работы за каждый правильный ответ – 1 балл,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всего 30 б.                30–28 – «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»,  27-23 – «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», 22- 19 – «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»,  </a:t>
            </a:r>
            <a:r>
              <a:rPr b="1" lang="en-US" sz="16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&lt;</a:t>
            </a:r>
            <a:r>
              <a:rPr b="1" lang="ru-RU" sz="16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18 «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1" lang="ru-RU" sz="16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»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1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35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36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500" autoRev="1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39" dur="500" autoRev="1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40" dur="500" autoRev="1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71600" y="26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99"/>
                </a:solidFill>
                <a:latin typeface="Times New Roman"/>
              </a:rPr>
              <a:t>5.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3399"/>
                </a:solidFill>
                <a:latin typeface="Times New Roman"/>
              </a:rPr>
              <a:t>Из приведенного ниже перечня одежды выберите только ту которая относится к нательному белью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 – ночная сорочка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 – пижама для сна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 - плавки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56360" y="1844640"/>
            <a:ext cx="2274840" cy="280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476360" y="1916280"/>
            <a:ext cx="47880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99"/>
                </a:solidFill>
                <a:latin typeface="Times New Roman"/>
              </a:rPr>
              <a:t>6. Дайте название линиям и срезам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– горловина спинки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– линия плеч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– горловина перед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– линия низа рукав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 – линия талии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 – линия бок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 –  линия низа издел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19280" y="4365720"/>
            <a:ext cx="712944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99"/>
                </a:solidFill>
                <a:latin typeface="Times New Roman"/>
              </a:rPr>
              <a:t>7.</a:t>
            </a:r>
            <a:r>
              <a:rPr b="1" i="1" lang="en-US" sz="1800" spc="-1" strike="noStrike">
                <a:solidFill>
                  <a:srgbClr val="ff3399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рюки                                             жилеты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шорты                                            платья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юбки                                               сарафаны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лузы 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жакеты 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льто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лащи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спашонки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1909800" y="4506120"/>
            <a:ext cx="45468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Times New Roman"/>
              </a:rPr>
              <a:t>Поясная одежд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5078520" y="4505760"/>
            <a:ext cx="454680" cy="18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Times New Roman"/>
              </a:rPr>
              <a:t>Плечевая одежд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42560" y="188640"/>
            <a:ext cx="525780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336699"/>
                </a:solidFill>
                <a:latin typeface="Times New Roman"/>
              </a:rPr>
              <a:t>При  всей  изменчивости современной моды меньше всего, пожалуй, ее влияние коснулось домашнего гардероба и одежды для сна. Вопрос об каких-то кардинальных изменениях в области домашней одежды никогда не перед кем не стоял, но она поддавалась веяниям времени и моды. Появление новых способов отделки, новых тканей , новых силуэтов сразу отражалось и на ней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336699"/>
                </a:solidFill>
                <a:latin typeface="Times New Roman"/>
              </a:rPr>
              <a:t>Женщине всегда важно, чтобы дом был полон уюта, частицей которого является она сама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336699"/>
                </a:solidFill>
                <a:latin typeface="Times New Roman"/>
              </a:rPr>
              <a:t>И пусть идея не нова, знакомый всем халат с ярким цветным узором, так любимый нашими мамами и бабушками, и самая обыкновенная ночная сорочка, по-прежнему незаменимы.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16720" y="476280"/>
            <a:ext cx="211140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16000" y="907560"/>
            <a:ext cx="4896000" cy="619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Удобный ,  красивый, тщательно продуманный домашний , ночной костюм является не только украше -нием  человека  и  дома , он способствует  хорошему настроению, помогает  в домашней работе, и что нема- ло важно доставляет удоволь- ствие окружающим. Такая одежда  отличается  более свободным  покроем, особой декоративностью, но в ней не должно быть неряшливост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Она должна распределятся по группам - для детей (а), мужчин (б), женщин (в)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028960" cy="3311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380360" y="2492280"/>
            <a:ext cx="1538280" cy="2081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012000" y="3933720"/>
            <a:ext cx="1549440" cy="2735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172360" y="465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28000" y="1197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б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6764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18900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К одежде для сна  относятся пижамы и ночные сорочки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3:12:57Z</dcterms:created>
  <dc:creator>ХХХ</dc:creator>
  <dc:description/>
  <dc:language>en-US</dc:language>
  <cp:lastModifiedBy>Волчкова</cp:lastModifiedBy>
  <dcterms:modified xsi:type="dcterms:W3CDTF">2012-02-13T19:11:02Z</dcterms:modified>
  <cp:revision>13</cp:revision>
  <dc:subject/>
  <dc:title>Слайд 1</dc:title>
</cp:coreProperties>
</file>