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5.jpeg" ContentType="image/jpeg"/>
  <Override PartName="/ppt/media/image21.jpeg" ContentType="image/jpeg"/>
  <Override PartName="/ppt/media/image18.jpeg" ContentType="image/jpeg"/>
  <Override PartName="/ppt/media/image19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27.jpeg" ContentType="image/jpeg"/>
  <Override PartName="/ppt/media/image6.jpeg" ContentType="image/jpeg"/>
  <Override PartName="/ppt/media/image10.png" ContentType="image/png"/>
  <Override PartName="/ppt/media/image11.png" ContentType="image/png"/>
  <Override PartName="/ppt/media/image9.jpeg" ContentType="image/jpeg"/>
  <Override PartName="/ppt/media/image30.jpeg" ContentType="image/jpeg"/>
  <Override PartName="/ppt/media/image20.jpeg" ContentType="image/jpeg"/>
  <Override PartName="/ppt/media/image31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28.png" ContentType="image/png"/>
  <Override PartName="/ppt/media/image7.jpeg" ContentType="image/jpeg"/>
  <Override PartName="/ppt/media/image4.gif" ContentType="image/gif"/>
  <Override PartName="/ppt/media/image22.jpeg" ContentType="image/jpeg"/>
  <Override PartName="/ppt/media/image3.png" ContentType="image/png"/>
  <Override PartName="/ppt/media/image17.jpeg" ContentType="image/jpeg"/>
  <Override PartName="/ppt/media/image2.jpeg" ContentType="image/jpeg"/>
  <Override PartName="/ppt/media/image12.png" ContentType="image/png"/>
  <Override PartName="/ppt/media/image23.jpeg" ContentType="image/jpeg"/>
  <Override PartName="/ppt/media/image1.png" ContentType="image/png"/>
  <Override PartName="/ppt/media/image24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2D907-5203-49F0-916F-29E163AE8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2A5C2-E201-49D9-88A7-E61E64A66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9F0E4-B0FD-4E7D-AA8F-1955252BE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998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625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370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998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625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3AC1B-2147-45D5-9829-7CAD05A76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3CFAF-2363-4AE4-80F4-B4B6C8A0E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C1258-1BF4-49C7-8FCD-06025C38A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6507A-F2B6-4178-92DB-F88FC396D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47F72-2FE5-4C0C-855D-E5D520D38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9DF87-6272-44D0-8639-648D4ACD7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370160" y="247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E705B-B6EB-41B3-91FF-C4D0B5935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394C2-20E2-4CF7-B1DA-5C5EA6DA7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2E1C3-E4EA-4AA9-A9A3-E020840BD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DBE26-114B-431D-81E6-DFBFE1080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4C121-9855-467A-81F1-CFAE5E10B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8BE0B-3D78-4E0A-BFBB-8FE504152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57D7D-799C-4667-B014-79BC52BE9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998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625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370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998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625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4AD3E-ED17-40DC-A266-CF01E87FE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056C6-DD4C-4E53-9A98-7E90368F9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3CDF6-3399-4BE2-9BE4-D2A0F447A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7BA90-EC02-4AEE-AE69-8EB557A49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370160" y="247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310E5-6FC5-4F9D-B13C-7D43E4DFD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E65CE-553C-4485-9110-329B04341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FA47B-7A05-48E8-938E-DECE89118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EB4ED-410D-425F-968D-4B96B40C8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680" y="0"/>
            <a:ext cx="1728360" cy="6865560"/>
            <a:chOff x="4680" y="0"/>
            <a:chExt cx="1728360" cy="6865560"/>
          </a:xfrm>
        </p:grpSpPr>
        <p:sp>
          <p:nvSpPr>
            <p:cNvPr id="1" name=""/>
            <p:cNvSpPr/>
            <p:nvPr/>
          </p:nvSpPr>
          <p:spPr>
            <a:xfrm>
              <a:off x="4680" y="465120"/>
              <a:ext cx="799560" cy="640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108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10800000"/>
                </a:path>
              </a:pathLst>
            </a:custGeom>
            <a:gradFill rotWithShape="0">
              <a:gsLst>
                <a:gs pos="0">
                  <a:srgbClr val="afb5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933840" y="465120"/>
              <a:ext cx="799200" cy="640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8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800000"/>
                </a:path>
              </a:pathLst>
            </a:custGeom>
            <a:gradFill rotWithShape="0">
              <a:gsLst>
                <a:gs pos="0">
                  <a:srgbClr val="afb5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24000" y="0"/>
              <a:ext cx="1066680" cy="68565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rot="6000000">
              <a:off x="551880" y="590400"/>
              <a:ext cx="723960" cy="571680"/>
            </a:xfrm>
            <a:prstGeom prst="triangle">
              <a:avLst>
                <a:gd name="adj" fmla="val 49995"/>
              </a:avLst>
            </a:prstGeom>
            <a:gradFill rotWithShape="0">
              <a:gsLst>
                <a:gs pos="0">
                  <a:srgbClr val="ff99ff"/>
                </a:gs>
                <a:gs pos="100000">
                  <a:srgbClr val="66ccff"/>
                </a:gs>
              </a:gsLst>
              <a:lin ang="10800000"/>
            </a:gradFill>
            <a:ln w="0">
              <a:noFill/>
            </a:ln>
            <a:effectLst>
              <a:outerShdw dist="107932" dir="2700000" blurRad="0" rotWithShape="0">
                <a:srgbClr val="afb5d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4572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4267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723744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4C0AA-7BE2-46AD-B6A9-3C1C6D1CE754}" type="slidenum">
              <a:rPr b="0" lang="en-US" sz="1400" spc="-1" strike="noStrike">
                <a:solidFill>
                  <a:srgbClr val="33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4680" y="0"/>
            <a:ext cx="1728360" cy="6865560"/>
            <a:chOff x="4680" y="0"/>
            <a:chExt cx="1728360" cy="6865560"/>
          </a:xfrm>
        </p:grpSpPr>
        <p:sp>
          <p:nvSpPr>
            <p:cNvPr id="47" name=""/>
            <p:cNvSpPr/>
            <p:nvPr/>
          </p:nvSpPr>
          <p:spPr>
            <a:xfrm>
              <a:off x="4680" y="465120"/>
              <a:ext cx="799560" cy="640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108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10800000"/>
                </a:path>
              </a:pathLst>
            </a:custGeom>
            <a:gradFill rotWithShape="0">
              <a:gsLst>
                <a:gs pos="0">
                  <a:srgbClr val="afb5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933840" y="465120"/>
              <a:ext cx="799200" cy="640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8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800000"/>
                </a:path>
              </a:pathLst>
            </a:custGeom>
            <a:gradFill rotWithShape="0">
              <a:gsLst>
                <a:gs pos="0">
                  <a:srgbClr val="afb5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24000" y="0"/>
              <a:ext cx="1066680" cy="68565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rot="6000000">
              <a:off x="551880" y="2609640"/>
              <a:ext cx="723960" cy="571680"/>
            </a:xfrm>
            <a:prstGeom prst="triangle">
              <a:avLst>
                <a:gd name="adj" fmla="val 49995"/>
              </a:avLst>
            </a:prstGeom>
            <a:gradFill rotWithShape="0">
              <a:gsLst>
                <a:gs pos="0">
                  <a:srgbClr val="ff99ff"/>
                </a:gs>
                <a:gs pos="100000">
                  <a:srgbClr val="66ccff"/>
                </a:gs>
              </a:gsLst>
              <a:lin ang="10800000"/>
            </a:gradFill>
            <a:ln w="0">
              <a:noFill/>
            </a:ln>
            <a:effectLst>
              <a:outerShdw dist="107932" dir="2700000" blurRad="0" rotWithShape="0">
                <a:srgbClr val="afb5d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016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4572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200040" y="63993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723744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2718D-07A1-4CE2-BEB0-E504A79DBC04}" type="slidenum">
              <a:rPr b="0" lang="en-US" sz="1400" spc="-1" strike="noStrike">
                <a:solidFill>
                  <a:srgbClr val="33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image" Target="../media/image23.jpeg"/><Relationship Id="rId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image" Target="../media/image28.png"/><Relationship Id="rId6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1835280" y="765000"/>
            <a:ext cx="2062080" cy="3600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4" name=""/>
          <p:cNvGraphicFramePr/>
          <p:nvPr/>
        </p:nvGraphicFramePr>
        <p:xfrm>
          <a:off x="0" y="0"/>
          <a:ext cx="182520" cy="392904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3929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5" name=""/>
          <p:cNvSpPr/>
          <p:nvPr/>
        </p:nvSpPr>
        <p:spPr>
          <a:xfrm>
            <a:off x="1800" y="392868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1547640" y="4076640"/>
            <a:ext cx="7345440" cy="21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Моделирование ночной сорочки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7" name=""/>
          <p:cNvSpPr/>
          <p:nvPr/>
        </p:nvSpPr>
        <p:spPr>
          <a:xfrm>
            <a:off x="4067280" y="1052280"/>
            <a:ext cx="4824360" cy="22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Times New Roman"/>
              </a:rPr>
              <a:t> </a:t>
            </a:r>
            <a:r>
              <a:rPr b="1" i="1" lang="en-US" sz="2400" spc="-1" strike="noStrike" u="sng">
                <a:solidFill>
                  <a:srgbClr val="336699"/>
                </a:solidFill>
                <a:uFillTx/>
                <a:latin typeface="Times New Roman"/>
              </a:rPr>
              <a:t>Раздел  4</a:t>
            </a:r>
            <a:r>
              <a:rPr b="1" lang="en-US" sz="1800" spc="-1" strike="noStrike" u="sng">
                <a:solidFill>
                  <a:srgbClr val="336699"/>
                </a:solidFill>
                <a:uFillTx/>
                <a:latin typeface="Times New Roman"/>
              </a:rPr>
              <a:t>:</a:t>
            </a:r>
            <a:r>
              <a:rPr b="0" lang="en-US" sz="1800" spc="-1" strike="noStrike">
                <a:solidFill>
                  <a:srgbClr val="336699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Times New Roman"/>
              </a:rPr>
              <a:t>«Моделирование  плечевого   изделия   с  цельнокроеным   рукавом». 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812000" y="33336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Times New Roman"/>
              </a:rPr>
              <a:t>7 класс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Times New Roman"/>
              </a:rPr>
              <a:t>Какой должна быть ночная сорочка?</a:t>
            </a:r>
            <a:endParaRPr b="0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476360" y="1052280"/>
            <a:ext cx="7416720" cy="561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99"/>
                </a:solidFill>
                <a:latin typeface="Times New Roman"/>
              </a:rPr>
              <a:t>          </a:t>
            </a:r>
            <a:r>
              <a:rPr b="1" lang="ru-RU" sz="2800" spc="-1" strike="noStrike">
                <a:solidFill>
                  <a:srgbClr val="336699"/>
                </a:solidFill>
                <a:latin typeface="Times New Roman"/>
              </a:rPr>
              <a:t>Свободный удлиненный силуэт — идеальный вариант для ночной сорочки, которая не должна сковывать уставшее за день тело.  Какую  выбрать ткань? Конечно же, натуральную —   мягкую фланель, приятный на  ощупь трикотаж    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99"/>
                </a:solidFill>
                <a:latin typeface="Times New Roman"/>
              </a:rPr>
              <a:t>                     </a:t>
            </a:r>
            <a:r>
              <a:rPr b="1" lang="ru-RU" sz="2800" spc="-1" strike="noStrike">
                <a:solidFill>
                  <a:srgbClr val="336699"/>
                </a:solidFill>
                <a:latin typeface="Times New Roman"/>
              </a:rPr>
              <a:t>или прозрачный хлопок.   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99"/>
                </a:solidFill>
                <a:latin typeface="Times New Roman"/>
              </a:rPr>
              <a:t>                     </a:t>
            </a:r>
            <a:r>
              <a:rPr b="1" lang="ru-RU" sz="2800" spc="-1" strike="noStrike">
                <a:solidFill>
                  <a:srgbClr val="336699"/>
                </a:solidFill>
                <a:latin typeface="Times New Roman"/>
              </a:rPr>
              <a:t>Ночной наряд можно  украсить        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99"/>
                </a:solidFill>
                <a:latin typeface="Times New Roman"/>
              </a:rPr>
              <a:t>                     </a:t>
            </a:r>
            <a:r>
              <a:rPr b="1" lang="ru-RU" sz="2800" spc="-1" strike="noStrike">
                <a:solidFill>
                  <a:srgbClr val="336699"/>
                </a:solidFill>
                <a:latin typeface="Times New Roman"/>
              </a:rPr>
              <a:t>вышивкой, воланами, рюшами,      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99"/>
                </a:solidFill>
                <a:latin typeface="Times New Roman"/>
              </a:rPr>
              <a:t>                     </a:t>
            </a:r>
            <a:r>
              <a:rPr b="1" lang="ru-RU" sz="2800" spc="-1" strike="noStrike">
                <a:solidFill>
                  <a:srgbClr val="336699"/>
                </a:solidFill>
                <a:latin typeface="Times New Roman"/>
              </a:rPr>
              <a:t>всевозможными кантами, бей-   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99"/>
                </a:solidFill>
                <a:latin typeface="Times New Roman"/>
              </a:rPr>
              <a:t>                     </a:t>
            </a:r>
            <a:r>
              <a:rPr b="1" lang="ru-RU" sz="2800" spc="-1" strike="noStrike">
                <a:solidFill>
                  <a:srgbClr val="336699"/>
                </a:solidFill>
                <a:latin typeface="Times New Roman"/>
              </a:rPr>
              <a:t>ками, аппликациями. Только    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99"/>
                </a:solidFill>
                <a:latin typeface="Times New Roman"/>
              </a:rPr>
              <a:t>                     </a:t>
            </a:r>
            <a:r>
              <a:rPr b="1" lang="ru-RU" sz="2800" spc="-1" strike="noStrike">
                <a:solidFill>
                  <a:srgbClr val="336699"/>
                </a:solidFill>
                <a:latin typeface="Times New Roman"/>
              </a:rPr>
              <a:t>все это должно быть   очень 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99"/>
                </a:solidFill>
                <a:latin typeface="Times New Roman"/>
              </a:rPr>
              <a:t>                     </a:t>
            </a:r>
            <a:r>
              <a:rPr b="1" lang="ru-RU" sz="2800" spc="-1" strike="noStrike">
                <a:solidFill>
                  <a:srgbClr val="336699"/>
                </a:solidFill>
                <a:latin typeface="Times New Roman"/>
              </a:rPr>
              <a:t>нежным, мягким, воздушным.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324000" y="3213000"/>
            <a:ext cx="277812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" dur="3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692360" y="692280"/>
            <a:ext cx="1495440" cy="2657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4" name=""/>
          <p:cNvGraphicFramePr/>
          <p:nvPr/>
        </p:nvGraphicFramePr>
        <p:xfrm>
          <a:off x="1835280" y="3429000"/>
          <a:ext cx="7129080" cy="2736360"/>
        </p:xfrm>
        <a:graphic>
          <a:graphicData uri="http://schemas.openxmlformats.org/drawingml/2006/table">
            <a:tbl>
              <a:tblPr/>
              <a:tblGrid>
                <a:gridCol w="7129080"/>
              </a:tblGrid>
              <a:tr h="273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3399"/>
                          </a:solidFill>
                          <a:latin typeface="Times New Roman"/>
                        </a:rPr>
                        <a:t>«Модель»</a:t>
                      </a:r>
                      <a:r>
                        <a:rPr b="1" lang="en-US" sz="2800" spc="-1" strike="noStrike">
                          <a:solidFill>
                            <a:srgbClr val="336699"/>
                          </a:solidFill>
                          <a:latin typeface="Times New Roman"/>
                        </a:rPr>
                        <a:t> - слово  пришло  к нам  из французского языка, значит – изменять. 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3399"/>
                          </a:solidFill>
                          <a:latin typeface="Times New Roman"/>
                        </a:rPr>
                        <a:t>Моделирование</a:t>
                      </a:r>
                      <a:r>
                        <a:rPr b="1" lang="en-US" sz="2800" spc="-1" strike="noStrike">
                          <a:solidFill>
                            <a:srgbClr val="336699"/>
                          </a:solidFill>
                          <a:latin typeface="Times New Roman"/>
                        </a:rPr>
                        <a:t> – процесс изменения чертежа  выкройки  в  соответствии  с выбранной моделью.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3203640" y="836280"/>
            <a:ext cx="5689440" cy="180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336699"/>
                </a:solidFill>
                <a:latin typeface="Times New Roman"/>
              </a:rPr>
              <a:t>По одной и той же выкройке можно сшить изделия разных фасонов. Для этого необходимо промоделировать его.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-858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800" y="680220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800" y="255384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0" y="0"/>
          <a:ext cx="182520" cy="494676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494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2" name=""/>
          <p:cNvSpPr/>
          <p:nvPr/>
        </p:nvSpPr>
        <p:spPr>
          <a:xfrm>
            <a:off x="1800" y="494640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1763640" y="692280"/>
            <a:ext cx="1467000" cy="187308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4284720" y="189000"/>
            <a:ext cx="4681440" cy="32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Times New Roman"/>
              </a:rPr>
              <a:t>Вот  так  будет выглядеть ваша ночная сорочка если её не модели- ровать</a:t>
            </a:r>
            <a:r>
              <a:rPr b="1" lang="ru-RU" sz="4400" spc="-1" strike="noStrike">
                <a:solidFill>
                  <a:srgbClr val="ff33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203640" y="3500280"/>
            <a:ext cx="3384360" cy="648000"/>
          </a:xfrm>
          <a:prstGeom prst="rect">
            <a:avLst/>
          </a:prstGeom>
          <a:solidFill>
            <a:srgbClr val="ccccff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Что можно менять?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547640" y="4797360"/>
            <a:ext cx="2376720" cy="576360"/>
          </a:xfrm>
          <a:prstGeom prst="rect">
            <a:avLst/>
          </a:prstGeom>
          <a:solidFill>
            <a:srgbClr val="ccccff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6699"/>
                </a:solidFill>
                <a:latin typeface="Times New Roman"/>
              </a:rPr>
              <a:t>Длину изделия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724360" y="4797360"/>
            <a:ext cx="2880000" cy="576360"/>
          </a:xfrm>
          <a:prstGeom prst="rect">
            <a:avLst/>
          </a:prstGeom>
          <a:solidFill>
            <a:srgbClr val="ccccff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Times New Roman"/>
              </a:rPr>
              <a:t>Форму кокетки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348000" y="5877000"/>
            <a:ext cx="3097080" cy="576360"/>
          </a:xfrm>
          <a:prstGeom prst="rect">
            <a:avLst/>
          </a:prstGeom>
          <a:solidFill>
            <a:srgbClr val="ccccff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Times New Roman"/>
              </a:rPr>
              <a:t>Форму горловины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788000" y="4149720"/>
            <a:ext cx="215640" cy="1727280"/>
          </a:xfrm>
          <a:prstGeom prst="downArrow">
            <a:avLst>
              <a:gd name="adj1" fmla="val 50000"/>
              <a:gd name="adj2" fmla="val 200250"/>
            </a:avLst>
          </a:prstGeom>
          <a:solidFill>
            <a:srgbClr val="afb5d2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348000" y="4149720"/>
            <a:ext cx="216000" cy="647640"/>
          </a:xfrm>
          <a:prstGeom prst="downArrow">
            <a:avLst>
              <a:gd name="adj1" fmla="val 50000"/>
              <a:gd name="adj2" fmla="val 74958"/>
            </a:avLst>
          </a:prstGeom>
          <a:solidFill>
            <a:srgbClr val="afb5d2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227640" y="4149720"/>
            <a:ext cx="216000" cy="647640"/>
          </a:xfrm>
          <a:prstGeom prst="downArrow">
            <a:avLst>
              <a:gd name="adj1" fmla="val 50000"/>
              <a:gd name="adj2" fmla="val 74958"/>
            </a:avLst>
          </a:prstGeom>
          <a:solidFill>
            <a:srgbClr val="afb5d2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0" dur="3000" fill="hold"/>
                                        <p:tgtEl>
                                          <p:spTgt spid="14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Times New Roman"/>
              </a:rPr>
              <a:t>Изменение длины ночной сорочки.</a:t>
            </a:r>
            <a:endParaRPr b="0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1692360" y="1484280"/>
            <a:ext cx="4895640" cy="3600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5" name=""/>
          <p:cNvGraphicFramePr/>
          <p:nvPr/>
        </p:nvGraphicFramePr>
        <p:xfrm>
          <a:off x="0" y="0"/>
          <a:ext cx="182520" cy="251784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251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6" name=""/>
          <p:cNvSpPr/>
          <p:nvPr/>
        </p:nvSpPr>
        <p:spPr>
          <a:xfrm>
            <a:off x="1800" y="251748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908000" y="5661000"/>
            <a:ext cx="669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Times New Roman"/>
              </a:rPr>
              <a:t>Самый простой из приемов моделирования. Всё зависит от желаемой длины.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588000" y="1989000"/>
            <a:ext cx="2376720" cy="239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Times New Roman"/>
              </a:rPr>
              <a:t>Модель №1 и №4 длина </a:t>
            </a:r>
            <a:r>
              <a:rPr b="1" i="1" lang="en-US" sz="2000" spc="-1" strike="noStrike" u="sng">
                <a:solidFill>
                  <a:srgbClr val="0066ff"/>
                </a:solidFill>
                <a:uFillTx/>
                <a:latin typeface="Times New Roman"/>
              </a:rPr>
              <a:t>«макси».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Times New Roman"/>
              </a:rPr>
              <a:t>Модель №2, №3, №5 длина </a:t>
            </a:r>
            <a:r>
              <a:rPr b="1" i="1" lang="en-US" sz="2000" spc="-1" strike="noStrike">
                <a:solidFill>
                  <a:srgbClr val="0066ff"/>
                </a:solidFill>
                <a:latin typeface="Times New Roman"/>
              </a:rPr>
              <a:t>«миди».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1763640" y="2781360"/>
            <a:ext cx="2511360" cy="286056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 rot="448200">
            <a:off x="6659640" y="3429000"/>
            <a:ext cx="2019240" cy="298440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Times New Roman"/>
              </a:rPr>
              <a:t>Моделирование изменением формы выреза горловины.</a:t>
            </a:r>
            <a:endParaRPr b="0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76000" y="1341360"/>
            <a:ext cx="7450200" cy="139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336699"/>
                </a:solidFill>
                <a:latin typeface="Times New Roman"/>
              </a:rPr>
              <a:t>При изменении формы выреза нужно нанести новую линию выреза горловины на выкройке переда и спинки. 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5292720" y="4076640"/>
            <a:ext cx="1558800" cy="256536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6659640" y="3284640"/>
            <a:ext cx="216036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940360" y="2924280"/>
            <a:ext cx="1871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156360" y="2852640"/>
            <a:ext cx="1871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99"/>
                </a:solidFill>
                <a:latin typeface="Times New Roman"/>
              </a:rPr>
              <a:t>Фигурный вырез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4"/>
          <a:stretch/>
        </p:blipFill>
        <p:spPr>
          <a:xfrm>
            <a:off x="3851280" y="3716280"/>
            <a:ext cx="1031760" cy="29527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0" y="114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4479840" y="1144440"/>
          <a:ext cx="182520" cy="365292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365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0" name=""/>
          <p:cNvSpPr/>
          <p:nvPr/>
        </p:nvSpPr>
        <p:spPr>
          <a:xfrm>
            <a:off x="1800" y="479700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116000" y="2781360"/>
            <a:ext cx="187344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99"/>
                </a:solidFill>
                <a:latin typeface="Times New Roman"/>
              </a:rPr>
              <a:t>«</a:t>
            </a:r>
            <a:r>
              <a:rPr b="1" lang="en-US" sz="2000" spc="-1" strike="noStrike">
                <a:solidFill>
                  <a:srgbClr val="ff3399"/>
                </a:solidFill>
                <a:latin typeface="Times New Roman"/>
              </a:rPr>
              <a:t>V</a:t>
            </a:r>
            <a:r>
              <a:rPr b="1" lang="ru-RU" sz="2000" spc="-1" strike="noStrike">
                <a:solidFill>
                  <a:srgbClr val="ff3399"/>
                </a:solidFill>
                <a:latin typeface="Times New Roman"/>
              </a:rPr>
              <a:t>» образный вырез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5"/>
          <a:stretch/>
        </p:blipFill>
        <p:spPr>
          <a:xfrm>
            <a:off x="1692360" y="5805360"/>
            <a:ext cx="1763640" cy="82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 rot="1120800">
            <a:off x="3708000" y="3141360"/>
            <a:ext cx="1886040" cy="153360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 rot="10079400">
            <a:off x="5363640" y="3715920"/>
            <a:ext cx="1841760" cy="176544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3"/>
          <a:stretch/>
        </p:blipFill>
        <p:spPr>
          <a:xfrm>
            <a:off x="7236000" y="189000"/>
            <a:ext cx="1657080" cy="3816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77" name=""/>
          <p:cNvGraphicFramePr/>
          <p:nvPr/>
        </p:nvGraphicFramePr>
        <p:xfrm>
          <a:off x="0" y="0"/>
          <a:ext cx="182520" cy="426888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426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8" name=""/>
          <p:cNvSpPr/>
          <p:nvPr/>
        </p:nvSpPr>
        <p:spPr>
          <a:xfrm>
            <a:off x="1800" y="426852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0" y="0"/>
          <a:ext cx="182520" cy="548316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548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1" name=""/>
          <p:cNvSpPr/>
          <p:nvPr/>
        </p:nvSpPr>
        <p:spPr>
          <a:xfrm>
            <a:off x="1800" y="548280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0" y="140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479840" y="1407960"/>
          <a:ext cx="182520" cy="312588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312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4" name=""/>
          <p:cNvSpPr/>
          <p:nvPr/>
        </p:nvSpPr>
        <p:spPr>
          <a:xfrm>
            <a:off x="1800" y="453348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4"/>
          <a:stretch/>
        </p:blipFill>
        <p:spPr>
          <a:xfrm rot="20781600">
            <a:off x="7020000" y="4508280"/>
            <a:ext cx="1933560" cy="187164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0" y="2216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4479840" y="2216160"/>
          <a:ext cx="182520" cy="150984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15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8" name=""/>
          <p:cNvSpPr/>
          <p:nvPr/>
        </p:nvSpPr>
        <p:spPr>
          <a:xfrm>
            <a:off x="1800" y="372564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5"/>
          <a:stretch/>
        </p:blipFill>
        <p:spPr>
          <a:xfrm>
            <a:off x="1763640" y="4221000"/>
            <a:ext cx="1766880" cy="223236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4572000" y="549360"/>
            <a:ext cx="239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99"/>
                </a:solidFill>
                <a:latin typeface="Times New Roman"/>
              </a:rPr>
              <a:t>Овальный вырез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1692360" y="189000"/>
            <a:ext cx="2392200" cy="332892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4067280" y="2781360"/>
            <a:ext cx="194472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164360" y="4005360"/>
            <a:ext cx="1749600" cy="252072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0" y="0"/>
          <a:ext cx="182520" cy="392904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3929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6" name=""/>
          <p:cNvSpPr/>
          <p:nvPr/>
        </p:nvSpPr>
        <p:spPr>
          <a:xfrm>
            <a:off x="1800" y="392868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4572000" y="3357720"/>
            <a:ext cx="2181240" cy="273672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3"/>
          <a:stretch/>
        </p:blipFill>
        <p:spPr>
          <a:xfrm>
            <a:off x="6300720" y="333360"/>
            <a:ext cx="2552760" cy="290844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 rot="4948800">
            <a:off x="2100240" y="4460400"/>
            <a:ext cx="1689120" cy="193032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8532720" y="5734080"/>
            <a:ext cx="432000" cy="934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0" y="1639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5"/>
          <a:stretch/>
        </p:blipFill>
        <p:spPr>
          <a:xfrm>
            <a:off x="1619280" y="333360"/>
            <a:ext cx="2616120" cy="2952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03" name=""/>
          <p:cNvGraphicFramePr/>
          <p:nvPr/>
        </p:nvGraphicFramePr>
        <p:xfrm>
          <a:off x="4479840" y="1639800"/>
          <a:ext cx="182520" cy="293832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293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4" name=""/>
          <p:cNvSpPr/>
          <p:nvPr/>
        </p:nvSpPr>
        <p:spPr>
          <a:xfrm>
            <a:off x="1800" y="457776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804000" y="3500280"/>
            <a:ext cx="21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99"/>
                </a:solidFill>
                <a:latin typeface="Times New Roman"/>
              </a:rPr>
              <a:t>Вырез «карэ»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979640" y="3429000"/>
            <a:ext cx="205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99"/>
                </a:solidFill>
                <a:latin typeface="Times New Roman"/>
              </a:rPr>
              <a:t>Вырез «лодочка»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370160" y="247680"/>
            <a:ext cx="7772400" cy="58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Times New Roman"/>
              </a:rPr>
              <a:t>Моделирование кокетки</a:t>
            </a:r>
            <a:endParaRPr b="0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371600" y="836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336699"/>
                </a:solidFill>
                <a:latin typeface="Times New Roman"/>
              </a:rPr>
              <a:t>Новую форму плечевого изделия можно получить моделированием  кокетки  с  одновременным расширением низа.  Форма линии, по  которой отрезается кокетка, может быть любой: прямой, ломаной, круглой, фигурной. 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800" y="444636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1619280" y="2743200"/>
            <a:ext cx="2681280" cy="392580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2"/>
          <a:stretch/>
        </p:blipFill>
        <p:spPr>
          <a:xfrm>
            <a:off x="4697280" y="3716280"/>
            <a:ext cx="4446720" cy="266400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5003640" y="2997360"/>
            <a:ext cx="33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99"/>
                </a:solidFill>
                <a:latin typeface="Times New Roman"/>
              </a:rPr>
              <a:t>Прямая кокетка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0" y="0"/>
          <a:ext cx="182520" cy="408132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408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6" name=""/>
          <p:cNvSpPr/>
          <p:nvPr/>
        </p:nvSpPr>
        <p:spPr>
          <a:xfrm>
            <a:off x="1800" y="408096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1957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3059280" y="4221000"/>
            <a:ext cx="5257800" cy="2322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9" name=""/>
          <p:cNvGraphicFramePr/>
          <p:nvPr/>
        </p:nvGraphicFramePr>
        <p:xfrm>
          <a:off x="4479840" y="1957320"/>
          <a:ext cx="182520" cy="202716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202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0" name=""/>
          <p:cNvSpPr/>
          <p:nvPr/>
        </p:nvSpPr>
        <p:spPr>
          <a:xfrm>
            <a:off x="1800" y="398412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1763640" y="260280"/>
            <a:ext cx="4176720" cy="376236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6084720" y="981000"/>
            <a:ext cx="28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99"/>
                </a:solidFill>
                <a:latin typeface="Times New Roman"/>
              </a:rPr>
              <a:t>Круглая кокетка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Цель урока:</a:t>
            </a:r>
            <a:endParaRPr b="0" lang="en-US" sz="48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3366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6699"/>
                </a:solidFill>
                <a:latin typeface="Times New Roman"/>
              </a:rPr>
              <a:t>Познакомиться с  приёмами моделирования путем изменения длины  изделия,  формы горло-вины, кокетки;</a:t>
            </a: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3366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6699"/>
                </a:solidFill>
                <a:latin typeface="Times New Roman"/>
              </a:rPr>
              <a:t>Представить свою модель ночной сорочки.</a:t>
            </a: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0" y="0"/>
          <a:ext cx="182520" cy="371484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371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3" name=""/>
          <p:cNvSpPr/>
          <p:nvPr/>
        </p:nvSpPr>
        <p:spPr>
          <a:xfrm>
            <a:off x="1800" y="371448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9" dur="250" autoRev="1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-52,0)"/>
                                      </p:to>
                                    </p:set>
                                    <p:set>
                                      <p:cBhvr>
                                        <p:cTn id="20" dur="250" autoRev="1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52,0)"/>
                                      </p:to>
                                    </p:set>
                                    <p:set>
                                      <p:cBhvr>
                                        <p:cTn id="21" dur="250" autoRev="1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" nodeType="with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3" dur="250" autoRev="1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-52,0)"/>
                                      </p:to>
                                    </p:set>
                                    <p:set>
                                      <p:cBhvr>
                                        <p:cTn id="24" dur="250" autoRev="1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52,0)"/>
                                      </p:to>
                                    </p:set>
                                    <p:set>
                                      <p:cBhvr>
                                        <p:cTn id="25" dur="250" autoRev="1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47640" y="189000"/>
            <a:ext cx="6896160" cy="122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Times New Roman"/>
              </a:rPr>
              <a:t>Проверочный тест по теме:</a:t>
            </a:r>
            <a:r>
              <a:rPr b="1" lang="en-US" sz="2800" spc="-1" strike="noStrike">
                <a:solidFill>
                  <a:srgbClr val="0066ff"/>
                </a:solidFill>
                <a:latin typeface="Times New Roman"/>
              </a:rPr>
              <a:t> «Конструирование ночной сорочки.     </a:t>
            </a:r>
            <a:br>
              <a:rPr sz="2800"/>
            </a:br>
            <a:r>
              <a:rPr b="1" lang="en-US" sz="2800" spc="-1" strike="noStrike">
                <a:solidFill>
                  <a:srgbClr val="0066ff"/>
                </a:solidFill>
                <a:latin typeface="Times New Roman"/>
              </a:rPr>
              <a:t>                                               Снятие мерок.»</a:t>
            </a:r>
            <a:endParaRPr b="0" lang="en-US" sz="28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58920" y="1341360"/>
            <a:ext cx="7726320" cy="551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ru-RU" sz="2400" spc="-1" strike="noStrike">
                <a:solidFill>
                  <a:srgbClr val="ff3399"/>
                </a:solidFill>
                <a:latin typeface="Times New Roman"/>
              </a:rPr>
              <a:t>1. Напишите условное обозначение мерки напротив ее названия</a:t>
            </a:r>
            <a:r>
              <a:rPr b="1" i="1" lang="ru-RU" sz="2000" spc="-1" strike="noStrike">
                <a:solidFill>
                  <a:srgbClr val="ff3399"/>
                </a:solidFill>
                <a:latin typeface="Times New Roman"/>
              </a:rPr>
              <a:t>.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1-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олуобхват груди второй - …..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2-полуобхват талии - …..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3-полуобхват бедер - …..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4-обхват плеча - …..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5-длина спины до талии - …..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6-длина изделия - …..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ff3399"/>
                </a:solidFill>
                <a:latin typeface="Times New Roman"/>
              </a:rPr>
              <a:t>2.</a:t>
            </a:r>
            <a:r>
              <a:rPr b="1" lang="ru-RU" sz="2400" spc="-1" strike="noStrike">
                <a:solidFill>
                  <a:srgbClr val="ff3399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ff3399"/>
                </a:solidFill>
                <a:latin typeface="Times New Roman"/>
              </a:rPr>
              <a:t>Найдите верный ответ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99"/>
                </a:solidFill>
                <a:latin typeface="Times New Roman"/>
              </a:rPr>
              <a:t>	</a:t>
            </a:r>
            <a:r>
              <a:rPr b="1" i="1" lang="ru-RU" sz="2000" spc="-1" strike="noStrike">
                <a:solidFill>
                  <a:srgbClr val="ff3399"/>
                </a:solidFill>
                <a:latin typeface="Times New Roman"/>
              </a:rPr>
              <a:t>Мерку "полуобхват шеи"  снимают …….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а - горизонтально вокруг шеи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б - от 7-го шейного позвонка до яремной впадины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 - вокруг шеи: сзади - под 7-м шейным позвонком,  спереди -  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од    яремной впадиной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1332000" y="183240"/>
            <a:ext cx="8316720" cy="66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99"/>
                </a:solidFill>
                <a:latin typeface="Times New Roman"/>
              </a:rPr>
              <a:t>3. Мерку «полуобхват груди второй»  снимают ……..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а - спереди выше грудных желез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б - от линии талии до 7-го шейного позвонка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 - горизонтально по линии бедер с учетом выступа    живота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г - спереди горизонтально по наиболее выступающим         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очкам        грудных желез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99"/>
                </a:solidFill>
                <a:latin typeface="Times New Roman"/>
              </a:rPr>
              <a:t>4. Мерку "полуобхват бедер" снимают горизонтально вокруг бедер …..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а - с учетом выступа живота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б - по наиболее выступающим точкам ягодиц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 - сзади - по наиболее выступающим точкам ягодиц,   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переди - с учетом выступа живота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99"/>
                </a:solidFill>
                <a:latin typeface="Times New Roman"/>
              </a:rPr>
              <a:t>5.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ff3399"/>
                </a:solidFill>
                <a:latin typeface="Times New Roman"/>
              </a:rPr>
              <a:t>Из приведенного ниже перечня одежды выберите только ту которая относится к нательному белью.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а – колготы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б – ночная сорочка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 – пижама для сна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г – халат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д - плавки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5292720" y="620640"/>
            <a:ext cx="3033720" cy="374508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1692360" y="549360"/>
            <a:ext cx="3168720" cy="46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99"/>
                </a:solidFill>
                <a:latin typeface="Times New Roman"/>
              </a:rPr>
              <a:t>6. Дайте название линиям и срезам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 –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 –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 –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4 –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5 –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6 –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7 –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76360" y="4508640"/>
            <a:ext cx="741672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99"/>
                </a:solidFill>
                <a:latin typeface="Times New Roman"/>
              </a:rPr>
              <a:t>7. Из приведенных ниже примеров выделите  группу поясной и</a:t>
            </a:r>
            <a:r>
              <a:rPr b="0" lang="en-US" sz="1800" spc="-1" strike="noStrike">
                <a:solidFill>
                  <a:srgbClr val="336699"/>
                </a:solidFill>
                <a:latin typeface="Times New Roman"/>
              </a:rPr>
              <a:t>  </a:t>
            </a:r>
            <a:r>
              <a:rPr b="1" i="1" lang="en-US" sz="2400" spc="-1" strike="noStrike">
                <a:solidFill>
                  <a:srgbClr val="ff3399"/>
                </a:solidFill>
                <a:latin typeface="Times New Roman"/>
              </a:rPr>
              <a:t>плечевой  одежды</a:t>
            </a:r>
            <a:r>
              <a:rPr b="0" lang="en-US" sz="1800" spc="-1" strike="noStrike">
                <a:solidFill>
                  <a:srgbClr val="336699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– брюки,  носки,  жилеты, платья,  шорты,  сарафаны,  блузы,   кепки,  жакеты,  юбки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пальто, плащи, распашонки</a:t>
            </a:r>
            <a:r>
              <a:rPr b="1" lang="en-US" sz="2000" spc="-1" strike="noStrike">
                <a:solidFill>
                  <a:srgbClr val="336699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ff3300"/>
                </a:solidFill>
                <a:latin typeface="Times New Roman"/>
              </a:rPr>
              <a:t>Проверь себя</a:t>
            </a:r>
            <a:endParaRPr b="0" lang="en-US" sz="48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71600" y="1989000"/>
            <a:ext cx="7772400" cy="52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3399"/>
                </a:solidFill>
                <a:latin typeface="Times New Roman"/>
              </a:rPr>
              <a:t>1. Напишите условное обозначение мерки напротив ее названия.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1-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олуобхват груди второй -  </a:t>
            </a:r>
            <a:r>
              <a:rPr b="1" lang="ru-RU" sz="1800" spc="-1" strike="noStrike">
                <a:solidFill>
                  <a:srgbClr val="ff3399"/>
                </a:solidFill>
                <a:latin typeface="Times New Roman"/>
              </a:rPr>
              <a:t>Сг </a:t>
            </a:r>
            <a:r>
              <a:rPr b="1" lang="en-US" sz="1800" spc="-1" strike="noStrike">
                <a:solidFill>
                  <a:srgbClr val="ff3399"/>
                </a:solidFill>
                <a:latin typeface="Times New Roman"/>
              </a:rPr>
              <a:t>II</a:t>
            </a: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2-полуобхват талии - </a:t>
            </a:r>
            <a:r>
              <a:rPr b="1" lang="ru-RU" sz="1800" spc="-1" strike="noStrike">
                <a:solidFill>
                  <a:srgbClr val="ff3399"/>
                </a:solidFill>
                <a:latin typeface="Times New Roman"/>
              </a:rPr>
              <a:t>Ст</a:t>
            </a: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3-полуобхват бедер - </a:t>
            </a:r>
            <a:r>
              <a:rPr b="1" lang="ru-RU" sz="1800" spc="-1" strike="noStrike">
                <a:solidFill>
                  <a:srgbClr val="ff3399"/>
                </a:solidFill>
                <a:latin typeface="Times New Roman"/>
              </a:rPr>
              <a:t>Сб</a:t>
            </a: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4-обхват плеча - </a:t>
            </a:r>
            <a:r>
              <a:rPr b="1" lang="ru-RU" sz="1800" spc="-1" strike="noStrike">
                <a:solidFill>
                  <a:srgbClr val="ff3399"/>
                </a:solidFill>
                <a:latin typeface="Times New Roman"/>
              </a:rPr>
              <a:t>Оп</a:t>
            </a: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5-длина спины до талии - </a:t>
            </a:r>
            <a:r>
              <a:rPr b="1" lang="ru-RU" sz="1800" spc="-1" strike="noStrike">
                <a:solidFill>
                  <a:srgbClr val="ff3399"/>
                </a:solidFill>
                <a:latin typeface="Times New Roman"/>
              </a:rPr>
              <a:t>Дст</a:t>
            </a: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6-полуобхват шеи - </a:t>
            </a:r>
            <a:r>
              <a:rPr b="1" lang="ru-RU" sz="1800" spc="-1" strike="noStrike">
                <a:solidFill>
                  <a:srgbClr val="ff3399"/>
                </a:solidFill>
                <a:latin typeface="Times New Roman"/>
              </a:rPr>
              <a:t>Сш</a:t>
            </a: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3399"/>
                </a:solidFill>
                <a:latin typeface="Times New Roman"/>
              </a:rPr>
              <a:t>2.</a:t>
            </a:r>
            <a:r>
              <a:rPr b="1" lang="ru-RU" sz="2000" spc="-1" strike="noStrike">
                <a:solidFill>
                  <a:srgbClr val="ff3399"/>
                </a:solidFill>
                <a:latin typeface="Times New Roman"/>
              </a:rPr>
              <a:t> </a:t>
            </a:r>
            <a:r>
              <a:rPr b="1" i="1" lang="ru-RU" sz="2000" spc="-1" strike="noStrike">
                <a:solidFill>
                  <a:srgbClr val="ff3399"/>
                </a:solidFill>
                <a:latin typeface="Times New Roman"/>
              </a:rPr>
              <a:t>Найдите верный ответ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3399"/>
                </a:solidFill>
                <a:latin typeface="Times New Roman"/>
              </a:rPr>
              <a:t>	</a:t>
            </a:r>
            <a:r>
              <a:rPr b="1" i="1" lang="ru-RU" sz="2000" spc="-1" strike="noStrike">
                <a:solidFill>
                  <a:srgbClr val="ff3399"/>
                </a:solidFill>
                <a:latin typeface="Times New Roman"/>
              </a:rPr>
              <a:t>Мерку "полуобхват шеи"  снимают …….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а - горизонтально вокруг шеи</a:t>
            </a:r>
            <a:endParaRPr b="1" lang="en-US" sz="16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3399"/>
                </a:solidFill>
                <a:latin typeface="Times New Roman"/>
              </a:rPr>
              <a:t>3. Мерку «полуобхват груди второй»  снимают ……..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г - спереди горизонтально по наиболее выступающим         </a:t>
            </a:r>
            <a:endParaRPr b="1" lang="en-US" sz="16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точкам        грудных желез</a:t>
            </a:r>
            <a:endParaRPr b="1" lang="en-US" sz="16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ff3399"/>
                </a:solidFill>
                <a:latin typeface="Times New Roman"/>
              </a:rPr>
              <a:t>4. Мерку "полуобхват бедер" снимают горизонтально вокруг бедер …..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а - с учетом выступа живота</a:t>
            </a:r>
            <a:endParaRPr b="1" lang="en-US" sz="16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1" lang="en-US" sz="16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6948360" y="0"/>
            <a:ext cx="1656000" cy="135108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1332000" y="1197000"/>
            <a:ext cx="66960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99"/>
                </a:solidFill>
                <a:latin typeface="Times New Roman"/>
              </a:rPr>
              <a:t>При оценивании работы за каждый правильный ответ – 1 балл, </a:t>
            </a: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99"/>
                </a:solidFill>
                <a:latin typeface="Times New Roman"/>
              </a:rPr>
              <a:t>всего 30 б.                30–28 – «</a:t>
            </a:r>
            <a:r>
              <a:rPr b="1" lang="ru-RU" sz="1600" spc="-1" strike="noStrike">
                <a:solidFill>
                  <a:srgbClr val="ff3300"/>
                </a:solidFill>
                <a:latin typeface="Times New Roman"/>
              </a:rPr>
              <a:t>5</a:t>
            </a:r>
            <a:r>
              <a:rPr b="1" lang="ru-RU" sz="1600" spc="-1" strike="noStrike">
                <a:solidFill>
                  <a:srgbClr val="336699"/>
                </a:solidFill>
                <a:latin typeface="Times New Roman"/>
              </a:rPr>
              <a:t>»,  27-23 – «</a:t>
            </a:r>
            <a:r>
              <a:rPr b="1" lang="ru-RU" sz="1600" spc="-1" strike="noStrike">
                <a:solidFill>
                  <a:srgbClr val="ff3300"/>
                </a:solidFill>
                <a:latin typeface="Times New Roman"/>
              </a:rPr>
              <a:t>4</a:t>
            </a:r>
            <a:r>
              <a:rPr b="1" lang="ru-RU" sz="1600" spc="-1" strike="noStrike">
                <a:solidFill>
                  <a:srgbClr val="336699"/>
                </a:solidFill>
                <a:latin typeface="Times New Roman"/>
              </a:rPr>
              <a:t>», 22- 19 – «</a:t>
            </a:r>
            <a:r>
              <a:rPr b="1" lang="ru-RU" sz="1600" spc="-1" strike="noStrike">
                <a:solidFill>
                  <a:srgbClr val="ff3300"/>
                </a:solidFill>
                <a:latin typeface="Times New Roman"/>
              </a:rPr>
              <a:t>3</a:t>
            </a:r>
            <a:r>
              <a:rPr b="1" lang="ru-RU" sz="1600" spc="-1" strike="noStrike">
                <a:solidFill>
                  <a:srgbClr val="336699"/>
                </a:solidFill>
                <a:latin typeface="Times New Roman"/>
              </a:rPr>
              <a:t>»,  </a:t>
            </a:r>
            <a:r>
              <a:rPr b="1" lang="en-US" sz="1600" spc="-1" strike="noStrike">
                <a:solidFill>
                  <a:srgbClr val="336699"/>
                </a:solidFill>
                <a:latin typeface="Times New Roman"/>
                <a:ea typeface="Times New Roman"/>
              </a:rPr>
              <a:t>&lt;</a:t>
            </a:r>
            <a:r>
              <a:rPr b="1" lang="ru-RU" sz="1600" spc="-1" strike="noStrike">
                <a:solidFill>
                  <a:srgbClr val="336699"/>
                </a:solidFill>
                <a:latin typeface="Times New Roman"/>
                <a:ea typeface="Times New Roman"/>
              </a:rPr>
              <a:t> 18 «</a:t>
            </a:r>
            <a:r>
              <a:rPr b="1" lang="ru-RU" sz="1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2</a:t>
            </a:r>
            <a:r>
              <a:rPr b="1" lang="ru-RU" sz="1600" spc="-1" strike="noStrike">
                <a:solidFill>
                  <a:srgbClr val="336699"/>
                </a:solidFill>
                <a:latin typeface="Times New Roman"/>
                <a:ea typeface="Times New Roman"/>
              </a:rPr>
              <a:t>».</a:t>
            </a: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with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31" dur="3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" dur="500" autoRev="1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-103,0)"/>
                                      </p:to>
                                    </p:set>
                                    <p:set>
                                      <p:cBhvr>
                                        <p:cTn id="35" dur="500" autoRev="1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03,0)"/>
                                      </p:to>
                                    </p:set>
                                    <p:set>
                                      <p:cBhvr>
                                        <p:cTn id="36" dur="500" autoRev="1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500" autoRev="1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-103,0)"/>
                                      </p:to>
                                    </p:set>
                                    <p:set>
                                      <p:cBhvr>
                                        <p:cTn id="39" dur="500" autoRev="1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03,0)"/>
                                      </p:to>
                                    </p:set>
                                    <p:set>
                                      <p:cBhvr>
                                        <p:cTn id="40" dur="500" autoRev="1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1371600" y="26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99"/>
                </a:solidFill>
                <a:latin typeface="Times New Roman"/>
              </a:rPr>
              <a:t>5.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ff3399"/>
                </a:solidFill>
                <a:latin typeface="Times New Roman"/>
              </a:rPr>
              <a:t>Из приведенного ниже перечня одежды выберите только ту которая относится к нательному белью.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б – ночная сорочка</a:t>
            </a:r>
            <a:endParaRPr b="1" lang="en-US" sz="16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в – пижама для сна</a:t>
            </a:r>
            <a:endParaRPr b="1" lang="en-US" sz="16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д - плавки</a:t>
            </a:r>
            <a:endParaRPr b="1" lang="en-US" sz="16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6156360" y="1844640"/>
            <a:ext cx="2274840" cy="280836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1476360" y="1916280"/>
            <a:ext cx="4788000" cy="23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99"/>
                </a:solidFill>
                <a:latin typeface="Times New Roman"/>
              </a:rPr>
              <a:t>6. Дайте название линиям и срезам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Times New Roman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 – горловина спинки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 – линия плеча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 – горловина переда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4 – линия низа рукава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5 – линия талии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6 – линия бока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7 –  линия низа изделия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619280" y="4365720"/>
            <a:ext cx="7129440" cy="23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99"/>
                </a:solidFill>
                <a:latin typeface="Times New Roman"/>
              </a:rPr>
              <a:t>7.</a:t>
            </a:r>
            <a:r>
              <a:rPr b="1" i="1" lang="en-US" sz="1800" spc="-1" strike="noStrike">
                <a:solidFill>
                  <a:srgbClr val="ff3399"/>
                </a:solidFill>
                <a:latin typeface="Times New Roman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брюки                                             жилеты 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шорты                                            платья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юбки                                               сарафаны 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блузы  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жакеты  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пальто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плащи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распашонки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rot="10800000">
            <a:off x="1909800" y="4506120"/>
            <a:ext cx="454680" cy="176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99"/>
                </a:solidFill>
                <a:latin typeface="Times New Roman"/>
              </a:rPr>
              <a:t>Поясная одежда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rot="10800000">
            <a:off x="5078520" y="4505760"/>
            <a:ext cx="454680" cy="188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99"/>
                </a:solidFill>
                <a:latin typeface="Times New Roman"/>
              </a:rPr>
              <a:t>Плечевая одежда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1042560" y="188640"/>
            <a:ext cx="5257800" cy="666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Times New Roman"/>
              </a:rPr>
              <a:t>     </a:t>
            </a:r>
            <a:r>
              <a:rPr b="1" lang="en-US" sz="2200" spc="-1" strike="noStrike">
                <a:solidFill>
                  <a:srgbClr val="336699"/>
                </a:solidFill>
                <a:latin typeface="Times New Roman"/>
              </a:rPr>
              <a:t>При  всей  изменчивости современной моды меньше всего, пожалуй, ее влияние коснулось домашнего гардероба и одежды для сна. Вопрос об каких-то кардинальных изменениях в области домашней одежды никогда не перед кем не стоял, но она поддавалась веяниям времени и моды. Появление новых способов отделки, новых тканей , новых силуэтов сразу отражалось и на ней.</a:t>
            </a:r>
            <a:endParaRPr b="1" lang="en-US" sz="2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6699"/>
                </a:solidFill>
                <a:latin typeface="Times New Roman"/>
              </a:rPr>
              <a:t>     </a:t>
            </a:r>
            <a:r>
              <a:rPr b="1" lang="en-US" sz="2200" spc="-1" strike="noStrike">
                <a:solidFill>
                  <a:srgbClr val="336699"/>
                </a:solidFill>
                <a:latin typeface="Times New Roman"/>
              </a:rPr>
              <a:t>Женщине всегда важно, чтобы дом был полон уюта, частицей которого является она сама.</a:t>
            </a:r>
            <a:endParaRPr b="1" lang="en-US" sz="2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6699"/>
                </a:solidFill>
                <a:latin typeface="Times New Roman"/>
              </a:rPr>
              <a:t>     </a:t>
            </a:r>
            <a:r>
              <a:rPr b="1" lang="en-US" sz="2200" spc="-1" strike="noStrike">
                <a:solidFill>
                  <a:srgbClr val="336699"/>
                </a:solidFill>
                <a:latin typeface="Times New Roman"/>
              </a:rPr>
              <a:t>И пусть идея не нова, знакомый всем халат с ярким цветным узором, так любимый нашими мамами и бабушками, и самая обыкновенная ночная сорочка, по-прежнему незаменимы.</a:t>
            </a:r>
            <a:r>
              <a:rPr b="1" lang="en-US" sz="2400" spc="-1" strike="noStrike">
                <a:solidFill>
                  <a:srgbClr val="336699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516720" y="476280"/>
            <a:ext cx="2111400" cy="578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" dur="3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1116000" y="907560"/>
            <a:ext cx="4896000" cy="619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99"/>
                </a:solidFill>
                <a:latin typeface="Times New Roman"/>
              </a:rPr>
              <a:t>   </a:t>
            </a:r>
            <a:r>
              <a:rPr b="1" lang="ru-RU" sz="2400" spc="-1" strike="noStrike">
                <a:solidFill>
                  <a:srgbClr val="336699"/>
                </a:solidFill>
                <a:latin typeface="Times New Roman"/>
              </a:rPr>
              <a:t>Удобный ,  красивый, тщательно продуманный домашний , ночной костюм является не только украше -нием  человека  и  дома , он способствует  хорошему настроению, помогает  в домашней работе, и что нема- ло важно доставляет удоволь- ствие окружающим. Такая одежда  отличается  более свободным  покроем, особой декоративностью, но в ней не должно быть неряшливости.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99"/>
                </a:solidFill>
                <a:latin typeface="Times New Roman"/>
              </a:rPr>
              <a:t>     </a:t>
            </a:r>
            <a:r>
              <a:rPr b="1" lang="ru-RU" sz="2400" spc="-1" strike="noStrike">
                <a:solidFill>
                  <a:srgbClr val="336699"/>
                </a:solidFill>
                <a:latin typeface="Times New Roman"/>
              </a:rPr>
              <a:t>Она должна распределятся по группам - для детей (а), мужчин (б), женщин (в).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940360" y="260280"/>
            <a:ext cx="2028960" cy="331164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7380360" y="2492280"/>
            <a:ext cx="1538280" cy="208116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6012000" y="3933720"/>
            <a:ext cx="1549440" cy="273528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8172360" y="465300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Times New Roman"/>
              </a:rPr>
              <a:t>а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8028000" y="11970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Times New Roman"/>
              </a:rPr>
              <a:t>б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667640" y="55897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Times New Roman"/>
              </a:rPr>
              <a:t>в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403280" y="189000"/>
            <a:ext cx="518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Times New Roman"/>
              </a:rPr>
              <a:t>К одежде для сна  относятся пижамы и ночные сорочки.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5T13:12:57Z</dcterms:created>
  <dc:creator>ХХХ</dc:creator>
  <dc:description/>
  <dc:language>en-US</dc:language>
  <cp:lastModifiedBy>Волчкова</cp:lastModifiedBy>
  <dcterms:modified xsi:type="dcterms:W3CDTF">2012-02-13T19:11:02Z</dcterms:modified>
  <cp:revision>13</cp:revision>
  <dc:subject/>
  <dc:title>Слайд 1</dc:title>
</cp:coreProperties>
</file>