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6.jpeg" ContentType="image/jpeg"/>
  <Override PartName="/ppt/media/image45.png" ContentType="image/png"/>
  <Override PartName="/ppt/media/image23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FCE-4EE3-456F-994B-0826365B87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"Учитель МОУ «ООШ №44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» Белк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3D9-D5ED-486C-9157-8709661E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359-8709-45B4-B062-C5D2D42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3C7-A9AF-4EC6-A021-6C3C6880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6CD-ECBF-468E-BA0F-74C4C62B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54F3-63F5-4020-A4DC-8592CC97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228E-E531-40E9-B211-2EB2991A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A189-DE2E-4996-BC2B-23ACE7DB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F4BF-9E40-4A70-A5D6-E603B7B9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A431-A5D5-42A0-9CCD-F4147963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7081-35C7-4C5F-923A-0869BD29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88A1-48C5-4745-8B93-19E6AF0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DED-5588-4D6B-B44A-4B0B99A3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53D9-B15D-4983-B635-7F1A82B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3795-C5EF-4A29-BD0D-70BEF75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52A9-E874-4EF7-A99C-A62A579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15E1-7069-4FE4-938C-C8A2E497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0D0B-E84B-4A0B-BBFD-C35CB403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8F0-6198-4134-B117-48C8F1C8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6FE-CC7D-461F-B537-BB820AFF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8A8-CD46-450E-8136-40F05797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CE3-A795-4AE0-989D-9A8C775A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549-8465-4F8D-9298-F893BFB8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982-8FC7-45D7-B2C8-788421C8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843-2746-405E-81D0-956C71A4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4A07-6136-4BC1-AA75-D6A6CF58A3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763B-A2C1-44DA-902E-A19868EC78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1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1" name="Прямоугольник 4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729560" cy="248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rown40.gif"/>
          <p:cNvPicPr/>
          <p:nvPr/>
        </p:nvPicPr>
        <p:blipFill>
          <a:blip r:embed="rId3"/>
          <a:stretch/>
        </p:blipFill>
        <p:spPr>
          <a:xfrm>
            <a:off x="4429080" y="2997360"/>
            <a:ext cx="4714920" cy="4071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rown40.gif"/>
          <p:cNvPicPr/>
          <p:nvPr/>
        </p:nvPicPr>
        <p:blipFill>
          <a:blip r:embed="rId4"/>
          <a:stretch/>
        </p:blipFill>
        <p:spPr>
          <a:xfrm>
            <a:off x="0" y="2997360"/>
            <a:ext cx="4429080" cy="40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brown40.gif"/>
          <p:cNvPicPr/>
          <p:nvPr/>
        </p:nvPicPr>
        <p:blipFill>
          <a:blip r:embed="rId5"/>
          <a:stretch/>
        </p:blipFill>
        <p:spPr>
          <a:xfrm>
            <a:off x="324000" y="3789360"/>
            <a:ext cx="4714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i7c13e77.jpg"/>
          <p:cNvPicPr/>
          <p:nvPr/>
        </p:nvPicPr>
        <p:blipFill>
          <a:blip r:embed="rId2"/>
          <a:stretch/>
        </p:blipFill>
        <p:spPr>
          <a:xfrm>
            <a:off x="2143080" y="1357200"/>
            <a:ext cx="4857840" cy="53182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" descr=""/>
          <p:cNvPicPr/>
          <p:nvPr/>
        </p:nvPicPr>
        <p:blipFill>
          <a:blip r:embed="rId3"/>
          <a:stretch/>
        </p:blipFill>
        <p:spPr>
          <a:xfrm>
            <a:off x="2230560" y="-30240"/>
            <a:ext cx="4676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5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0575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60948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p_23473.jpg"/>
          <p:cNvPicPr/>
          <p:nvPr/>
        </p:nvPicPr>
        <p:blipFill>
          <a:blip r:embed="rId2"/>
          <a:stretch/>
        </p:blipFill>
        <p:spPr>
          <a:xfrm>
            <a:off x="971640" y="1511280"/>
            <a:ext cx="7200720" cy="38354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5_51.jpg"/>
          <p:cNvPicPr/>
          <p:nvPr/>
        </p:nvPicPr>
        <p:blipFill>
          <a:blip r:embed="rId3"/>
          <a:stretch/>
        </p:blipFill>
        <p:spPr>
          <a:xfrm>
            <a:off x="2500200" y="1785960"/>
            <a:ext cx="4029120" cy="37051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532764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8_14.jpg"/>
          <p:cNvPicPr/>
          <p:nvPr/>
        </p:nvPicPr>
        <p:blipFill>
          <a:blip r:embed="rId2"/>
          <a:stretch/>
        </p:blipFill>
        <p:spPr>
          <a:xfrm>
            <a:off x="928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5" descr=""/>
          <p:cNvPicPr/>
          <p:nvPr/>
        </p:nvPicPr>
        <p:blipFill>
          <a:blip r:embed="rId3"/>
          <a:stretch/>
        </p:blipFill>
        <p:spPr>
          <a:xfrm>
            <a:off x="5565600" y="2792520"/>
            <a:ext cx="346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is-armjak1-3kol.jpg"/>
          <p:cNvPicPr/>
          <p:nvPr/>
        </p:nvPicPr>
        <p:blipFill>
          <a:blip r:embed="rId2"/>
          <a:stretch/>
        </p:blipFill>
        <p:spPr>
          <a:xfrm>
            <a:off x="3429000" y="1285920"/>
            <a:ext cx="2381400" cy="5286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Kaft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792520"/>
            <a:ext cx="34988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-139680"/>
            <a:ext cx="9564840" cy="89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74240" cy="84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7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" descr="1000942970.jpg"/>
          <p:cNvPicPr/>
          <p:nvPr/>
        </p:nvPicPr>
        <p:blipFill>
          <a:blip r:embed="rId2"/>
          <a:stretch/>
        </p:blipFill>
        <p:spPr>
          <a:xfrm>
            <a:off x="5643720" y="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1000262711.jpg"/>
          <p:cNvPicPr/>
          <p:nvPr/>
        </p:nvPicPr>
        <p:blipFill>
          <a:blip r:embed="rId3"/>
          <a:stretch/>
        </p:blipFill>
        <p:spPr>
          <a:xfrm>
            <a:off x="3214800" y="192888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1047256.jpg"/>
          <p:cNvPicPr/>
          <p:nvPr/>
        </p:nvPicPr>
        <p:blipFill>
          <a:blip r:embed="rId4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p577065.jpg"/>
          <p:cNvPicPr/>
          <p:nvPr/>
        </p:nvPicPr>
        <p:blipFill>
          <a:blip r:embed="rId5"/>
          <a:stretch/>
        </p:blipFill>
        <p:spPr>
          <a:xfrm>
            <a:off x="428760" y="3286080"/>
            <a:ext cx="230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2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  <p:cxnSp>
        <p:nvCxnSpPr>
          <p:cNvPr id="274" name="Прямая со стрелкой 9"/>
          <p:cNvCxnSpPr/>
          <p:nvPr/>
        </p:nvCxnSpPr>
        <p:spPr>
          <a:xfrm flipV="1">
            <a:off x="1928880" y="1499400"/>
            <a:ext cx="2715120" cy="42948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5" name="Прямая со стрелкой 11"/>
          <p:cNvCxnSpPr/>
          <p:nvPr/>
        </p:nvCxnSpPr>
        <p:spPr>
          <a:xfrm flipV="1">
            <a:off x="1785600" y="2214000"/>
            <a:ext cx="2858040" cy="5007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V="1">
            <a:off x="1714320" y="1785600"/>
            <a:ext cx="2786760" cy="17150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 flipV="1">
            <a:off x="1714680" y="2356560"/>
            <a:ext cx="3072240" cy="2001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 flipV="1">
            <a:off x="4928760" y="1856520"/>
            <a:ext cx="2000880" cy="25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 flipH="1">
            <a:off x="2928240" y="2571840"/>
            <a:ext cx="3715560" cy="1929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/>
          <p:nvPr/>
        </p:nvCxnSpPr>
        <p:spPr>
          <a:xfrm flipH="1">
            <a:off x="6143400" y="3357720"/>
            <a:ext cx="786240" cy="786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 flipH="1">
            <a:off x="3214440" y="4070880"/>
            <a:ext cx="3929760" cy="786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/>
          <p:nvPr/>
        </p:nvCxnSpPr>
        <p:spPr>
          <a:xfrm flipH="1" flipV="1">
            <a:off x="5285880" y="2714040"/>
            <a:ext cx="1572480" cy="21438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Прямая со стрелкой 27"/>
          <p:cNvCxnSpPr/>
          <p:nvPr/>
        </p:nvCxnSpPr>
        <p:spPr>
          <a:xfrm flipV="1">
            <a:off x="2286000" y="5000040"/>
            <a:ext cx="643320" cy="214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8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-73080" y="-109440"/>
            <a:ext cx="9442440" cy="39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42920" y="3214800"/>
          <a:ext cx="8858160" cy="253044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уголка, веретено, кафтан, кольчуга, царица, крепостно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а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ло, глас, рыбарь, ветрил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  <p:pic>
        <p:nvPicPr>
          <p:cNvPr id="289" name="Рисунок 9" descr="brown40.gif"/>
          <p:cNvPicPr/>
          <p:nvPr/>
        </p:nvPicPr>
        <p:blipFill>
          <a:blip r:embed="rId3"/>
          <a:stretch/>
        </p:blipFill>
        <p:spPr>
          <a:xfrm>
            <a:off x="0" y="32148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о с.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7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.Выписать 10 устаревших слов из сказок А.С.Пушкина и уметь их объ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333520" y="324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274480" y="54450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63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866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Deepeeka-kolchuga-AH3857A.gif"/>
          <p:cNvPicPr/>
          <p:nvPr/>
        </p:nvPicPr>
        <p:blipFill>
          <a:blip r:embed="rId3"/>
          <a:stretch/>
        </p:blipFill>
        <p:spPr>
          <a:xfrm>
            <a:off x="1857240" y="928800"/>
            <a:ext cx="5038920" cy="47624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0" descr=""/>
          <p:cNvPicPr/>
          <p:nvPr/>
        </p:nvPicPr>
        <p:blipFill>
          <a:blip r:embed="rId4"/>
          <a:stretch/>
        </p:blipFill>
        <p:spPr>
          <a:xfrm>
            <a:off x="1920960" y="5541840"/>
            <a:ext cx="487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hm12_2_11_4_1_big.jpg"/>
          <p:cNvPicPr/>
          <p:nvPr/>
        </p:nvPicPr>
        <p:blipFill>
          <a:blip r:embed="rId2"/>
          <a:stretch/>
        </p:blipFill>
        <p:spPr>
          <a:xfrm>
            <a:off x="1714680" y="1214280"/>
            <a:ext cx="5715000" cy="4673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mPischali.jpg"/>
          <p:cNvPicPr/>
          <p:nvPr/>
        </p:nvPicPr>
        <p:blipFill>
          <a:blip r:embed="rId2"/>
          <a:stretch/>
        </p:blipFill>
        <p:spPr>
          <a:xfrm>
            <a:off x="2928960" y="1214280"/>
            <a:ext cx="3286080" cy="5301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9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9156960" cy="3114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1240384922_31187368_1219673062_boyarin.jpg"/>
          <p:cNvPicPr/>
          <p:nvPr/>
        </p:nvPicPr>
        <p:blipFill>
          <a:blip r:embed="rId3"/>
          <a:stretch/>
        </p:blipFill>
        <p:spPr>
          <a:xfrm>
            <a:off x="2357280" y="2286000"/>
            <a:ext cx="4357800" cy="3668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8" descr=""/>
          <p:cNvPicPr/>
          <p:nvPr/>
        </p:nvPicPr>
        <p:blipFill>
          <a:blip r:embed="rId4"/>
          <a:stretch/>
        </p:blipFill>
        <p:spPr>
          <a:xfrm>
            <a:off x="2352600" y="561492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1347.jpg"/>
          <p:cNvPicPr/>
          <p:nvPr/>
        </p:nvPicPr>
        <p:blipFill>
          <a:blip r:embed="rId2"/>
          <a:stretch/>
        </p:blipFill>
        <p:spPr>
          <a:xfrm>
            <a:off x="2714760" y="1357200"/>
            <a:ext cx="3809880" cy="51562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e9f516cd58b1.jpg"/>
          <p:cNvPicPr/>
          <p:nvPr/>
        </p:nvPicPr>
        <p:blipFill>
          <a:blip r:embed="rId2"/>
          <a:stretch/>
        </p:blipFill>
        <p:spPr>
          <a:xfrm>
            <a:off x="2571840" y="14288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0:21:48Z</dcterms:created>
  <dc:creator>Андрей</dc:creator>
  <dc:description/>
  <dc:language>en-US</dc:language>
  <cp:lastModifiedBy>Эксперт</cp:lastModifiedBy>
  <dcterms:modified xsi:type="dcterms:W3CDTF">2012-02-12T11:31:04Z</dcterms:modified>
  <cp:revision>18</cp:revision>
  <dc:subject/>
  <dc:title>Слайд 1</dc:title>
</cp:coreProperties>
</file>