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4CA-C853-4EAD-A5AB-CD9CF387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C5C-95DE-4621-A856-11392CDF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14F-C6F1-4AA7-BED3-810B95A7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BEA-7E08-4362-8F38-963793FA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57D-90DC-4526-A092-6C88F17A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03A-B277-4621-95AC-AF3DDAB6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4EB-2A05-4EC3-92C7-9A1F41A3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334-4A26-446A-BA4C-0EDC53C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BF6-52E2-47F1-85E2-902CD547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AE1-BDDC-4C7E-9645-9CBF676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CC9-A021-48B6-A014-78A71EC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894-73B2-4E96-B585-2E5B628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A6DA-448B-4770-B39F-9BA629D38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Устаревшие слова и н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56500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аизмы и историзмы употребляются в художественной литературе для воссоздания исторической обстановки в стране, передачи национально-культурных традиций русского народа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более других городов имела тогда поводов не поддаваться Болотникову. В Москве ж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ьяки, знатные люди, которых Болотников грозил перебить или обратить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 место их возвести безыменных людей; в Москве жили зажиточ­н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говцы и промышленн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ы, лав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, — всё это заранее отдавалось в делёж неимущ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сторизмам относя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ами являю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, торговец, промышленник, двор (хозяйство), лавка (небольшое торговое предприяти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рани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торизмов и архаизм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руднено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одних случаях это связано с большой употребительностью слов в пословицах, поговорках, иных произведениях народного творчества, в других — с возрождением культурных традиций России. К этой группе относятся слова, обознач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измерения веса, меры д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зыв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лигиозные и христианские праздники, явления патриархального бы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телей как сильное средство эксп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ревшие слова выполняют в художественной речи разнообразные стилистические функции. Архаизмы и историзмы используются для воссоздания колорита отдаленных времен. В этой функции их употреблял, например, А.Н. Тол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мля оттич и дедич - это те берега полноводных рек и лесные поляны, куда пришел наш пращур жить навечно. (...) он огородил тыном свое жилище и поглядел по пути солнца в даль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му померещилось многое - тяжелые и трудные времена: красные щиты Игоря в половецких степях, и стоны русских на Калке, и установленные под хоругвями Дмитрия мужицкие копья на Куликовом поле, и кровью залитый лед Чудского озера, и Грозный царь, раздвинувший единые, отныне нерушимые, пределы земли от Сибири до Варяжского моря..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ы, в особенности славянизмы, придают речи возвышенное, торжественное звучание. Старославянская лексика выступала в этой функции еще в древнерусской литературе. В поэтической речи XIX в. с высокой старославянской лексикой стилистически уравнялись древнеруссизмы, которые тоже стали привлекаться для создания патетики художественной речи. Высокое, торжественное звучание устаревших слов оценивают и писатели XX века. В годы Великой Отечественной войны И.Г. Эренбург писал: «Отразив удары хищной Германии, она (Красная армия) спасла не только свободу нашей Родины, она спасла свободу мира. В этом залог торжества идей братства и гуманности, и мне видится вдалеке мир, просветленный горем, в котором воссияет добро. Наш народ показал свои воинские добродетели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ая лексика может приобретать ироническую окраску. Например: Кто из родителей не мечтает о понятливом, уравновешенном ребенке, который все схватывает буквально на лету. Но попытки превратить свое чадо в «чудо» катастрофически часто заканчиваются неудачей (из газ.). Ироническому переосмыслению устаревших слов нередко способствует пародийное использование элементов высокого стиля. В пародийно-иронической функции устаревшие слова часто выступают в фельетонах, памфлетах, юмористических замет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ки, вызванные употреблением устаревших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отребление устаревших слов без учета их экспрессивной окра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ановится причиной грубых стилистических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Спонсоров в интернате привечали с радостью; Лаборантка зашла к шефу и поведала ему о случившемся . Молодой предприниматель быстро узрел деловитость своего менеджера - в этих предложениях славянизмы архаичны. Слово привечать даже не включено в «Словарь русского языка» С.И. Ожегова, в «Толковом словаре русского языка» под ред. Д.Н. Ушакова оно дается с пометой (устар., поэт.); слово поведать Ожегов пометил (устар.), а Ушаков - (устар., ритор.); узреть имеет помету (стар.). Контекст, в котором нет установки на юмористическую окраску речи, не допускает употребления устаревших слов; их следовало бы заменить синонимами (приветствовали, рассказала, увидел [заметил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гда авторы, употребляя устаревшее слов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ажают его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В результате бурного собрания домочадцев ремонт дома был начат - слово домочадцы, имеющее в словаре Ожегова помету (устар.), объясняется как «люди, которые живут в семье на правах ее членов», а в тексте оно использовано в значении «жильц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пример из заметки в газете: На собрании вскрывались даже самые нелицеприятные недостатки в работе. Слово нелицеприятный означает «беспристрастный», к тому же оно имеет ограниченные возможности лексической сочетаемости (нелицеприятной может быть только крит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ьное употребление архаизмов очень часто ослож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ушением лексической сочетае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дреева аттестовали как человека, очень долго проработавшего на этой стезе (стезю избирают, стезею следуют, но на ней не работаю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ажается значение устаревшей грамматической формы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Он отказывается давать показания, но это не суть важно. Суть - форма третьего лица множественного числа глагола быть, а подлежащее это стоит в единственном числе, связка должна быть с ним соглас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и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придавать тексту канцелярскую окра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Подобные здания, не потребные на одной строительной площадке, являются потребными на другой; Проводить занятия нужно в надлежащем помещении). В деловых бумагах, где многие архаизмы закрепились как термины, использование такой специальной лексики должно быть целесообразны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имер, считать стилистически оправданным обращение к устаревшим оборотам реч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аше благоусмотрение, прилагаю при сем, вышепоименованный нарушитель, по получении тако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сты отмечают, что в последнее время получают распространение устаревшие слова, находящиеся за пределами литературного языка; причем нередко им присваивается нов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неправильно используется слово втуне, имеющее в словаре Ожегова помету (устар.) и поясняемое синонимами бесплодно, напрасно [Намерения найти разумный компромисс оставались втуне; Остаются втуне вопросы создания севооборотов и применение комплекса удобрений (лучше: Разумный компромисс найти не удалось; ...Не введен севооборот и не применяется комплекс удобрений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архаизации лекс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переставшая активно использоваться в речи, забывается не сразу. Какое-то время устаревшие слова еще понятны говорящим, знакомы им по художественной литературе, хотя при общении людей в них уже не возникает потребности. Такие слова переходят в состав лексики пассивного запаса, они приводятся в толковых словарях с пометой (устар.). Их могут использовать писатели, изображая прошедшие эпохи, или ученые-историки при описаний исторических фактов, но со временем архаизмы совсем уходят из языка. Так было, например, с древнерусскими словами комонь - «конь», усние - «кожа» (отсюда заусеница), черевье - «вид обуви». Отдельные устаревшие слова иногда возвращаются в состав лексики активного словарного запаса. Например, не употреблявшиеся какое-то время слова солдат, офицер, прапорщик, гимназия, лицей, вексель, биржа, департамент теперь вновь активно используются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частом повторении устаревшие слова порой теряют отличавший их ранее оттенок арха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можно наблюдать на пример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Ожегова это наречие дается со стилистическими пометами (устар.) и (высок.) [ср.: …ныне там по обновленным берегам громады стройные теснятся дворцов и башен... (П.)]. Современные авторы часто употребляют это слово как стилистически нейтральное. Например: Многие выпускники МГИМО ныне стали дипломатами; На факультете ныне не так много можно найти студентов, которые бы довольствовались стипендией - в первом предложении слово ныне следовало опустить, а во втором заменить синонимом теп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ренебрежение стилистической окраской устаревших слов неизбежно приводит к речевым ошиб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ерн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емл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е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ульг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ин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ы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ре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8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зделить на две группы: 1) историзмы; 2) арха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з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рассказ о прошлых событиях) — это слова, обозначающие названия таких предметов и явлений, которые перестали существовать в резуль­тате развития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вля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чики к цар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алобами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ев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ли их, что они раздают и отним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есть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ыску; жал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льники, дворя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е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ск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оеводы отнимают у н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ц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ёла, которые до того времени были за ними. Яви­лись к царю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ны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к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ль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сили денежного и хлебного жалованья, трогательно писали, что им есть нечего, что мерзнут без одежды, умирают без помощи от 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­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ные слов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не имеют синонимов в современном русском языке. Объяснить их значение можно, только прибегнув к энциклопедическому описанию. Именно так они и  подаются в толковых словар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ье, -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древней Руси: поклон до земли с прикосновением лбом к земле. 2. В древней Руси: письменная прос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ч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тот, кто подавал челобитную. Челобитная, -о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челобитье (во 2 значении), Стольн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придворный, степенью ниже боярина первоначально придворный, прислуживавший за княжеским или Царским сто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ец -  Московской Ру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: военнослужащий особого постоянн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многие слова, называющие предметы ушедшего быта, старой культуры, вещи и явления, свя­занные с экономикой прошлого, старыми общественно-политическими отношениями. Так, много историзмов среди слов, связанных с военной тематико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ьчуга, пищаль, забрало, редут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бытовые и хозяйственные предметы, предметы одеж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дова, севалка, просак, светец, армяк, кам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вляются многие слова, обознач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ания, сословия, должности, профессии старой Росси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арь, боярин, конюший, лакей, стольник, земство, крепостной, помещик, урядник, офеня, коновал, лудильщик, пильщик, фонарщик, бурла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я патриархального быт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рщина, оброк, отруба, закуп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роизводственной деятельност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нуфактура, ко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исчезнувших технологий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ужение, медова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и слова, возникшие в советскую эпоху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ённовец, продотряд, комбед, ликбез, лишенец, нэп, нэпман, продразвёрстка, махнов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змы употребляются в тех текстах, в которых речь идёт о предметах и явлениях прошлого. Это может быть как учебная литература, так и художественное произведение. Историзмы помогают автору создать речевой колорит описываем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а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ревний) — это слова, вышедшие из употребления вследствие замены их новыми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и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щё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ре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яс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н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авая р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г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еч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р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л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ни имеют синонимы в современном рус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измы могут отличаться от современного слова-синонима разными чертами: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м 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уп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жизнь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ческим оформ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сполни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олнить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ба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 балу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ным сост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ружество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ыбар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ыбак), и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ческими особенност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ишпанс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ански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рца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зеркало). Некоторые слова устаревают целиком, но имеют современные синоним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тоб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гу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бель, вред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деяться и твёрдо верить. Для уточнения значения таких слов при работе с текстом художественного произведения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толковым словарём или словарём устаревших слов. Это поможет избежать ошибок в толковании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9:43:19Z</dcterms:created>
  <dc:creator>SamLab.ws</dc:creator>
  <dc:description/>
  <dc:language>en-US</dc:language>
  <cp:lastModifiedBy>Эксперт</cp:lastModifiedBy>
  <dcterms:modified xsi:type="dcterms:W3CDTF">2012-02-05T16:00:10Z</dcterms:modified>
  <cp:revision>4</cp:revision>
  <dc:subject/>
  <dc:title>Устаревшие слова и неологизмы</dc:title>
</cp:coreProperties>
</file>