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F6D-C94C-4898-BB82-A20F5E15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8DD-4F83-4897-ABE4-95C016C2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974-865D-46FA-BA3F-FD634C02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536-F37E-4EAC-AC34-03992371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76A-68AF-49E0-9079-0FF9C061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A14-4116-4A84-A35A-19488F32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954-49E7-4E38-853B-13D4B794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46B-2BCE-4BB3-B539-E1AFE745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780-E47A-4171-BFEE-9AC473A7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250-B7AD-41BC-9240-B31787B5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853-125B-4F3E-97D0-EAAAD11D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85B-8957-4D91-87F6-C507E139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3044-5CCC-43E6-989F-AD663E23C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9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Устаревшие слова и неологиз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2565000"/>
            <a:ext cx="396072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хаизмы и историзмы употребляются в художественной литературе для воссоздания исторической обстановки в стране, передачи национально-культурных традиций русского народа. 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 более других городов имела тогда поводов не поддаваться Болотникову. В Москве ж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е, окольничь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ьяки, знатные люди, которых Болотников грозил перебить или обратить 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олюдинов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на место их возвести безыменных людей; в Москве жили зажиточ­ны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орговцы и промышленни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ры, лав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ги, — всё это заранее отдавалось в делёж неимущим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. Костома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историзмам относятся слов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е, окольничь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аизмами являются слов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олюдин, торговец, промышленник, двор (хозяйство), лавка (небольшое торговое предприяти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ог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гранич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сторизмов и архаизм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труднено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одних случаях это связано с большой употребительностью слов в пословицах, поговорках, иных произведениях народного творчества, в других — с возрождением культурных традиций России. К этой группе относятся слова, обозначающ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диницы измерения веса, меры дл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азывающ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лигиозные и христианские праздники, явления патриархального бы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ателей как сильное средство экспр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ревшие слова выполняют в художественной речи разнообразные стилистические функции. Архаизмы и историзмы используются для воссоздания колорита отдаленных времен. В этой функции их употреблял, например, А.Н. Толсто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емля оттич и дедич - это те берега полноводных рек и лесные поляны, куда пришел наш пращур жить навечно. (...) он огородил тыном свое жилище и поглядел по пути солнца в даль ве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ему померещилось многое - тяжелые и трудные времена: красные щиты Игоря в половецких степях, и стоны русских на Калке, и установленные под хоругвями Дмитрия мужицкие копья на Куликовом поле, и кровью залитый лед Чудского озера, и Грозный царь, раздвинувший единые, отныне нерушимые, пределы земли от Сибири до Варяжского моря...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аизмы, в особенности славянизмы, придают речи возвышенное, торжественное звучание. Старославянская лексика выступала в этой функции еще в древнерусской литературе. В поэтической речи XIX в. с высокой старославянской лексикой стилистически уравнялись древнеруссизмы, которые тоже стали привлекаться для создания патетики художественной речи. Высокое, торжественное звучание устаревших слов оценивают и писатели XX века. В годы Великой Отечественной войны И.Г. Эренбург писал: «Отразив удары хищной Германии, она (Красная армия) спасла не только свободу нашей Родины, она спасла свободу мира. В этом залог торжества идей братства и гуманности, и мне видится вдалеке мир, просветленный горем, в котором воссияет добро. Наш народ показал свои воинские добродетели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ревшая лексика может приобретать ироническую окраску. Например: Кто из родителей не мечтает о понятливом, уравновешенном ребенке, который все схватывает буквально на лету. Но попытки превратить свое чадо в «чудо» катастрофически часто заканчиваются неудачей (из газ.). Ироническому переосмыслению устаревших слов нередко способствует пародийное использование элементов высокого стиля. В пародийно-иронической функции устаревшие слова часто выступают в фельетонах, памфлетах, юмористических замет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шибки, вызванные употреблением устаревших сл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отребление устаревших слов без учета их экспрессивной окра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тановится причиной грубых стилистических ошиб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: Спонсоров в интернате привечали с радостью; Лаборантка зашла к шефу и поведала ему о случившемся . Молодой предприниматель быстро узрел деловитость своего менеджера - в этих предложениях славянизмы архаичны. Слово привечать даже не включено в «Словарь русского языка» С.И. Ожегова, в «Толковом словаре русского языка» под ред. Д.Н. Ушакова оно дается с пометой (устар., поэт.); слово поведать Ожегов пометил (устар.), а Ушаков - (устар., ритор.); узреть имеет помету (стар.). Контекст, в котором нет установки на юмористическую окраску речи, не допускает употребления устаревших слов; их следовало бы заменить синонимами (приветствовали, рассказала, увидел [заметил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огда авторы, употребляя устаревшее слово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кажают его знач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: В результате бурного собрания домочадцев ремонт дома был начат - слово домочадцы, имеющее в словаре Ожегова помету (устар.), объясняется как «люди, которые живут в семье на правах ее членов», а в тексте оно использовано в значении «жильц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ще пример из заметки в газете: На собрании вскрывались даже самые нелицеприятные недостатки в работе. Слово нелицеприятный означает «беспристрастный», к тому же оно имеет ограниченные возможности лексической сочетаемости (нелицеприятной может быть только крити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равильное употребление архаизмов очень часто осложня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рушением лексической сочетаем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Андреева аттестовали как человека, очень долго проработавшего на этой стезе (стезю избирают, стезею следуют, но на ней не работаю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кажается значение устаревшей грамматической формы сл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: Он отказывается давать показания, но это не суть важно. Суть - форма третьего лица множественного числа глагола быть, а подлежащее это стоит в единственном числе, связка должна быть с ним согласов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ревшие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гут придавать тексту канцелярскую окрас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Подобные здания, не потребные на одной строительной площадке, являются потребными на другой; Проводить занятия нужно в надлежащем помещении). В деловых бумагах, где многие архаизмы закрепились как термины, использование такой специальной лексики должно быть целесообразным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например, считать стилистически оправданным обращение к устаревшим оборотам реч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аше благоусмотрение, прилагаю при сем, вышепоименованный нарушитель, по получении таков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исты отмечают, что в последнее время получают распространение устаревшие слова, находящиеся за пределами литературного языка; причем нередко им присваивается новое 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, неправильно используется слово втуне, имеющее в словаре Ожегова помету (устар.) и поясняемое синонимами бесплодно, напрасно [Намерения найти разумный компромисс оставались втуне; Остаются втуне вопросы создания севооборотов и применение комплекса удобрений (лучше: Разумный компромисс найти не удалось; ...Не введен севооборот и не применяется комплекс удобрений)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сс архаизации лекс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переставшая активно использоваться в речи, забывается не сразу. Какое-то время устаревшие слова еще понятны говорящим, знакомы им по художественной литературе, хотя при общении людей в них уже не возникает потребности. Такие слова переходят в состав лексики пассивного запаса, они приводятся в толковых словарях с пометой (устар.). Их могут использовать писатели, изображая прошедшие эпохи, или ученые-историки при описаний исторических фактов, но со временем архаизмы совсем уходят из языка. Так было, например, с древнерусскими словами комонь - «конь», усние - «кожа» (отсюда заусеница), черевье - «вид обуви». Отдельные устаревшие слова иногда возвращаются в состав лексики активного словарного запаса. Например, не употреблявшиеся какое-то время слова солдат, офицер, прапорщик, гимназия, лицей, вексель, биржа, департамент теперь вновь активно используются в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частом повторении устаревшие слова порой теряют отличавший их ранее оттенок арха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можно наблюдать на примере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ы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У Ожегова это наречие дается со стилистическими пометами (устар.) и (высок.) [ср.: …ныне там по обновленным берегам громады стройные теснятся дворцов и башен... (П.)]. Современные авторы часто употребляют это слово как стилистически нейтральное. Например: Многие выпускники МГИМО ныне стали дипломатами; На факультете ныне не так много можно найти студентов, которые бы довольствовались стипендией - в первом предложении слово ныне следовало опустить, а во втором заменить синонимом тепе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им образом, пренебрежение стилистической окраской устаревших слов неизбежно приводит к речевым ошиб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слово является устаревш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ж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о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ерн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крета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емли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из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бе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слово является устаревш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чева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ульг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лин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ы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бреж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848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разделить на две группы: 1) историзмы; 2) арха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ториз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рассказ о прошлых событиях) — это слова, обозначающие названия таких предметов и явлений, которые перестали существовать в резуль­тате развития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являли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битчики к цар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жалобами н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евод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виняли их, что они раздают и отним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месть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сыску; жаловали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ольники, дворя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е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ские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оеводы отнимают у н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рцов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ёла, которые до того времени были за ними. Яви­лись к царю 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битны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ки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льц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сили денежного и хлебного жалованья, трогательно писали, что им есть нечего, что мерзнут без одежды, умирают без помощи от ран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. Косто­ма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енные слова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зм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ни не имеют синонимов в современном русском языке. Объяснить их значение можно, только прибегнув к энциклопедическому описанию. Именно так они и  подаются в толковых словаря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битье, -я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р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древней Руси: поклон до земли с прикосновением лбом к земле. 2. В древней Руси: письменная прось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битчик, -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тот, кто подавал челобитную. Челобитная, -ой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челобитье (во 2 значении), Стольник, -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придворный, степенью ниже боярина первоначально придворный, прислуживавший за княжеским или Царским стол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лец -  Московской Рус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.: военнослужащий особого постоянн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историзмами многие слова, называющие предметы ушедшего быта, старой культуры, вещи и явления, свя­занные с экономикой прошлого, старыми общественно-политическими отношениями. Так, много историзмов среди слов, связанных с военной тематикой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льчуга, пищаль, забрало, редут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бытовые и хозяйственные предметы, предметы одежды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ндова, севалка, просак, светец, армяк, камз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ризм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являются многие слова, обознача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ания, сословия, должности, профессии старой России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царь, боярин, конюший, лакей, стольник, земство, крепостной, помещик, урядник, офеня, коновал, лудильщик, пильщик, фонарщик, бурла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ения патриархального быт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арщина, оброк, отруба, закуп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роизводственной деятельности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ануфактура, ко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исчезнувших технологий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ужение, медовар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историзмами и слова, возникшие в советскую эпоху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ённовец, продотряд, комбед, ликбез, лишенец, нэп, нэпман, продразвёрстка, махнов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змы употребляются в тех текстах, в которых речь идёт о предметах и явлениях прошлого. Это может быть как учебная литература, так и художественное произведение. Историзмы помогают автору создать речевой колорит описываемой эпо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137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рха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ai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древний) — это слова, вышедшие из употребления вследствие замены их новыми, наприм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ани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щё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ре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оясн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сн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равая ру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уг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еча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рш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стих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ме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л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ни имеют синонимы в современном русском я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аизмы могут отличаться от современного слова-синонима разными чертами: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ческим знач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г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купец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во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жизнь),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ческим оформл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исполни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сполнить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бал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 балу),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фемным соста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дружество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б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ыбар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рыбак), ины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етическими особенност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гишпанс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спанский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ерцал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зеркало). Некоторые слова устаревают целиком, но имеют современные синонимы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б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чтобы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губ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гибель, вред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пова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деяться и твёрдо верить. Для уточнения значения таких слов при работе с текстом художественного произведения необходим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 толковым словарём или словарём устаревших слов. Это поможет избежать ошибок в толковании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9:43:19Z</dcterms:created>
  <dc:creator>SamLab.ws</dc:creator>
  <dc:description/>
  <dc:language>en-US</dc:language>
  <cp:lastModifiedBy>Эксперт</cp:lastModifiedBy>
  <dcterms:modified xsi:type="dcterms:W3CDTF">2012-02-05T16:00:10Z</dcterms:modified>
  <cp:revision>4</cp:revision>
  <dc:subject/>
  <dc:title>Устаревшие слова и неологизмы</dc:title>
</cp:coreProperties>
</file>