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5E36-7A22-4167-9800-150BF094C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F2DD-0FE8-4B42-B03D-E181304D6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F79E-F92D-42D4-ADBB-BC7420A84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65D0-0CE4-49F2-96E0-7979443D3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30C8-7CBE-412F-B6F6-CE6505C7E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BD84-F9BD-436B-86F4-69DBC6B72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D209-D95B-4DA5-9205-C36910A71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844D-99F3-4C8D-82BB-EED16246B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CBA3-7778-47A2-BAD5-3024798F4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5DC6-C18A-4532-809E-2ED66E91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3738-FD36-4BDA-AAEC-E609ADCC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8054-07CF-44C9-9727-6CA3468A4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FFEC1-6FA9-4F4A-A102-0F249D0C8E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76000" y="549360"/>
            <a:ext cx="6049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Устаревшие слова и неологиз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24360" y="2565000"/>
            <a:ext cx="3960720" cy="18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рхаизмы и историзмы употребляются в художественной литературе для воссоздания исторической обстановки в стране, передачи национально-культурных традиций русского народа. Наприме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сква более других городов имела тогда поводов не поддаваться Болотникову. В Москве жил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бояре, окольничьи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ьяки, знатные люди, которых Болотников грозил перебить или обратить в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остолюдинов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на место их возвести безыменных людей; в Москве жили зажиточ­ные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торговцы и промышленники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торых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воры, лавки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ньги, — всё это заранее отдавалось в делёж неимущим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Н. Костомаров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историзмам относятся слова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бояре, окольничьи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рхаизмами являются слова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остолюдин, торговец, промышленник, двор (хозяйство), лавка (небольшое торговое предприятие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огд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зграничен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историзмов и архаизмов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труднено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В одних случаях это связано с большой употребительностью слов в пословицах, поговорках, иных произведениях народного творчества, в других — с возрождением культурных традиций России. К этой группе относятся слова, обозначающие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единицы измерения веса, меры длин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называющие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елигиозные и христианские праздники, явления патриархального быт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и п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исателей как сильное средство экспре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таревшие слова выполняют в художественной речи разнообразные стилистические функции. Архаизмы и историзмы используются для воссоздания колорита отдаленных времен. В этой функции их употреблял, например, А.Н. Толстой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Земля оттич и дедич - это те берега полноводных рек и лесные поляны, куда пришел наш пращур жить навечно. (...) он огородил тыном свое жилище и поглядел по пути солнца в даль ве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ему померещилось многое - тяжелые и трудные времена: красные щиты Игоря в половецких степях, и стоны русских на Калке, и установленные под хоругвями Дмитрия мужицкие копья на Куликовом поле, и кровью залитый лед Чудского озера, и Грозный царь, раздвинувший единые, отныне нерушимые, пределы земли от Сибири до Варяжского моря...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рхаизмы, в особенности славянизмы, придают речи возвышенное, торжественное звучание. Старославянская лексика выступала в этой функции еще в древнерусской литературе. В поэтической речи XIX в. с высокой старославянской лексикой стилистически уравнялись древнеруссизмы, которые тоже стали привлекаться для создания патетики художественной речи. Высокое, торжественное звучание устаревших слов оценивают и писатели XX века. В годы Великой Отечественной войны И.Г. Эренбург писал: «Отразив удары хищной Германии, она (Красная армия) спасла не только свободу нашей Родины, она спасла свободу мира. В этом залог торжества идей братства и гуманности, и мне видится вдалеке мир, просветленный горем, в котором воссияет добро. Наш народ показал свои воинские добродетели…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старевшая лексика может приобретать ироническую окраску. Например: Кто из родителей не мечтает о понятливом, уравновешенном ребенке, который все схватывает буквально на лету. Но попытки превратить свое чадо в «чудо» катастрофически часто заканчиваются неудачей (из газ.). Ироническому переосмыслению устаревших слов нередко способствует пародийное использование элементов высокого стиля. В пародийно-иронической функции устаревшие слова часто выступают в фельетонах, памфлетах, юмористических заметк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1471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шибки, вызванные употреблением устаревших слов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82803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потребление устаревших слов без учета их экспрессивной окраск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тановится причиной грубых стилистических ошиб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пример: Спонсоров в интернате привечали с радостью; Лаборантка зашла к шефу и поведала ему о случившемся . Молодой предприниматель быстро узрел деловитость своего менеджера - в этих предложениях славянизмы архаичны. Слово привечать даже не включено в «Словарь русского языка» С.И. Ожегова, в «Толковом словаре русского языка» под ред. Д.Н. Ушакова оно дается с пометой (устар., поэт.); слово поведать Ожегов пометил (устар.), а Ушаков - (устар., ритор.); узреть имеет помету (стар.). Контекст, в котором нет установки на юмористическую окраску речи, не допускает употребления устаревших слов; их следовало бы заменить синонимами (приветствовали, рассказала, увидел [заметил]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огда авторы, употребляя устаревшее слово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скажают его значе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пример: В результате бурного собрания домочадцев ремонт дома был начат - слово домочадцы, имеющее в словаре Ожегова помету (устар.), объясняется как «люди, которые живут в семье на правах ее членов», а в тексте оно использовано в значении «жильцы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ще пример из заметки в газете: На собрании вскрывались даже самые нелицеприятные недостатки в работе. Слово нелицеприятный означает «беспристрастный», к тому же оно имеет ограниченные возможности лексической сочетаемости (нелицеприятной может быть только критик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правильное употребление архаизмов очень часто осложняетс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рушением лексической сочетаемо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Андреева аттестовали как человека, очень долго проработавшего на этой стезе (стезю избирают, стезею следуют, но на ней не работают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рой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скажается значение устаревшей грамматической формы слов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пример: Он отказывается давать показания, но это не суть важно. Суть - форма третьего лица множественного числа глагола быть, а подлежащее это стоит в единственном числе, связка должна быть с ним согласова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старевшие слов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гут придавать тексту канцелярскую окраск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(Подобные здания, не потребные на одной строительной площадке, являются потребными на другой; Проводить занятия нужно в надлежащем помещении). В деловых бумагах, где многие архаизмы закрепились как термины, использование такой специальной лексики должно быть целесообразным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льз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например, считать стилистически оправданным обращение к устаревшим оборотам реч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ваше благоусмотрение, прилагаю при сем, вышепоименованный нарушитель, по получении таковы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и т.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илисты отмечают, что в последнее время получают распространение устаревшие слова, находящиеся за пределами литературного языка; причем нередко им присваивается новое знач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пример, неправильно используется слово втуне, имеющее в словаре Ожегова помету (устар.) и поясняемое синонимами бесплодно, напрасно [Намерения найти разумный компромисс оставались втуне; Остаются втуне вопросы создания севооборотов и применение комплекса удобрений (лучше: Разумный компромисс найти не удалось; ...Не введен севооборот и не применяется комплекс удобрений)]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цесс архаизации лекс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88200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ксика, переставшая активно использоваться в речи, забывается не сразу. Какое-то время устаревшие слова еще понятны говорящим, знакомы им по художественной литературе, хотя при общении людей в них уже не возникает потребности. Такие слова переходят в состав лексики пассивного запаса, они приводятся в толковых словарях с пометой (устар.). Их могут использовать писатели, изображая прошедшие эпохи, или ученые-историки при описаний исторических фактов, но со временем архаизмы совсем уходят из языка. Так было, например, с древнерусскими словами комонь - «конь», усние - «кожа» (отсюда заусеница), черевье - «вид обуви». Отдельные устаревшие слова иногда возвращаются в состав лексики активного словарного запаса. Например, не употреблявшиеся какое-то время слова солдат, офицер, прапорщик, гимназия, лицей, вексель, биржа, департамент теперь вновь активно используются в ре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68360" y="112536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частом повторении устаревшие слова порой теряют отличавший их ранее оттенок архаич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можно наблюдать на примере слов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ы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У Ожегова это наречие дается со стилистическими пометами (устар.) и (высок.) [ср.: …ныне там по обновленным берегам громады стройные теснятся дворцов и башен... (П.)]. Современные авторы часто употребляют это слово как стилистически нейтральное. Например: Многие выпускники МГИМО ныне стали дипломатами; На факультете ныне не так много можно найти студентов, которые бы довольствовались стипендией - в первом предложении слово ныне следовало опустить, а во втором заменить синонимом тепер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ким образом, пренебрежение стилистической окраской устаревших слов неизбежно приводит к речевым ошибк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кое слово является устаревши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руж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ион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уберна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екретар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780000" y="1600200"/>
            <a:ext cx="490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землить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лач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мпьютеризиро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бежа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кое слово является устаревши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р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д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к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рачевате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ульгар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улинар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лыж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бреж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848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Устаревшие слов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старевшие слов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 разделить на две группы: 1) историзмы; 2) архаиз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сторизмы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от греч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i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рассказ о прошлых событиях) — это слова, обозначающие названия таких предметов и явлений, которые перестали существовать в резуль­тате развития обще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им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перь являлись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челобитчики к царю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жалобами на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оевод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виняли их, что они раздают и отнимают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месть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з сыску; жаловались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тольники, дворян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дет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боярские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воеводы отнимают у них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ворцовы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ёла, которые до того времени были за ними. Яви­лись к царю с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челобитным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заки 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трельцы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просили денежного и хлебного жалованья, трогательно писали, что им есть нечего, что мерзнут без одежды, умирают без помощи от ран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Н. Косто­маров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3964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деленные слова являю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торизма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Они не имеют синонимов в современном русском языке. Объяснить их значение можно, только прибегнув к энциклопедическому описанию. Именно так они и  подаются в толковых словарях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лобитье, -я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р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В древней Руси: поклон до земли с прикосновением лбом к земле. 2. В древней Руси: письменная просьб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лобитчик, -а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ревней Руси: тот, кто подавал челобитную. Челобитная, -ой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ж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ревней Руси: челобитье (во 2 значении), Стольник, -а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ревней Руси: придворный, степенью ниже боярина первоначально придворный, прислуживавший за княжеским или Царским столо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елец -  Московской Рус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V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VII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.: военнослужащий особого постоянного войс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ли историзмами многие слова, называющие предметы ушедшего быта, старой культуры, вещи и явления, свя­занные с экономикой прошлого, старыми общественно-политическими отношениями. Так, много историзмов среди слов, связанных с военной тематикой: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ольчуга, пищаль, забрало, редут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ногие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старевшие слов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зывают бытовые и хозяйственные предметы, предметы одежды: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ендова, севалка, просак, светец, армяк, камз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сторизмам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являются многие слова, обозначающ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вания, сословия, должности, профессии старой России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царь, боярин, конюший, лакей, стольник, земство, крепостной, помещик, урядник, офеня, коновал, лудильщик, пильщик, фонарщик, бурлак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явления патриархального быта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барщина, оброк, отруба, закуп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иды производственной деятельности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мануфактура, конк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иды исчезнувших технологий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лужение, медоварен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ли историзмами и слова, возникшие в советскую эпоху: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будённовец, продотряд, комбед, ликбез, лишенец, нэп, нэпман, продразвёрстка, махнове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торизмы употребляются в тех текстах, в которых речь идёт о предметах и явлениях прошлого. Это может быть как учебная литература, так и художественное произведение. Историзмы помогают автору создать речевой колорит описываемой эпох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55640" y="333000"/>
            <a:ext cx="813744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рхаизмы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от греч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chaio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древний) — это слова, вышедшие из употребления вследствие замены их новыми, например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анит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щёк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чресл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поясниц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есниц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правая рук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уг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печал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ирш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стих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мен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плеч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 они имеют синонимы в современном русском язы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964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хаизмы могут отличаться от современного слова-синонима разными чертами: ины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ксическим значение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гост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купец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живо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жизнь), ины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амматическим оформление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исполнит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исполнить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 бал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на балу), ины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рфемным состав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дружество 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ужба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ыбар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рыбак), иным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нетическими особенностя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гишпански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испанский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ерцало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зеркало). Некоторые слова устаревают целиком, но имеют современные синонимы: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аб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чтобы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агуб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гибель, вред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поват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надеяться и твёрдо верить. Для уточнения значения таких слов при работе с текстом художественного произведения необходим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ьзоваться толковым словарём или словарём устаревших слов. Это поможет избежать ошибок в толковании тек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5T09:43:19Z</dcterms:created>
  <dc:creator>SamLab.ws</dc:creator>
  <dc:description/>
  <dc:language>en-US</dc:language>
  <cp:lastModifiedBy>Эксперт</cp:lastModifiedBy>
  <dcterms:modified xsi:type="dcterms:W3CDTF">2012-02-05T16:00:10Z</dcterms:modified>
  <cp:revision>4</cp:revision>
  <dc:subject/>
  <dc:title>Устаревшие слова и неологизмы</dc:title>
</cp:coreProperties>
</file>