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wmf" ContentType="image/x-wmf"/>
  <Override PartName="/ppt/media/image10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19B66-D754-4BF2-922D-20085075C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0C3C8-A6C5-49D0-8B22-B15364BA3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391B6-1679-48DD-9F03-1B54744B1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B2BDA-D76B-4979-BACE-FEF946AED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61209-A05E-4778-A533-FAC9CDB30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36BCC-27DB-40E0-9487-DA05A885D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08AFD-99C5-485B-A0BD-6A2B9CE80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91046-5320-4316-9A0A-9C327A117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2156F-A4F1-4CE1-9712-A788D1573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5A9B8-7DBE-477D-90C2-B9350D3F4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900D7-723F-4404-B685-A7B3795FC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8FBC2-A788-4DE6-A57D-2CFFB5802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0D358-6D88-4B97-82C9-ABB16C71D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F4ED9-8134-4B36-8E07-14CCB6B98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74A20-0027-459F-9599-D30AF0765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2852D-27EA-4BC1-8C8C-D97859647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A2AF5-9CBB-4370-A838-9C9A3801A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BC4A4-3AB5-4F1A-B080-D57CDF32B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C3D7B-9142-40DE-A846-1E901470D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D194C-F462-48B2-AD6F-095914F9D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90A30-B468-47C5-BAFB-618290F77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7D8EC-9485-4F3C-852D-00DDC3DE0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BE548-6FAC-4383-A2EC-C482F4907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34CE1-DF5A-4F01-B7EC-CDDE4B695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55891-ED5E-4F38-945C-FAFA907C71ED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>
                    <a:gd name="textAreaLeft" fmla="*/ 0 w 243000"/>
                    <a:gd name="textAreaRight" fmla="*/ 243360 w 24300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>
                    <a:gd name="textAreaLeft" fmla="*/ 0 w 427320"/>
                    <a:gd name="textAreaRight" fmla="*/ 427680 w 427320"/>
                    <a:gd name="textAreaTop" fmla="*/ 0 h 695160"/>
                    <a:gd name="textAreaBottom" fmla="*/ 695520 h 69516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>
                    <a:gd name="textAreaLeft" fmla="*/ 0 w 801720"/>
                    <a:gd name="textAreaRight" fmla="*/ 802080 w 80172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>
                    <a:gd name="textAreaLeft" fmla="*/ 0 w 1203480"/>
                    <a:gd name="textAreaRight" fmla="*/ 1203840 w 120348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>
                    <a:gd name="textAreaLeft" fmla="*/ 0 w 268200"/>
                    <a:gd name="textAreaRight" fmla="*/ 268560 w 26820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>
                    <a:gd name="textAreaLeft" fmla="*/ 0 w 287640"/>
                    <a:gd name="textAreaRight" fmla="*/ 288000 w 28764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>
                    <a:gd name="textAreaLeft" fmla="*/ 0 w 287280"/>
                    <a:gd name="textAreaRight" fmla="*/ 287640 w 28728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>
                    <a:gd name="textAreaLeft" fmla="*/ 0 w 284040"/>
                    <a:gd name="textAreaRight" fmla="*/ 284400 w 284040"/>
                    <a:gd name="textAreaTop" fmla="*/ 0 h 218880"/>
                    <a:gd name="textAreaBottom" fmla="*/ 219240 h 21888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5120"/>
                <a:gd name="textAreaBottom" fmla="*/ 465480 h 46512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60440"/>
                <a:gd name="textAreaBottom" fmla="*/ 460800 h 46044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>
                <a:gd name="textAreaLeft" fmla="*/ 0 w 660600"/>
                <a:gd name="textAreaRight" fmla="*/ 660960 w 660600"/>
                <a:gd name="textAreaTop" fmla="*/ 0 h 420840"/>
                <a:gd name="textAreaBottom" fmla="*/ 421200 h 4208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840"/>
                  <a:gd name="textAreaBottom" fmla="*/ 97200 h 9684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3920"/>
                  <a:gd name="textAreaBottom" fmla="*/ 494280 h 4939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9360"/>
                  <a:gd name="textAreaBottom" fmla="*/ 279720 h 27936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87560"/>
                  <a:gd name="textAreaBottom" fmla="*/ 187920 h 18756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29BC0-3278-4AE8-8CAF-95F6BF971FBB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Координатная прямая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2" name="Picture 5" descr=""/>
          <p:cNvPicPr/>
          <p:nvPr/>
        </p:nvPicPr>
        <p:blipFill>
          <a:blip r:embed="rId1"/>
          <a:stretch/>
        </p:blipFill>
        <p:spPr>
          <a:xfrm>
            <a:off x="363600" y="1504800"/>
            <a:ext cx="8177040" cy="144936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5"/>
          <p:cNvSpPr/>
          <p:nvPr/>
        </p:nvSpPr>
        <p:spPr>
          <a:xfrm>
            <a:off x="363600" y="3677040"/>
            <a:ext cx="73944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риведите примеры положительных чисел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- Приведите примеры отрицательных чисел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- Чем отличаются друг от друга положительные и отрицательные числа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- Что можно сказать про число </a:t>
            </a:r>
            <a:r>
              <a:rPr b="0" i="1" lang="ru-RU" sz="2000" spc="-1" strike="noStrike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heel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Правила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42880" y="1324080"/>
            <a:ext cx="805824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Любое отрицательное число ………..    0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Любое …………………….       число больше 0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Отрицательное число ………… положительного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Text Box 4"/>
          <p:cNvSpPr/>
          <p:nvPr/>
        </p:nvSpPr>
        <p:spPr>
          <a:xfrm>
            <a:off x="963720" y="1884240"/>
            <a:ext cx="186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меньше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Text Box 5"/>
          <p:cNvSpPr/>
          <p:nvPr/>
        </p:nvSpPr>
        <p:spPr>
          <a:xfrm>
            <a:off x="2700360" y="2573280"/>
            <a:ext cx="391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Положительное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Text Box 6"/>
          <p:cNvSpPr/>
          <p:nvPr/>
        </p:nvSpPr>
        <p:spPr>
          <a:xfrm>
            <a:off x="6616800" y="3971880"/>
            <a:ext cx="230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меньше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heel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7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2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7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2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7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2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8"/>
          <p:cNvSpPr/>
          <p:nvPr/>
        </p:nvSpPr>
        <p:spPr>
          <a:xfrm>
            <a:off x="0" y="2968560"/>
            <a:ext cx="5335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Rectangle 17"/>
          <p:cNvSpPr/>
          <p:nvPr/>
        </p:nvSpPr>
        <p:spPr>
          <a:xfrm>
            <a:off x="0" y="2968560"/>
            <a:ext cx="5335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" name="Rectangle 20"/>
          <p:cNvSpPr/>
          <p:nvPr/>
        </p:nvSpPr>
        <p:spPr>
          <a:xfrm>
            <a:off x="0" y="2968560"/>
            <a:ext cx="5335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Rectangle 22"/>
          <p:cNvSpPr/>
          <p:nvPr/>
        </p:nvSpPr>
        <p:spPr>
          <a:xfrm>
            <a:off x="0" y="2968560"/>
            <a:ext cx="5335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Rectangle 162"/>
          <p:cNvSpPr/>
          <p:nvPr/>
        </p:nvSpPr>
        <p:spPr>
          <a:xfrm>
            <a:off x="0" y="388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41" name="Picture 5" descr="Рисунок8"/>
          <p:cNvPicPr/>
          <p:nvPr/>
        </p:nvPicPr>
        <p:blipFill>
          <a:blip r:embed="rId1"/>
          <a:stretch/>
        </p:blipFill>
        <p:spPr>
          <a:xfrm>
            <a:off x="1763640" y="1744560"/>
            <a:ext cx="6435720" cy="4673880"/>
          </a:xfrm>
          <a:prstGeom prst="rect">
            <a:avLst/>
          </a:prstGeom>
          <a:ln w="0">
            <a:noFill/>
          </a:ln>
        </p:spPr>
      </p:pic>
      <p:sp>
        <p:nvSpPr>
          <p:cNvPr id="242" name="Text Box 5"/>
          <p:cNvSpPr/>
          <p:nvPr/>
        </p:nvSpPr>
        <p:spPr>
          <a:xfrm rot="19270800">
            <a:off x="29160" y="1412640"/>
            <a:ext cx="2440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66"/>
                </a:solidFill>
                <a:latin typeface="Georgia"/>
              </a:rPr>
              <a:t>Италия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heel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500"/>
                            </p:stCondLst>
                            <p:childTnLst>
                              <p:par>
                                <p:cTn id="20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Сравните числ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440" y="1565280"/>
            <a:ext cx="297180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9 и 0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0 и 58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0 и -3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-12 и 0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-5 и 6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12 и -12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05480" y="1828800"/>
            <a:ext cx="37764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-9,6 и 0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0 и -2,7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⅞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и 0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0 и -2 ¾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7 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⅞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 и -8 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⅓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heel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4" dur="5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9" dur="500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4" dur="500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9" dur="500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4" dur="500"/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9" dur="500"/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4" dur="5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9" dur="5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4" dur="5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9" dur="500"/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4" dur="500"/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6"/>
          <p:cNvSpPr/>
          <p:nvPr/>
        </p:nvSpPr>
        <p:spPr>
          <a:xfrm>
            <a:off x="1403280" y="1052640"/>
            <a:ext cx="4608720" cy="60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,2          - 1,02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2,99          2,3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506         - 509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6,2        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6,8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0,001           0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6,8      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Object 10"/>
              <p:cNvSpPr txBox="1"/>
              <p:nvPr/>
            </p:nvSpPr>
            <p:spPr>
              <a:xfrm>
                <a:off x="5940360" y="2421000"/>
                <a:ext cx="451080" cy="9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Object 12"/>
              <p:cNvSpPr txBox="1"/>
              <p:nvPr/>
            </p:nvSpPr>
            <p:spPr>
              <a:xfrm>
                <a:off x="4067280" y="4581360"/>
                <a:ext cx="689040" cy="9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6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Object 13"/>
              <p:cNvSpPr txBox="1"/>
              <p:nvPr/>
            </p:nvSpPr>
            <p:spPr>
              <a:xfrm>
                <a:off x="5651640" y="1268280"/>
                <a:ext cx="690480" cy="100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" name="Object 14"/>
              <p:cNvSpPr txBox="1"/>
              <p:nvPr/>
            </p:nvSpPr>
            <p:spPr>
              <a:xfrm>
                <a:off x="7596360" y="1197000"/>
                <a:ext cx="350640" cy="115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51" name="Text Box 15"/>
          <p:cNvSpPr/>
          <p:nvPr/>
        </p:nvSpPr>
        <p:spPr>
          <a:xfrm>
            <a:off x="7596360" y="263700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2" name="Object 16"/>
              <p:cNvSpPr txBox="1"/>
              <p:nvPr/>
            </p:nvSpPr>
            <p:spPr>
              <a:xfrm>
                <a:off x="5925960" y="3541680"/>
                <a:ext cx="451080" cy="85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" name="Object 17"/>
              <p:cNvSpPr txBox="1"/>
              <p:nvPr/>
            </p:nvSpPr>
            <p:spPr>
              <a:xfrm>
                <a:off x="7380360" y="3429000"/>
                <a:ext cx="853920" cy="9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4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54" name="Line 18"/>
          <p:cNvSpPr/>
          <p:nvPr/>
        </p:nvSpPr>
        <p:spPr>
          <a:xfrm>
            <a:off x="5292720" y="1197000"/>
            <a:ext cx="0" cy="4968720"/>
          </a:xfrm>
          <a:prstGeom prst="line">
            <a:avLst/>
          </a:prstGeom>
          <a:ln w="1908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heel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4"/>
          <p:cNvSpPr/>
          <p:nvPr/>
        </p:nvSpPr>
        <p:spPr>
          <a:xfrm>
            <a:off x="2050920" y="404640"/>
            <a:ext cx="3384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Text Box 5"/>
          <p:cNvSpPr/>
          <p:nvPr/>
        </p:nvSpPr>
        <p:spPr>
          <a:xfrm>
            <a:off x="-387360" y="57960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50021"/>
                </a:solidFill>
                <a:latin typeface="Arial Unicode MS"/>
              </a:rPr>
              <a:t>1 вариант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533520" y="1081080"/>
          <a:ext cx="5470560" cy="1384200"/>
        </p:xfrm>
        <a:graphic>
          <a:graphicData uri="http://schemas.openxmlformats.org/drawingml/2006/table">
            <a:tbl>
              <a:tblPr/>
              <a:tblGrid>
                <a:gridCol w="658800"/>
                <a:gridCol w="662040"/>
                <a:gridCol w="660240"/>
                <a:gridCol w="662040"/>
                <a:gridCol w="662040"/>
                <a:gridCol w="662040"/>
                <a:gridCol w="842760"/>
                <a:gridCol w="660600"/>
              </a:tblGrid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7" name="Text Box 48"/>
          <p:cNvSpPr/>
          <p:nvPr/>
        </p:nvSpPr>
        <p:spPr>
          <a:xfrm>
            <a:off x="620640" y="1773360"/>
            <a:ext cx="50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dff"/>
                </a:solidFill>
                <a:latin typeface="Comic Sans MS"/>
              </a:rPr>
              <a:t>Д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Rectangle 49"/>
          <p:cNvSpPr/>
          <p:nvPr/>
        </p:nvSpPr>
        <p:spPr>
          <a:xfrm>
            <a:off x="1235160" y="1773360"/>
            <a:ext cx="47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dff"/>
                </a:solidFill>
                <a:latin typeface="Comic Sans MS"/>
              </a:rPr>
              <a:t>С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Rectangle 51"/>
          <p:cNvSpPr/>
          <p:nvPr/>
        </p:nvSpPr>
        <p:spPr>
          <a:xfrm>
            <a:off x="2542680" y="1824120"/>
            <a:ext cx="53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dff"/>
                </a:solidFill>
                <a:latin typeface="Comic Sans MS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Rectangle 52"/>
          <p:cNvSpPr/>
          <p:nvPr/>
        </p:nvSpPr>
        <p:spPr>
          <a:xfrm>
            <a:off x="3273840" y="1773360"/>
            <a:ext cx="46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dff"/>
                </a:solidFill>
                <a:latin typeface="Comic Sans MS"/>
              </a:rPr>
              <a:t>К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Rectangle 53"/>
          <p:cNvSpPr/>
          <p:nvPr/>
        </p:nvSpPr>
        <p:spPr>
          <a:xfrm>
            <a:off x="3987720" y="1773360"/>
            <a:ext cx="50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dff"/>
                </a:solidFill>
                <a:latin typeface="Comic Sans MS"/>
              </a:rPr>
              <a:t>Л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Rectangle 54"/>
          <p:cNvSpPr/>
          <p:nvPr/>
        </p:nvSpPr>
        <p:spPr>
          <a:xfrm>
            <a:off x="4723200" y="1773360"/>
            <a:ext cx="47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dff"/>
                </a:solidFill>
                <a:latin typeface="Comic Sans MS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Rectangle 55"/>
          <p:cNvSpPr/>
          <p:nvPr/>
        </p:nvSpPr>
        <p:spPr>
          <a:xfrm>
            <a:off x="1961640" y="1773360"/>
            <a:ext cx="46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dff"/>
                </a:solidFill>
                <a:latin typeface="Comic Sans MS"/>
              </a:rPr>
              <a:t>У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Rectangle 57"/>
          <p:cNvSpPr/>
          <p:nvPr/>
        </p:nvSpPr>
        <p:spPr>
          <a:xfrm>
            <a:off x="5415120" y="1744560"/>
            <a:ext cx="554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dff"/>
                </a:solidFill>
                <a:latin typeface="Comic Sans MS"/>
              </a:rPr>
              <a:t>Г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5" name="Object 60"/>
              <p:cNvSpPr txBox="1"/>
              <p:nvPr/>
            </p:nvSpPr>
            <p:spPr>
              <a:xfrm>
                <a:off x="620640" y="1001880"/>
                <a:ext cx="412920" cy="74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6" name="Rectangle 62"/>
          <p:cNvSpPr/>
          <p:nvPr/>
        </p:nvSpPr>
        <p:spPr>
          <a:xfrm flipH="1">
            <a:off x="1319040" y="671400"/>
            <a:ext cx="346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Rectangle 64"/>
          <p:cNvSpPr/>
          <p:nvPr/>
        </p:nvSpPr>
        <p:spPr>
          <a:xfrm>
            <a:off x="2665080" y="11746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Rectangle 65"/>
          <p:cNvSpPr/>
          <p:nvPr/>
        </p:nvSpPr>
        <p:spPr>
          <a:xfrm>
            <a:off x="3291120" y="117468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-5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Rectangle 66"/>
          <p:cNvSpPr/>
          <p:nvPr/>
        </p:nvSpPr>
        <p:spPr>
          <a:xfrm>
            <a:off x="3838680" y="117468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2,5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Rectangle 67"/>
          <p:cNvSpPr/>
          <p:nvPr/>
        </p:nvSpPr>
        <p:spPr>
          <a:xfrm>
            <a:off x="4586400" y="1174680"/>
            <a:ext cx="64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1,5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Rectangle 68"/>
          <p:cNvSpPr/>
          <p:nvPr/>
        </p:nvSpPr>
        <p:spPr>
          <a:xfrm>
            <a:off x="1808280" y="1235160"/>
            <a:ext cx="73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-1,5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Rectangle 70"/>
          <p:cNvSpPr/>
          <p:nvPr/>
        </p:nvSpPr>
        <p:spPr>
          <a:xfrm>
            <a:off x="5546880" y="1174680"/>
            <a:ext cx="31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Text Box 74"/>
          <p:cNvSpPr/>
          <p:nvPr/>
        </p:nvSpPr>
        <p:spPr>
          <a:xfrm>
            <a:off x="2843280" y="2781360"/>
            <a:ext cx="1800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Text Box 76"/>
          <p:cNvSpPr/>
          <p:nvPr/>
        </p:nvSpPr>
        <p:spPr>
          <a:xfrm>
            <a:off x="-252360" y="2941560"/>
            <a:ext cx="2736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50021"/>
                </a:solidFill>
                <a:latin typeface="Arial Unicode MS"/>
              </a:rPr>
              <a:t>2 вариант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225360" y="3484440"/>
          <a:ext cx="8209080" cy="1295640"/>
        </p:xfrm>
        <a:graphic>
          <a:graphicData uri="http://schemas.openxmlformats.org/drawingml/2006/table">
            <a:tbl>
              <a:tblPr/>
              <a:tblGrid>
                <a:gridCol w="547920"/>
                <a:gridCol w="545760"/>
                <a:gridCol w="547920"/>
                <a:gridCol w="547560"/>
                <a:gridCol w="547920"/>
                <a:gridCol w="647640"/>
                <a:gridCol w="504720"/>
                <a:gridCol w="638280"/>
                <a:gridCol w="514080"/>
                <a:gridCol w="503280"/>
                <a:gridCol w="505080"/>
                <a:gridCol w="517320"/>
                <a:gridCol w="547920"/>
                <a:gridCol w="546120"/>
                <a:gridCol w="547560"/>
              </a:tblGrid>
              <a:tr h="64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1,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6" name="Rectangle 128"/>
          <p:cNvSpPr/>
          <p:nvPr/>
        </p:nvSpPr>
        <p:spPr>
          <a:xfrm>
            <a:off x="306360" y="4221000"/>
            <a:ext cx="45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dff"/>
                </a:solidFill>
                <a:latin typeface="Comic Sans MS"/>
              </a:rPr>
              <a:t>Р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Rectangle 129"/>
          <p:cNvSpPr/>
          <p:nvPr/>
        </p:nvSpPr>
        <p:spPr>
          <a:xfrm>
            <a:off x="824040" y="4221000"/>
            <a:ext cx="53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dff"/>
                </a:solidFill>
                <a:latin typeface="Comic Sans MS"/>
              </a:rPr>
              <a:t>И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Rectangle 130"/>
          <p:cNvSpPr/>
          <p:nvPr/>
        </p:nvSpPr>
        <p:spPr>
          <a:xfrm>
            <a:off x="1328040" y="4221000"/>
            <a:ext cx="59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dff"/>
                </a:solidFill>
                <a:latin typeface="Comic Sans MS"/>
              </a:rPr>
              <a:t>М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Rectangle 131"/>
          <p:cNvSpPr/>
          <p:nvPr/>
        </p:nvSpPr>
        <p:spPr>
          <a:xfrm>
            <a:off x="1944000" y="4221000"/>
            <a:ext cx="5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dff"/>
                </a:solidFill>
                <a:latin typeface="Comic Sans MS"/>
              </a:rPr>
              <a:t>Ф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Rectangle 132"/>
          <p:cNvSpPr/>
          <p:nvPr/>
        </p:nvSpPr>
        <p:spPr>
          <a:xfrm>
            <a:off x="2488680" y="4221000"/>
            <a:ext cx="46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dff"/>
                </a:solidFill>
                <a:latin typeface="Comic Sans MS"/>
              </a:rPr>
              <a:t>У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Rectangle 133"/>
          <p:cNvSpPr/>
          <p:nvPr/>
        </p:nvSpPr>
        <p:spPr>
          <a:xfrm>
            <a:off x="3063960" y="4221000"/>
            <a:ext cx="44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dff"/>
                </a:solidFill>
                <a:latin typeface="Comic Sans MS"/>
              </a:rPr>
              <a:t>З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Rectangle 134"/>
          <p:cNvSpPr/>
          <p:nvPr/>
        </p:nvSpPr>
        <p:spPr>
          <a:xfrm>
            <a:off x="3547080" y="4221000"/>
            <a:ext cx="65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dff"/>
                </a:solidFill>
                <a:latin typeface="Comic Sans MS"/>
              </a:rPr>
              <a:t>Щ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Rectangle 135"/>
          <p:cNvSpPr/>
          <p:nvPr/>
        </p:nvSpPr>
        <p:spPr>
          <a:xfrm>
            <a:off x="4089960" y="4221000"/>
            <a:ext cx="47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dff"/>
                </a:solidFill>
                <a:latin typeface="Comic Sans MS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Rectangle 136"/>
          <p:cNvSpPr/>
          <p:nvPr/>
        </p:nvSpPr>
        <p:spPr>
          <a:xfrm>
            <a:off x="4643280" y="4221000"/>
            <a:ext cx="64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dff"/>
                </a:solidFill>
                <a:latin typeface="Comic Sans MS"/>
              </a:rPr>
              <a:t>Ю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Rectangle 137"/>
          <p:cNvSpPr/>
          <p:nvPr/>
        </p:nvSpPr>
        <p:spPr>
          <a:xfrm>
            <a:off x="5310000" y="422100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dff"/>
                </a:solidFill>
                <a:latin typeface="Comic Sans MS"/>
              </a:rPr>
              <a:t>Е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Rectangle 138"/>
          <p:cNvSpPr/>
          <p:nvPr/>
        </p:nvSpPr>
        <p:spPr>
          <a:xfrm>
            <a:off x="5719680" y="4221000"/>
            <a:ext cx="47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dff"/>
                </a:solidFill>
                <a:latin typeface="Comic Sans MS"/>
              </a:rPr>
              <a:t>С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Rectangle 139"/>
          <p:cNvSpPr/>
          <p:nvPr/>
        </p:nvSpPr>
        <p:spPr>
          <a:xfrm>
            <a:off x="6299640" y="4221000"/>
            <a:ext cx="46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dff"/>
                </a:solidFill>
                <a:latin typeface="Comic Sans MS"/>
              </a:rPr>
              <a:t>Б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Rectangle 140"/>
          <p:cNvSpPr/>
          <p:nvPr/>
        </p:nvSpPr>
        <p:spPr>
          <a:xfrm>
            <a:off x="6833880" y="422100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dff"/>
                </a:solidFill>
                <a:latin typeface="Comic Sans MS"/>
              </a:rPr>
              <a:t>Т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Rectangle 141"/>
          <p:cNvSpPr/>
          <p:nvPr/>
        </p:nvSpPr>
        <p:spPr>
          <a:xfrm>
            <a:off x="7377840" y="4221000"/>
            <a:ext cx="47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dff"/>
                </a:solidFill>
                <a:latin typeface="Comic Sans MS"/>
              </a:rPr>
              <a:t>В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Rectangle 142"/>
          <p:cNvSpPr/>
          <p:nvPr/>
        </p:nvSpPr>
        <p:spPr>
          <a:xfrm>
            <a:off x="7890840" y="4221000"/>
            <a:ext cx="53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dff"/>
                </a:solidFill>
                <a:latin typeface="Comic Sans MS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Rectangle 143"/>
          <p:cNvSpPr/>
          <p:nvPr/>
        </p:nvSpPr>
        <p:spPr>
          <a:xfrm>
            <a:off x="203040" y="3692520"/>
            <a:ext cx="62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-0,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Rectangle 144"/>
          <p:cNvSpPr/>
          <p:nvPr/>
        </p:nvSpPr>
        <p:spPr>
          <a:xfrm>
            <a:off x="906480" y="37162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Rectangle 145"/>
          <p:cNvSpPr/>
          <p:nvPr/>
        </p:nvSpPr>
        <p:spPr>
          <a:xfrm>
            <a:off x="1409760" y="37162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4" name="Object 147"/>
              <p:cNvSpPr txBox="1"/>
              <p:nvPr/>
            </p:nvSpPr>
            <p:spPr>
              <a:xfrm>
                <a:off x="2556000" y="3484440"/>
                <a:ext cx="25560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5" name="Rectangle 148"/>
          <p:cNvSpPr/>
          <p:nvPr/>
        </p:nvSpPr>
        <p:spPr>
          <a:xfrm>
            <a:off x="2891160" y="371628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1,15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Rectangle 151"/>
          <p:cNvSpPr/>
          <p:nvPr/>
        </p:nvSpPr>
        <p:spPr>
          <a:xfrm>
            <a:off x="3646080" y="3716280"/>
            <a:ext cx="4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64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Rectangle 156"/>
          <p:cNvSpPr/>
          <p:nvPr/>
        </p:nvSpPr>
        <p:spPr>
          <a:xfrm>
            <a:off x="4716360" y="3692520"/>
            <a:ext cx="69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-3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Rectangle 157"/>
          <p:cNvSpPr/>
          <p:nvPr/>
        </p:nvSpPr>
        <p:spPr>
          <a:xfrm>
            <a:off x="5243040" y="3716280"/>
            <a:ext cx="62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-6,5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Rectangle 160"/>
          <p:cNvSpPr/>
          <p:nvPr/>
        </p:nvSpPr>
        <p:spPr>
          <a:xfrm>
            <a:off x="5873760" y="37162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Rectangle 161"/>
          <p:cNvSpPr/>
          <p:nvPr/>
        </p:nvSpPr>
        <p:spPr>
          <a:xfrm>
            <a:off x="6311520" y="3716280"/>
            <a:ext cx="4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3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Rectangle 162"/>
          <p:cNvSpPr/>
          <p:nvPr/>
        </p:nvSpPr>
        <p:spPr>
          <a:xfrm>
            <a:off x="6934320" y="37162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Rectangle 163"/>
          <p:cNvSpPr/>
          <p:nvPr/>
        </p:nvSpPr>
        <p:spPr>
          <a:xfrm>
            <a:off x="7896600" y="3716280"/>
            <a:ext cx="54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0,6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3" name="Object 164"/>
              <p:cNvSpPr txBox="1"/>
              <p:nvPr/>
            </p:nvSpPr>
            <p:spPr>
              <a:xfrm>
                <a:off x="7451640" y="3486240"/>
                <a:ext cx="38124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wheel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" dur="200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" dur="200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" dur="20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" dur="20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" dur="200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200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" dur="200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200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nodeType="after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3" dur="200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200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7" dur="200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200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4000"/>
                            </p:stCondLst>
                            <p:childTnLst>
                              <p:par>
                                <p:cTn id="31" nodeType="after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2" dur="200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200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6" dur="200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200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2" dur="20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20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6" dur="20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20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0" dur="200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200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2000"/>
                            </p:stCondLst>
                            <p:childTnLst>
                              <p:par>
                                <p:cTn id="54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5" dur="200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200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9" dur="200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200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3" dur="200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200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4000"/>
                            </p:stCondLst>
                            <p:childTnLst>
                              <p:par>
                                <p:cTn id="67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8" dur="200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200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2" dur="200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200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6" dur="100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100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0" dur="200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200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6400800" cy="90324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Сравнение по …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4752720" y="782640"/>
            <a:ext cx="3019320" cy="54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росту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6" name="Picture 6" descr=""/>
          <p:cNvPicPr/>
          <p:nvPr/>
        </p:nvPicPr>
        <p:blipFill>
          <a:blip r:embed="rId1"/>
          <a:stretch/>
        </p:blipFill>
        <p:spPr>
          <a:xfrm>
            <a:off x="1238400" y="2286000"/>
            <a:ext cx="1725480" cy="246528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7" descr=""/>
          <p:cNvPicPr/>
          <p:nvPr/>
        </p:nvPicPr>
        <p:blipFill>
          <a:blip r:embed="rId2"/>
          <a:stretch/>
        </p:blipFill>
        <p:spPr>
          <a:xfrm>
            <a:off x="4030560" y="1565280"/>
            <a:ext cx="1960560" cy="342756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30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083960" y="-50760"/>
            <a:ext cx="6497640" cy="9540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Сравнение по …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4030200" y="902880"/>
            <a:ext cx="3551400" cy="84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объему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0" name="Picture 5" descr=""/>
          <p:cNvPicPr/>
          <p:nvPr/>
        </p:nvPicPr>
        <p:blipFill>
          <a:blip r:embed="rId1"/>
          <a:stretch/>
        </p:blipFill>
        <p:spPr>
          <a:xfrm>
            <a:off x="685800" y="2406600"/>
            <a:ext cx="2043000" cy="195120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6" descr=""/>
          <p:cNvPicPr/>
          <p:nvPr/>
        </p:nvPicPr>
        <p:blipFill>
          <a:blip r:embed="rId2"/>
          <a:stretch/>
        </p:blipFill>
        <p:spPr>
          <a:xfrm>
            <a:off x="3309840" y="2222640"/>
            <a:ext cx="3967200" cy="203040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30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985760" y="-360"/>
            <a:ext cx="5290920" cy="90324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Сравнение по …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5052600" y="903240"/>
            <a:ext cx="2529000" cy="78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массе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4" name="Picture 5" descr=""/>
          <p:cNvPicPr/>
          <p:nvPr/>
        </p:nvPicPr>
        <p:blipFill>
          <a:blip r:embed="rId1"/>
          <a:stretch/>
        </p:blipFill>
        <p:spPr>
          <a:xfrm>
            <a:off x="1204920" y="2216160"/>
            <a:ext cx="6558120" cy="301608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30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4" descr=""/>
          <p:cNvPicPr/>
          <p:nvPr/>
        </p:nvPicPr>
        <p:blipFill>
          <a:blip r:embed="rId1"/>
          <a:stretch/>
        </p:blipFill>
        <p:spPr>
          <a:xfrm>
            <a:off x="243000" y="1263600"/>
            <a:ext cx="3547800" cy="284652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5" descr=""/>
          <p:cNvPicPr/>
          <p:nvPr/>
        </p:nvPicPr>
        <p:blipFill>
          <a:blip r:embed="rId2"/>
          <a:stretch/>
        </p:blipFill>
        <p:spPr>
          <a:xfrm>
            <a:off x="4211640" y="1370160"/>
            <a:ext cx="3306600" cy="2739960"/>
          </a:xfrm>
          <a:prstGeom prst="rect">
            <a:avLst/>
          </a:prstGeom>
          <a:ln w="0">
            <a:noFill/>
          </a:ln>
        </p:spPr>
      </p:pic>
      <p:sp>
        <p:nvSpPr>
          <p:cNvPr id="217" name="Text Box 9"/>
          <p:cNvSpPr/>
          <p:nvPr/>
        </p:nvSpPr>
        <p:spPr>
          <a:xfrm>
            <a:off x="1084320" y="4390920"/>
            <a:ext cx="252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«_»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Text Box 10"/>
          <p:cNvSpPr/>
          <p:nvPr/>
        </p:nvSpPr>
        <p:spPr>
          <a:xfrm>
            <a:off x="4572000" y="4390920"/>
            <a:ext cx="246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«+»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Text Box 11"/>
          <p:cNvSpPr/>
          <p:nvPr/>
        </p:nvSpPr>
        <p:spPr>
          <a:xfrm>
            <a:off x="905040" y="301680"/>
            <a:ext cx="661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omic Sans MS"/>
              </a:rPr>
              <a:t>Сравнение по температуре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heel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5"/>
          <p:cNvSpPr/>
          <p:nvPr/>
        </p:nvSpPr>
        <p:spPr>
          <a:xfrm>
            <a:off x="1023840" y="974160"/>
            <a:ext cx="6253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Что можно сравнить в математике?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heel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ext Box 4"/>
          <p:cNvSpPr/>
          <p:nvPr/>
        </p:nvSpPr>
        <p:spPr>
          <a:xfrm>
            <a:off x="1619280" y="765000"/>
            <a:ext cx="50403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a50021"/>
                </a:solidFill>
                <a:latin typeface="Arial Unicode MS"/>
              </a:rPr>
              <a:t>Сравнение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a50021"/>
                </a:solidFill>
                <a:latin typeface="Arial Unicode MS"/>
              </a:rPr>
              <a:t>чисел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2" name="Picture 5" descr="j0300840"/>
          <p:cNvPicPr/>
          <p:nvPr/>
        </p:nvPicPr>
        <p:blipFill>
          <a:blip r:embed="rId1"/>
          <a:stretch/>
        </p:blipFill>
        <p:spPr>
          <a:xfrm>
            <a:off x="4500720" y="3789360"/>
            <a:ext cx="2952720" cy="2487600"/>
          </a:xfrm>
          <a:prstGeom prst="rect">
            <a:avLst/>
          </a:prstGeom>
          <a:ln w="0">
            <a:noFill/>
          </a:ln>
        </p:spPr>
      </p:pic>
      <p:sp>
        <p:nvSpPr>
          <p:cNvPr id="223" name="Text Box 6"/>
          <p:cNvSpPr/>
          <p:nvPr/>
        </p:nvSpPr>
        <p:spPr>
          <a:xfrm rot="20700600">
            <a:off x="539640" y="1125000"/>
            <a:ext cx="10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703dff"/>
                </a:solidFill>
                <a:latin typeface="Comic Sans MS"/>
              </a:rPr>
              <a:t>- 5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Rectangle 7"/>
          <p:cNvSpPr/>
          <p:nvPr/>
        </p:nvSpPr>
        <p:spPr>
          <a:xfrm rot="19653600">
            <a:off x="972000" y="3933360"/>
            <a:ext cx="10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703dff"/>
                </a:solidFill>
                <a:latin typeface="Comic Sans MS"/>
              </a:rPr>
              <a:t>- 7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Rectangle 8"/>
          <p:cNvSpPr/>
          <p:nvPr/>
        </p:nvSpPr>
        <p:spPr>
          <a:xfrm rot="928800">
            <a:off x="6587280" y="836640"/>
            <a:ext cx="7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703dff"/>
                </a:solidFill>
                <a:latin typeface="Comic Sans MS"/>
              </a:rPr>
              <a:t> </a:t>
            </a:r>
            <a:r>
              <a:rPr b="1" i="1" lang="ru-RU" sz="3600" spc="-1" strike="noStrike">
                <a:solidFill>
                  <a:srgbClr val="703dff"/>
                </a:solidFill>
                <a:latin typeface="Comic Sans MS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Rectangle 9"/>
          <p:cNvSpPr/>
          <p:nvPr/>
        </p:nvSpPr>
        <p:spPr>
          <a:xfrm rot="20593200">
            <a:off x="7164360" y="2852280"/>
            <a:ext cx="61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703dff"/>
                </a:solidFill>
                <a:latin typeface="Comic Sans MS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Rectangle 10"/>
          <p:cNvSpPr/>
          <p:nvPr/>
        </p:nvSpPr>
        <p:spPr>
          <a:xfrm rot="963000">
            <a:off x="3419280" y="4723920"/>
            <a:ext cx="7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703dff"/>
                </a:solidFill>
                <a:latin typeface="Comic Sans MS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heel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with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1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703dff"/>
                                      </p:to>
                                    </p:animClr>
                                    <p:animClr clrSpc="rgb">
                                      <p:cBhvr>
                                        <p:cTn id="122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703dff"/>
                                      </p:to>
                                    </p:animClr>
                                    <p:set>
                                      <p:cBhvr>
                                        <p:cTn id="123" dur="30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24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  <p:par>
                                <p:cTn id="125" nodeType="with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703dff"/>
                                      </p:to>
                                    </p:animClr>
                                    <p:animClr clrSpc="rgb">
                                      <p:cBhvr>
                                        <p:cTn id="127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703dff"/>
                                      </p:to>
                                    </p:animClr>
                                    <p:set>
                                      <p:cBhvr>
                                        <p:cTn id="128" dur="3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29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  <p:par>
                                <p:cTn id="130" nodeType="with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1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703dff"/>
                                      </p:to>
                                    </p:animClr>
                                    <p:animClr clrSpc="rgb">
                                      <p:cBhvr>
                                        <p:cTn id="132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703dff"/>
                                      </p:to>
                                    </p:animClr>
                                    <p:set>
                                      <p:cBhvr>
                                        <p:cTn id="133" dur="30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34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  <p:par>
                                <p:cTn id="135" nodeType="with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6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703dff"/>
                                      </p:to>
                                    </p:animClr>
                                    <p:animClr clrSpc="rgb">
                                      <p:cBhvr>
                                        <p:cTn id="137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703dff"/>
                                      </p:to>
                                    </p:animClr>
                                    <p:set>
                                      <p:cBhvr>
                                        <p:cTn id="138" dur="30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39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  <p:par>
                                <p:cTn id="140" nodeType="with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1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703dff"/>
                                      </p:to>
                                    </p:animClr>
                                    <p:animClr clrSpc="rgb">
                                      <p:cBhvr>
                                        <p:cTn id="142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703dff"/>
                                      </p:to>
                                    </p:animClr>
                                    <p:set>
                                      <p:cBhvr>
                                        <p:cTn id="143" dur="30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44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2666880"/>
            <a:ext cx="769608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Сравните: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а)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и 0           г) а и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б)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b 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и 0           д) с и а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в) 0 и с           е)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 и с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30" name="Picture 5" descr=""/>
          <p:cNvPicPr/>
          <p:nvPr/>
        </p:nvPicPr>
        <p:blipFill>
          <a:blip r:embed="rId1"/>
          <a:stretch/>
        </p:blipFill>
        <p:spPr>
          <a:xfrm>
            <a:off x="250920" y="692280"/>
            <a:ext cx="8334360" cy="147636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1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4" dur="5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7" dur="5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0" dur="500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3:14:04Z</dcterms:created>
  <dc:creator>Малышев</dc:creator>
  <dc:description/>
  <dc:language>en-US</dc:language>
  <cp:lastModifiedBy>Макаров</cp:lastModifiedBy>
  <dcterms:modified xsi:type="dcterms:W3CDTF">2012-02-24T08:28:13Z</dcterms:modified>
  <cp:revision>28</cp:revision>
  <dc:subject/>
  <dc:title>Слайд 1</dc:title>
</cp:coreProperties>
</file>