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629-425A-4C41-92B5-B0B7EE2C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49AD-793A-45E1-A478-2965AA6F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3FDC-572A-4FFE-9131-C90DD2BF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0EA-4AC8-4E34-8101-E5F7E091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4900-A664-49A5-8BF6-8E528F39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AF00-28F5-430E-84BB-7CC2805C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7818-F70B-4AA1-859D-DFA25B16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D1FE-BF10-4CEA-BC29-1FD69207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8659-0889-4D66-A8A2-079D7156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CE52-596B-4CD4-ADBA-1BA9EB2A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F7DA-0DF8-4616-845F-6402AF4A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BA5C-C8FF-4829-A6D5-BC69AF1A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A6BE-350E-4AB0-A6D4-C44A9D7E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2152-5FC6-4468-B52E-E983C723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FB9E-8B9B-4F57-81C9-A2CD438C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97C2-D070-4CF5-8254-4FBD35C4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802D-D291-4841-9996-CCC3633C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B226-BA01-4A82-96FA-6CFB4691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6C70-BE42-431A-8B19-C50556ED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4EB-1F47-4D3D-A9C5-A3E9A955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C721-16BE-493E-8CD7-8E528F34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6418-D6E9-4DBD-AA8A-877E1689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6C5C-6C01-49F4-ABFE-DD55C795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FA92-DC6F-4907-B14E-61FDE3C1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CD5F-7BE5-4C63-97E5-1923A3C852B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7F8F-525E-4EE4-82BC-56D749336F0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ординатная пряма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363600" y="1504800"/>
            <a:ext cx="8177040" cy="14493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63600" y="3677040"/>
            <a:ext cx="7394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ведите примеры положительных чисел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Приведите примеры отрицательных чисел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Чем отличаются друг от друга положительные и отрицательные числ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Что можно сказать про число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авил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42880" y="1324080"/>
            <a:ext cx="80582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Любое отрицательное число ………..    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Любое …………………….       число больше 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трицательное число ………… положительног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963720" y="1884240"/>
            <a:ext cx="18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меньш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700360" y="2573280"/>
            <a:ext cx="39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ложительное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6616800" y="39718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меньш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0" y="2968560"/>
            <a:ext cx="53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Rectangle 17"/>
          <p:cNvSpPr/>
          <p:nvPr/>
        </p:nvSpPr>
        <p:spPr>
          <a:xfrm>
            <a:off x="0" y="2968560"/>
            <a:ext cx="53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20"/>
          <p:cNvSpPr/>
          <p:nvPr/>
        </p:nvSpPr>
        <p:spPr>
          <a:xfrm>
            <a:off x="0" y="2968560"/>
            <a:ext cx="53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0" y="2968560"/>
            <a:ext cx="53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Rectangle 162"/>
          <p:cNvSpPr/>
          <p:nvPr/>
        </p:nvSpPr>
        <p:spPr>
          <a:xfrm>
            <a:off x="0" y="38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Picture 5" descr="Рисунок8"/>
          <p:cNvPicPr/>
          <p:nvPr/>
        </p:nvPicPr>
        <p:blipFill>
          <a:blip r:embed="rId1"/>
          <a:stretch/>
        </p:blipFill>
        <p:spPr>
          <a:xfrm>
            <a:off x="1763640" y="1744560"/>
            <a:ext cx="6435720" cy="46738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 rot="19270800">
            <a:off x="29160" y="1412640"/>
            <a:ext cx="244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Georgia"/>
              </a:rPr>
              <a:t>Итал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равните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565280"/>
            <a:ext cx="2971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9 и 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0 и 5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0 и -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-12 и 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-5 и 6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12 и -1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-9,6 и 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0 и -2,7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⅞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 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0 и -2 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7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⅞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и -8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⅓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6"/>
          <p:cNvSpPr/>
          <p:nvPr/>
        </p:nvSpPr>
        <p:spPr>
          <a:xfrm>
            <a:off x="1403280" y="1052640"/>
            <a:ext cx="4608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2          - 1,0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,99          2,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06         - 50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,2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,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,001          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,8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0"/>
              <p:cNvSpPr txBox="1"/>
              <p:nvPr/>
            </p:nvSpPr>
            <p:spPr>
              <a:xfrm>
                <a:off x="5940360" y="2421000"/>
                <a:ext cx="451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2"/>
              <p:cNvSpPr txBox="1"/>
              <p:nvPr/>
            </p:nvSpPr>
            <p:spPr>
              <a:xfrm>
                <a:off x="4067280" y="4581360"/>
                <a:ext cx="689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3"/>
              <p:cNvSpPr txBox="1"/>
              <p:nvPr/>
            </p:nvSpPr>
            <p:spPr>
              <a:xfrm>
                <a:off x="5651640" y="1268280"/>
                <a:ext cx="6904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4"/>
              <p:cNvSpPr txBox="1"/>
              <p:nvPr/>
            </p:nvSpPr>
            <p:spPr>
              <a:xfrm>
                <a:off x="7596360" y="1197000"/>
                <a:ext cx="3506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Text Box 15"/>
          <p:cNvSpPr/>
          <p:nvPr/>
        </p:nvSpPr>
        <p:spPr>
          <a:xfrm>
            <a:off x="7596360" y="2637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6"/>
              <p:cNvSpPr txBox="1"/>
              <p:nvPr/>
            </p:nvSpPr>
            <p:spPr>
              <a:xfrm>
                <a:off x="5925960" y="3541680"/>
                <a:ext cx="45108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7"/>
              <p:cNvSpPr txBox="1"/>
              <p:nvPr/>
            </p:nvSpPr>
            <p:spPr>
              <a:xfrm>
                <a:off x="7380360" y="3429000"/>
                <a:ext cx="8539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Line 18"/>
          <p:cNvSpPr/>
          <p:nvPr/>
        </p:nvSpPr>
        <p:spPr>
          <a:xfrm>
            <a:off x="5292720" y="1197000"/>
            <a:ext cx="0" cy="4968720"/>
          </a:xfrm>
          <a:prstGeom prst="line">
            <a:avLst/>
          </a:prstGeom>
          <a:ln w="1908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2050920" y="404640"/>
            <a:ext cx="338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-387360" y="5796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 Unicode MS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3520" y="1081080"/>
          <a:ext cx="5470560" cy="1384200"/>
        </p:xfrm>
        <a:graphic>
          <a:graphicData uri="http://schemas.openxmlformats.org/drawingml/2006/table">
            <a:tbl>
              <a:tblPr/>
              <a:tblGrid>
                <a:gridCol w="658800"/>
                <a:gridCol w="662040"/>
                <a:gridCol w="660240"/>
                <a:gridCol w="662040"/>
                <a:gridCol w="662040"/>
                <a:gridCol w="662040"/>
                <a:gridCol w="842760"/>
                <a:gridCol w="660600"/>
              </a:tblGrid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48"/>
          <p:cNvSpPr/>
          <p:nvPr/>
        </p:nvSpPr>
        <p:spPr>
          <a:xfrm>
            <a:off x="620640" y="1773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49"/>
          <p:cNvSpPr/>
          <p:nvPr/>
        </p:nvSpPr>
        <p:spPr>
          <a:xfrm>
            <a:off x="1235160" y="177336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51"/>
          <p:cNvSpPr/>
          <p:nvPr/>
        </p:nvSpPr>
        <p:spPr>
          <a:xfrm>
            <a:off x="2542680" y="1824120"/>
            <a:ext cx="5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52"/>
          <p:cNvSpPr/>
          <p:nvPr/>
        </p:nvSpPr>
        <p:spPr>
          <a:xfrm>
            <a:off x="3273840" y="177336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53"/>
          <p:cNvSpPr/>
          <p:nvPr/>
        </p:nvSpPr>
        <p:spPr>
          <a:xfrm>
            <a:off x="3987720" y="1773360"/>
            <a:ext cx="5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54"/>
          <p:cNvSpPr/>
          <p:nvPr/>
        </p:nvSpPr>
        <p:spPr>
          <a:xfrm>
            <a:off x="4723200" y="1773360"/>
            <a:ext cx="4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55"/>
          <p:cNvSpPr/>
          <p:nvPr/>
        </p:nvSpPr>
        <p:spPr>
          <a:xfrm>
            <a:off x="1961640" y="1773360"/>
            <a:ext cx="4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57"/>
          <p:cNvSpPr/>
          <p:nvPr/>
        </p:nvSpPr>
        <p:spPr>
          <a:xfrm>
            <a:off x="5415120" y="1744560"/>
            <a:ext cx="5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60"/>
              <p:cNvSpPr txBox="1"/>
              <p:nvPr/>
            </p:nvSpPr>
            <p:spPr>
              <a:xfrm>
                <a:off x="620640" y="1001880"/>
                <a:ext cx="41292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Rectangle 62"/>
          <p:cNvSpPr/>
          <p:nvPr/>
        </p:nvSpPr>
        <p:spPr>
          <a:xfrm flipH="1">
            <a:off x="1319040" y="671400"/>
            <a:ext cx="34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64"/>
          <p:cNvSpPr/>
          <p:nvPr/>
        </p:nvSpPr>
        <p:spPr>
          <a:xfrm>
            <a:off x="2665080" y="1174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65"/>
          <p:cNvSpPr/>
          <p:nvPr/>
        </p:nvSpPr>
        <p:spPr>
          <a:xfrm>
            <a:off x="3291120" y="1174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66"/>
          <p:cNvSpPr/>
          <p:nvPr/>
        </p:nvSpPr>
        <p:spPr>
          <a:xfrm>
            <a:off x="3838680" y="11746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67"/>
          <p:cNvSpPr/>
          <p:nvPr/>
        </p:nvSpPr>
        <p:spPr>
          <a:xfrm>
            <a:off x="4586400" y="11746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,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68"/>
          <p:cNvSpPr/>
          <p:nvPr/>
        </p:nvSpPr>
        <p:spPr>
          <a:xfrm>
            <a:off x="1808280" y="1235160"/>
            <a:ext cx="7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1,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70"/>
          <p:cNvSpPr/>
          <p:nvPr/>
        </p:nvSpPr>
        <p:spPr>
          <a:xfrm>
            <a:off x="5546880" y="117468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74"/>
          <p:cNvSpPr/>
          <p:nvPr/>
        </p:nvSpPr>
        <p:spPr>
          <a:xfrm>
            <a:off x="2843280" y="2781360"/>
            <a:ext cx="180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76"/>
          <p:cNvSpPr/>
          <p:nvPr/>
        </p:nvSpPr>
        <p:spPr>
          <a:xfrm>
            <a:off x="-252360" y="2941560"/>
            <a:ext cx="273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 Unicode MS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25360" y="3484440"/>
          <a:ext cx="8209080" cy="1295640"/>
        </p:xfrm>
        <a:graphic>
          <a:graphicData uri="http://schemas.openxmlformats.org/drawingml/2006/table">
            <a:tbl>
              <a:tblPr/>
              <a:tblGrid>
                <a:gridCol w="547920"/>
                <a:gridCol w="545760"/>
                <a:gridCol w="547920"/>
                <a:gridCol w="547560"/>
                <a:gridCol w="547920"/>
                <a:gridCol w="647640"/>
                <a:gridCol w="504720"/>
                <a:gridCol w="638280"/>
                <a:gridCol w="514080"/>
                <a:gridCol w="503280"/>
                <a:gridCol w="505080"/>
                <a:gridCol w="517320"/>
                <a:gridCol w="547920"/>
                <a:gridCol w="546120"/>
                <a:gridCol w="54756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1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128"/>
          <p:cNvSpPr/>
          <p:nvPr/>
        </p:nvSpPr>
        <p:spPr>
          <a:xfrm>
            <a:off x="306360" y="42210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129"/>
          <p:cNvSpPr/>
          <p:nvPr/>
        </p:nvSpPr>
        <p:spPr>
          <a:xfrm>
            <a:off x="824040" y="4221000"/>
            <a:ext cx="53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130"/>
          <p:cNvSpPr/>
          <p:nvPr/>
        </p:nvSpPr>
        <p:spPr>
          <a:xfrm>
            <a:off x="1328040" y="4221000"/>
            <a:ext cx="5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131"/>
          <p:cNvSpPr/>
          <p:nvPr/>
        </p:nvSpPr>
        <p:spPr>
          <a:xfrm>
            <a:off x="1944000" y="4221000"/>
            <a:ext cx="5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Ф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132"/>
          <p:cNvSpPr/>
          <p:nvPr/>
        </p:nvSpPr>
        <p:spPr>
          <a:xfrm>
            <a:off x="2488680" y="4221000"/>
            <a:ext cx="4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133"/>
          <p:cNvSpPr/>
          <p:nvPr/>
        </p:nvSpPr>
        <p:spPr>
          <a:xfrm>
            <a:off x="3063960" y="4221000"/>
            <a:ext cx="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134"/>
          <p:cNvSpPr/>
          <p:nvPr/>
        </p:nvSpPr>
        <p:spPr>
          <a:xfrm>
            <a:off x="3547080" y="4221000"/>
            <a:ext cx="65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135"/>
          <p:cNvSpPr/>
          <p:nvPr/>
        </p:nvSpPr>
        <p:spPr>
          <a:xfrm>
            <a:off x="4089960" y="4221000"/>
            <a:ext cx="4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136"/>
          <p:cNvSpPr/>
          <p:nvPr/>
        </p:nvSpPr>
        <p:spPr>
          <a:xfrm>
            <a:off x="4643280" y="4221000"/>
            <a:ext cx="6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137"/>
          <p:cNvSpPr/>
          <p:nvPr/>
        </p:nvSpPr>
        <p:spPr>
          <a:xfrm>
            <a:off x="5310000" y="4221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138"/>
          <p:cNvSpPr/>
          <p:nvPr/>
        </p:nvSpPr>
        <p:spPr>
          <a:xfrm>
            <a:off x="5719680" y="422100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139"/>
          <p:cNvSpPr/>
          <p:nvPr/>
        </p:nvSpPr>
        <p:spPr>
          <a:xfrm>
            <a:off x="6299640" y="422100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140"/>
          <p:cNvSpPr/>
          <p:nvPr/>
        </p:nvSpPr>
        <p:spPr>
          <a:xfrm>
            <a:off x="6833880" y="4221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141"/>
          <p:cNvSpPr/>
          <p:nvPr/>
        </p:nvSpPr>
        <p:spPr>
          <a:xfrm>
            <a:off x="7377840" y="422100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142"/>
          <p:cNvSpPr/>
          <p:nvPr/>
        </p:nvSpPr>
        <p:spPr>
          <a:xfrm>
            <a:off x="7890840" y="4221000"/>
            <a:ext cx="5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143"/>
          <p:cNvSpPr/>
          <p:nvPr/>
        </p:nvSpPr>
        <p:spPr>
          <a:xfrm>
            <a:off x="203040" y="369252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0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144"/>
          <p:cNvSpPr/>
          <p:nvPr/>
        </p:nvSpPr>
        <p:spPr>
          <a:xfrm>
            <a:off x="906480" y="3716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145"/>
          <p:cNvSpPr/>
          <p:nvPr/>
        </p:nvSpPr>
        <p:spPr>
          <a:xfrm>
            <a:off x="1409760" y="3716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47"/>
              <p:cNvSpPr txBox="1"/>
              <p:nvPr/>
            </p:nvSpPr>
            <p:spPr>
              <a:xfrm>
                <a:off x="2556000" y="3484440"/>
                <a:ext cx="2556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Rectangle 148"/>
          <p:cNvSpPr/>
          <p:nvPr/>
        </p:nvSpPr>
        <p:spPr>
          <a:xfrm>
            <a:off x="2891160" y="37162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,1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151"/>
          <p:cNvSpPr/>
          <p:nvPr/>
        </p:nvSpPr>
        <p:spPr>
          <a:xfrm>
            <a:off x="3646080" y="3716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156"/>
          <p:cNvSpPr/>
          <p:nvPr/>
        </p:nvSpPr>
        <p:spPr>
          <a:xfrm>
            <a:off x="4716360" y="369252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3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157"/>
          <p:cNvSpPr/>
          <p:nvPr/>
        </p:nvSpPr>
        <p:spPr>
          <a:xfrm>
            <a:off x="5243040" y="371628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6,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160"/>
          <p:cNvSpPr/>
          <p:nvPr/>
        </p:nvSpPr>
        <p:spPr>
          <a:xfrm>
            <a:off x="5873760" y="3716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161"/>
          <p:cNvSpPr/>
          <p:nvPr/>
        </p:nvSpPr>
        <p:spPr>
          <a:xfrm>
            <a:off x="6311520" y="3716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162"/>
          <p:cNvSpPr/>
          <p:nvPr/>
        </p:nvSpPr>
        <p:spPr>
          <a:xfrm>
            <a:off x="6934320" y="3716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163"/>
          <p:cNvSpPr/>
          <p:nvPr/>
        </p:nvSpPr>
        <p:spPr>
          <a:xfrm>
            <a:off x="7896600" y="371628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0,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64"/>
              <p:cNvSpPr txBox="1"/>
              <p:nvPr/>
            </p:nvSpPr>
            <p:spPr>
              <a:xfrm>
                <a:off x="7451640" y="3486240"/>
                <a:ext cx="381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400800" cy="903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равнение по 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752720" y="782640"/>
            <a:ext cx="3019320" cy="5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ост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1238400" y="2286000"/>
            <a:ext cx="1725480" cy="2465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2"/>
          <a:stretch/>
        </p:blipFill>
        <p:spPr>
          <a:xfrm>
            <a:off x="4030560" y="1565280"/>
            <a:ext cx="1960560" cy="3427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3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83960" y="-50760"/>
            <a:ext cx="6497640" cy="954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равнение по 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030200" y="902880"/>
            <a:ext cx="35514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ъем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685800" y="2406600"/>
            <a:ext cx="2043000" cy="1951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3309840" y="2222640"/>
            <a:ext cx="3967200" cy="2030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3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85760" y="-360"/>
            <a:ext cx="5290920" cy="903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равнение по 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052600" y="903240"/>
            <a:ext cx="252900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сс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1204920" y="2216160"/>
            <a:ext cx="6558120" cy="3016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3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243000" y="1263600"/>
            <a:ext cx="3547800" cy="2846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4211640" y="1370160"/>
            <a:ext cx="3306600" cy="2739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9"/>
          <p:cNvSpPr/>
          <p:nvPr/>
        </p:nvSpPr>
        <p:spPr>
          <a:xfrm>
            <a:off x="1084320" y="4390920"/>
            <a:ext cx="25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«_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572000" y="4390920"/>
            <a:ext cx="24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«+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905040" y="301680"/>
            <a:ext cx="66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равнение по температур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5"/>
          <p:cNvSpPr/>
          <p:nvPr/>
        </p:nvSpPr>
        <p:spPr>
          <a:xfrm>
            <a:off x="1023840" y="974160"/>
            <a:ext cx="625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Что можно сравнить в математике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1619280" y="765000"/>
            <a:ext cx="504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 Unicode MS"/>
              </a:rPr>
              <a:t>Сравнение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 Unicode MS"/>
              </a:rPr>
              <a:t>чисе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5" descr="j0300840"/>
          <p:cNvPicPr/>
          <p:nvPr/>
        </p:nvPicPr>
        <p:blipFill>
          <a:blip r:embed="rId1"/>
          <a:stretch/>
        </p:blipFill>
        <p:spPr>
          <a:xfrm>
            <a:off x="4500720" y="3789360"/>
            <a:ext cx="2952720" cy="24876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 rot="20700600">
            <a:off x="539640" y="1125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- 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7"/>
          <p:cNvSpPr/>
          <p:nvPr/>
        </p:nvSpPr>
        <p:spPr>
          <a:xfrm rot="19653600">
            <a:off x="972000" y="3933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- 7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8"/>
          <p:cNvSpPr/>
          <p:nvPr/>
        </p:nvSpPr>
        <p:spPr>
          <a:xfrm rot="928800">
            <a:off x="6587280" y="836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9"/>
          <p:cNvSpPr/>
          <p:nvPr/>
        </p:nvSpPr>
        <p:spPr>
          <a:xfrm rot="20593200">
            <a:off x="7164360" y="2852280"/>
            <a:ext cx="6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10"/>
          <p:cNvSpPr/>
          <p:nvPr/>
        </p:nvSpPr>
        <p:spPr>
          <a:xfrm rot="963000">
            <a:off x="3419280" y="47239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animClr clrSpc="rgb">
                                      <p:cBhvr>
                                        <p:cTn id="12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set>
                                      <p:cBhvr>
                                        <p:cTn id="123" dur="3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animClr clrSpc="rgb">
                                      <p:cBhvr>
                                        <p:cTn id="12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set>
                                      <p:cBhvr>
                                        <p:cTn id="128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animClr clrSpc="rgb">
                                      <p:cBhvr>
                                        <p:cTn id="13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set>
                                      <p:cBhvr>
                                        <p:cTn id="133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animClr clrSpc="rgb">
                                      <p:cBhvr>
                                        <p:cTn id="13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set>
                                      <p:cBhvr>
                                        <p:cTn id="138" dur="3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animClr clrSpc="rgb">
                                      <p:cBhvr>
                                        <p:cTn id="1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set>
                                      <p:cBhvr>
                                        <p:cTn id="143" dur="3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равните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)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 0           г) а и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б)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 0           д) с и а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) 0 и с           е)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и 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334360" cy="1476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3:14:04Z</dcterms:created>
  <dc:creator>Малышев</dc:creator>
  <dc:description/>
  <dc:language>en-US</dc:language>
  <cp:lastModifiedBy>Макаров</cp:lastModifiedBy>
  <dcterms:modified xsi:type="dcterms:W3CDTF">2012-02-24T08:28:13Z</dcterms:modified>
  <cp:revision>28</cp:revision>
  <dc:subject/>
  <dc:title>Слайд 1</dc:title>
</cp:coreProperties>
</file>