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571-9004-4725-91F6-47B3B19E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F68-7A1D-454B-A9C1-E9140B55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82A-6D92-431F-802B-B3DA4923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B55-027E-4623-B509-E0FB9231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9DAE-686F-472C-9E61-01E6E3A4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1595-8D7E-4E0C-ADDB-10B26C41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7D24-54F1-4E24-A96E-0925FA4E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931F-3990-4220-A60D-F973603F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FD06-CA96-42C9-976D-DBD89374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C263-C82D-44BF-AC62-955E3F10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5C92-7ACE-40B4-8286-DA70FE3D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435-182F-445F-9419-0283C930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E4C5-EDB9-40A1-B1C1-55BECEB8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41D0-43C5-41BC-89B0-040E15A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4802-F5B1-43AE-83B5-8BD3681B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376D-48C3-4C99-BB03-C6284067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1388-4D40-4173-B6FA-930E98B4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B88-8E84-4CA1-86F4-52A3D257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53A-2A98-4336-94DF-E1930B79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D4E-88DB-417A-8F7A-E8D736B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D13-0D13-43BB-8195-8305C59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681-21F4-4116-B61C-0B4B8947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690-75B5-4EB1-AD03-F596C453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6BE-86BC-48F2-AA40-5A14A994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4190-FFF1-4D03-86A5-4AFF9832C89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A13F-E1A8-419F-9656-60E62780B7C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ординатн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63600" y="1504800"/>
            <a:ext cx="8177040" cy="144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63600" y="3677040"/>
            <a:ext cx="739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ведите примеры положительных чисе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риведите примеры отрицательных чисе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Чем отличаются друг от друга положительные и отрицательные числ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Что можно сказать про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ил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42880" y="1324080"/>
            <a:ext cx="8058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юбое отрицательное число ………..   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юбое …………………….       число больше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рицательное число ………… положительног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963720" y="188424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ньш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700360" y="2573280"/>
            <a:ext cx="39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ложительно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616800" y="39718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ньш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162"/>
          <p:cNvSpPr/>
          <p:nvPr/>
        </p:nvSpPr>
        <p:spPr>
          <a:xfrm>
            <a:off x="0" y="38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5" descr="Рисунок8"/>
          <p:cNvPicPr/>
          <p:nvPr/>
        </p:nvPicPr>
        <p:blipFill>
          <a:blip r:embed="rId1"/>
          <a:stretch/>
        </p:blipFill>
        <p:spPr>
          <a:xfrm>
            <a:off x="1763640" y="1744560"/>
            <a:ext cx="6435720" cy="4673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 rot="19270800">
            <a:off x="29160" y="1412640"/>
            <a:ext cx="24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Georgia"/>
              </a:rPr>
              <a:t>Итал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авните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565280"/>
            <a:ext cx="2971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9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5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12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5 и 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2 и -1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9,6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2,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⅞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2 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⅞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-8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1403280" y="1052640"/>
            <a:ext cx="4608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2          - 1,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,99          2,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6         - 50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,2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,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,001          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,8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0"/>
              <p:cNvSpPr txBox="1"/>
              <p:nvPr/>
            </p:nvSpPr>
            <p:spPr>
              <a:xfrm>
                <a:off x="5940360" y="2421000"/>
                <a:ext cx="451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4067280" y="4581360"/>
                <a:ext cx="689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3"/>
              <p:cNvSpPr txBox="1"/>
              <p:nvPr/>
            </p:nvSpPr>
            <p:spPr>
              <a:xfrm>
                <a:off x="5651640" y="1268280"/>
                <a:ext cx="6904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4"/>
              <p:cNvSpPr txBox="1"/>
              <p:nvPr/>
            </p:nvSpPr>
            <p:spPr>
              <a:xfrm>
                <a:off x="7596360" y="1197000"/>
                <a:ext cx="350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15"/>
          <p:cNvSpPr/>
          <p:nvPr/>
        </p:nvSpPr>
        <p:spPr>
          <a:xfrm>
            <a:off x="7596360" y="26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6"/>
              <p:cNvSpPr txBox="1"/>
              <p:nvPr/>
            </p:nvSpPr>
            <p:spPr>
              <a:xfrm>
                <a:off x="5925960" y="3541680"/>
                <a:ext cx="451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7"/>
              <p:cNvSpPr txBox="1"/>
              <p:nvPr/>
            </p:nvSpPr>
            <p:spPr>
              <a:xfrm>
                <a:off x="7380360" y="3429000"/>
                <a:ext cx="853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Line 18"/>
          <p:cNvSpPr/>
          <p:nvPr/>
        </p:nvSpPr>
        <p:spPr>
          <a:xfrm>
            <a:off x="5292720" y="1197000"/>
            <a:ext cx="0" cy="4968720"/>
          </a:xfrm>
          <a:prstGeom prst="line">
            <a:avLst/>
          </a:prstGeom>
          <a:ln w="1908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050920" y="404640"/>
            <a:ext cx="33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-387360" y="579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Unicode MS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081080"/>
          <a:ext cx="5470560" cy="138420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0240"/>
                <a:gridCol w="662040"/>
                <a:gridCol w="662040"/>
                <a:gridCol w="662040"/>
                <a:gridCol w="842760"/>
                <a:gridCol w="6606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48"/>
          <p:cNvSpPr/>
          <p:nvPr/>
        </p:nvSpPr>
        <p:spPr>
          <a:xfrm>
            <a:off x="620640" y="17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49"/>
          <p:cNvSpPr/>
          <p:nvPr/>
        </p:nvSpPr>
        <p:spPr>
          <a:xfrm>
            <a:off x="1235160" y="1773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51"/>
          <p:cNvSpPr/>
          <p:nvPr/>
        </p:nvSpPr>
        <p:spPr>
          <a:xfrm>
            <a:off x="2542680" y="182412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52"/>
          <p:cNvSpPr/>
          <p:nvPr/>
        </p:nvSpPr>
        <p:spPr>
          <a:xfrm>
            <a:off x="3273840" y="177336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53"/>
          <p:cNvSpPr/>
          <p:nvPr/>
        </p:nvSpPr>
        <p:spPr>
          <a:xfrm>
            <a:off x="3987720" y="1773360"/>
            <a:ext cx="5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54"/>
          <p:cNvSpPr/>
          <p:nvPr/>
        </p:nvSpPr>
        <p:spPr>
          <a:xfrm>
            <a:off x="4723200" y="177336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55"/>
          <p:cNvSpPr/>
          <p:nvPr/>
        </p:nvSpPr>
        <p:spPr>
          <a:xfrm>
            <a:off x="1961640" y="177336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5415120" y="174456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0"/>
              <p:cNvSpPr txBox="1"/>
              <p:nvPr/>
            </p:nvSpPr>
            <p:spPr>
              <a:xfrm>
                <a:off x="620640" y="1001880"/>
                <a:ext cx="4129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Rectangle 62"/>
          <p:cNvSpPr/>
          <p:nvPr/>
        </p:nvSpPr>
        <p:spPr>
          <a:xfrm flipH="1">
            <a:off x="1319040" y="671400"/>
            <a:ext cx="3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64"/>
          <p:cNvSpPr/>
          <p:nvPr/>
        </p:nvSpPr>
        <p:spPr>
          <a:xfrm>
            <a:off x="2665080" y="1174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65"/>
          <p:cNvSpPr/>
          <p:nvPr/>
        </p:nvSpPr>
        <p:spPr>
          <a:xfrm>
            <a:off x="3291120" y="1174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66"/>
          <p:cNvSpPr/>
          <p:nvPr/>
        </p:nvSpPr>
        <p:spPr>
          <a:xfrm>
            <a:off x="3838680" y="1174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67"/>
          <p:cNvSpPr/>
          <p:nvPr/>
        </p:nvSpPr>
        <p:spPr>
          <a:xfrm>
            <a:off x="4586400" y="11746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1808280" y="1235160"/>
            <a:ext cx="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1,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0"/>
          <p:cNvSpPr/>
          <p:nvPr/>
        </p:nvSpPr>
        <p:spPr>
          <a:xfrm>
            <a:off x="5546880" y="11746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74"/>
          <p:cNvSpPr/>
          <p:nvPr/>
        </p:nvSpPr>
        <p:spPr>
          <a:xfrm>
            <a:off x="2843280" y="278136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6"/>
          <p:cNvSpPr/>
          <p:nvPr/>
        </p:nvSpPr>
        <p:spPr>
          <a:xfrm>
            <a:off x="-252360" y="2941560"/>
            <a:ext cx="273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Unicode MS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5360" y="3484440"/>
          <a:ext cx="8209080" cy="1295640"/>
        </p:xfrm>
        <a:graphic>
          <a:graphicData uri="http://schemas.openxmlformats.org/drawingml/2006/table">
            <a:tbl>
              <a:tblPr/>
              <a:tblGrid>
                <a:gridCol w="547920"/>
                <a:gridCol w="545760"/>
                <a:gridCol w="547920"/>
                <a:gridCol w="547560"/>
                <a:gridCol w="547920"/>
                <a:gridCol w="647640"/>
                <a:gridCol w="504720"/>
                <a:gridCol w="638280"/>
                <a:gridCol w="514080"/>
                <a:gridCol w="503280"/>
                <a:gridCol w="505080"/>
                <a:gridCol w="517320"/>
                <a:gridCol w="547920"/>
                <a:gridCol w="546120"/>
                <a:gridCol w="54756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28"/>
          <p:cNvSpPr/>
          <p:nvPr/>
        </p:nvSpPr>
        <p:spPr>
          <a:xfrm>
            <a:off x="306360" y="4221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129"/>
          <p:cNvSpPr/>
          <p:nvPr/>
        </p:nvSpPr>
        <p:spPr>
          <a:xfrm>
            <a:off x="824040" y="4221000"/>
            <a:ext cx="5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30"/>
          <p:cNvSpPr/>
          <p:nvPr/>
        </p:nvSpPr>
        <p:spPr>
          <a:xfrm>
            <a:off x="1328040" y="422100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131"/>
          <p:cNvSpPr/>
          <p:nvPr/>
        </p:nvSpPr>
        <p:spPr>
          <a:xfrm>
            <a:off x="1944000" y="422100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132"/>
          <p:cNvSpPr/>
          <p:nvPr/>
        </p:nvSpPr>
        <p:spPr>
          <a:xfrm>
            <a:off x="2488680" y="422100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33"/>
          <p:cNvSpPr/>
          <p:nvPr/>
        </p:nvSpPr>
        <p:spPr>
          <a:xfrm>
            <a:off x="3063960" y="4221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134"/>
          <p:cNvSpPr/>
          <p:nvPr/>
        </p:nvSpPr>
        <p:spPr>
          <a:xfrm>
            <a:off x="3547080" y="4221000"/>
            <a:ext cx="6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4089960" y="422100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136"/>
          <p:cNvSpPr/>
          <p:nvPr/>
        </p:nvSpPr>
        <p:spPr>
          <a:xfrm>
            <a:off x="4643280" y="4221000"/>
            <a:ext cx="6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37"/>
          <p:cNvSpPr/>
          <p:nvPr/>
        </p:nvSpPr>
        <p:spPr>
          <a:xfrm>
            <a:off x="5310000" y="42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8"/>
          <p:cNvSpPr/>
          <p:nvPr/>
        </p:nvSpPr>
        <p:spPr>
          <a:xfrm>
            <a:off x="5719680" y="422100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39"/>
          <p:cNvSpPr/>
          <p:nvPr/>
        </p:nvSpPr>
        <p:spPr>
          <a:xfrm>
            <a:off x="6299640" y="422100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40"/>
          <p:cNvSpPr/>
          <p:nvPr/>
        </p:nvSpPr>
        <p:spPr>
          <a:xfrm>
            <a:off x="6833880" y="42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41"/>
          <p:cNvSpPr/>
          <p:nvPr/>
        </p:nvSpPr>
        <p:spPr>
          <a:xfrm>
            <a:off x="7377840" y="422100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42"/>
          <p:cNvSpPr/>
          <p:nvPr/>
        </p:nvSpPr>
        <p:spPr>
          <a:xfrm>
            <a:off x="7890840" y="422100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43"/>
          <p:cNvSpPr/>
          <p:nvPr/>
        </p:nvSpPr>
        <p:spPr>
          <a:xfrm>
            <a:off x="203040" y="369252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0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44"/>
          <p:cNvSpPr/>
          <p:nvPr/>
        </p:nvSpPr>
        <p:spPr>
          <a:xfrm>
            <a:off x="90648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45"/>
          <p:cNvSpPr/>
          <p:nvPr/>
        </p:nvSpPr>
        <p:spPr>
          <a:xfrm>
            <a:off x="140976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47"/>
              <p:cNvSpPr txBox="1"/>
              <p:nvPr/>
            </p:nvSpPr>
            <p:spPr>
              <a:xfrm>
                <a:off x="2556000" y="3484440"/>
                <a:ext cx="255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148"/>
          <p:cNvSpPr/>
          <p:nvPr/>
        </p:nvSpPr>
        <p:spPr>
          <a:xfrm>
            <a:off x="2891160" y="37162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1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151"/>
          <p:cNvSpPr/>
          <p:nvPr/>
        </p:nvSpPr>
        <p:spPr>
          <a:xfrm>
            <a:off x="3646080" y="3716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56"/>
          <p:cNvSpPr/>
          <p:nvPr/>
        </p:nvSpPr>
        <p:spPr>
          <a:xfrm>
            <a:off x="4716360" y="36925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157"/>
          <p:cNvSpPr/>
          <p:nvPr/>
        </p:nvSpPr>
        <p:spPr>
          <a:xfrm>
            <a:off x="5243040" y="37162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6,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160"/>
          <p:cNvSpPr/>
          <p:nvPr/>
        </p:nvSpPr>
        <p:spPr>
          <a:xfrm>
            <a:off x="587376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161"/>
          <p:cNvSpPr/>
          <p:nvPr/>
        </p:nvSpPr>
        <p:spPr>
          <a:xfrm>
            <a:off x="6311520" y="3716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62"/>
          <p:cNvSpPr/>
          <p:nvPr/>
        </p:nvSpPr>
        <p:spPr>
          <a:xfrm>
            <a:off x="693432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63"/>
          <p:cNvSpPr/>
          <p:nvPr/>
        </p:nvSpPr>
        <p:spPr>
          <a:xfrm>
            <a:off x="7896600" y="3716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0,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64"/>
              <p:cNvSpPr txBox="1"/>
              <p:nvPr/>
            </p:nvSpPr>
            <p:spPr>
              <a:xfrm>
                <a:off x="7451640" y="3486240"/>
                <a:ext cx="381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903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52720" y="782640"/>
            <a:ext cx="3019320" cy="5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ст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1238400" y="2286000"/>
            <a:ext cx="1725480" cy="246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4030560" y="1565280"/>
            <a:ext cx="1960560" cy="3427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3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83960" y="-50760"/>
            <a:ext cx="6497640" cy="954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30200" y="902880"/>
            <a:ext cx="35514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ъем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685800" y="2406600"/>
            <a:ext cx="2043000" cy="1951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3309840" y="2222640"/>
            <a:ext cx="3967200" cy="2030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85760" y="-360"/>
            <a:ext cx="5290920" cy="903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052600" y="903240"/>
            <a:ext cx="25290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204920" y="2216160"/>
            <a:ext cx="6558120" cy="3016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3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43000" y="1263600"/>
            <a:ext cx="3547800" cy="284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4211640" y="1370160"/>
            <a:ext cx="3306600" cy="2739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1084320" y="4390920"/>
            <a:ext cx="25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_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572000" y="439092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+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905040" y="301680"/>
            <a:ext cx="66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равнение по температур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1023840" y="974160"/>
            <a:ext cx="625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можно сравнить в математи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619280" y="76500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</a:rPr>
              <a:t>Сравнени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</a:rPr>
              <a:t>чисе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5" descr="j0300840"/>
          <p:cNvPicPr/>
          <p:nvPr/>
        </p:nvPicPr>
        <p:blipFill>
          <a:blip r:embed="rId1"/>
          <a:stretch/>
        </p:blipFill>
        <p:spPr>
          <a:xfrm>
            <a:off x="4500720" y="3789360"/>
            <a:ext cx="2952720" cy="2487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 rot="20700600">
            <a:off x="539640" y="1125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- 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 rot="19653600">
            <a:off x="972000" y="393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- 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8"/>
          <p:cNvSpPr/>
          <p:nvPr/>
        </p:nvSpPr>
        <p:spPr>
          <a:xfrm rot="928800">
            <a:off x="6587280" y="836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9"/>
          <p:cNvSpPr/>
          <p:nvPr/>
        </p:nvSpPr>
        <p:spPr>
          <a:xfrm rot="20593200">
            <a:off x="7164360" y="2852280"/>
            <a:ext cx="6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10"/>
          <p:cNvSpPr/>
          <p:nvPr/>
        </p:nvSpPr>
        <p:spPr>
          <a:xfrm rot="963000">
            <a:off x="3419280" y="4723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23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28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33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43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равнит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0           г) а и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0           д) с и 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0 и с           е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и 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334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3:14:04Z</dcterms:created>
  <dc:creator>Малышев</dc:creator>
  <dc:description/>
  <dc:language>en-US</dc:language>
  <cp:lastModifiedBy>Макаров</cp:lastModifiedBy>
  <dcterms:modified xsi:type="dcterms:W3CDTF">2012-02-24T08:28:13Z</dcterms:modified>
  <cp:revision>28</cp:revision>
  <dc:subject/>
  <dc:title>Слайд 1</dc:title>
</cp:coreProperties>
</file>