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E01-04D3-48E3-9B7C-7F73D31A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980-FDF3-48C1-BEA9-275AAC70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0E1-C8ED-4ABB-AE8B-B30A271E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4B8-6224-4063-8555-E86DDBE6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A89E-49E9-4952-B197-B0784117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E990-C343-4686-AE29-96DC2E0B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5DFA-871F-4CD1-863B-18A647A4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E0EC-F3BE-4159-A5EB-8F98D0DB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3B2E-07AC-4A91-97A2-81F6F76F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2EB0-75D0-4A92-BA1D-6CF27AFE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2811-C4A3-4B77-BA0C-F859A68C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5E3-F067-496B-88EE-CAAA0FEC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F88B-EA0A-47D0-8BBD-3CB4B367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6C2A-B9B2-4D21-A061-72FBE53D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90E2-663C-4045-8546-C02899C5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CBBE-D3EA-4D9E-9F9D-D9448D5B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0DA4-23BF-4C2D-B4D7-8B60EADF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BCA-A355-460D-BE72-F57B7EB7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F2C-C0FF-4C67-B5F3-EAB2BB81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B05-5C2E-4965-945C-14E715E9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256-C67C-46D0-9A84-EC8C8D35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F78-406B-4EC8-A480-D3A2D3AC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B9C-8327-4E1A-B2D1-750A60BE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20A-0382-4FCB-8751-9BDF40EF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6427-AE42-4471-949B-D821B6ED08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F596-A645-445C-98BF-7638CB367C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 положительных и отрицательных чис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4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896472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170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-2) ∙ 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-2) ∙ 3 = (-2) + (-2) + (-2)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∙ (-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ереместительному закону умножения (а∙в=в∙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 ∙  (-3) = (-3) ∙ 2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перемножить два числа с разными знаками, надо перемножить модули этих чисел и поставить перед полученным числом знак «минус»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-5) ∙ 3 = -(5 ∙ 3) = -15;     8 ∙ (-6) = -(8 ∙ 6) = -48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множение чисел с разными знака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33800" cy="554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325680" cy="225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4032360" cy="55436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0"/>
          <p:cNvSpPr/>
          <p:nvPr/>
        </p:nvSpPr>
        <p:spPr>
          <a:xfrm>
            <a:off x="4716360" y="1700280"/>
            <a:ext cx="33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  великий русский ученый, математик и механик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еонард Эйле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яснил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авило умножения отрицательных чисе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но следующ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но, что (-2)*3=(-6). Поэтому 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 не может быть равно (-6). Однако оно должно быть связано как-то с числом 6. Остается одна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1"/>
          <p:cNvSpPr/>
          <p:nvPr/>
        </p:nvSpPr>
        <p:spPr>
          <a:xfrm>
            <a:off x="2340000" y="213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900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им (-2)∙(-3)=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получим (-6) или 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24720" cy="165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угой способ доказать, что  (-3)*(-2)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изменении знака любого множителя знак произведения меняется, а модуль остается тот же. А если меняется знак у обоих множителей, то в этом случае знак изменится дважды, то есть результат останется без измен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 ∙ 3 = 6;      -2 ∙ 3 = -6;     (-2) ∙ (-3) = -(-6) =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перемножить два отрицательных числа, надо перемножить их моду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5) ∙ (-3) = 5 ∙ 3 = 15;     -10 ∙ (-7) = 10 ∙ 7 = 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4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424720" cy="165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им данные правила, решая практические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7071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выш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16360" y="508464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* 3 = 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7440" y="378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1413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19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-36360" y="364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0" y="4149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684360" y="234936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649440" y="397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 flipV="1">
            <a:off x="1258920" y="285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V="1">
            <a:off x="125892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 flipV="1">
            <a:off x="1258920" y="1773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684360" y="292428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0920" y="198900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71640" y="5373720"/>
            <a:ext cx="44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3 = -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8" name="Group 32"/>
          <p:cNvGrpSpPr/>
          <p:nvPr/>
        </p:nvGrpSpPr>
        <p:grpSpPr>
          <a:xfrm>
            <a:off x="0" y="378000"/>
            <a:ext cx="1584360" cy="6480000"/>
            <a:chOff x="0" y="378000"/>
            <a:chExt cx="1584360" cy="6480000"/>
          </a:xfrm>
        </p:grpSpPr>
        <p:sp>
          <p:nvSpPr>
            <p:cNvPr id="149" name="Freeform 5"/>
            <p:cNvSpPr/>
            <p:nvPr/>
          </p:nvSpPr>
          <p:spPr>
            <a:xfrm>
              <a:off x="82404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21744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21744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21744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21744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08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21744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7308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7308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7308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7308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7308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64908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72216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64908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>
              <a:off x="64908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64908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>
              <a:off x="64908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>
              <a:off x="64908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64908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64908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64908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4908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8"/>
            <p:cNvSpPr/>
            <p:nvPr/>
          </p:nvSpPr>
          <p:spPr>
            <a:xfrm>
              <a:off x="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9"/>
            <p:cNvSpPr/>
            <p:nvPr/>
          </p:nvSpPr>
          <p:spPr>
            <a:xfrm>
              <a:off x="64764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33"/>
          <p:cNvSpPr/>
          <p:nvPr/>
        </p:nvSpPr>
        <p:spPr>
          <a:xfrm flipV="1">
            <a:off x="125892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 flipV="1">
            <a:off x="1258920" y="4005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 flipV="1">
            <a:off x="1258920" y="508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34920" y="1989000"/>
            <a:ext cx="71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2 градуса. Сейчас термометр показывает 0 градусов. Какую температуру воздуха показывал термометр 3 часа назад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11280" y="5300640"/>
            <a:ext cx="51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f0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(-3) = 6</a:t>
            </a:r>
            <a:endParaRPr b="1" lang="en-US" sz="1800" spc="1" strike="noStrike">
              <a:ln w="12600">
                <a:solidFill>
                  <a:srgbClr val="ffcf0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50920" y="404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17440" y="1386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17440" y="1962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73080" y="3618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3080" y="4122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684360" y="23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755640" y="393372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682560" y="29242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V="1">
            <a:off x="118728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 flipV="1">
            <a:off x="1187280" y="184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18728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2936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1403280" y="1125360"/>
            <a:ext cx="678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авила  знаков при  умнож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+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–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–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+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4:15:15Z</dcterms:created>
  <dc:creator>Мелкомуковы</dc:creator>
  <dc:description/>
  <dc:language>en-US</dc:language>
  <cp:lastModifiedBy>Мелкомуковы</cp:lastModifiedBy>
  <dcterms:modified xsi:type="dcterms:W3CDTF">2012-03-05T15:58:54Z</dcterms:modified>
  <cp:revision>6</cp:revision>
  <dc:subject/>
  <dc:title>Умножение положительных и отрицательных чисел</dc:title>
</cp:coreProperties>
</file>