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5830-EF31-439C-83FE-9AB4D0D0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4966-DC95-42B9-B691-86C96847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B5B1-50D6-42DB-A24F-F71063B32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5AB4-066B-4E38-9A5B-55740F04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1104-4365-433A-AF87-9A1C4B7D4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CEAD-3F0B-4839-B983-48C01C6EC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C0CB-E57D-44A0-B636-58D829817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99B2-767B-4B6A-B695-DD2953F0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E1737-A200-495C-AAF0-E908E018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24DE-2FD5-4EEC-94A1-A685BB1D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DF8A-B50F-403E-BFF8-029C651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8D03-5ED7-445D-9314-A44FE53A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DFF0-8042-4517-9F18-7D85CA8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3A43-D02B-4663-861B-C6B71B01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9190-3DFE-4346-8E2E-081B1784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FEAB0-7ACB-4A82-84C1-F5C73132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AB79-4740-45F1-BB42-A00EF4F89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E36-8CE4-4060-8ADE-AEB74896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8CE-D7BB-4CBC-B8A7-24D941856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FEA6-0376-459C-8912-412311FA0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889C-220A-410F-99B9-AC9A5829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A435-02AA-41B1-8921-B67D0FC0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37B9-FE36-4623-A5BB-0A07599D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9C44-38F1-464E-AF40-366D8771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E951-A630-4596-A44B-9849A7DB71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D93B-4B71-41BC-8F83-0D1E9D554B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24000" y="2017800"/>
          <a:ext cx="8631000" cy="4230720"/>
        </p:xfrm>
        <a:graphic>
          <a:graphicData uri="http://schemas.openxmlformats.org/drawingml/2006/table">
            <a:tbl>
              <a:tblPr/>
              <a:tblGrid>
                <a:gridCol w="4279680"/>
                <a:gridCol w="4351320"/>
              </a:tblGrid>
              <a:tr h="4638600">
                <a:tc>
                  <a:txBody>
                    <a:bodyPr lIns="18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Представьте в виде произведения сумм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 + 65 + 65 + 65 + 65=65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Представить в виде суммы произвед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8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∙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3 = 78 + 78 + 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. Найдите значение выражения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 • 19 - 4 • 0 +1 • 1 = 20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Дан ряд чисел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4; 0; -5; -104; 8;1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) Выпишите положи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; 8;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) Выпишите отрицательные числа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; -5; -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) Найдите модуль каждого из чисел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│=1; │4│=4; │0│=0; │-5│=5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│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4│=104; │8│=8; │16│=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овер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017800"/>
          <a:ext cx="8631000" cy="4114800"/>
        </p:xfrm>
        <a:graphic>
          <a:graphicData uri="http://schemas.openxmlformats.org/drawingml/2006/table">
            <a:tbl>
              <a:tblPr/>
              <a:tblGrid>
                <a:gridCol w="4316400"/>
                <a:gridCol w="4314600"/>
              </a:tblGrid>
              <a:tr h="411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12 ∙ 6=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∙ 4 = 100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4 ∙ 10 = 6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1 ∙ 100 = 28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 + 0,5 =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3 – 0,9 = 3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4 ∙ 3 = 1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23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∙ 4 = 0,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2 ∙ 20 = 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4 ∙ 0,5 = 0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88000" y="3789360"/>
          <a:ext cx="143964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3789360"/>
                    <a:ext cx="143964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859280" y="4869000"/>
          <a:ext cx="1513080" cy="94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9280" y="4869000"/>
                    <a:ext cx="1513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32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 класс: Умножение десятичных дробей на натуральные чис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258920" y="5105520"/>
            <a:ext cx="6618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6 класс: Умножение положитель-ных и отрицательных 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Цели уро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5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десятичных дробей на натуральные  числа, в том числе на 10, 100, 1000 и т.д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6 класс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вести  правило  умножения  положительных  и  отрицательных  чисел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учить  применять  это  правило  при  выполнении  упражнени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871380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4T16:15:12Z</dcterms:created>
  <dc:creator>Мелкомуковы</dc:creator>
  <dc:description/>
  <dc:language>en-US</dc:language>
  <cp:lastModifiedBy>Uzer</cp:lastModifiedBy>
  <dcterms:modified xsi:type="dcterms:W3CDTF">2012-03-06T06:09:58Z</dcterms:modified>
  <cp:revision>4</cp:revision>
  <dc:subject/>
  <dc:title>Умножение</dc:title>
</cp:coreProperties>
</file>