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72F-BAEC-4A61-9F8D-246643C3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A07-7949-44D1-8A26-466ECF3A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198-A39A-43A9-8C60-AD4855A4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BE6-C7CE-4C01-A065-241552E7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B77D-4654-4609-99DB-31968C28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6A0C-43F1-4B84-B4DA-A98C4D9B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DDED-6144-4A3B-B8A3-EA48D1EC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21EE-DD99-4001-9F4A-CE49C5F5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10FF-AE90-4FFF-9E8F-BDC826B3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9CF2-0924-4DA4-8AA7-A91249C9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F5DE-B2BD-4BED-B689-C9DE37C9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CE8A-92E0-4827-BDC9-0EFD5B2D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79FF-D8B1-427D-A45D-81B4868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3947-1A0B-4FCA-932E-5142BE8A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1A0C-A5A8-47C3-839A-730A9837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4D4A-464E-4830-9455-4CDB6525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5029-2502-49B7-9759-548973C2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D17-2048-429C-854D-EDBCCD88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E07-A8B4-499C-8D5B-4A09B37F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92D-E7CA-4CFB-B3EB-EEEBF26C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A55-41A3-4B89-BFBB-24E7CE17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26DE-36AC-4AC2-B46D-D14856B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8DC-6DB9-49EF-91D4-9AE97315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3CF-FBA8-45E0-A98F-1C360A7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C0BC-2A92-4E73-9B02-E5233B5CC2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488C-F6A8-4B2E-9535-ADBEAFAAE9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017800"/>
          <a:ext cx="8631000" cy="4230720"/>
        </p:xfrm>
        <a:graphic>
          <a:graphicData uri="http://schemas.openxmlformats.org/drawingml/2006/table">
            <a:tbl>
              <a:tblPr/>
              <a:tblGrid>
                <a:gridCol w="4279680"/>
                <a:gridCol w="4351320"/>
              </a:tblGrid>
              <a:tr h="4638600">
                <a:tc>
                  <a:txBody>
                    <a:bodyPr lIns="18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Представьте в виде произведения сумм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 + 65 + 65 + 65 + 65=6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Представить в виде суммы произвед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3 = 78 + 78 + 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Найдите значение выраж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• 19 - 4 • 0 +1 • 1 = 2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Дан ряд чисел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4; 0; -5; -104; 8;1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) Выпишите положи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; 8;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) Выпишите отрица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-5; -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) Найдите модуль каждого из чисе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│=1; │4│=4; │0│=0; │-5│=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4│=104; │8│=8; │16│=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017800"/>
          <a:ext cx="8631000" cy="4114800"/>
        </p:xfrm>
        <a:graphic>
          <a:graphicData uri="http://schemas.openxmlformats.org/drawingml/2006/table">
            <a:tbl>
              <a:tblPr/>
              <a:tblGrid>
                <a:gridCol w="4316400"/>
                <a:gridCol w="43146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12 ∙ 6=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∙ 4 = 100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∙ 10 = 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 ∙ 100 = 28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 + 0,5 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3 – 0,9 = 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4 ∙ 3 = 1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Вычислит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∙ 4 = 0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 ∙ 20 = 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4 ∙ 0,5 = 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88000" y="3789360"/>
          <a:ext cx="14396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789360"/>
                    <a:ext cx="1439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59280" y="4869000"/>
          <a:ext cx="15130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869000"/>
                    <a:ext cx="1513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класс: Умножение десятичных дробей на натуральные чис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5105520"/>
            <a:ext cx="6618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 класс: Умножение положитель-ных и отрицательных 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десятичных дробей на натуральные  числа, в том числе на 10, 100, 1000 и т.д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6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положительных  и  отрицательных  чисе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6:15:12Z</dcterms:created>
  <dc:creator>Мелкомуковы</dc:creator>
  <dc:description/>
  <dc:language>en-US</dc:language>
  <cp:lastModifiedBy>Uzer</cp:lastModifiedBy>
  <dcterms:modified xsi:type="dcterms:W3CDTF">2012-03-06T06:09:58Z</dcterms:modified>
  <cp:revision>4</cp:revision>
  <dc:subject/>
  <dc:title>Умножение</dc:title>
</cp:coreProperties>
</file>